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BA6-0458-4D7D-8F59-F0D45B17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B51-A185-45C5-B8F1-980E0F0D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B8C-95F3-4C66-A9F8-65D03C75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CED-944B-4E23-B758-DBA0B6E7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9E4-D35D-445A-941A-E48AD7AF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FC7-BB3E-4B00-BA02-CCFB8F4C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3C1-21FE-4DF6-807E-46939DFA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DC4-BDFA-4F4F-9B7A-C2D1747F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C81-3741-40B6-AB19-37768A92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037-A09F-46C3-BAAC-9BC9B13F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CE5-497A-4DF3-B1D2-9DE93039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335-8042-43F9-A6F0-399971D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F261-9DC0-437A-B399-1ABB3A95AB8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1DDC-455A-4848-BE70-2805581579F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867280" y="367668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 flipH="1">
            <a:off x="4932360" y="860400"/>
            <a:ext cx="2789280" cy="278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2627280" y="3505320"/>
            <a:ext cx="3148200" cy="314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 flipH="1">
            <a:off x="380880" y="907920"/>
            <a:ext cx="3114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0960" y="32907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2916360" y="8301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4"/>
          <a:stretch/>
        </p:blipFill>
        <p:spPr>
          <a:xfrm>
            <a:off x="5430960" y="3068640"/>
            <a:ext cx="25765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67932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5219640" y="2143080"/>
            <a:ext cx="3517920" cy="351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4"/>
          <a:stretch/>
        </p:blipFill>
        <p:spPr>
          <a:xfrm>
            <a:off x="539640" y="390204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4668840" cy="466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 flipH="1">
            <a:off x="5435640" y="1917720"/>
            <a:ext cx="3225600" cy="3225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4"/>
          <a:stretch/>
        </p:blipFill>
        <p:spPr>
          <a:xfrm>
            <a:off x="2384280" y="76500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3184560" cy="318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rcRect l="3704" t="0" r="0" b="0"/>
          <a:stretch/>
        </p:blipFill>
        <p:spPr>
          <a:xfrm>
            <a:off x="4427640" y="1413000"/>
            <a:ext cx="4419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User</cp:lastModifiedBy>
  <dcterms:modified xsi:type="dcterms:W3CDTF">2015-06-28T03:52:33Z</dcterms:modified>
  <cp:revision>1113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