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5.png" ContentType="image/png"/>
  <Override PartName="/ppt/media/image13.jpeg" ContentType="image/jpeg"/>
  <Override PartName="/ppt/media/image23.png" ContentType="image/png"/>
  <Override PartName="/ppt/media/image31.png" ContentType="image/png"/>
  <Override PartName="/ppt/media/image29.png" ContentType="image/png"/>
  <Override PartName="/ppt/media/image2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37.png" ContentType="image/png"/>
  <Override PartName="/ppt/media/image39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8AD4-A301-4372-AC91-FE8A5F16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69E-1E5D-4FA8-9BA3-B5389AC7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BDDB2-70BD-478D-BC6C-333A3F6D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2F4E2-A516-496D-B227-7CEB4D6A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DFFFE-8DFE-47AE-AC5E-A3F50EAB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1EEB8-FA11-43B0-A183-C8FB85C3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DBB24-E4E2-4B12-818A-22D2ABDB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4011B-D13F-41CD-A29C-7107A679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34F87-0D35-44FA-921B-D9DD2323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CADAA-76C2-40E3-901B-F4E68D3A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9A0C3-73A5-4430-951C-9E139FA8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6291D-5B6F-4886-82AF-551B5561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025-6FB5-44DF-9AFF-CA7D256C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EE2F3-B197-4D69-B3F8-511C043E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1CB2A-9127-4B38-B893-6B4FE3A8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56DE3-E4E3-4263-8CA3-5385DF7C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92900-B6A4-41C9-B4F2-0A2E122F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B3B14-F41E-4AAF-B44C-D7095268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661A3-D571-421D-943D-D20721E2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CA864-3981-4160-8ADB-BC4805A6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38433-5DB3-4D50-A740-9EA98A07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B2830-DB11-484E-A18E-7A7C880E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A7670-DB9F-46E4-B3C9-145CB9A5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3E2-6178-4922-831B-864B5FB0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9B5D4-E9AB-4E2F-AC5B-802F4BE7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D855C-FF7A-4918-9B79-13143E71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AD6E2-8016-425E-8644-B4DB594C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CCC93-C92F-4788-887A-EE08CCD9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7B595-C53B-485E-9938-7656650C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7E73A-F191-42B9-B494-2E0F33A3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F33A2-FB3B-455A-AC05-1CD002E5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8FC4C-6D92-4E60-9CCF-4B11168D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AC100-6333-4A4D-BAC2-9B6C8BD8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5E5F4-8FD3-4092-9D65-27C4AD15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29DC-FB96-4139-A5D9-B72CAC1E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A1C52-5A64-4DDF-A62F-D51891CA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8BF02-1A31-4A15-A040-85AD8ADD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0B08A-19A1-4A1B-A2AE-201562B5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30479-1687-45CA-BB8D-24CB5819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69979-3F6C-45E8-B176-54614681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7B3A4-8CDD-42FE-AE48-73DABCCA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69762-5CBD-4BEF-8C81-DC5F2ECF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7BE1F-A7A5-4F25-8554-33ADE371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6C45D-9ADF-47F3-877E-6FDEC3AB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07A33-8B48-47A2-8B84-EB7F8B74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E41E-CC0A-41AC-87E2-5906CE16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C8149-C2A1-458A-87AF-035E0D2E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50A1F-E5FC-4821-A3D7-246224F1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0E171-393D-49C7-A73A-ECE5D601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B9141-7167-479D-8FDF-DFBCFB57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7E133-702B-4F15-9FC7-EEA45CC6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6AB42-01C7-4024-ABD6-9684FE72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CB15A8-BB77-471E-974C-4486EE45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1C9BDF-D1D8-45C0-87C8-DAC4E3FC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F7FC5-95B6-4E45-87F0-A1D3120F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A88CE-89AE-48E5-892E-6567629B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D3C6-A993-4B2C-8EDD-53E3372E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7C1EF-D914-4908-9B24-7A49FA77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B51BB-4DAF-46C8-909B-D25AF43F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84374A-1A3E-48FB-BB48-5BE46313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A52FD-A520-4613-85E1-056F5901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9C7BE0-C03E-4857-AC54-60C3272D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30ADE-769B-497B-94D1-14E9D807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2E6BB4-687E-40C8-998B-7158432C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239F-9290-4E9C-8BF7-FEEB1615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FEDE-4888-4690-A0D4-E0AE6BE1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39B3-F370-4DBB-BDDC-B3A001EF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7E58-3DD5-4DB1-B3B4-FF4D364A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6FD0-A5D6-4F83-8D1F-E8C04BCA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F8EA-CC0C-4539-88CD-E45E6DCA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1E61-6C6A-45F2-BE17-7B31C28A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A817-A8A6-438B-8732-F781653D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B2D4-F410-4FF6-8C02-6194E24D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EBB1-FD5E-4E01-A1D8-804224A6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95CA-9DDD-4237-A66E-CB108326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3A64F-41D0-443E-A237-9455432E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1E60E-0ABE-46D9-A649-A501D7C8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A9146-978B-4243-B2CA-393E4492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F3A83-EEE3-4FCF-BBA4-40643A6F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C515-87E9-4466-B9D6-B89775CD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FE875-E3E0-4270-8FA8-37714EB7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16029-28A2-4084-A828-DBBF637F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E1EB3-CD2D-4292-867A-5ED1B7F4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FAB03-0BEA-4CDA-AE89-3AE56B0A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0F2E9-BF84-4C22-A6DC-E5C163A7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1D464-7272-445D-A931-3CFF1BE4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B7F53-BBFA-45DF-BC44-0C4E0161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F3B32-822B-4D94-A0EB-0F6C856B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02490-67E6-4A84-9337-496B2E8F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D8376-724B-48F2-A89D-050F2A99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7EB2-A973-4FC5-A8E7-8B2BF400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B7F74-D01F-4365-8649-008B0CCF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8BB8C-CB20-4CCA-8DD1-32454FF1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88083-05D2-4C4B-9D66-934846BE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6B195-0AB8-4D97-870E-C0DD28F0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C2550-93FE-419F-BD99-797DA002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77286-049A-4994-A7E8-431730D0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B590A-AA38-4C78-B5AA-7AF3DC56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CEB3E-0E17-4EF4-BE43-C071AA76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F9A31-4491-4997-AFCF-6584AFFB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F059B-7C73-4AE1-AC3B-AA71B68B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3BB-A2E7-4051-9C30-6DB163F4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76D29-A212-4B45-921D-31E6CED4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66E1E-07A5-4F0D-96EA-C22C42A5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F6C17-B5D7-4601-BF0E-AA1FACFF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24DE4-380B-4734-9A74-9D644332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8706F-B607-4125-9676-083576B5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77D2F-3FC8-4C06-8879-4CD85B4A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B664F-546A-4A3C-A26E-2B2E6FF8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D5E51-E9BB-46DD-9459-6DD8FA3D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41705-4480-4577-A61F-0972613A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3AC70-7D28-4D16-B651-C2BF50DF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3DA-EC19-45C6-9C77-5A0118D1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26977-EFD2-494B-915D-2519A5F0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C6D45-CBF9-4793-AE82-96133B44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6E52F-96DD-4007-9E78-398A2FCC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EEF55-F15F-4630-9143-FFA111F0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3E216-7B9D-4AAF-BBF4-84846956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BF9C4-9739-49AF-905C-16078197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3B371-91E8-4918-8AB4-8E426ED0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2C087-31AC-483B-8066-08A2EB15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5DF6B-997C-4D82-B5FA-77C3FAFC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A1948-3C41-4F25-BEE1-B5434992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053-3DB4-46BA-951B-5EE1697B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DB46A-51B3-4B3C-9D65-B5B72B48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B0F8D-9474-4397-AC54-CFDE12E9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BF1F8-CA66-44A7-BF8A-A0E3A1CA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17EF8-120A-4732-A27A-71D1774E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BE3EF-E96D-49D6-A316-C46737CB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9A34B-D1FC-48BE-91AA-66E73CDD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C3955-4248-467A-8A63-565FF10F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A39EC-E224-4251-8BA7-126BF121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EC89B-34E8-4AA1-A4E7-6908E42E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768D7-5004-4BDD-9834-627B60B1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D59-A808-4D1A-AF02-6E618141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658F1-2D9E-448C-A0DA-5300E981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0D19B-4513-4996-A960-F62D178E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AF8AC-CA2A-41D9-8EC2-245A3CDF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C0B22-96B4-48AF-9183-6E0EAF54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63DC3-E7CD-4BDC-9374-6FFDF003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FF8A9-B3FB-457D-AE69-9AE966D4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0419A-0A68-402A-8BEA-34FD3139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B208E-1CE3-44EA-B34C-EFB6C347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01330-8713-4E13-84BE-FE1CB1C3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BB8C2-182E-4924-817E-B9C3D655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8A1-D5C3-42EF-B280-99F05D73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129F9-174C-4108-9920-FD7595D4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A633A-ACE8-4270-9064-2452CA8F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7DAD5-D535-46C9-88A0-F5B935AA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1F4BF-1DC6-4E4D-808A-5DF34BF8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17BAB-196F-4F9D-BEA4-BAC55961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48E9D-FBC3-42BE-95FA-795AD7B9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4C986-3F48-48C4-BDE7-AA7E11B2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9D3F2-E924-4041-9E0A-A4B6A195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7AB8D-90A8-4B4C-A528-4515803C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B119C-C2D0-4E5B-AC69-BC747456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EEA9-F66C-4577-8AB7-8AFCEFBB580C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32BE-E251-49E6-A3C8-71C85F54DE4E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D745-4C59-445E-8B66-ECA8AC3DEE6E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6A25-D016-478C-9B6F-7AC996881DBE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ACE2-9314-4BD4-B1C6-35F66BC5CED4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59B0-8500-487F-AE1D-C89798B2BA39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F0C4-43E8-48B5-83AE-66721B1BCDB4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316B-B827-471E-8739-36CDCDC24FF8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1BC9-5E4E-4D73-91A0-8C02781B2F62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2595-6235-4C24-ACF2-880E0A8AB355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FF2D-B050-498E-A34F-1E4B437110A5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E881-D6DD-4B4D-8696-352B1450FB23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F995-2252-4F0E-B00A-2AC1C33B9E9D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F84C-E67B-4A7D-85A4-4BA99EF1BEA7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B7EB-26F3-4568-9D82-D1724BB675B6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3691-6782-4139-9A4F-29E66E5503FA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D98B-D5F7-4336-A91A-430F0F9FBE23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6CA3-27FB-417B-AAD9-3B20D0CBE65F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D74B-493E-416F-9E4D-4372C33DA55E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D56C-4C1A-4A50-932F-2C6574FA7706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B2B5-294A-4F29-8AD1-8D107550BCC5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94FC-DC5B-41D9-B32D-586F00D65147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53E6-C0AE-4B00-9659-F741963EF2C6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DD37-F654-4898-A948-3FABB3A14934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9362-ED52-4C4B-AC46-248B6FCE70C3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B34B-7CD0-49C7-9F37-4FC64254F294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0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10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3.png"/><Relationship Id="rId13" Type="http://schemas.openxmlformats.org/officeDocument/2006/relationships/image" Target="../media/image10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3.png"/><Relationship Id="rId19" Type="http://schemas.openxmlformats.org/officeDocument/2006/relationships/image" Target="../media/image28.png"/><Relationship Id="rId20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angeul.naver.com/font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그림 23" descr=""/>
          <p:cNvPicPr/>
          <p:nvPr/>
        </p:nvPicPr>
        <p:blipFill>
          <a:blip r:embed="rId1"/>
          <a:stretch/>
        </p:blipFill>
        <p:spPr>
          <a:xfrm>
            <a:off x="1962000" y="1047600"/>
            <a:ext cx="5220000" cy="36482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sp>
        <p:nvSpPr>
          <p:cNvPr id="547" name="타원형 설명선 8"/>
          <p:cNvSpPr/>
          <p:nvPr/>
        </p:nvSpPr>
        <p:spPr>
          <a:xfrm rot="385200">
            <a:off x="5682960" y="666720"/>
            <a:ext cx="2090520" cy="1660680"/>
          </a:xfrm>
          <a:prstGeom prst="wedgeEllipseCallout">
            <a:avLst>
              <a:gd name="adj1" fmla="val -27370"/>
              <a:gd name="adj2" fmla="val 63324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rm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말풍선 안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내용을 적어보세요</a:t>
            </a:r>
            <a:r>
              <a:rPr b="0" lang="en-US" sz="24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그림 26" descr=""/>
          <p:cNvPicPr/>
          <p:nvPr/>
        </p:nvPicPr>
        <p:blipFill>
          <a:blip r:embed="rId2"/>
          <a:stretch/>
        </p:blipFill>
        <p:spPr>
          <a:xfrm>
            <a:off x="4356000" y="692280"/>
            <a:ext cx="628920" cy="657000"/>
          </a:xfrm>
          <a:prstGeom prst="rect">
            <a:avLst/>
          </a:prstGeom>
          <a:ln w="0">
            <a:noFill/>
          </a:ln>
        </p:spPr>
      </p:pic>
      <p:sp>
        <p:nvSpPr>
          <p:cNvPr id="549" name="TextBox 28"/>
          <p:cNvSpPr/>
          <p:nvPr/>
        </p:nvSpPr>
        <p:spPr>
          <a:xfrm>
            <a:off x="1990800" y="5103720"/>
            <a:ext cx="5678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4f2803"/>
                </a:solidFill>
                <a:latin typeface="나눔고딕"/>
              </a:rPr>
              <a:t>우리아이 성장 일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그림 38" descr=""/>
          <p:cNvPicPr/>
          <p:nvPr/>
        </p:nvPicPr>
        <p:blipFill>
          <a:blip r:embed="rId3"/>
          <a:stretch/>
        </p:blipFill>
        <p:spPr>
          <a:xfrm>
            <a:off x="6804000" y="3197160"/>
            <a:ext cx="1438200" cy="1476360"/>
          </a:xfrm>
          <a:prstGeom prst="rect">
            <a:avLst/>
          </a:prstGeom>
          <a:ln w="0">
            <a:noFill/>
          </a:ln>
        </p:spPr>
      </p:pic>
      <p:sp>
        <p:nvSpPr>
          <p:cNvPr id="551" name="TextBox 39"/>
          <p:cNvSpPr/>
          <p:nvPr/>
        </p:nvSpPr>
        <p:spPr>
          <a:xfrm rot="21105600">
            <a:off x="7007040" y="372708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나눔손글씨 펜"/>
                <a:ea typeface="나눔손글씨 펜"/>
              </a:rPr>
              <a:t>메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그림 40" descr=""/>
          <p:cNvPicPr/>
          <p:nvPr/>
        </p:nvPicPr>
        <p:blipFill>
          <a:blip r:embed="rId4"/>
          <a:stretch/>
        </p:blipFill>
        <p:spPr>
          <a:xfrm>
            <a:off x="7164360" y="3139920"/>
            <a:ext cx="657360" cy="619200"/>
          </a:xfrm>
          <a:prstGeom prst="rect">
            <a:avLst/>
          </a:prstGeom>
          <a:ln w="0">
            <a:noFill/>
          </a:ln>
        </p:spPr>
      </p:pic>
      <p:pic>
        <p:nvPicPr>
          <p:cNvPr id="553" name="그림 41" descr=""/>
          <p:cNvPicPr/>
          <p:nvPr/>
        </p:nvPicPr>
        <p:blipFill>
          <a:blip r:embed="rId5"/>
          <a:stretch/>
        </p:blipFill>
        <p:spPr>
          <a:xfrm>
            <a:off x="4643280" y="284940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554" name="그림 42" descr=""/>
          <p:cNvPicPr/>
          <p:nvPr/>
        </p:nvPicPr>
        <p:blipFill>
          <a:blip r:embed="rId6"/>
          <a:stretch/>
        </p:blipFill>
        <p:spPr>
          <a:xfrm>
            <a:off x="3751200" y="2766960"/>
            <a:ext cx="71460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그림 4" descr=""/>
          <p:cNvPicPr/>
          <p:nvPr/>
        </p:nvPicPr>
        <p:blipFill>
          <a:blip r:embed="rId1"/>
          <a:stretch/>
        </p:blipFill>
        <p:spPr>
          <a:xfrm>
            <a:off x="4508640" y="952560"/>
            <a:ext cx="3789360" cy="493380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56" name="그림 6" descr=""/>
          <p:cNvPicPr/>
          <p:nvPr/>
        </p:nvPicPr>
        <p:blipFill>
          <a:blip r:embed="rId2"/>
          <a:stretch/>
        </p:blipFill>
        <p:spPr>
          <a:xfrm>
            <a:off x="6078600" y="615960"/>
            <a:ext cx="628560" cy="657360"/>
          </a:xfrm>
          <a:prstGeom prst="rect">
            <a:avLst/>
          </a:prstGeom>
          <a:ln w="0">
            <a:noFill/>
          </a:ln>
        </p:spPr>
      </p:pic>
      <p:sp>
        <p:nvSpPr>
          <p:cNvPr id="557" name="TextBox 7"/>
          <p:cNvSpPr/>
          <p:nvPr/>
        </p:nvSpPr>
        <p:spPr>
          <a:xfrm>
            <a:off x="620640" y="2647800"/>
            <a:ext cx="380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2803"/>
                </a:solidFill>
                <a:latin typeface="나눔고딕"/>
              </a:rPr>
              <a:t>사진 제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658800" y="2309760"/>
            <a:ext cx="1978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f2803"/>
                </a:solidFill>
                <a:latin typeface="나눔고딕"/>
              </a:rPr>
              <a:t>201</a:t>
            </a:r>
            <a:r>
              <a:rPr b="1" lang="zh-CN" sz="1900" spc="-1" strike="noStrike">
                <a:solidFill>
                  <a:srgbClr val="4f2803"/>
                </a:solidFill>
                <a:latin typeface="나눔고딕"/>
                <a:ea typeface="宋体"/>
              </a:rPr>
              <a:t>2</a:t>
            </a:r>
            <a:r>
              <a:rPr b="1" lang="en-US" sz="1900" spc="-1" strike="noStrike">
                <a:solidFill>
                  <a:srgbClr val="4f2803"/>
                </a:solidFill>
                <a:latin typeface="나눔고딕"/>
              </a:rPr>
              <a:t>.00.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0"/>
          <p:cNvSpPr/>
          <p:nvPr/>
        </p:nvSpPr>
        <p:spPr>
          <a:xfrm>
            <a:off x="663480" y="3381480"/>
            <a:ext cx="3476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f2803"/>
                </a:solidFill>
                <a:uFillTx/>
                <a:latin typeface="나눔고딕"/>
              </a:rPr>
              <a:t>사진에 대한 내용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f2803"/>
                </a:solidFill>
                <a:uFillTx/>
                <a:latin typeface="나눔고딕"/>
              </a:rPr>
              <a:t>여기에 적어주세요</a:t>
            </a:r>
            <a:r>
              <a:rPr b="1" lang="en-US" sz="1600" spc="-1" strike="noStrike" u="sng">
                <a:solidFill>
                  <a:srgbClr val="4f2803"/>
                </a:solidFill>
                <a:uFillTx/>
                <a:latin typeface="나눔고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그림 4" descr=""/>
          <p:cNvPicPr/>
          <p:nvPr/>
        </p:nvPicPr>
        <p:blipFill>
          <a:blip r:embed="rId1"/>
          <a:stretch/>
        </p:blipFill>
        <p:spPr>
          <a:xfrm>
            <a:off x="4759200" y="949320"/>
            <a:ext cx="3533760" cy="46418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61" name="그림 5" descr=""/>
          <p:cNvPicPr/>
          <p:nvPr/>
        </p:nvPicPr>
        <p:blipFill>
          <a:blip r:embed="rId2"/>
          <a:stretch/>
        </p:blipFill>
        <p:spPr>
          <a:xfrm>
            <a:off x="838080" y="952560"/>
            <a:ext cx="3540240" cy="464832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sp>
        <p:nvSpPr>
          <p:cNvPr id="562" name="타원형 설명선 6"/>
          <p:cNvSpPr/>
          <p:nvPr/>
        </p:nvSpPr>
        <p:spPr>
          <a:xfrm flipH="1" rot="21220200">
            <a:off x="315720" y="596880"/>
            <a:ext cx="1930320" cy="1463760"/>
          </a:xfrm>
          <a:prstGeom prst="wedgeEllipseCallout">
            <a:avLst>
              <a:gd name="adj1" fmla="val -28291"/>
              <a:gd name="adj2" fmla="val 60717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내용을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적어보아요</a:t>
            </a:r>
            <a:r>
              <a:rPr b="0" lang="en-US" sz="23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타원형 설명선 7"/>
          <p:cNvSpPr/>
          <p:nvPr/>
        </p:nvSpPr>
        <p:spPr>
          <a:xfrm rot="385200">
            <a:off x="7020000" y="568440"/>
            <a:ext cx="1727280" cy="1395360"/>
          </a:xfrm>
          <a:prstGeom prst="wedgeEllipseCallout">
            <a:avLst>
              <a:gd name="adj1" fmla="val -27370"/>
              <a:gd name="adj2" fmla="val 63324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내용을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적어보아요</a:t>
            </a:r>
            <a:r>
              <a:rPr b="0" lang="en-US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그림 8" descr=""/>
          <p:cNvPicPr/>
          <p:nvPr/>
        </p:nvPicPr>
        <p:blipFill>
          <a:blip r:embed="rId3"/>
          <a:stretch/>
        </p:blipFill>
        <p:spPr>
          <a:xfrm>
            <a:off x="2560680" y="57312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565" name="그림 9" descr=""/>
          <p:cNvPicPr/>
          <p:nvPr/>
        </p:nvPicPr>
        <p:blipFill>
          <a:blip r:embed="rId4"/>
          <a:stretch/>
        </p:blipFill>
        <p:spPr>
          <a:xfrm>
            <a:off x="6284880" y="577800"/>
            <a:ext cx="647640" cy="6094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12"/>
          <p:cNvSpPr/>
          <p:nvPr/>
        </p:nvSpPr>
        <p:spPr>
          <a:xfrm>
            <a:off x="915840" y="582624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zh-CN" sz="16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6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5"/>
          <p:cNvSpPr/>
          <p:nvPr/>
        </p:nvSpPr>
        <p:spPr>
          <a:xfrm>
            <a:off x="4978440" y="582624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zh-CN" sz="16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6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그림 16" descr=""/>
          <p:cNvPicPr/>
          <p:nvPr/>
        </p:nvPicPr>
        <p:blipFill>
          <a:blip r:embed="rId5"/>
          <a:stretch/>
        </p:blipFill>
        <p:spPr>
          <a:xfrm>
            <a:off x="7140600" y="2116080"/>
            <a:ext cx="398520" cy="520920"/>
          </a:xfrm>
          <a:prstGeom prst="rect">
            <a:avLst/>
          </a:prstGeom>
          <a:ln w="0">
            <a:noFill/>
          </a:ln>
        </p:spPr>
      </p:pic>
      <p:pic>
        <p:nvPicPr>
          <p:cNvPr id="569" name="그림 17" descr=""/>
          <p:cNvPicPr/>
          <p:nvPr/>
        </p:nvPicPr>
        <p:blipFill>
          <a:blip r:embed="rId6"/>
          <a:stretch/>
        </p:blipFill>
        <p:spPr>
          <a:xfrm>
            <a:off x="7020000" y="1844640"/>
            <a:ext cx="2761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그림 4" descr=""/>
          <p:cNvPicPr/>
          <p:nvPr/>
        </p:nvPicPr>
        <p:blipFill>
          <a:blip r:embed="rId1"/>
          <a:stretch/>
        </p:blipFill>
        <p:spPr>
          <a:xfrm>
            <a:off x="846000" y="828720"/>
            <a:ext cx="7429680" cy="51404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sp>
        <p:nvSpPr>
          <p:cNvPr id="571" name="타원형 설명선 5"/>
          <p:cNvSpPr/>
          <p:nvPr/>
        </p:nvSpPr>
        <p:spPr>
          <a:xfrm flipH="1" rot="21220200">
            <a:off x="3391920" y="604440"/>
            <a:ext cx="2066760" cy="1608120"/>
          </a:xfrm>
          <a:prstGeom prst="wedgeEllipseCallout">
            <a:avLst>
              <a:gd name="adj1" fmla="val -28291"/>
              <a:gd name="adj2" fmla="val 60717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ctr">
            <a:norm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내용을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적어보아요</a:t>
            </a:r>
            <a:r>
              <a:rPr b="0" lang="en-US" sz="26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그림 6" descr=""/>
          <p:cNvPicPr/>
          <p:nvPr/>
        </p:nvPicPr>
        <p:blipFill>
          <a:blip r:embed="rId2"/>
          <a:stretch/>
        </p:blipFill>
        <p:spPr>
          <a:xfrm>
            <a:off x="1004760" y="504720"/>
            <a:ext cx="628920" cy="657360"/>
          </a:xfrm>
          <a:prstGeom prst="rect">
            <a:avLst/>
          </a:prstGeom>
          <a:ln w="0">
            <a:noFill/>
          </a:ln>
        </p:spPr>
      </p:pic>
      <p:pic>
        <p:nvPicPr>
          <p:cNvPr id="573" name="그림 10" descr=""/>
          <p:cNvPicPr/>
          <p:nvPr/>
        </p:nvPicPr>
        <p:blipFill>
          <a:blip r:embed="rId3"/>
          <a:stretch/>
        </p:blipFill>
        <p:spPr>
          <a:xfrm>
            <a:off x="7596360" y="576360"/>
            <a:ext cx="56196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그림 4" descr=""/>
          <p:cNvPicPr/>
          <p:nvPr/>
        </p:nvPicPr>
        <p:blipFill>
          <a:blip r:embed="rId1"/>
          <a:stretch/>
        </p:blipFill>
        <p:spPr>
          <a:xfrm>
            <a:off x="830160" y="895320"/>
            <a:ext cx="3076560" cy="20192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75" name="그림 5" descr=""/>
          <p:cNvPicPr/>
          <p:nvPr/>
        </p:nvPicPr>
        <p:blipFill>
          <a:blip r:embed="rId2"/>
          <a:stretch/>
        </p:blipFill>
        <p:spPr>
          <a:xfrm>
            <a:off x="4313160" y="907920"/>
            <a:ext cx="4010040" cy="200988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76" name="그림 6" descr=""/>
          <p:cNvPicPr/>
          <p:nvPr/>
        </p:nvPicPr>
        <p:blipFill>
          <a:blip r:embed="rId3"/>
          <a:stretch/>
        </p:blipFill>
        <p:spPr>
          <a:xfrm>
            <a:off x="838080" y="3722760"/>
            <a:ext cx="3076560" cy="20192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77" name="그림 7" descr=""/>
          <p:cNvPicPr/>
          <p:nvPr/>
        </p:nvPicPr>
        <p:blipFill>
          <a:blip r:embed="rId4"/>
          <a:stretch/>
        </p:blipFill>
        <p:spPr>
          <a:xfrm>
            <a:off x="4300560" y="3713040"/>
            <a:ext cx="1800360" cy="201960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78" name="그림 9" descr=""/>
          <p:cNvPicPr/>
          <p:nvPr/>
        </p:nvPicPr>
        <p:blipFill>
          <a:blip r:embed="rId5"/>
          <a:stretch/>
        </p:blipFill>
        <p:spPr>
          <a:xfrm>
            <a:off x="6516720" y="3711600"/>
            <a:ext cx="1800360" cy="20192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79" name="그림 10" descr=""/>
          <p:cNvPicPr/>
          <p:nvPr/>
        </p:nvPicPr>
        <p:blipFill>
          <a:blip r:embed="rId6"/>
          <a:stretch/>
        </p:blipFill>
        <p:spPr>
          <a:xfrm>
            <a:off x="2089080" y="57312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580" name="그림 12" descr=""/>
          <p:cNvPicPr/>
          <p:nvPr/>
        </p:nvPicPr>
        <p:blipFill>
          <a:blip r:embed="rId7"/>
          <a:stretch/>
        </p:blipFill>
        <p:spPr>
          <a:xfrm>
            <a:off x="4984920" y="337176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581" name="그림 16" descr=""/>
          <p:cNvPicPr/>
          <p:nvPr/>
        </p:nvPicPr>
        <p:blipFill>
          <a:blip r:embed="rId8"/>
          <a:stretch/>
        </p:blipFill>
        <p:spPr>
          <a:xfrm>
            <a:off x="6111720" y="577800"/>
            <a:ext cx="648000" cy="609480"/>
          </a:xfrm>
          <a:prstGeom prst="rect">
            <a:avLst/>
          </a:prstGeom>
          <a:ln w="0">
            <a:noFill/>
          </a:ln>
        </p:spPr>
      </p:pic>
      <p:sp>
        <p:nvSpPr>
          <p:cNvPr id="582" name="TextBox 19"/>
          <p:cNvSpPr/>
          <p:nvPr/>
        </p:nvSpPr>
        <p:spPr>
          <a:xfrm>
            <a:off x="855720" y="316224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4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20"/>
          <p:cNvSpPr/>
          <p:nvPr/>
        </p:nvSpPr>
        <p:spPr>
          <a:xfrm>
            <a:off x="4483080" y="316224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4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21"/>
          <p:cNvSpPr/>
          <p:nvPr/>
        </p:nvSpPr>
        <p:spPr>
          <a:xfrm>
            <a:off x="936720" y="59706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4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22"/>
          <p:cNvSpPr/>
          <p:nvPr/>
        </p:nvSpPr>
        <p:spPr>
          <a:xfrm>
            <a:off x="4335480" y="597060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4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6570720" y="597060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4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그림 24" descr=""/>
          <p:cNvPicPr/>
          <p:nvPr/>
        </p:nvPicPr>
        <p:blipFill>
          <a:blip r:embed="rId9"/>
          <a:stretch/>
        </p:blipFill>
        <p:spPr>
          <a:xfrm>
            <a:off x="2195640" y="3460680"/>
            <a:ext cx="561960" cy="542880"/>
          </a:xfrm>
          <a:prstGeom prst="rect">
            <a:avLst/>
          </a:prstGeom>
          <a:ln w="0">
            <a:noFill/>
          </a:ln>
        </p:spPr>
      </p:pic>
      <p:pic>
        <p:nvPicPr>
          <p:cNvPr id="588" name="그림 25" descr=""/>
          <p:cNvPicPr/>
          <p:nvPr/>
        </p:nvPicPr>
        <p:blipFill>
          <a:blip r:embed="rId10"/>
          <a:stretch/>
        </p:blipFill>
        <p:spPr>
          <a:xfrm>
            <a:off x="7164360" y="3446640"/>
            <a:ext cx="56196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矩形 1"/>
          <p:cNvSpPr/>
          <p:nvPr/>
        </p:nvSpPr>
        <p:spPr>
          <a:xfrm>
            <a:off x="4441320" y="2448000"/>
            <a:ext cx="38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1800" spc="-1" strike="noStrike" u="sng">
                <a:solidFill>
                  <a:srgbClr val="e36c0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8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그림 4" descr=""/>
          <p:cNvPicPr/>
          <p:nvPr/>
        </p:nvPicPr>
        <p:blipFill>
          <a:blip r:embed="rId2"/>
          <a:stretch/>
        </p:blipFill>
        <p:spPr>
          <a:xfrm>
            <a:off x="851040" y="903240"/>
            <a:ext cx="1342800" cy="216216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91" name="그림 5" descr=""/>
          <p:cNvPicPr/>
          <p:nvPr/>
        </p:nvPicPr>
        <p:blipFill>
          <a:blip r:embed="rId3"/>
          <a:stretch/>
        </p:blipFill>
        <p:spPr>
          <a:xfrm>
            <a:off x="2573280" y="915840"/>
            <a:ext cx="1343160" cy="216216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92" name="그림 6" descr=""/>
          <p:cNvPicPr/>
          <p:nvPr/>
        </p:nvPicPr>
        <p:blipFill>
          <a:blip r:embed="rId4"/>
          <a:stretch/>
        </p:blipFill>
        <p:spPr>
          <a:xfrm>
            <a:off x="4314960" y="919080"/>
            <a:ext cx="4010040" cy="214308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sp>
        <p:nvSpPr>
          <p:cNvPr id="593" name="타원형 설명선 7"/>
          <p:cNvSpPr/>
          <p:nvPr/>
        </p:nvSpPr>
        <p:spPr>
          <a:xfrm rot="385200">
            <a:off x="6842160" y="496800"/>
            <a:ext cx="1727280" cy="1393920"/>
          </a:xfrm>
          <a:prstGeom prst="wedgeEllipseCallout">
            <a:avLst>
              <a:gd name="adj1" fmla="val -27370"/>
              <a:gd name="adj2" fmla="val 63324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1904"/>
                </a:solidFill>
                <a:latin typeface="나눔손글씨 펜 OTF"/>
                <a:ea typeface="나눔손글씨 펜 OTF"/>
              </a:rPr>
              <a:t>누구냐 넌</a:t>
            </a:r>
            <a:r>
              <a:rPr b="0" lang="en-US" sz="2600" spc="-1" strike="noStrike">
                <a:solidFill>
                  <a:srgbClr val="351904"/>
                </a:solidFill>
                <a:latin typeface="나눔손글씨 펜 OTF"/>
                <a:ea typeface="나눔손글씨 펜 OTF"/>
              </a:rPr>
              <a:t>?</a:t>
            </a:r>
            <a:r>
              <a:rPr b="0" lang="en-US" sz="2400" spc="-1" strike="noStrike">
                <a:solidFill>
                  <a:srgbClr val="351904"/>
                </a:solidFill>
                <a:latin typeface="나눔손글씨 펜 OTF"/>
                <a:ea typeface="나눔손글씨 펜 OTF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그림 8" descr=""/>
          <p:cNvPicPr/>
          <p:nvPr/>
        </p:nvPicPr>
        <p:blipFill>
          <a:blip r:embed="rId5"/>
          <a:stretch/>
        </p:blipFill>
        <p:spPr>
          <a:xfrm>
            <a:off x="853920" y="3697200"/>
            <a:ext cx="3067200" cy="215280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95" name="그림 9" descr=""/>
          <p:cNvPicPr/>
          <p:nvPr/>
        </p:nvPicPr>
        <p:blipFill>
          <a:blip r:embed="rId6"/>
          <a:stretch/>
        </p:blipFill>
        <p:spPr>
          <a:xfrm>
            <a:off x="4308480" y="3695760"/>
            <a:ext cx="1800360" cy="90468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96" name="그림 10" descr=""/>
          <p:cNvPicPr/>
          <p:nvPr/>
        </p:nvPicPr>
        <p:blipFill>
          <a:blip r:embed="rId7"/>
          <a:stretch/>
        </p:blipFill>
        <p:spPr>
          <a:xfrm>
            <a:off x="4290840" y="4981680"/>
            <a:ext cx="1800360" cy="86652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97" name="그림 11" descr=""/>
          <p:cNvPicPr/>
          <p:nvPr/>
        </p:nvPicPr>
        <p:blipFill>
          <a:blip r:embed="rId8"/>
          <a:stretch/>
        </p:blipFill>
        <p:spPr>
          <a:xfrm>
            <a:off x="6519960" y="3699000"/>
            <a:ext cx="1800000" cy="21524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98" name="그림 13" descr=""/>
          <p:cNvPicPr/>
          <p:nvPr/>
        </p:nvPicPr>
        <p:blipFill>
          <a:blip r:embed="rId9"/>
          <a:stretch/>
        </p:blipFill>
        <p:spPr>
          <a:xfrm>
            <a:off x="7170840" y="3357720"/>
            <a:ext cx="647640" cy="609480"/>
          </a:xfrm>
          <a:prstGeom prst="rect">
            <a:avLst/>
          </a:prstGeom>
          <a:ln w="0">
            <a:noFill/>
          </a:ln>
        </p:spPr>
      </p:pic>
      <p:pic>
        <p:nvPicPr>
          <p:cNvPr id="599" name="그림 14" descr=""/>
          <p:cNvPicPr/>
          <p:nvPr/>
        </p:nvPicPr>
        <p:blipFill>
          <a:blip r:embed="rId10"/>
          <a:stretch/>
        </p:blipFill>
        <p:spPr>
          <a:xfrm>
            <a:off x="2946240" y="606600"/>
            <a:ext cx="561960" cy="542880"/>
          </a:xfrm>
          <a:prstGeom prst="rect">
            <a:avLst/>
          </a:prstGeom>
          <a:ln w="0">
            <a:noFill/>
          </a:ln>
        </p:spPr>
      </p:pic>
      <p:pic>
        <p:nvPicPr>
          <p:cNvPr id="600" name="그림 15" descr=""/>
          <p:cNvPicPr/>
          <p:nvPr/>
        </p:nvPicPr>
        <p:blipFill>
          <a:blip r:embed="rId11"/>
          <a:stretch/>
        </p:blipFill>
        <p:spPr>
          <a:xfrm>
            <a:off x="5051520" y="3402000"/>
            <a:ext cx="561960" cy="542880"/>
          </a:xfrm>
          <a:prstGeom prst="rect">
            <a:avLst/>
          </a:prstGeom>
          <a:ln w="0">
            <a:noFill/>
          </a:ln>
        </p:spPr>
      </p:pic>
      <p:pic>
        <p:nvPicPr>
          <p:cNvPr id="601" name="그림 16" descr=""/>
          <p:cNvPicPr/>
          <p:nvPr/>
        </p:nvPicPr>
        <p:blipFill>
          <a:blip r:embed="rId12"/>
          <a:stretch/>
        </p:blipFill>
        <p:spPr>
          <a:xfrm>
            <a:off x="5024520" y="465120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602" name="그림 17" descr=""/>
          <p:cNvPicPr/>
          <p:nvPr/>
        </p:nvPicPr>
        <p:blipFill>
          <a:blip r:embed="rId13"/>
          <a:stretch/>
        </p:blipFill>
        <p:spPr>
          <a:xfrm>
            <a:off x="2151000" y="3363840"/>
            <a:ext cx="647640" cy="609840"/>
          </a:xfrm>
          <a:prstGeom prst="rect">
            <a:avLst/>
          </a:prstGeom>
          <a:ln w="0">
            <a:noFill/>
          </a:ln>
        </p:spPr>
      </p:pic>
      <p:pic>
        <p:nvPicPr>
          <p:cNvPr id="603" name="그림 20" descr=""/>
          <p:cNvPicPr/>
          <p:nvPr/>
        </p:nvPicPr>
        <p:blipFill>
          <a:blip r:embed="rId14"/>
          <a:stretch/>
        </p:blipFill>
        <p:spPr>
          <a:xfrm>
            <a:off x="5292720" y="191772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604" name="그림 21" descr=""/>
          <p:cNvPicPr/>
          <p:nvPr/>
        </p:nvPicPr>
        <p:blipFill>
          <a:blip r:embed="rId15"/>
          <a:stretch/>
        </p:blipFill>
        <p:spPr>
          <a:xfrm>
            <a:off x="6039000" y="1841400"/>
            <a:ext cx="571320" cy="569880"/>
          </a:xfrm>
          <a:prstGeom prst="rect">
            <a:avLst/>
          </a:prstGeom>
          <a:ln w="0">
            <a:noFill/>
          </a:ln>
        </p:spPr>
      </p:pic>
      <p:pic>
        <p:nvPicPr>
          <p:cNvPr id="605" name="그림 22" descr=""/>
          <p:cNvPicPr/>
          <p:nvPr/>
        </p:nvPicPr>
        <p:blipFill>
          <a:blip r:embed="rId16"/>
          <a:stretch/>
        </p:blipFill>
        <p:spPr>
          <a:xfrm rot="816600">
            <a:off x="2727000" y="5011560"/>
            <a:ext cx="619200" cy="903600"/>
          </a:xfrm>
          <a:prstGeom prst="rect">
            <a:avLst/>
          </a:prstGeom>
          <a:ln w="0">
            <a:noFill/>
          </a:ln>
        </p:spPr>
      </p:pic>
      <p:pic>
        <p:nvPicPr>
          <p:cNvPr id="606" name="그림 23" descr=""/>
          <p:cNvPicPr/>
          <p:nvPr/>
        </p:nvPicPr>
        <p:blipFill>
          <a:blip r:embed="rId17"/>
          <a:stretch/>
        </p:blipFill>
        <p:spPr>
          <a:xfrm rot="1641000">
            <a:off x="1877760" y="5055840"/>
            <a:ext cx="618840" cy="901800"/>
          </a:xfrm>
          <a:prstGeom prst="rect">
            <a:avLst/>
          </a:prstGeom>
          <a:ln w="0">
            <a:noFill/>
          </a:ln>
        </p:spPr>
      </p:pic>
      <p:pic>
        <p:nvPicPr>
          <p:cNvPr id="607" name="그림 36" descr=""/>
          <p:cNvPicPr/>
          <p:nvPr/>
        </p:nvPicPr>
        <p:blipFill>
          <a:blip r:embed="rId18"/>
          <a:stretch/>
        </p:blipFill>
        <p:spPr>
          <a:xfrm>
            <a:off x="1297080" y="565200"/>
            <a:ext cx="628560" cy="657000"/>
          </a:xfrm>
          <a:prstGeom prst="rect">
            <a:avLst/>
          </a:prstGeom>
          <a:ln w="0">
            <a:noFill/>
          </a:ln>
        </p:spPr>
      </p:pic>
      <p:pic>
        <p:nvPicPr>
          <p:cNvPr id="608" name="그림 24" descr=""/>
          <p:cNvPicPr/>
          <p:nvPr/>
        </p:nvPicPr>
        <p:blipFill>
          <a:blip r:embed="rId19"/>
          <a:stretch/>
        </p:blipFill>
        <p:spPr>
          <a:xfrm>
            <a:off x="6372360" y="1484280"/>
            <a:ext cx="460080" cy="555480"/>
          </a:xfrm>
          <a:prstGeom prst="rect">
            <a:avLst/>
          </a:prstGeom>
          <a:ln w="0">
            <a:noFill/>
          </a:ln>
        </p:spPr>
      </p:pic>
      <p:sp>
        <p:nvSpPr>
          <p:cNvPr id="609" name="타원형 설명선 25"/>
          <p:cNvSpPr/>
          <p:nvPr/>
        </p:nvSpPr>
        <p:spPr>
          <a:xfrm rot="385200">
            <a:off x="2987640" y="2944800"/>
            <a:ext cx="1727280" cy="1395360"/>
          </a:xfrm>
          <a:prstGeom prst="wedgeEllipseCallout">
            <a:avLst>
              <a:gd name="adj1" fmla="val -27370"/>
              <a:gd name="adj2" fmla="val 63324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으아아앙</a:t>
            </a:r>
            <a:r>
              <a:rPr b="0" lang="en-US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내 인생에 이런일은 처음이야</a:t>
            </a:r>
            <a:r>
              <a:rPr b="0" lang="en-US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그림 4" descr=""/>
          <p:cNvPicPr/>
          <p:nvPr/>
        </p:nvPicPr>
        <p:blipFill>
          <a:blip r:embed="rId1"/>
          <a:stretch/>
        </p:blipFill>
        <p:spPr>
          <a:xfrm>
            <a:off x="466560" y="333360"/>
            <a:ext cx="3191040" cy="2457360"/>
          </a:xfrm>
          <a:prstGeom prst="rect">
            <a:avLst/>
          </a:prstGeom>
          <a:ln w="0">
            <a:noFill/>
          </a:ln>
        </p:spPr>
      </p:pic>
      <p:pic>
        <p:nvPicPr>
          <p:cNvPr id="611" name="그림 5" descr=""/>
          <p:cNvPicPr/>
          <p:nvPr/>
        </p:nvPicPr>
        <p:blipFill>
          <a:blip r:embed="rId2"/>
          <a:stretch/>
        </p:blipFill>
        <p:spPr>
          <a:xfrm>
            <a:off x="4282920" y="836640"/>
            <a:ext cx="1200240" cy="1809720"/>
          </a:xfrm>
          <a:prstGeom prst="rect">
            <a:avLst/>
          </a:prstGeom>
          <a:ln w="0">
            <a:noFill/>
          </a:ln>
        </p:spPr>
      </p:pic>
      <p:pic>
        <p:nvPicPr>
          <p:cNvPr id="612" name="그림 8" descr=""/>
          <p:cNvPicPr/>
          <p:nvPr/>
        </p:nvPicPr>
        <p:blipFill>
          <a:blip r:embed="rId3"/>
          <a:stretch/>
        </p:blipFill>
        <p:spPr>
          <a:xfrm>
            <a:off x="3780000" y="4581360"/>
            <a:ext cx="1657080" cy="1686240"/>
          </a:xfrm>
          <a:prstGeom prst="rect">
            <a:avLst/>
          </a:prstGeom>
          <a:ln w="0">
            <a:noFill/>
          </a:ln>
        </p:spPr>
      </p:pic>
      <p:pic>
        <p:nvPicPr>
          <p:cNvPr id="613" name="그림 9" descr=""/>
          <p:cNvPicPr/>
          <p:nvPr/>
        </p:nvPicPr>
        <p:blipFill>
          <a:blip r:embed="rId4"/>
          <a:stretch/>
        </p:blipFill>
        <p:spPr>
          <a:xfrm>
            <a:off x="539640" y="2852640"/>
            <a:ext cx="3486240" cy="1552680"/>
          </a:xfrm>
          <a:prstGeom prst="rect">
            <a:avLst/>
          </a:prstGeom>
          <a:ln w="0">
            <a:noFill/>
          </a:ln>
        </p:spPr>
      </p:pic>
      <p:pic>
        <p:nvPicPr>
          <p:cNvPr id="614" name="그림 10" descr=""/>
          <p:cNvPicPr/>
          <p:nvPr/>
        </p:nvPicPr>
        <p:blipFill>
          <a:blip r:embed="rId5"/>
          <a:stretch/>
        </p:blipFill>
        <p:spPr>
          <a:xfrm>
            <a:off x="4716360" y="2852640"/>
            <a:ext cx="3486240" cy="1552680"/>
          </a:xfrm>
          <a:prstGeom prst="rect">
            <a:avLst/>
          </a:prstGeom>
          <a:ln w="0">
            <a:noFill/>
          </a:ln>
        </p:spPr>
      </p:pic>
      <p:pic>
        <p:nvPicPr>
          <p:cNvPr id="615" name="그림 11" descr=""/>
          <p:cNvPicPr/>
          <p:nvPr/>
        </p:nvPicPr>
        <p:blipFill>
          <a:blip r:embed="rId6"/>
          <a:stretch/>
        </p:blipFill>
        <p:spPr>
          <a:xfrm>
            <a:off x="755640" y="4940280"/>
            <a:ext cx="2724120" cy="1200240"/>
          </a:xfrm>
          <a:prstGeom prst="rect">
            <a:avLst/>
          </a:prstGeom>
          <a:ln w="0">
            <a:noFill/>
          </a:ln>
        </p:spPr>
      </p:pic>
      <p:pic>
        <p:nvPicPr>
          <p:cNvPr id="616" name="그림 12" descr=""/>
          <p:cNvPicPr/>
          <p:nvPr/>
        </p:nvPicPr>
        <p:blipFill>
          <a:blip r:embed="rId7"/>
          <a:stretch/>
        </p:blipFill>
        <p:spPr>
          <a:xfrm>
            <a:off x="5580000" y="4653000"/>
            <a:ext cx="1352520" cy="1628640"/>
          </a:xfrm>
          <a:prstGeom prst="rect">
            <a:avLst/>
          </a:prstGeom>
          <a:ln w="0">
            <a:noFill/>
          </a:ln>
        </p:spPr>
      </p:pic>
      <p:pic>
        <p:nvPicPr>
          <p:cNvPr id="617" name="그림 13" descr=""/>
          <p:cNvPicPr/>
          <p:nvPr/>
        </p:nvPicPr>
        <p:blipFill>
          <a:blip r:embed="rId8"/>
          <a:stretch/>
        </p:blipFill>
        <p:spPr>
          <a:xfrm>
            <a:off x="7308720" y="765000"/>
            <a:ext cx="885960" cy="1857600"/>
          </a:xfrm>
          <a:prstGeom prst="rect">
            <a:avLst/>
          </a:prstGeom>
          <a:ln w="0">
            <a:noFill/>
          </a:ln>
        </p:spPr>
      </p:pic>
      <p:pic>
        <p:nvPicPr>
          <p:cNvPr id="618" name="그림 14" descr=""/>
          <p:cNvPicPr/>
          <p:nvPr/>
        </p:nvPicPr>
        <p:blipFill>
          <a:blip r:embed="rId9"/>
          <a:stretch/>
        </p:blipFill>
        <p:spPr>
          <a:xfrm>
            <a:off x="6083280" y="765000"/>
            <a:ext cx="885960" cy="1857600"/>
          </a:xfrm>
          <a:prstGeom prst="rect">
            <a:avLst/>
          </a:prstGeom>
          <a:ln w="0">
            <a:noFill/>
          </a:ln>
        </p:spPr>
      </p:pic>
      <p:pic>
        <p:nvPicPr>
          <p:cNvPr id="619" name="그림 15" descr=""/>
          <p:cNvPicPr/>
          <p:nvPr/>
        </p:nvPicPr>
        <p:blipFill>
          <a:blip r:embed="rId10"/>
          <a:stretch/>
        </p:blipFill>
        <p:spPr>
          <a:xfrm>
            <a:off x="6877080" y="5727600"/>
            <a:ext cx="399960" cy="362160"/>
          </a:xfrm>
          <a:prstGeom prst="rect">
            <a:avLst/>
          </a:prstGeom>
          <a:ln w="0">
            <a:noFill/>
          </a:ln>
        </p:spPr>
      </p:pic>
      <p:pic>
        <p:nvPicPr>
          <p:cNvPr id="620" name="그림 16" descr=""/>
          <p:cNvPicPr/>
          <p:nvPr/>
        </p:nvPicPr>
        <p:blipFill>
          <a:blip r:embed="rId11"/>
          <a:stretch/>
        </p:blipFill>
        <p:spPr>
          <a:xfrm>
            <a:off x="7562880" y="558000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621" name="그림 17" descr=""/>
          <p:cNvPicPr/>
          <p:nvPr/>
        </p:nvPicPr>
        <p:blipFill>
          <a:blip r:embed="rId12"/>
          <a:stretch/>
        </p:blipFill>
        <p:spPr>
          <a:xfrm>
            <a:off x="8028000" y="558000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622" name="그림 18" descr=""/>
          <p:cNvPicPr/>
          <p:nvPr/>
        </p:nvPicPr>
        <p:blipFill>
          <a:blip r:embed="rId13"/>
          <a:stretch/>
        </p:blipFill>
        <p:spPr>
          <a:xfrm>
            <a:off x="7164360" y="5599080"/>
            <a:ext cx="6573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Box 9"/>
          <p:cNvSpPr/>
          <p:nvPr/>
        </p:nvSpPr>
        <p:spPr>
          <a:xfrm>
            <a:off x="2448000" y="2827440"/>
            <a:ext cx="424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4f2803"/>
                </a:solidFill>
                <a:latin typeface="나눔고딕"/>
              </a:rPr>
              <a:t>고맙습니다</a:t>
            </a:r>
            <a:r>
              <a:rPr b="1" i="1" lang="en-US" sz="5200" spc="-1" strike="noStrike">
                <a:solidFill>
                  <a:srgbClr val="4f2803"/>
                </a:solidFill>
                <a:latin typeface="나눔고딕"/>
              </a:rPr>
              <a:t>!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10"/>
          <p:cNvSpPr/>
          <p:nvPr/>
        </p:nvSpPr>
        <p:spPr>
          <a:xfrm>
            <a:off x="2700360" y="3789360"/>
            <a:ext cx="37447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zh-CN" sz="800" spc="-1" strike="noStrike">
                <a:solidFill>
                  <a:srgbClr val="4f2803"/>
                </a:solidFill>
                <a:latin typeface="나눔고딕"/>
              </a:rPr>
              <a:t>이 문서는 나눔글꼴로 작성되었습니다</a:t>
            </a:r>
            <a:r>
              <a:rPr b="1" lang="en-US" sz="800" spc="-1" strike="noStrike">
                <a:solidFill>
                  <a:srgbClr val="4f2803"/>
                </a:solidFill>
                <a:latin typeface="나눔고딕"/>
              </a:rPr>
              <a:t>.</a:t>
            </a:r>
            <a:r>
              <a:rPr b="1" lang="zh-CN" sz="8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en-US" sz="8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0" lang="zh-CN" sz="800" spc="-1" strike="noStrike" u="sng">
                <a:solidFill>
                  <a:srgbClr val="e36c09"/>
                </a:solidFill>
                <a:uFillTx/>
                <a:latin typeface="나눔고딕"/>
                <a:hlinkClick r:id="rId1"/>
              </a:rPr>
              <a:t>설치하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그림 14" descr=""/>
          <p:cNvPicPr/>
          <p:nvPr/>
        </p:nvPicPr>
        <p:blipFill>
          <a:blip r:embed="rId2"/>
          <a:stretch/>
        </p:blipFill>
        <p:spPr>
          <a:xfrm>
            <a:off x="2411280" y="2349360"/>
            <a:ext cx="62892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0:11:00Z</dcterms:created>
  <dc:creator>네이버 한글캠페인</dc:creator>
  <dc:description/>
  <cp:keywords/>
  <dc:language>en-US</dc:language>
  <cp:lastModifiedBy>Sky123.Org</cp:lastModifiedBy>
  <cp:lastPrinted>1899-12-30T00:00:00Z</cp:lastPrinted>
  <dcterms:modified xsi:type="dcterms:W3CDTF">2015-07-30T07:51:55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