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CE6-CDC7-4256-9DFA-93068F7E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002-3706-4008-B3ED-F899CA53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33C-2611-4BF7-AD8C-1BB8026C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33E-BEF7-4DA1-8A47-E8C6D97B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1EE-4E08-4A75-A38B-B1A498B0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1C1-E8DD-4665-8EA3-32C361AB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6D0-216D-4B55-9D3D-109956F0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47E-786F-4FE4-A828-E6662693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BD5-0E21-4586-88EE-0BA886D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88D-ED13-442A-98F7-7368A8E4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2F6-EFDD-4496-AAD9-243A3288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93E-1098-497A-8FA7-FCA38CE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582C-2A13-4F21-B507-7F1F771E7794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1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78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1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84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87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5"/>
          <p:cNvSpPr/>
          <p:nvPr/>
        </p:nvSpPr>
        <p:spPr>
          <a:xfrm>
            <a:off x="1091520" y="2568600"/>
            <a:ext cx="3003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欢迎给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70man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博客投稿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毕业答辩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作品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邮箱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571680" y="614376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欢迎阅读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说服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让你的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会说话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       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说服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工作型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该这样做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3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7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0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3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6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89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2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5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98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三联素材  www.3lian.com</dc:creator>
  <dc:description>三联素材  www.3lian.com</dc:description>
  <dc:language>en-US</dc:language>
  <cp:lastModifiedBy>pc</cp:lastModifiedBy>
  <dcterms:modified xsi:type="dcterms:W3CDTF">2015-07-07T08:26:42Z</dcterms:modified>
  <cp:revision>12</cp:revision>
  <dc:subject/>
  <dc:title>三联素材  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