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C5D-B791-4C02-9467-5F260122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FB9-3E26-4A43-BCC7-00D3179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02B-F33F-4A93-8F32-9D0E28D3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0D5-37E1-4BA2-8F4D-4AA211AD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4C1-1C56-4BF9-AC97-F996E6E5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CE7-7767-4BC8-BF95-6C7E287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C07-9ABD-47A7-AB51-7871D88E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CD8-979B-4337-A0E3-D9196A64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CB4-4F8D-43B1-946B-428783F5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736-68EC-42DE-8199-4FE083A8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25B-5E00-4F36-98DB-E4796BA2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2E2-F353-473D-9F88-186FD7F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5B8-AD00-4511-A3C0-E0B49FCFCA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7.jpeg"/><Relationship Id="rId5" Type="http://schemas.openxmlformats.org/officeDocument/2006/relationships/hyperlink" Target="http://www.strat-pro.com/powerpoint-template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powerpoint-template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Maps-Flag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powerpoint-template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7.jpeg"/><Relationship Id="rId5" Type="http://schemas.openxmlformats.org/officeDocument/2006/relationships/hyperlink" Target="http://www.strat-pro.com/powerpoint-templates.aspx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hyperlink" Target="http://www.strat-pro.com/powerpoint-templates.aspx" TargetMode="External"/><Relationship Id="rId4" Type="http://schemas.openxmlformats.org/officeDocument/2006/relationships/hyperlink" Target="http://www.strat-pro.com/powerpoint-templates.aspx" TargetMode="External"/><Relationship Id="rId5" Type="http://schemas.openxmlformats.org/officeDocument/2006/relationships/hyperlink" Target="http://www.strat-pro.com/Maps-Flags.aspx" TargetMode="External"/><Relationship Id="rId6" Type="http://schemas.openxmlformats.org/officeDocument/2006/relationships/hyperlink" Target="http://www.strat-pro.com/powerpoint-templates.aspx" TargetMode="External"/><Relationship Id="rId7" Type="http://schemas.openxmlformats.org/officeDocument/2006/relationships/hyperlink" Target="http://www.strat-pro.com/powerpoint-templates.aspx" TargetMode="External"/><Relationship Id="rId8" Type="http://schemas.openxmlformats.org/officeDocument/2006/relationships/hyperlink" Target="http://www.strat-pro.com/Maps-Flags.aspx" TargetMode="External"/><Relationship Id="rId9" Type="http://schemas.openxmlformats.org/officeDocument/2006/relationships/hyperlink" Target="http://www.strat-pro.com/powerpoint-templates.aspx" TargetMode="External"/><Relationship Id="rId10" Type="http://schemas.openxmlformats.org/officeDocument/2006/relationships/hyperlink" Target="http://www.strat-pro.com/powerpoint-templates.aspx" TargetMode="External"/><Relationship Id="rId11" Type="http://schemas.openxmlformats.org/officeDocument/2006/relationships/hyperlink" Target="http://www.strat-pro.com/powerpoint-templates.aspx" TargetMode="External"/><Relationship Id="rId12" Type="http://schemas.openxmlformats.org/officeDocument/2006/relationships/hyperlink" Target="http://www.strat-pro.com/powerpoint-templates.aspx" TargetMode="External"/><Relationship Id="rId13" Type="http://schemas.openxmlformats.org/officeDocument/2006/relationships/hyperlink" Target="http://www.strat-pro.com/powerpoint-templates.aspx" TargetMode="External"/><Relationship Id="rId14" Type="http://schemas.openxmlformats.org/officeDocument/2006/relationships/hyperlink" Target="http://www.strat-pro.com/powerpoint-templates.aspx" TargetMode="External"/><Relationship Id="rId15" Type="http://schemas.openxmlformats.org/officeDocument/2006/relationships/hyperlink" Target="http://www.strat-pro.com/Maps-Flags.aspx" TargetMode="External"/><Relationship Id="rId16" Type="http://schemas.openxmlformats.org/officeDocument/2006/relationships/hyperlink" Target="http://www.strat-pro.com/powerpoint-templates.aspx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11160" y="1282680"/>
            <a:ext cx="3686400" cy="242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22760" y="1282680"/>
            <a:ext cx="3683160" cy="242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11160" y="3720960"/>
            <a:ext cx="3686400" cy="242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622760" y="3720960"/>
            <a:ext cx="3683160" cy="242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324560" y="634680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20840" y="2166840"/>
            <a:ext cx="275616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62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32600" y="2166840"/>
            <a:ext cx="227772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62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0560" y="1706400"/>
            <a:ext cx="2405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7960" y="1706400"/>
            <a:ext cx="1331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1328760"/>
            <a:ext cx="8329680" cy="4817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0520" y="1860480"/>
            <a:ext cx="13752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37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9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35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17784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480" y="1533600"/>
            <a:ext cx="457272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on the text box to enter you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bullets should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 enumerate similar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•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on the text box to enter your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bullets should enumerat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 simila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•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on the text box to enter your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bullets should enumerate similar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on the text box to enter you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member, bullets should enumerate similar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•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7720" y="1703520"/>
            <a:ext cx="2011320" cy="1331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79840" y="1673280"/>
            <a:ext cx="5968800" cy="4282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00480" y="2073240"/>
            <a:ext cx="15004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1200" y="1703520"/>
            <a:ext cx="2054160" cy="133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679840" y="1673280"/>
            <a:ext cx="5968800" cy="428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97600" y="2073240"/>
            <a:ext cx="1710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77720" y="1738440"/>
            <a:ext cx="2011320" cy="1360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79840" y="1663560"/>
            <a:ext cx="5968800" cy="430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01200" y="2073240"/>
            <a:ext cx="2065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1200" y="1738440"/>
            <a:ext cx="2054160" cy="1360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679840" y="1673280"/>
            <a:ext cx="5968800" cy="428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88960" y="2073240"/>
            <a:ext cx="1145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28200" y="260208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9280" y="288612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7760" y="320508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560" y="348948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2160" y="3809880"/>
            <a:ext cx="2157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28200" y="4145040"/>
            <a:ext cx="403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on the text box to enter y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9280" y="4429080"/>
            <a:ext cx="1347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7760" y="4748040"/>
            <a:ext cx="4460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8560" y="5032440"/>
            <a:ext cx="1698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imilar 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17640" y="1268280"/>
            <a:ext cx="3679920" cy="4865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29240" y="1268280"/>
            <a:ext cx="3676680" cy="486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4400" y="1355760"/>
            <a:ext cx="28429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8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62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25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24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6320"/>
                <a:tab algn="l" pos="88920"/>
                <a:tab algn="l" pos="64764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4760" y="1355760"/>
            <a:ext cx="28429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8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62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1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35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Remember, bullets should enum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similar ma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Be clear and bri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13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Click on the text box to enter 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88920"/>
                <a:tab algn="l" pos="101520"/>
                <a:tab algn="l" pos="8254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1328760"/>
            <a:ext cx="8329680" cy="4817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24560" y="6175440"/>
            <a:ext cx="1413000" cy="682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06240" y="1741320"/>
            <a:ext cx="16254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0840" y="2897280"/>
            <a:ext cx="18144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99160" y="4095720"/>
            <a:ext cx="2241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98840" y="5237280"/>
            <a:ext cx="1239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HRE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2720" y="1706400"/>
            <a:ext cx="1742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1680" y="1071720"/>
            <a:ext cx="800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7600" y="222120"/>
            <a:ext cx="379872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7600" y="1328760"/>
            <a:ext cx="8319960" cy="5529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1960" y="344520"/>
            <a:ext cx="3300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4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WOT Analysis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99480" y="1706400"/>
            <a:ext cx="1987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5760" y="2444760"/>
            <a:ext cx="5441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ullets should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umerat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11880" y="306396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33680" y="3382920"/>
            <a:ext cx="2157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clear and br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8280" y="3720960"/>
            <a:ext cx="3135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• Not every detail i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25760" y="4327560"/>
            <a:ext cx="5441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•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on the text box to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alibri"/>
              </a:rPr>
              <a:t> enter your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0360" y="4667400"/>
            <a:ext cx="180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• Keep it simpl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9640" y="4968720"/>
            <a:ext cx="527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9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ember, bullets should enumerat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11880" y="5251320"/>
            <a:ext cx="88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a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9:32:33Z</dcterms:created>
  <dc:creator>island</dc:creator>
  <dc:description/>
  <dc:language>en-US</dc:language>
  <cp:lastModifiedBy>island</cp:lastModifiedBy>
  <dcterms:modified xsi:type="dcterms:W3CDTF">2010-03-29T06:35:05Z</dcterms:modified>
  <cp:revision>3</cp:revision>
  <dc:subject/>
  <dc:title>幻灯片 1</dc:title>
</cp:coreProperties>
</file>