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105B-A025-40A8-8A5E-992469C946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简介司马迁前半生（受刑前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盛怒中的汉武帝听了司马迁这番话，认为他是为李陵辩解，是在故意贬低当时正在打匈奴而又很不顺利的李广利，于是命令把司马迁判为死罪（或以腐刑代替）。汉武帝时代，判了死罪的可以出钱五十万减死一等。但家境并不富裕的司马迁拿不出这一笔钱，只能受「腐刑」（宫刑）来选择「偷生」这条路。不幸的遭遇，使司马迁精神受到极大刺激，曾一度想自杀，但他想起了父亲的遗言，又以古人孔子、屈原、左丘明、孙子、韩非等在逆境中发愤有为鼓励自己，终于以惊人的意志忍辱负重地活了下来。身心备受摧残、忍辱含垢生活的司马迁深知，「人固有一死，死有重于泰山，或轻于鸿毛」。他决心以残烛之年，完成父亲要他完成的史书。经过六年的囚禁生活，征和元年（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终于出狱。武帝对司马迁的才能还是爱惜的，任命他为中书令。从此他埋首奋发著述，终于完成了「究天人之际，通古今之变，成中家之言」的巨著─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由陈胜为何列入世家导入正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275-E45A-4C3E-9AD4-606E2CBD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9A1-79F2-4269-AF26-9E9AD899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1B2-5E89-413C-BAD1-0E51616E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C23-0966-4521-9751-FA1D44AB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645-AFAA-46FD-A7FF-7590D58B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F26C-12CF-4A30-AE9A-EB71FC2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93BE-AE3E-4490-B527-603E8A8E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F3B6-292C-4AFA-9327-0CD4E1E8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5FD1-9EEF-40FA-8C3A-6C61480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269-9761-41E0-90F4-BB31889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D9E-3F2A-4726-91D3-3D3FAFD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EF5-DD69-4570-B6D0-C8FFA26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A4FE-3AC3-4234-828B-6115266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7C8-46D6-403C-90A3-9628D8E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8A4-26EC-4071-9CC9-CF34B98B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44CE-60BF-438F-AE26-FDAF894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65FF-EE40-47FB-B534-A20B77CB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09C-E180-4ACC-86BF-C89A6273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453-E882-4BD9-87B7-2BAC69E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B92-5CB5-4B95-852A-AC537D8C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0BD-0EA4-4D36-84F3-312E5411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2A2-43A1-4C57-8F0F-4B19D70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4E2-9950-44ED-92CF-720332C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0DF-5C99-4A35-A769-ED2D719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D9A6-FDF1-4C5D-88CF-3BC84594482B}" type="datetime">
              <a:rPr b="0" lang="zh-CN" sz="1400" spc="-1" strike="noStrike">
                <a:solidFill>
                  <a:srgbClr val="003bb2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bb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D96-51BA-420B-A64F-3C187D35976B}" type="slidenum">
              <a:rPr b="0" lang="zh-CN" sz="1400" spc="-1" strike="noStrike">
                <a:solidFill>
                  <a:srgbClr val="003b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A24-78F3-4849-A7C8-7866B1F71611}" type="datetime">
              <a:rPr b="0" lang="zh-CN" sz="1400" spc="-1" strike="noStrike">
                <a:solidFill>
                  <a:srgbClr val="003bb2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bb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b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D175-E1A6-4971-B00B-9D3CEC192A41}" type="slidenum">
              <a:rPr b="0" lang="zh-CN" sz="1400" spc="-1" strike="noStrike">
                <a:solidFill>
                  <a:srgbClr val="003b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b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bb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5c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bb2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b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b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584000"/>
            <a:ext cx="8398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陈 涉 世 家</a:t>
            </a:r>
            <a:br>
              <a:rPr sz="10600"/>
            </a:br>
            <a:endParaRPr b="0" lang="en-US" sz="10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8548-4096-4723-A8FC-F1D496C265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1A5915-9E9A-43EE-9AE3-22271AD7B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76280" y="189000"/>
            <a:ext cx="8415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二世元年七月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闾左谪戍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渔阳，九百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屯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大泽乡。陈胜﹑吴广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次当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屯长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天大雨，道不通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失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失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法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皆斩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000" y="2529000"/>
            <a:ext cx="8640720" cy="241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发”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征发 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闾左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用来指代贫苦人民； “</a:t>
            </a:r>
            <a:r>
              <a:rPr b="1" lang="zh-CN" sz="3800" spc="-1" strike="noStrike">
                <a:solidFill>
                  <a:srgbClr val="ff3300"/>
                </a:solidFill>
                <a:latin typeface="Times New Roman"/>
              </a:rPr>
              <a:t>谪戍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”，强迫去守边，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適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通“谪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戍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，守边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屯”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停驻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次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编次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当行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á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当在征发之列。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为”</a:t>
            </a:r>
            <a:r>
              <a:rPr b="1" lang="zh-CN" sz="3800" spc="-1" strike="noStrike">
                <a:solidFill>
                  <a:srgbClr val="003bb2"/>
                </a:solidFill>
                <a:latin typeface="Times New Roman"/>
              </a:rPr>
              <a:t>：担任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会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：适逢，恰巧遇到。 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度ｄｕ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ó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估计。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失期”：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误期。  </a:t>
            </a: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“法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</a:rPr>
              <a:t>，按军法。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0F1-1102-4747-85B9-C288F1D4F38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35665-DF26-4EDD-9EE8-D21CF989B1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2360" y="549360"/>
            <a:ext cx="863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秦二世元年七月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征发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贫苦人民去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戍守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渔阳，九百人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停驻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在大泽乡。陈胜、吴广都被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编入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戍边的队伍，他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担任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了戍守队伍的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小头目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适逢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天降大雨，道路不通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估计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已经误了期限。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误了期限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按秦朝军法</a:t>
            </a:r>
            <a:r>
              <a:rPr b="1" lang="zh-CN" sz="4400" spc="-1" strike="noStrike">
                <a:solidFill>
                  <a:srgbClr val="003bb2"/>
                </a:solidFill>
                <a:latin typeface="Times New Roman"/>
                <a:ea typeface="黑体"/>
              </a:rPr>
              <a:t>都要杀头。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930-920B-437C-940F-EB40F1B3BCF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ACBED-7F10-4BBE-A357-14EE71449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2360" y="189000"/>
            <a:ext cx="87296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陈胜﹑吴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曰：“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亦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死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死国可乎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？”陈胜曰：“天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秦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久矣。吾闻二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少子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不当立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立者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公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扶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280" y="2529000"/>
            <a:ext cx="868536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于是，就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谋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商量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亡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逃走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举大计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发动大事，指起义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等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同样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死国可乎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为国而死，好吗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死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为动用法，为……而死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苦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苦于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少子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秦始皇的小儿子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也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表判断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当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应该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是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扶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秦始皇的长子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655-1154-4B40-A7CA-08F98C81FBA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5FD7A-8B17-4A2C-8252-06BF02A88E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2360" y="368280"/>
            <a:ext cx="8325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、吴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于是商量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说：“现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逃跑</a:t>
            </a:r>
            <a:r>
              <a:rPr b="1" lang="en-US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被抓回</a:t>
            </a:r>
            <a:r>
              <a:rPr b="1" lang="en-US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也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发动起义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也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同样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是死，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为国事而死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可以吗？”陈胜说：“天下人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苦于</a:t>
            </a:r>
            <a:r>
              <a:rPr b="1" lang="zh-CN" sz="4000" spc="-1" strike="noStrike" u="sng">
                <a:solidFill>
                  <a:srgbClr val="003bb2"/>
                </a:solidFill>
                <a:uFillTx/>
                <a:latin typeface="Times New Roman"/>
                <a:ea typeface="黑体"/>
              </a:rPr>
              <a:t>秦的统治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已是很久了。我听说秦二世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始皇帝的小儿子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不应该立为国君，应该即帝位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是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长子扶苏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E27-0EDC-437A-BB89-54E16ED617E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6F926-13CD-4FA0-BFA4-C5BE1DC7A2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2000" y="144360"/>
            <a:ext cx="8982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扶苏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以数谏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故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使外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兵。今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闻无罪，二世杀之。百姓多闻其贤，未知其死也。项燕为楚将，数有功，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爱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士卒，楚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怜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之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Times New Roman"/>
              </a:rPr>
              <a:t>以</a:t>
            </a:r>
            <a:r>
              <a:rPr b="1" lang="zh-CN" sz="33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死，或以为亡。今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诚以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吾众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诈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自称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公子扶苏﹑项燕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天下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唱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宜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多应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者。”吴广</a:t>
            </a:r>
            <a:r>
              <a:rPr b="1" lang="zh-CN" sz="3300" spc="-1" strike="noStrike" u="sng">
                <a:solidFill>
                  <a:srgbClr val="ff0000"/>
                </a:solidFill>
                <a:uFillTx/>
                <a:latin typeface="Times New Roman"/>
              </a:rPr>
              <a:t>以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360" y="3159000"/>
            <a:ext cx="873144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因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数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屡次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古代下级对上级提意见或建议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上”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皇上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带领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或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有的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怜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爱戴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以为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认为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诚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如果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以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把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诈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假装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为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唱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通“倡”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首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宜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应该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然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对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61F-2BD7-41B0-B626-D2554175C9B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B221A-1C07-4DE5-8F62-9EB55B7D6D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2360" y="33480"/>
            <a:ext cx="8891640" cy="182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扶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屡次劝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的缘故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皇上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便派他在外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带兵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。现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听说扶苏并没有什么罪，秦二世杀了他。百姓大多听说他很贤明，不知道他死了。项燕担任楚国将领的时候，屡次立功，爱护士兵，楚国人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爱戴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他。有的人认为他死了，有的人认为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逃跑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了。现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把我们的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假装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自称是公子扶苏、项燕的队伍，向全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发出倡导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应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有很多响应的人。”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认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说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10F-DA96-4370-969D-3FCE328DE20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29AA1-2E24-4D3E-AC52-B0737CFEB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7000" y="233280"/>
            <a:ext cx="8686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行卜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卜者知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指意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曰：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足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事皆成，有功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足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鬼乎！”陈胜﹑吴广喜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念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鬼，曰：“此教我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威众耳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丹书帛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“陈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”，置人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罾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鱼腹中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360" y="2619360"/>
            <a:ext cx="868536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乃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于是，就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行卜”：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去占卜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指意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意图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足下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指对方，对别人的敬称。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然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不过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之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代足下事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念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考虑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威众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威服众人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“乃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于是；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丹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朱砂；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书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写；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王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ng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，称王。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罾”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鱼网，这里作动词。用网捕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4D4-B703-4B85-811B-42653C81A668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9941E-F64D-4E2E-A9FB-3AD4CF18B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2360" y="0"/>
            <a:ext cx="8891640" cy="359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于是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他们就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占卜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。占卜人知道他们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意图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说道：“你们的事都能办成，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建功立业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。不过你们还是把事情向鬼神卜问一下吧！”陈胜、吴广很高兴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考虑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卜问鬼神的事，说道：“这是让我们先威服众人啊。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用朱砂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在绸子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写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了“陈胜王”三个字，把它放在别人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捕的鱼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的肚里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2D5-3174-4B16-8818-262FAAF83F4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2E80F-FAE8-41BD-A9D5-2282D9D95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2000" y="0"/>
            <a:ext cx="898200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卒买鱼</a:t>
            </a:r>
            <a:r>
              <a:rPr b="1" lang="zh-CN" sz="3100" spc="-1" strike="noStrike">
                <a:solidFill>
                  <a:srgbClr val="000099"/>
                </a:solidFill>
                <a:latin typeface="Times New Roman"/>
              </a:rPr>
              <a:t>烹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食，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得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鱼腹中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书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固以怪之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矣。又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间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令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吴广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之次所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旁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丛祠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中，夜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篝火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狐鸣呼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曰“大楚兴，陈胜王”。卒皆夜惊恐。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旦日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卒中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往往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语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，皆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指</a:t>
            </a:r>
            <a:r>
              <a:rPr b="1" lang="zh-CN" sz="3100" spc="-1" strike="noStrike">
                <a:solidFill>
                  <a:srgbClr val="ff3300"/>
                </a:solidFill>
                <a:latin typeface="Times New Roman"/>
              </a:rPr>
              <a:t>目</a:t>
            </a:r>
            <a:r>
              <a:rPr b="1" lang="zh-CN" sz="3100" spc="-1" strike="noStrike">
                <a:solidFill>
                  <a:srgbClr val="003bb2"/>
                </a:solidFill>
                <a:latin typeface="Times New Roman"/>
              </a:rPr>
              <a:t>陈胜。</a:t>
            </a:r>
            <a:endParaRPr b="0" lang="en-US" sz="31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2000" y="1989000"/>
            <a:ext cx="8982000" cy="210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书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字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固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本来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以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通“已”，已经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怪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意动用法，以……为怪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代鱼腹中书。 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间</a:t>
            </a: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jiàn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令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暗使，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间”，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私自、偷着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去、往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次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旅行或行军在途中停留；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次所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，指军队驻扎的地方。“丛祠”：神祠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篝火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：用笼罩着火；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篝”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，笼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狐鸣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作狐狸嗥叫的凄厉声音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旦日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明天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往往语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到处谈论。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“指目”：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</a:rPr>
              <a:t>指指点点，互相以目示意</a:t>
            </a: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。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D8E-F755-4F73-93C6-441BC292F41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7551B-F120-492B-B53B-3831BDCE05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2360" y="0"/>
            <a:ext cx="8891640" cy="4254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士兵买鱼回来烹食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发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鱼肚里的字条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来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已经对这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感到诧怪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（陈胜）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暗使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吴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驻地旁边的丛林里的神庙中，夜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用笼罩着火装着鬼火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像狐狸的叫声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呼喊“大楚复兴，陈胜为王。”士兵们夜里都惊恐不安。第二天，士兵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到处议论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这事，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指指点点，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互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以目示意看着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  <a:ea typeface="黑体"/>
              </a:rPr>
              <a:t>陈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5B6-ABB4-4D53-8AD3-DBBB96FDD3C9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BA3C-05EE-4B2D-8B9C-DA0ECF5069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089000"/>
            <a:ext cx="2637000" cy="3195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2360" y="144360"/>
            <a:ext cx="6551640" cy="151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司马迁，西汉著名史学家、文学家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字子长，夏阳（陕西韩城县南）人。生于史官世家，其父司马谈是汉朝太史令，</a:t>
            </a:r>
            <a:r>
              <a:rPr b="1" lang="zh-CN" sz="3100" spc="-1" strike="noStrike">
                <a:solidFill>
                  <a:srgbClr val="000099"/>
                </a:solidFill>
                <a:latin typeface="黑体"/>
                <a:ea typeface="黑体"/>
              </a:rPr>
              <a:t>掌管起草文书、编写史料、兼管国家典籍、天文历法等。博览皇室珍藏的大量图书、档案和文献</a:t>
            </a:r>
            <a:r>
              <a:rPr b="1" lang="zh-CN" sz="31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司马迁自幼受家庭熏陶，十岁“通古文”，才学过人，二十岁后漫游南北各地考查，搜集史料。司马谈打算编写一部通史，愿望没有实现就去世了。公元前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108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年司马迁继父职，任太史令，前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104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年修订太初历，同时着手撰写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《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史记</a:t>
            </a:r>
            <a:r>
              <a:rPr b="1" lang="en-US" sz="3100" spc="-1" strike="noStrike">
                <a:solidFill>
                  <a:srgbClr val="003366"/>
                </a:solidFill>
                <a:latin typeface="黑体"/>
                <a:ea typeface="黑体"/>
              </a:rPr>
              <a:t>》</a:t>
            </a:r>
            <a:r>
              <a:rPr b="1" lang="zh-CN" sz="3100" spc="-1" strike="noStrike">
                <a:solidFill>
                  <a:srgbClr val="003366"/>
                </a:solidFill>
                <a:latin typeface="黑体"/>
                <a:ea typeface="黑体"/>
              </a:rPr>
              <a:t>。</a:t>
            </a:r>
            <a:endParaRPr b="0" lang="en-US" sz="31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5920" y="5094360"/>
            <a:ext cx="44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约前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145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---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前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9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90E-458D-4251-9738-974DE046DF7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17FE8-B9E8-4ABC-AF83-E5372FF6BD5F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843120"/>
            <a:ext cx="851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起义的导火线（直接原因）是什么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起义的根本原因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8280" y="2079720"/>
            <a:ext cx="850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会天大雨，道不通，度已失期。失期，法皆斩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4103640"/>
            <a:ext cx="84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“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天下苦秦久矣。”</a:t>
            </a:r>
            <a:r>
              <a:rPr b="1" lang="zh-CN" sz="4000" spc="-1" strike="noStrike">
                <a:solidFill>
                  <a:srgbClr val="000099"/>
                </a:solidFill>
                <a:latin typeface="方正大标宋简体"/>
                <a:ea typeface="华文新魏"/>
              </a:rPr>
              <a:t>说明全国人民对秦王朝的残暴统治极其愤恨，处处都蕴蓄着反抗的力量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89000"/>
            <a:ext cx="5984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隶书"/>
              </a:rPr>
              <a:t>思考第二段：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C47-6C6F-4E1F-B5E7-079D42354B0E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ACB9-EC53-4B57-AB31-B236F238D6B7}" type="datetime1">
              <a:rPr lang="en-US"/>
              <a:t>07/29/26</a:t>
            </a:fld>
          </a:p>
        </p:txBody>
      </p:sp>
    </p:spTree>
  </p:cSld>
  <p:transition spd="med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7000" y="503280"/>
            <a:ext cx="100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、陈胜为起义军制定的</a:t>
            </a:r>
            <a:r>
              <a:rPr b="1" lang="zh-CN" sz="4000" spc="-1" strike="noStrike">
                <a:solidFill>
                  <a:srgbClr val="000099"/>
                </a:solidFill>
                <a:latin typeface="方正大标宋简体"/>
                <a:ea typeface="方正大标宋简体"/>
              </a:rPr>
              <a:t>策略口号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2000" y="1268280"/>
            <a:ext cx="8659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诈自称公子扶苏、项燕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360" y="2079720"/>
            <a:ext cx="86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、陈胜怎样为起义作舆论准备？</a:t>
            </a:r>
            <a:r>
              <a:rPr b="1" lang="zh-CN" sz="3600" spc="-1" strike="noStrike">
                <a:solidFill>
                  <a:srgbClr val="003bb2"/>
                </a:solidFill>
                <a:latin typeface="方正大标宋简体"/>
                <a:ea typeface="方正大标宋简体"/>
              </a:rPr>
              <a:t>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360" y="2889360"/>
            <a:ext cx="872964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借鬼神意旨以威服众人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乃丹书帛曰“陈胜王”，置人所罾鱼腹中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间令吴广之次所旁丛祠中，夜篝火，狐鸣呼曰“大楚兴，陈胜王”。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采用这些斗争策略，说明陈胜、吴广足智多谋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DCC-D7C6-48FA-AF22-E6B67C50B91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53D38-082B-4064-906C-D6D5CCDB19B7}" type="datetime1">
              <a:rPr lang="en-US"/>
              <a:t>07/29/26</a:t>
            </a:fld>
          </a:p>
        </p:txBody>
      </p:sp>
    </p:spTree>
  </p:cSld>
  <p:transition spd="med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1280" y="18900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吴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素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爱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士卒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用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者。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将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醉，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故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言欲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忿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尉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令辱之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激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其众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笞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广。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剑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广起，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夺而杀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陈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佐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杀两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60" y="2573280"/>
            <a:ext cx="8753400" cy="1739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素”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平素，一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为用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为其所用，愿听他的差遣，为他效力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故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故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数”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）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屡次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亡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逃跑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忿恚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使动用法，使……恼怒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恚”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恼怒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令辱之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使</a:t>
            </a:r>
            <a:r>
              <a:rPr b="1" lang="en-US" sz="3600" spc="-1" strike="noStrike">
                <a:solidFill>
                  <a:srgbClr val="003bb2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尉官</a:t>
            </a:r>
            <a:r>
              <a:rPr b="1" lang="en-US" sz="3600" spc="-1" strike="noStrike">
                <a:solidFill>
                  <a:srgbClr val="003bb2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责辱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笞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用鞭、杖或竹板打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剑挺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剑拔出鞘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佐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帮助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并”：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一起，一并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433-4AB2-4A8A-B193-2846FED09FB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6153D-FF7A-47DA-889C-6DE9455592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2360" y="279360"/>
            <a:ext cx="8594640" cy="272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平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很关心周围的人，士兵们大多愿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他出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（那天）（两个）军官喝醉了，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故意屡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提出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逃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尉官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恼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他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责辱他，借此来激怒士兵。那军官果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鞭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了吴广。（众士兵愤愤不平），军官（刚）拔出剑来威吓（士兵），吴广一跃而起，夺过剑来杀死了他。陈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协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吴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一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杀了两个军官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499-1D86-49A9-82D6-88C777BE8B4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A1AC0-18EF-467C-9F6B-706432BDE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2360" y="233280"/>
            <a:ext cx="86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召令徒属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遇雨，皆已失期，失期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斩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借第令毋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斩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戍死者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十六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壮士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不死即已，死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大名耳，王侯将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宁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有种乎！”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29000"/>
            <a:ext cx="8820000" cy="1785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召令徒属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召集并号令所属的众人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公等”：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你们诸位；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公”，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对人的敬称。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藉第令毋斩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即使仅能免于斩刑；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藉” “第” “令” 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，即使，假若；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毋”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，不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而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表转折，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固”：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本来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。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十六七”：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十分之六七。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“宁（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ì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）”</a:t>
            </a:r>
            <a:r>
              <a:rPr b="1" lang="zh-CN" sz="3700" spc="-1" strike="noStrike">
                <a:solidFill>
                  <a:srgbClr val="333399"/>
                </a:solidFill>
                <a:latin typeface="Times New Roman"/>
              </a:rPr>
              <a:t>：难道。</a:t>
            </a:r>
            <a:endParaRPr b="0" lang="en-US" sz="37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223-D223-4A1A-AB7A-756BA3B02477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76794-3225-4D5D-BB52-9AD8653DA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2360" y="279360"/>
            <a:ext cx="8594640" cy="367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陈胜召集并号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所属的众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，说：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们诸位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遇到大雨，都已经误期了。过期到达就要杀头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即使仅能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免于斩刑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然而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戍守边塞而死的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来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十分之六七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况且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大丈夫不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则已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，死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就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干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一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事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啊。王侯将相难道是天生的贵种吗？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972-F6FE-4AA0-8E3C-3E2D867112F7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9193-E35D-44E9-9DBA-05FA0E4B0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2360" y="233280"/>
            <a:ext cx="86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徒属皆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敬受命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诈称公子扶苏﹑项燕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欲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袒右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称大楚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坛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盟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3bb2"/>
                </a:solidFill>
                <a:uFillTx/>
                <a:latin typeface="Times New Roman"/>
              </a:rPr>
              <a:t>祭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以</a:t>
            </a:r>
            <a:r>
              <a:rPr b="1" lang="zh-CN" sz="3600" spc="-1" strike="noStrike" u="sng">
                <a:solidFill>
                  <a:srgbClr val="003bb2"/>
                </a:solidFill>
                <a:uFillTx/>
                <a:latin typeface="Times New Roman"/>
              </a:rPr>
              <a:t>尉首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。陈胜自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将军，吴广为都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280" y="2529000"/>
            <a:ext cx="8640720" cy="2531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受命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听从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你的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号命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乃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于是，就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从民欲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依从人民的愿望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袒右”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大家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露出右肩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为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筑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盟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盟誓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祭以尉首”，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倒装，“以尉首祭”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以”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用。用两尉的头祭天。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为”：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做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1DA-6B21-45F2-98A0-244B3FFBD14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F5DBE-76C6-49BA-8B12-39E288C6CE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2000" y="233280"/>
            <a:ext cx="8982000" cy="367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众戍卒齐声应道：“一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听从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号令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。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于是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冒充是公子扶苏和项燕的队伍，为的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顺从百姓的愿望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大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露出右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（作为义军的标志），打出大楚旗号。又用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筑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台，并在台上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宣誓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那两尉官的头祭天。陈胜自立为将军，吴广任都尉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EAC-BC75-47B4-B48A-A79A80B8BF6E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39905-3A97-4A55-BB4C-343DCBD365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1280" y="0"/>
            <a:ext cx="880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攻大泽乡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收而攻蕲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蕲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令符离人葛婴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兵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徇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蕲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东。攻铚﹑酇﹑苦﹑柘﹑谯皆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之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行收兵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比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至陈，车六七百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骑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千余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卒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万人。攻陈，陈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守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令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皆不在，独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守丞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与战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谯门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。弗胜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守丞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死，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乃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入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据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陈。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920" y="2798640"/>
            <a:ext cx="8866080" cy="2228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收而攻蕲”：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收聚大泽乡的军队，攻打蕲县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。“下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攻下，攻克</a:t>
            </a: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乃”：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于是，就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将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ji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à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ng)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率领，带领</a:t>
            </a: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徇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攻占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土地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500" spc="-1" strike="noStrike">
                <a:solidFill>
                  <a:srgbClr val="003bb2"/>
                </a:solidFill>
                <a:latin typeface="Times New Roman"/>
              </a:rPr>
              <a:t>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以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限定范围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行收兵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行军中沿途收纳兵员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比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等到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乘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sh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èng)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车辆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骑”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j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ì)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骑兵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守令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郡守、县令。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“谯门中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城门洞里</a:t>
            </a:r>
            <a:r>
              <a:rPr b="1" lang="en-US" sz="3500" spc="-1" strike="noStrike">
                <a:solidFill>
                  <a:srgbClr val="000099"/>
                </a:solidFill>
                <a:latin typeface="Times New Roman"/>
              </a:rPr>
              <a:t>。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乃”：</a:t>
            </a:r>
            <a:r>
              <a:rPr b="1" lang="zh-CN" sz="3500" spc="-1" strike="noStrike">
                <a:solidFill>
                  <a:srgbClr val="000099"/>
                </a:solidFill>
                <a:latin typeface="Times New Roman"/>
              </a:rPr>
              <a:t>才。</a:t>
            </a:r>
            <a:endParaRPr b="0" lang="en-US" sz="35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172-07CB-4607-8DD6-5806CCADBEB3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1606F-66DA-4C9E-8724-D459693D1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2000" y="0"/>
            <a:ext cx="8982000" cy="363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（首先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进攻大泽乡，收集大泽乡的军队攻打蕲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攻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蕲县后，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符离人葛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带兵攻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蕲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东的地方。（陈胜率主力）攻打轾、酂、苦、拓、樵等县，都攻下来了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行军中沿路收纳官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打到陈县的时候，已有战车六七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战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千多匹，士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万人。进攻陈县时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郡守和县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都不在城中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守丞带兵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城门洞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战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一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战胜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守丞被杀死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起义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陈县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41E-2AD1-4E60-B88C-FF1216F08DD2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3A3CB-1A26-4814-80A3-632C4379A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27360" cy="5616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1640" y="233280"/>
            <a:ext cx="5896080" cy="14191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因替投降匈奴的李陵辩解，获罪入狱，受宫刑，面对不幸的遭遇，司马迁曾一度想自杀，但他想起了父亲的遗言，又以古人孔子、屈原、左丘明、孙子、韩非等在逆境中发愤有为鼓励自己，身心备受摧残、忍辱生活的司马迁深知，“人固有一死，死有重于泰山，或轻于鸿毛”。他决心以残烛之年，完成父亲要他完成的史书。此后，他发奋著书。前</a:t>
            </a:r>
            <a:r>
              <a:rPr b="1" lang="en-US" sz="2900" spc="-1" strike="noStrike">
                <a:solidFill>
                  <a:srgbClr val="003366"/>
                </a:solidFill>
                <a:latin typeface="Times New Roman"/>
              </a:rPr>
              <a:t>96</a:t>
            </a:r>
            <a:r>
              <a:rPr b="1" lang="zh-CN" sz="2900" spc="-1" strike="noStrike">
                <a:solidFill>
                  <a:srgbClr val="003366"/>
                </a:solidFill>
                <a:latin typeface="Times New Roman"/>
              </a:rPr>
              <a:t>年出狱，任中书令，经十余年努力，约在五十五岁时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终于写成我国第一部纪传体的历史巨著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史记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900" spc="-1" strike="noStrike">
              <a:solidFill>
                <a:srgbClr val="003bb2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243320"/>
            <a:ext cx="2727360" cy="26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4E2-F4D6-4250-BB11-31A6E6CFBBD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AE985-4B03-4F28-9551-8FB6680E5912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41280" y="14436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数日，号令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老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豪杰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皆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会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事。三老﹑豪杰皆曰：“将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身被坚执锐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无道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诛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暴秦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立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楚国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社稷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，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宜为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王。”陈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立为王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号为张楚。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当此时，诸郡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苦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秦吏者，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刑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其长吏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杀之以应陈涉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2360" y="2708280"/>
            <a:ext cx="8685360" cy="204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老”：</a:t>
            </a:r>
            <a:r>
              <a:rPr b="1" lang="zh-CN" sz="3200" spc="-1" strike="noStrike">
                <a:solidFill>
                  <a:srgbClr val="003bb2"/>
                </a:solidFill>
                <a:latin typeface="黑体"/>
                <a:ea typeface="黑体"/>
              </a:rPr>
              <a:t>掌管教化的乡官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豪杰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当地有声望的人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会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集会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计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商议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“被坚执锐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身披着战甲，拿着武器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“身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亲自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被”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通“披”，穿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“坚”“锐”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都是形容词作名词，分别指铁甲、武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“执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紧握着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无道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残暴无道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诛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讨伐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复立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恢复建立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社稷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国家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号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宣称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刑”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惩罚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3BA-C0BE-44AF-9716-47F827B66242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5EBBB-A671-4064-8352-A5B492F305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2000" y="0"/>
            <a:ext cx="8982000" cy="387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几天后，陈胜召集当地的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乡官和有声望的人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一起来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集会议事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。这些人都说：“将军您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亲自披战甲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上阵，手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拿武器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讨伐残暴无道的秦国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，恢复楚国的社稷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论功应当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称王。”于是陈胜被拥戴称王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对外宣称要张大楚国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。这时，各郡县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苦于秦朝统治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人都纷纷起事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惩罚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当地的郡县长官，把他们杀死，</a:t>
            </a:r>
            <a:r>
              <a:rPr b="1" lang="zh-CN" sz="3900" spc="-1" strike="noStrike">
                <a:solidFill>
                  <a:srgbClr val="ff0000"/>
                </a:solidFill>
                <a:latin typeface="Times New Roman"/>
                <a:ea typeface="黑体"/>
              </a:rPr>
              <a:t>来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黑体"/>
              </a:rPr>
              <a:t>响应陈胜的号召。</a:t>
            </a:r>
            <a:endParaRPr b="0" lang="en-US" sz="39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709-FE31-43D9-9AB2-0C2C6D30CBC0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9D411-FCDE-4CBD-85BD-ED41EBE7D0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2360" y="414360"/>
            <a:ext cx="76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3bb2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3bb2"/>
                </a:solidFill>
                <a:latin typeface="黑体"/>
                <a:ea typeface="黑体"/>
              </a:rPr>
              <a:t>这一大段写了哪些内容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2360" y="1224000"/>
            <a:ext cx="862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写了三方面内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发动起义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胜利进军。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建立政权。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" y="3833640"/>
            <a:ext cx="985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最能表现陈胜反抗精神的一句话是：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4360" y="4778280"/>
            <a:ext cx="872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王侯将相宁有种乎！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对封建等级制度进行了否定！）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1DB-0BB0-4390-9A94-AE91BB704E69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2AD6-77CD-4244-9B46-D126C05C56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总结全文：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765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谋划起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876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发动起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685800"/>
            <a:ext cx="99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原因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策略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舆论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9144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5335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428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直接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bb2"/>
                </a:solidFill>
                <a:latin typeface="Times New Roman"/>
              </a:rPr>
              <a:t>根本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57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失期，法皆斩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990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天下苦秦久矣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16002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bb2"/>
                </a:solidFill>
                <a:latin typeface="Times New Roman"/>
                <a:ea typeface="楷体_GB2312"/>
              </a:rPr>
              <a:t>立公子扶苏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2133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bb2"/>
                </a:solidFill>
                <a:latin typeface="Times New Roman"/>
                <a:ea typeface="楷体_GB2312"/>
              </a:rPr>
              <a:t>楚人怜楚将项燕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7432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590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鱼腹藏书</a:t>
            </a:r>
            <a:endParaRPr b="0" lang="en-US" sz="2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篝火狐鸣</a:t>
            </a:r>
            <a:endParaRPr b="0" lang="en-US" sz="2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11480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义开始时的情形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起义初期的迅猛发展和陈胜立国的经过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867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概述此后诸郡县反秦斗争的情形。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8098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35053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并杀两尉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9625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召令徒属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48164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为坛而盟</a:t>
            </a: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3FA-ECBE-43C7-BCC7-B14000CB5785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BFCA6-8CF2-4518-BC2A-0AC14AFBF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998280"/>
            <a:ext cx="872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陈涉世家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词类归纳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41280" y="2057040"/>
            <a:ext cx="74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一、通假字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二、一词多义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三、词类活用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黑体"/>
                <a:ea typeface="黑体"/>
              </a:rPr>
              <a:t>四、古今异义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0BF-D496-4D45-8D36-61D50207F43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90CB57F-9B45-41B9-9130-99AC04552D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6280" y="367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通假字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1640" y="1854360"/>
            <a:ext cx="60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发闾左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適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戍渔阳</a:t>
            </a:r>
            <a:r>
              <a:rPr b="1" lang="zh-CN" sz="4800" spc="-1" strike="noStrike" u="sng">
                <a:solidFill>
                  <a:srgbClr val="003bb2"/>
                </a:solidFill>
                <a:uFillTx/>
                <a:latin typeface="宋体"/>
              </a:rPr>
              <a:t>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为天下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唱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固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怪之矣</a:t>
            </a:r>
            <a:r>
              <a:rPr b="1" lang="zh-CN" sz="4800" spc="-1" strike="noStrike" u="sng">
                <a:solidFill>
                  <a:srgbClr val="003bb2"/>
                </a:solidFill>
                <a:uFillTx/>
                <a:latin typeface="宋体"/>
              </a:rPr>
              <a:t> </a:t>
            </a:r>
            <a:endParaRPr b="0" lang="en-US" sz="48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将军身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被</a:t>
            </a:r>
            <a:r>
              <a:rPr b="1" lang="zh-CN" sz="4800" spc="-1" strike="noStrike">
                <a:solidFill>
                  <a:srgbClr val="003bb2"/>
                </a:solidFill>
                <a:latin typeface="宋体"/>
              </a:rPr>
              <a:t>坚执锐</a:t>
            </a:r>
            <a:r>
              <a:rPr b="0" lang="zh-CN" sz="4400" spc="-1" strike="noStrike" u="sng">
                <a:solidFill>
                  <a:srgbClr val="003bb2"/>
                </a:solidFill>
                <a:uFillTx/>
                <a:latin typeface="宋体"/>
              </a:rPr>
              <a:t>               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19051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“谪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2819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唱通“倡”，首发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5812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”通“已” 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94360" y="4643280"/>
            <a:ext cx="40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被”通“披”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29F-BD7B-41EB-95BA-1CB56EAD02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51621-EA66-4647-91AC-DC866544589B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73152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一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之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36640" y="1898640"/>
            <a:ext cx="270000" cy="3645000"/>
          </a:xfrm>
          <a:custGeom>
            <a:avLst/>
            <a:gdLst>
              <a:gd name="textAreaLeft" fmla="*/ 172440 w 270000"/>
              <a:gd name="textAreaRight" fmla="*/ 270360 w 270000"/>
              <a:gd name="textAreaTop" fmla="*/ 95040 h 3645000"/>
              <a:gd name="textAreaBottom" fmla="*/ 3549960 h 364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41640" y="1538280"/>
            <a:ext cx="464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辍耕之垄上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之次所旁丛祠中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3249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怅恨久之 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396252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二世杀之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504972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宋体"/>
              </a:rPr>
              <a:t>燕雀安知鸿鹄之志哉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81640" y="1898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、往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92720" y="33386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节助词，不译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6280" y="40593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词，代扶苏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07000" y="576900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助词，的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059-0493-4D46-A602-6BD8DAE97DB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3F7B8-3282-4424-95EF-5AF5111D16B9}" type="datetime1">
              <a:rPr lang="en-US"/>
              <a:t>07/29/26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二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以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36640" y="1854360"/>
            <a:ext cx="447840" cy="4584600"/>
          </a:xfrm>
          <a:custGeom>
            <a:avLst/>
            <a:gdLst>
              <a:gd name="textAreaLeft" fmla="*/ 286200 w 447840"/>
              <a:gd name="textAreaRight" fmla="*/ 448200 w 447840"/>
              <a:gd name="textAreaTop" fmla="*/ 119520 h 4584600"/>
              <a:gd name="textAreaBottom" fmla="*/ 4465080 h 45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71640" y="1584360"/>
            <a:ext cx="41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扶苏以数谏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32000" y="2573280"/>
            <a:ext cx="32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固以怪之矣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41640" y="356400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以激怒其众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495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徇蕲以东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67360" y="1494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2720" y="2573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“已”，已经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640" y="3519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来，连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42000" y="4464000"/>
            <a:ext cx="40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限定范围，连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41640" y="5229360"/>
            <a:ext cx="31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今诚以吾众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32360" y="527364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51040" y="585936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Arial"/>
              </a:rPr>
              <a:t>祭以尉首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85936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B7A-A0DA-4472-B68B-AC4C5E7CAE1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0D803-655B-43F0-8E16-1CDF47BC9A87}" type="datetime1">
              <a:rPr lang="en-US"/>
              <a:t>07/29/2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15840" y="-33480"/>
            <a:ext cx="67975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三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bb2"/>
                </a:solidFill>
                <a:latin typeface="宋体"/>
              </a:rPr>
              <a:t>为</a:t>
            </a:r>
            <a:endParaRPr b="0" lang="en-US" sz="6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905120"/>
            <a:ext cx="304920" cy="3962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36640" y="15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佣耕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819520"/>
            <a:ext cx="24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天下唱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1148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士卒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用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6640" y="531972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屯长；为坛而盟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1523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2895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4114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，介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334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F15-14AB-46C9-8D38-137E7C413A0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AA236-71CF-4039-8D01-FF0D1E5A4E6B}" type="datetime1">
              <a:rPr lang="en-US"/>
              <a:t>07/29/26</a:t>
            </a:fld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936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四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故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6280" y="1133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扶苏以数谏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22360" y="2438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广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故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数言欲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27720" y="1224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缘故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2438280"/>
            <a:ext cx="31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意，副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书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6280" y="4149720"/>
            <a:ext cx="225360" cy="1754280"/>
          </a:xfrm>
          <a:custGeom>
            <a:avLst/>
            <a:gdLst>
              <a:gd name="textAreaLeft" fmla="*/ 144000 w 225360"/>
              <a:gd name="textAreaRight" fmla="*/ 225720 w 22536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11280" y="3924360"/>
            <a:ext cx="24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乃丹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书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帛曰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97000" y="53640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得鱼腹中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书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96864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5364000"/>
            <a:ext cx="34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绸条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549-38E5-424D-953F-0C05919B8A2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CD6FA-CA46-49F9-B57F-F5D5C51644EE}" type="datetime1">
              <a:rPr lang="en-US"/>
              <a:t>07/29/26</a:t>
            </a:fld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10351" t="0" r="13773" b="0"/>
          <a:stretch/>
        </p:blipFill>
        <p:spPr>
          <a:xfrm>
            <a:off x="0" y="414360"/>
            <a:ext cx="2187720" cy="292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4920" y="4014720"/>
            <a:ext cx="2152800" cy="193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48000" y="324000"/>
            <a:ext cx="64897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《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史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我国第一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纪传体通史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在史学和文学史上都有很高的地位。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鲁迅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称它是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“史家之绝唱，无韵之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离骚</a:t>
            </a:r>
            <a:r>
              <a:rPr b="1" lang="en-US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”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与司马光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资治通鉴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并称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史学双璧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记载了从传说中的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黄帝到汉武帝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长达三千年间的历史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全书共</a:t>
            </a:r>
            <a:r>
              <a:rPr b="1" lang="en-US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130 </a:t>
            </a:r>
            <a:r>
              <a:rPr b="1" lang="zh-CN" sz="3200" spc="-1" strike="noStrike">
                <a:solidFill>
                  <a:srgbClr val="003366"/>
                </a:solidFill>
                <a:latin typeface="华文隶书"/>
                <a:ea typeface="华文隶书"/>
              </a:rPr>
              <a:t>篇，包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本纪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帝王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世家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诸侯世家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列传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各阶层有影响的人物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书表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(</a:t>
            </a: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经济、天文、历法等</a:t>
            </a:r>
            <a:r>
              <a:rPr b="1" lang="en-US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)</a:t>
            </a:r>
            <a:r>
              <a:rPr b="1" lang="en-US" sz="3400" spc="-1" strike="noStrike">
                <a:solidFill>
                  <a:srgbClr val="009900"/>
                </a:solidFill>
                <a:latin typeface="华文隶书"/>
                <a:ea typeface="华文隶书"/>
              </a:rPr>
              <a:t>            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104-6E9D-4A21-9955-E675DCFC9DB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9E23E-91FD-4998-BAA4-E4142C02F024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五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然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0920" y="13143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吴广以为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然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2000" y="2529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然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足下卜之鬼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1224000"/>
            <a:ext cx="50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的、正确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529000"/>
            <a:ext cx="35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过，然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4221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12720" y="3924360"/>
            <a:ext cx="284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扶苏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谏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有功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数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言欲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32000" y="5724360"/>
            <a:ext cx="32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卒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3bb2"/>
                </a:solidFill>
                <a:latin typeface="Times New Roman"/>
              </a:rPr>
              <a:t>万人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03640" y="4437000"/>
            <a:ext cx="22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屡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62360" y="5724360"/>
            <a:ext cx="30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，数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343-0022-453A-BBA5-AFE75F2860E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72E7B-72E4-4083-A5C8-CC7399F63E75}" type="datetime1">
              <a:rPr lang="en-US"/>
              <a:t>07/29/26</a:t>
            </a:fld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936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宋体"/>
              </a:rPr>
              <a:t>一词多义（六）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宋体"/>
              </a:rPr>
              <a:t>将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52360" y="1314360"/>
            <a:ext cx="223920" cy="1754280"/>
          </a:xfrm>
          <a:custGeom>
            <a:avLst/>
            <a:gdLst>
              <a:gd name="textAreaLeft" fmla="*/ 143280 w 223920"/>
              <a:gd name="textAreaRight" fmla="*/ 224280 w 22392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15920" y="135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上使外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将</a:t>
            </a: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兵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248436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宋体"/>
              </a:rPr>
              <a:t>燕为楚</a:t>
            </a:r>
            <a:r>
              <a:rPr b="1" lang="zh-CN" sz="3200" spc="-1" strike="noStrike">
                <a:solidFill>
                  <a:srgbClr val="e45c00"/>
                </a:solidFill>
                <a:latin typeface="宋体"/>
              </a:rPr>
              <a:t>将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14032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率领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1148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2438280"/>
            <a:ext cx="35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领，名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7360" y="455436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Times New Roman"/>
              </a:rPr>
              <a:t>次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6280" y="4149720"/>
            <a:ext cx="225360" cy="1754280"/>
          </a:xfrm>
          <a:custGeom>
            <a:avLst/>
            <a:gdLst>
              <a:gd name="textAreaLeft" fmla="*/ 144000 w 225360"/>
              <a:gd name="textAreaRight" fmla="*/ 225720 w 22536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41280" y="3924360"/>
            <a:ext cx="436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陈胜吴广皆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当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41280" y="5454720"/>
            <a:ext cx="37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e45c00"/>
                </a:solidFill>
                <a:latin typeface="Times New Roman"/>
              </a:rPr>
              <a:t>次</a:t>
            </a: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所旁丛祠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27720" y="396864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次，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7000" y="5094360"/>
            <a:ext cx="314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旅行或行军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途中停留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477-70D1-4417-AFF4-0C7DA9F72DF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D7361-A607-47E0-A3F0-A65108AC4904}" type="datetime1">
              <a:rPr lang="en-US"/>
              <a:t>07/29/26</a:t>
            </a:fld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黑体"/>
              </a:rPr>
              <a:t>一词多义（七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陈胜、吴广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谋曰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bb2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bb2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当立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公子扶苏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529000"/>
            <a:ext cx="330120" cy="3490920"/>
          </a:xfrm>
          <a:custGeom>
            <a:avLst/>
            <a:gdLst>
              <a:gd name="textAreaLeft" fmla="*/ 210960 w 330120"/>
              <a:gd name="textAreaRight" fmla="*/ 330480 w 330120"/>
              <a:gd name="textAreaTop" fmla="*/ 90720 h 3490920"/>
              <a:gd name="textAreaBottom" fmla="*/ 340020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908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76640" y="446400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5c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入据陈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07000" y="450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3840" y="540216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5c00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不知有汉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0560" y="5326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竟然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6640" y="3473280"/>
            <a:ext cx="139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bb2"/>
                </a:solidFill>
                <a:latin typeface="Arial"/>
              </a:rPr>
              <a:t>乃</a:t>
            </a:r>
            <a:endParaRPr b="0" lang="en-US" sz="4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7360" y="216864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是，就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3384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7E2-34F7-4553-A976-856BD5AAD7C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D9CA8-DF97-460A-BA7A-6D3C9D4D78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9360"/>
            <a:ext cx="77216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词类活用（一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2360" y="1179360"/>
            <a:ext cx="544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失期，法皆斩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乃丹书帛曰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陈胜王”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置人所罾鱼腹中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忿恚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97360" y="1224000"/>
            <a:ext cx="54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：依法，名词做状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86280" y="2259000"/>
            <a:ext cx="51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丹，用朱砂，名词作状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，写。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2360" y="3429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，称王。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97360" y="4464000"/>
            <a:ext cx="49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罾，鱼网，用网捕，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作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51280" y="5678640"/>
            <a:ext cx="54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……恼怒，使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546-2912-460B-94B4-495A4BF010E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203AB-1CC7-47FA-98F3-65D229DEB4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9360"/>
            <a:ext cx="68835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词类活用（二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836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5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将军身被坚执锐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6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夜篝火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7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皆指目陈胜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8 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狐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鸣呼曰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4600" y="1314360"/>
            <a:ext cx="453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，铁甲。锐，武器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容词作名词。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7000" y="248436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笼罩着火（装鬼火）名词作动词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37000" y="3789360"/>
            <a:ext cx="560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，用眼睛示意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词作动词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9856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2000" y="5094360"/>
            <a:ext cx="50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狐，像狐狸一样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36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075-42E9-4C05-A76E-E8DA7D8236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50314-D496-4C5C-8A85-F888F754AC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今异义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6095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今亡亦死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等死，死国可乎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又间令吴广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bb2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bb2"/>
                </a:solidFill>
                <a:latin typeface="Arial"/>
              </a:rPr>
              <a:t>、卒中往往语</a:t>
            </a:r>
            <a:endParaRPr b="0" lang="en-US" sz="40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楚人怜之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、怅恨久之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1219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逃走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1981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样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待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7360" y="2666880"/>
            <a:ext cx="41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私自偷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间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3505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处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常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6640" y="4267080"/>
            <a:ext cx="44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戴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怜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57720" y="493236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叹恨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仇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1EE-B551-4709-BE83-0E7C409EFF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3F52-81EB-410F-A1B3-6808139CC1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092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汉语句式（一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181160"/>
            <a:ext cx="9045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判断句：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陈胜者，阳城人也，字涉。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二世少子也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倒装句：</a:t>
            </a:r>
            <a:endParaRPr b="0" lang="en-US" sz="4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bb2"/>
                </a:solidFill>
                <a:latin typeface="Arial"/>
              </a:rPr>
              <a:t>为坛而盟，祭以尉首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以尉首祭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6C3-B551-45E6-A45E-82B18958F9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37400-CCC3-4791-B884-BA3B989C2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092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古汉语句式（二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1280" y="1224000"/>
            <a:ext cx="9453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、省略句：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义军</a:t>
            </a:r>
            <a:r>
              <a:rPr b="1" lang="en-US" sz="3600" spc="-1" strike="noStrike">
                <a:solidFill>
                  <a:srgbClr val="003bb2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弗胜，守丞死（义军）乃入据陈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扶苏以数谏故，上使（之）外将兵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独守丞与（起义军）战谯门中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吴广素爱人，士卒多为（之）用者。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令（其）辱之、或以为（之）死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注意：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bb2"/>
                </a:solidFill>
                <a:latin typeface="Arial"/>
              </a:rPr>
              <a:t>（译句时，需要把省略词语翻译出来！）</a:t>
            </a: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8F7-0FD2-40C0-BE8A-7340466E97A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17571-394B-48EC-BB53-5DB9B0DF56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1640" y="609120"/>
            <a:ext cx="848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文言文总结积累的重要性：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Arial"/>
              </a:rPr>
              <a:t>考试原则：课内知识向课外的迁移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5c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bb2"/>
                </a:solidFill>
                <a:latin typeface="Arial"/>
              </a:rPr>
              <a:t>应对方法：“死去活来”</a:t>
            </a:r>
            <a:endParaRPr b="0" lang="en-US" sz="5400" spc="-1" strike="noStrike">
              <a:solidFill>
                <a:srgbClr val="003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F40-C1FA-4061-9567-67C7B033940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BA78F-1523-4EF8-82D6-0DE497C559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457200"/>
            <a:ext cx="26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75248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书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8280" y="990720"/>
            <a:ext cx="100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70560" y="1143000"/>
            <a:ext cx="1006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971800"/>
            <a:ext cx="371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十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本纪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19112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三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家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5257800"/>
            <a:ext cx="34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七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传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58640"/>
            <a:ext cx="71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以表格形式记大事年月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27360" y="144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经济、天文、历法等各种典章制度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6640" y="29797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历代帝王传记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7000" y="4149720"/>
            <a:ext cx="42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记诸侯世家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37000" y="5184720"/>
            <a:ext cx="45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记各阶层有影响的重要历史人物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9520" y="773280"/>
            <a:ext cx="1003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bb2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3bb2"/>
                </a:solidFill>
                <a:latin typeface="Times New Roman"/>
              </a:rPr>
              <a:t>史 记</a:t>
            </a:r>
            <a:endParaRPr b="0" lang="en-US" sz="5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76212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209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352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57200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63868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0" cy="4876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2000" y="2798640"/>
            <a:ext cx="405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7E0-CFE0-48D0-BEA0-F6D05AD61B8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57518-277B-41AE-A64B-D368C2DFBB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326880"/>
            <a:ext cx="7925040" cy="63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夏            辍              怅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嗟           鹄       戍         適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罾               烹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恚           笞           蕲      徇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轾          酂          柘         </a:t>
            </a:r>
            <a:r>
              <a:rPr b="1" lang="zh-CN" sz="4500" spc="-1" strike="noStrike">
                <a:solidFill>
                  <a:srgbClr val="003bb2"/>
                </a:solidFill>
                <a:latin typeface="Times New Roman"/>
              </a:rPr>
              <a:t> 闾</a:t>
            </a:r>
            <a:endParaRPr b="0" lang="en-US" sz="45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谯            稷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被坚执锐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祠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度         宁        当行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0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52400" y="326880"/>
            <a:ext cx="12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ｕ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ò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1520" y="398520"/>
            <a:ext cx="15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à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8440" y="126036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0040" y="12621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ú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9760" y="126216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ｓ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ù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52560" y="12621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zhé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0" y="2197080"/>
            <a:ext cx="12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22280" y="2125800"/>
            <a:ext cx="12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ｐ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ｇ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5400" y="306216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ｈｕ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11200" y="313380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ｃ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ī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9120" y="3062160"/>
            <a:ext cx="6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ｑ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7160" y="306216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ｘ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ｎ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5400" y="407052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8200" y="41418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c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2320" y="40705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ｚ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è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0080" y="40705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lǘ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720" y="5006880"/>
            <a:ext cx="13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ｑｉ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á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ｏ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18760" y="4935600"/>
            <a:ext cx="6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ｊ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ì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1800" y="50785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pī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85640" y="5943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cí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4920" y="59436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duó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48920" y="59436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nìng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8920" y="60148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háng</a:t>
            </a:r>
            <a:endParaRPr b="0" lang="en-US" sz="32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51120" y="0"/>
            <a:ext cx="1399320" cy="71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读课文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注意字词读音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5FC-37A5-4953-AF37-F40E9751614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215D7-0598-4396-A199-06368B25F3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2000" y="0"/>
            <a:ext cx="89820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bb2"/>
                </a:solidFill>
                <a:latin typeface="Times New Roman"/>
              </a:rPr>
              <a:t>      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陈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阳城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字涉。吴广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阳夏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字叔。陈涉少时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尝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与人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佣耕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辍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耕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垄上，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怅恨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久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曰：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苟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富贵，无相忘。”庸者笑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而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应曰：“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若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庸耕，何富贵也？”陈涉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太息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曰：“</a:t>
            </a:r>
            <a:r>
              <a:rPr b="1" lang="zh-CN" sz="3300" spc="-1" strike="noStrike">
                <a:solidFill>
                  <a:srgbClr val="ff0000"/>
                </a:solidFill>
                <a:latin typeface="Times New Roman"/>
              </a:rPr>
              <a:t>嗟乎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，燕雀安知</a:t>
            </a: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鸿鹄</a:t>
            </a:r>
            <a:r>
              <a:rPr b="1" lang="zh-CN" sz="3300" spc="-1" strike="noStrike">
                <a:solidFill>
                  <a:srgbClr val="003bb2"/>
                </a:solidFill>
                <a:latin typeface="Times New Roman"/>
              </a:rPr>
              <a:t>之志哉！”</a:t>
            </a:r>
            <a:endParaRPr b="0" lang="en-US" sz="33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60" y="2484360"/>
            <a:ext cx="8729640" cy="1647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者……也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”：判断句式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尝”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曾经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佣耕”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，被雇佣耕地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辍”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：停止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去、往。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“怅恨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因失望而叹恨，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怅”，失望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之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补足音节的助词，不译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苟”：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如果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而”，</a:t>
            </a:r>
            <a:r>
              <a:rPr b="1" lang="zh-CN" sz="3400" spc="-1" strike="noStrike">
                <a:solidFill>
                  <a:srgbClr val="000099"/>
                </a:solidFill>
                <a:latin typeface="Times New Roman"/>
              </a:rPr>
              <a:t>连词，表修饰。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若”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你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为”，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是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太息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长叹。“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嗟乎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”</a:t>
            </a:r>
            <a:r>
              <a:rPr b="1" lang="zh-CN" sz="3400" spc="-1" strike="noStrike">
                <a:solidFill>
                  <a:srgbClr val="e45c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3366"/>
                </a:solidFill>
                <a:latin typeface="Times New Roman"/>
              </a:rPr>
              <a:t>，感叹词，相当于“唉”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“鸿鹄”：</a:t>
            </a:r>
            <a:r>
              <a:rPr b="1" lang="zh-CN" sz="3400" spc="-1" strike="noStrike">
                <a:solidFill>
                  <a:srgbClr val="003bb2"/>
                </a:solidFill>
                <a:latin typeface="Times New Roman"/>
              </a:rPr>
              <a:t>天鹅，比喻有远大抱负的人。</a:t>
            </a:r>
            <a:endParaRPr b="0" lang="en-US" sz="34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9A8-4347-469D-91DC-8EA06D4E023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FFDF7-7442-43F8-BAF5-9AD4151ED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2360" y="14436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译文</a:t>
            </a:r>
            <a:endParaRPr b="0" lang="en-US" sz="4400" spc="-1" strike="noStrike">
              <a:solidFill>
                <a:srgbClr val="003bb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bb2"/>
                </a:solidFill>
                <a:latin typeface="宋体"/>
                <a:ea typeface="方正姚体"/>
              </a:rPr>
              <a:t> 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陈胜是阳城人，字涉。吴广是阳夏人，字叔。陈涉年轻时，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曾经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同别人一道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被雇佣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耕地，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(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一天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,)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他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停止耕作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走到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田畔高地上，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因失望而叹恨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了好久，说道：“如果有朝一日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(</a:t>
            </a:r>
            <a:r>
              <a:rPr b="1" lang="zh-CN" sz="3800" spc="-1" strike="noStrike">
                <a:solidFill>
                  <a:srgbClr val="ff0000"/>
                </a:solidFill>
                <a:latin typeface="宋体"/>
                <a:ea typeface="黑体"/>
              </a:rPr>
              <a:t>谁</a:t>
            </a:r>
            <a:r>
              <a:rPr b="1" lang="en-US" sz="3800" spc="-1" strike="noStrike">
                <a:solidFill>
                  <a:srgbClr val="ff0000"/>
                </a:solidFill>
                <a:latin typeface="宋体"/>
                <a:ea typeface="黑体"/>
              </a:rPr>
              <a:t>)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富贵了，不要忘记大家。”</a:t>
            </a:r>
            <a:r>
              <a:rPr b="1" lang="zh-CN" sz="3800" spc="-1" strike="noStrike">
                <a:solidFill>
                  <a:srgbClr val="000099"/>
                </a:solidFill>
                <a:latin typeface="Times New Roman"/>
                <a:ea typeface="黑体"/>
              </a:rPr>
              <a:t>被雇佣耕地的同伴</a:t>
            </a:r>
            <a:r>
              <a:rPr b="1" lang="zh-CN" sz="3800" spc="-1" strike="noStrike">
                <a:solidFill>
                  <a:srgbClr val="003bb2"/>
                </a:solidFill>
                <a:latin typeface="宋体"/>
                <a:ea typeface="黑体"/>
              </a:rPr>
              <a:t>笑着应道：“你是被雇佣给人家耕地的，哪里来的富贵啊？”陈涉长叹说：“唉，燕雀怎么知道鸿鹄的志向呢！”</a:t>
            </a:r>
            <a:endParaRPr b="0" lang="en-US" sz="38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CE0-3AD1-42D7-AB95-9FDADF7D3AE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2033B-F225-446A-AC4D-1598414B5F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89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思考：</a:t>
            </a:r>
            <a:r>
              <a:rPr b="1" lang="zh-CN" sz="4000" spc="-1" strike="noStrike">
                <a:solidFill>
                  <a:srgbClr val="003bb2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第一段哪句表现陈涉年轻时就有非凡抱负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(2)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先写这段有什么作用？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4843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燕雀安知鸿鹄之志哉！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6640" y="4329000"/>
            <a:ext cx="814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为以后领导起义作伏笔。表明陈胜后来发动起义并非偶然，早有其思想根基。</a:t>
            </a:r>
            <a:endParaRPr b="0" lang="en-US" sz="4000" spc="-1" strike="noStrike">
              <a:solidFill>
                <a:srgbClr val="003b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177-365D-47DA-9634-BF0B7F6AC03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A9EB1-DE95-4AEF-941C-51FFBE9DE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*</cp:lastModifiedBy>
  <dcterms:modified xsi:type="dcterms:W3CDTF">2010-09-16T13:14:05Z</dcterms:modified>
  <cp:revision>56</cp:revision>
  <dc:subject/>
  <dc:title>PowerPoint 演示文稿</dc:title>
</cp:coreProperties>
</file>