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1A9-24D2-4931-806E-20625D1E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1D76-049C-4FE5-9487-0C36BEB3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9D7-9A2C-4C5E-96F6-8A1BC25D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BB0-5508-44D1-9FEC-6C600486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B91-7E4D-4343-8155-D8E4E96C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502-A6B6-4036-B7CA-AA2ED751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1D6-E804-4C75-8D51-73764A6B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C784-7839-43EF-8782-7A0C16BD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B48D-7F06-41EE-B45C-A7073DAF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09D0-B697-4CCC-A899-2F5FE3E9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103-6953-4DD9-A10C-886942C2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4386-534F-4B6D-BF8C-327D9F0E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DA45-923D-4204-997D-AD23E3DF2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79280" y="260280"/>
            <a:ext cx="8425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彩云"/>
              </a:rPr>
              <a:t>初中语文文言文复习课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95280" y="1628640"/>
            <a:ext cx="8353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ff00"/>
                </a:solidFill>
                <a:latin typeface="华文彩云"/>
                <a:ea typeface="华文彩云"/>
              </a:rPr>
              <a:t>陈 涉  世   家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144360"/>
            <a:ext cx="640872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吴广以为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然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然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足下卜之鬼乎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然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而不胜者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怡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然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自乐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乃丹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书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帛曰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得鱼腹中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书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家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书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抵万金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书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“晋王右军墨池”之六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79280" y="11970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1116000" y="549360"/>
            <a:ext cx="216000" cy="2449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9440"/>
              <a:gd name="textAreaBottom" fmla="*/ 238572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450684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1187280" y="3859200"/>
            <a:ext cx="216000" cy="2449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9440"/>
              <a:gd name="textAreaBottom" fmla="*/ 238572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708360" y="146160"/>
            <a:ext cx="54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是，对，表示同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435640" y="9810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然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716360" y="16588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这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211640" y="230652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的样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500720" y="3675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4429080" y="436572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绸子上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4572000" y="49417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7596360" y="566100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981000"/>
            <a:ext cx="7488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陈胜、吴广皆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次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当行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之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次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所旁丛祠中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会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天大雨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与皆来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会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计事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会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宾客大宴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79280" y="436716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189080" y="3860640"/>
            <a:ext cx="142920" cy="201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79280" y="127152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1187280" y="1268280"/>
            <a:ext cx="144720" cy="1152720"/>
          </a:xfrm>
          <a:custGeom>
            <a:avLst/>
            <a:gdLst>
              <a:gd name="textAreaLeft" fmla="*/ 92520 w 144720"/>
              <a:gd name="textAreaRight" fmla="*/ 145080 w 14472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588000" y="105264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编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724360" y="1628640"/>
            <a:ext cx="30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旅行或行军在途中停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995640" y="371628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适逢，恰巧遇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076720" y="439596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聚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211640" y="508464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适逢，恰巧遇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4248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等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死，死国可乎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公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等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遇雨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令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辱之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号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令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召三老豪杰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陈守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令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皆不在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间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令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吴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79280" y="371808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1189080" y="3357720"/>
            <a:ext cx="214200" cy="208728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50920" y="90792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1258920" y="90792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580000" y="7650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同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3562200" y="1197000"/>
            <a:ext cx="55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用在人称代词或人、物的名词后，表示多数或列举未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3059280" y="285264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5435640" y="35733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命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5435640" y="41497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县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5435640" y="48988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指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56108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广故数言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欲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亡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从民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欲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也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鱼我所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欲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也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欲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上青天揽明月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李白乘舟将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欲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行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卜者知其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指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意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皆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指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目陈胜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手有百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指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不能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指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其一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08000" y="162864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116000" y="692280"/>
            <a:ext cx="287280" cy="2952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79280" y="472428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1187280" y="4075200"/>
            <a:ext cx="216000" cy="2449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9440"/>
              <a:gd name="textAreaBottom" fmla="*/ 238572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003640" y="54936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想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3851280" y="10526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愿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4284720" y="173052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想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5435640" y="25653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想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5435640" y="32130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将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5148360" y="38196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意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4211640" y="46116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用手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4068720" y="51879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手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4788000" y="58356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指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256000" cy="645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广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故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数言欲亡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扶苏以数谏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故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公问其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故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故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曰，域民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……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桓侯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故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使人问之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而两狼之并驱如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故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故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人西辞黄鹤楼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故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人具鸡黍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故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临崩寄臣以大事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79280" y="292428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116000" y="620640"/>
            <a:ext cx="216000" cy="568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8320 h 5688000"/>
              <a:gd name="textAreaBottom" fmla="*/ 5539680 h 56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003640" y="40464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故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861080" y="10526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原因，缘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861080" y="16286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原因，缘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5651640" y="23796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所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5651640" y="29541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特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6084720" y="367524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原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6084720" y="4395960"/>
            <a:ext cx="25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老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4211640" y="5084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老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6300720" y="57340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所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561080" cy="645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号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令召三老豪杰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号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为张楚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因以为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号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焉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号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呼而转徙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佣者笑而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应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曰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河曲智叟无以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应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宜多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应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者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杀之以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应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陈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79280" y="458316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1116000" y="3932280"/>
            <a:ext cx="216000" cy="2521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50920" y="126828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1187280" y="549360"/>
            <a:ext cx="216000" cy="244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5508720" y="29052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号令，命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5580000" y="9810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定国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5292720" y="17002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别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5291280" y="234936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大声叫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5292720" y="3675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5292720" y="43657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5292720" y="50133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响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5292720" y="57625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响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74148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四、词类活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23640" y="1125360"/>
            <a:ext cx="8675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失期，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法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皆斩（         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狐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鸣呼曰（                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上使外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将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兵（            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乃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丹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书帛曰（            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置人所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罾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鱼腹中（     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忿恚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尉（           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435640" y="1052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按照法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427640" y="184464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像狐狸似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076720" y="27082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带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219640" y="345924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用丹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940360" y="43228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用网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3780000" y="511488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使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恼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2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7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2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7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2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7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6360" y="692280"/>
            <a:ext cx="849636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、将军身被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坚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锐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（           ） （           ）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、固以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怪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之矣（           ）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、皆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刑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其长吏（           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187280" y="216216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指铁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4861080" y="20908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指武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932360" y="2924280"/>
            <a:ext cx="36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认为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怪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5869080" y="38196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惩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45338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五、翻译句子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68360" y="1485720"/>
            <a:ext cx="82072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陈涉少时，尝与人佣耕，辍耕上垄上，怅恨久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                                            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114560" y="2889360"/>
            <a:ext cx="78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陈涉年轻时，曾经同别人一道被人家雇佣耕地，（有一次）他停止耕作走到田埂上（休息），因失望而叹恨了好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发闾左適戍渔阳九百人，屯大泽乡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                                            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陈胜、吴广皆次当行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                                            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116000" y="177336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朝廷征发九百名贫苦百姓去驻守渔阳，临时停驻在大泽乡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258920" y="465300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陈胜、吴广都被编进征发戍边的队伍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56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00"/>
                </a:solidFill>
                <a:latin typeface="Arial"/>
                <a:ea typeface="华文彩云"/>
              </a:rPr>
              <a:t>随  堂</a:t>
            </a:r>
            <a:br>
              <a:rPr sz="20000"/>
            </a:br>
            <a:r>
              <a:rPr b="1" lang="zh-CN" sz="20000" spc="-1" strike="noStrike">
                <a:solidFill>
                  <a:srgbClr val="ffff00"/>
                </a:solidFill>
                <a:latin typeface="Arial"/>
                <a:ea typeface="华文彩云"/>
              </a:rPr>
              <a:t>巩  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今亡亦死，举大计亦死，等死，死国可乎？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扶苏以数谏故，上使外将兵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187280" y="1557360"/>
            <a:ext cx="749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现在逃亡（被抓回来）也是死，发动起义也是死，同样是死，为国事而死好吗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330200" y="4280040"/>
            <a:ext cx="69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扶苏因为屡次劝戒（秦始皇）的缘故，皇上派他在外面带兵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今诚以吾众诈自称公子扶苏、项燕，为天下唱，宜多应者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此教我先威众耳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187280" y="1614600"/>
            <a:ext cx="77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现在果真把我们的人假称是公子扶苏和大将项燕的队伍，倡导天下人反秦，应当有很多响应的人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692360" y="5021280"/>
            <a:ext cx="59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这是叫我们利用鬼神来威服众人罢了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乃丹书帛曰：“陈胜王”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又间令吴广之次所旁丛祠中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692360" y="170028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就用丹砂在绸子上写“陈胜王”三个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258920" y="4292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陈胜）又暗中指使吴广到驻地旁的丛林里的神庙中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217440"/>
            <a:ext cx="8496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旦日，卒中往往语，皆指目陈胜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1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吴广素爱人，士卒多为用者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187280" y="126828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第二天，士兵中到处谈论（晚上发生的事），都用手指并用眼睛注视着陈胜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330200" y="466092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吴广一向待人很好，士卒中听从吴广差遣的人很多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借第令毋斩，而戍死者固十六七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且壮士不死即已，死即举大名耳，王侯将相宁有种乎！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330200" y="12682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即使仅能免于斩刑，而戍守边塞的人中本来也有十分之六七的会死掉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900000" y="4567320"/>
            <a:ext cx="80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况且大丈夫不死便罢了，要死就要（干大事）成就大的名声啊，王侯将相难道有天生的贵种吗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乃诈称公子扶苏、项燕，从民欲也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5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、当此时，诸郡县苦秦吏者，皆刑其长吏，杀之以应陈涉。</a:t>
            </a:r>
            <a:br>
              <a:rPr sz="40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187280" y="119700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于是他们就假称是公子扶苏和项燕的队伍，为的是依从人民的愿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187280" y="4427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在这时候，各郡县苦于秦朝官吏压迫的人都纷纷起来惩罚当地的郡县长官，把他们杀死来响应陈胜的（号召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1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4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4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6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将军身被坚执锐，伐无道，诛暴秦，复立楚国之社稷，功宜为王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042920" y="274464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将军亲自穿着铁甲，拿着锐利的武器，讨伐昏庸无道的暴君，诛灭凶残暴虐的秦王，重建楚国，论功劳应当称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62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六、根据课文内容填空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陈涉世家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节选自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《          》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，它是我国第一部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通史，作者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是我国西汉著名的史学家和文学家。鲁迅先生评价这部伟大著作：“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、表现陈涉年轻时远大抱负的句子是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940360" y="11970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史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851280" y="1803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纪传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466560" y="360360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史家之绝唱     无韵之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离骚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187280" y="494172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燕雀安知鸿鹄之志哉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324000" y="24922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司马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7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82036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、陈涉起义的导火线是：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、陈涉起义的根本原因是：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、起义的策略是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187280" y="11970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会天大雨，道不通，度已失期。失期，法皆斩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403280" y="302724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天下苦秦久矣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187280" y="47973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今诚以吾众诈自称公子扶苏、项燕，为天下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82036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陈涉起义的威众方式是 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（用两个四字短语回答）。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表现陈涉远大志向、蔑视权贵、叛逆性格的句子是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95280" y="148428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篝火狐鸣、置书鱼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971640" y="5330880"/>
            <a:ext cx="59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王侯将相宁有种乎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74872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一、找出下列句中通假字并解释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苟富贵，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无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相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同“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”，意思为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将军身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被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坚执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同“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”，意思为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为天下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唱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同“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”，意思为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755640" y="198900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无           毋                   不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84360" y="360360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被           披                   披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755640" y="522936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唱           倡                   倡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3800" y="188640"/>
            <a:ext cx="395748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二、古今异义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今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亡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亦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古义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今义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又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间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令吴广之次所旁丛祠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古义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今义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627280" y="17002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逃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627280" y="23796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死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843280" y="46116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暗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843280" y="54039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间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楚人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怜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之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古义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今义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卒中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往往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语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古义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今义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将军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身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被坚执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古义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今义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627280" y="7650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爱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627280" y="14428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可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627280" y="281160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处处、到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692360" y="357012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副词，表示某种情况时常存在或经常发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627280" y="47545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亲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627280" y="5475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身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9600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至陈</a:t>
            </a:r>
            <a:br>
              <a:rPr sz="4400"/>
            </a:b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古义：</a:t>
            </a:r>
            <a:r>
              <a:rPr b="1" lang="zh-CN" sz="48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今义：</a:t>
            </a:r>
            <a:r>
              <a:rPr b="1" lang="zh-CN" sz="48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。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号令召三老豪杰与皆来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会计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事</a:t>
            </a:r>
            <a:br>
              <a:rPr sz="4400"/>
            </a:b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古义：</a:t>
            </a:r>
            <a:r>
              <a:rPr b="1" lang="zh-CN" sz="48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今义：</a:t>
            </a:r>
            <a:r>
              <a:rPr b="1" lang="zh-CN" sz="48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8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71640" y="112536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等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843280" y="2019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771640" y="403560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集会商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987640" y="479736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一种职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39574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三、一词多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30200" y="1196640"/>
            <a:ext cx="43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尝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人佣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皆来会计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呼尔而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吾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汝毕力平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君离别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飞鸟相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还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公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之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79280" y="314316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1116000" y="1484280"/>
            <a:ext cx="216000" cy="4681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2040 h 4681440"/>
              <a:gd name="textAreaBottom" fmla="*/ 4559400 h 46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643280" y="112536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16360" y="18748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一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788000" y="25956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给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5292720" y="3243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788000" y="40053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716360" y="47242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一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4716360" y="56196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32764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辍耕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之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垄上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怅恨久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之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燕雀安知鸿鹄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之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志哉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二世杀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之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陈胜佐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之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吴广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之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次所旁丛祠中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楚人怜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79280" y="27846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1042920" y="1125360"/>
            <a:ext cx="216000" cy="439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14480 h 4392720"/>
              <a:gd name="textAreaBottom" fmla="*/ 427824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643280" y="83664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去、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500720" y="1484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助词，无实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6659640" y="2235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922560" y="285264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他，指公子扶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4211640" y="3645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他，指吴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6516720" y="42926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去、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922560" y="4971960"/>
            <a:ext cx="30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他，指项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56108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激怒其众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扶苏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数谏故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或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为死，或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为亡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今诚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吾众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固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怪之矣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君之力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固国不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山溪之险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得而腊之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为饵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不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物喜，不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己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9280" y="299736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116000" y="765000"/>
            <a:ext cx="360360" cy="5616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46160 h 5616720"/>
              <a:gd name="textAreaBottom" fmla="*/ 5470560 h 561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003640" y="29052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219640" y="105264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因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6516720" y="1803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认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427640" y="25225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427640" y="317196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同“已”已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995640" y="386064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凭借，依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975280" y="45813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凭借，依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5364000" y="518796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用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6372360" y="58356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因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5:13Z</dcterms:created>
  <dc:creator>yyl</dc:creator>
  <dc:description/>
  <dc:language>en-US</dc:language>
  <cp:lastModifiedBy>user</cp:lastModifiedBy>
  <dcterms:modified xsi:type="dcterms:W3CDTF">2012-02-27T06:27:39Z</dcterms:modified>
  <cp:revision>269</cp:revision>
  <dc:subject/>
  <dc:title>幻灯片 1</dc:title>
</cp:coreProperties>
</file>