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8848-6F5E-4294-968D-F185AA22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93DB-295A-4D93-A83B-DACB59D4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BE0-64D1-4354-8210-5B43109F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290-CDDD-475D-BF30-BFB19DE9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0ADB-DEFD-4F1B-8B3B-AA95EFEC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A13-889D-494B-9893-21029033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8D1-B41C-4CA6-83CC-3D7B4CCE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3E68-B659-4EF4-BF0E-442E6F88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69B4-B1BD-4ADA-8CD0-38C206F9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422-6729-48D5-9DC3-82CFE44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240-0BE7-428F-A985-15D67352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663-9424-4CA2-8AE2-75D23252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271-0057-46E8-B975-F65B917D2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691344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章  走出创业误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76360" y="1557360"/>
            <a:ext cx="722160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业前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创业中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创业后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走向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684360" y="333360"/>
            <a:ext cx="72212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业前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悲观主义与临渊羡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古人云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其临渊羡鱼，不如退而结网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划不明，仓促上阵。低估了创业起步阶段所需的时间；缺少市场信息或对市场过于乐观；取法足够的流动资金；缺乏创业经验；对竞争对手缺乏应有的估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4360" y="333360"/>
            <a:ext cx="72212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创业中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标游离与用心不专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难而退与孤军作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急功近利与画饼充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4360" y="333360"/>
            <a:ext cx="72212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创业后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机构膨胀与管理失调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度扩张与财务失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坐享其成与挥霍浪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头脑发热与好大喜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250920" y="333360"/>
            <a:ext cx="8893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走向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管理模式要适应企业规模的要求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创业者应该开始尝试授权，实现从事物中解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稳定的激励机制来凝聚员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吸纳人才，处理好创业功臣与职业经理人的关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企业文化要适时总结升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断进行危机教育，培养处理危机的能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以强烈社会责任感为核心的与时俱进的发展战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4360" y="333360"/>
            <a:ext cx="72212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章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论述如何避免不同阶段创业中的误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4360" y="333360"/>
            <a:ext cx="722124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创业前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创业前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创业前的失败误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走向成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02:12:10Z</dcterms:created>
  <dc:creator>user</dc:creator>
  <dc:description/>
  <dc:language>en-US</dc:language>
  <cp:lastModifiedBy>Administrator</cp:lastModifiedBy>
  <dcterms:modified xsi:type="dcterms:W3CDTF">2015-09-14T08:43:46Z</dcterms:modified>
  <cp:revision>12</cp:revision>
  <dc:subject/>
  <dc:title>创业中的成功训练</dc:title>
</cp:coreProperties>
</file>