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543-023F-4626-99B7-85C0F3A6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77D-F7B8-4EB6-9B42-6CC6FFE5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8F4-B6EB-4B0E-8AAB-1AD3DEB2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04E5-BE93-4906-A076-282A761A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CF12-2012-497B-96AD-8D28E0D7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AE51-D4CC-4418-89EB-3457B8BA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FFD7-8A4A-4012-AA4F-DEEBA31A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107A-825B-4BF3-951F-98286D9F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65E1-486A-4492-B8A3-BD57BD1B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FF3E-774F-4C7D-BCE8-86426143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45A2-419A-4AEC-AD0A-7E4A8F91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7D2-B837-42B9-9B80-C0FF0F47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C1B6-6C5F-4170-A6AC-D53592FA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4771-3385-4173-AFFF-959AC7CA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2D47-94CA-4A6D-AE2F-78B74DCE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97B0-8180-4804-9241-B42A8105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2231-171D-4A84-B4F6-00853E66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31A-3757-4E5E-B64E-99CF6419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97B1E-D334-4D5B-8CFB-16E60C82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BB92-56C3-4A0F-9943-68A83D16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C4489-F0EC-468C-8CBD-013A80E5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864-C06F-46BF-B6BA-D4B750D5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40D6B-B4B8-4F44-9DF4-0C24DB74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5CE9-04DD-493B-AADC-189DBA61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C26B6-510E-4072-9BA8-065433D0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62B3-9E73-4B3B-8817-1DFDA20A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A0B1F-44F9-4F4D-9C44-F55A0B87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AC6E1-25FF-43CD-9ED9-5AC8FF2A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0A349-5906-4EC2-AE9A-A34722AC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1FD7B-9AD8-4875-BD2D-768D8975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A4BF3-E276-4F02-A87B-2A86E87C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A001-1C3A-4EE6-83D6-DD1BEA82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A90-D61D-4FF0-942E-B6636577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E61A1-C5DC-44FA-8C6E-A64B0136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45571-9A79-4D7E-921E-DE92B2F9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2190D-4E19-4BF3-9247-AFC5D89B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10E86-B8A5-4268-B4C1-9C35F909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2540E-B389-4735-B081-88DE9C5C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BEE41-E686-4AEF-9614-460710BB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40CE4-B237-4DED-A1B6-C19279B6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64740-CF10-4AFB-8832-FC345DB9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B4B72-777E-4CB9-B908-112C781F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33FBA-6D2B-49F1-8A05-1C2983E8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405-04C1-4237-B217-86558AD6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28FBC-A98F-4C96-8628-5F45A374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6849A-BF3A-443D-82B4-2245629A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D87F1-B8CE-45EB-88C7-DF1BFADB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F5D40-2B2A-4180-A568-0E8B870C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59F5A-17B6-416A-8120-1FEA9A44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61F4E-B200-4D9B-87D4-20B387E0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08687-99B6-4AE0-82B4-FF78547B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B22B5-4F7A-4A36-9FBD-0568219B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DD57A-60C6-4859-978B-44BFEAE8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5B5EE-EA6E-4247-B625-13371E9C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352-C9D9-4EE3-A897-4E57C67F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DA474-AAC2-4896-AF82-E090FD69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2BD74-C6CC-4890-A31B-E7057AAE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2BADB-BDD3-4FDD-B5EF-9C0693D1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E9B97-CEC7-4D58-8A1A-AEF2DBBB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13917-F20A-4E3C-B0A7-17776147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3AFD7-F40D-4C1E-88BE-0908918A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3DC48-C357-4C72-AB4C-B6364CC9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93E83-AD35-470B-8433-DD7F01C4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BF060-2331-4571-9047-8B461F6E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299D7-1273-4188-A7BE-712C79FA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A65-A5F1-44E6-8EB3-577C1670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BEE24-0334-4D48-86D1-0409C120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81FBD-1095-49B6-8F64-D1E5694A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58472-9A5F-4C17-9969-9BF78C7C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AA170-A61D-4E4E-B51A-0BEFFB30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D07CB-89E6-41DC-8E4C-E62A232C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BCBC-DEF3-411A-93F0-54403EB0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f0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1f0f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1f0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1f0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1f0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1f0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1f0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1f0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f0f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1f0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0C27-E96B-4707-BF7A-8EFF45D15F60}" type="slidenum">
              <a:rPr b="0" lang="en-US" sz="1200" spc="-1" strike="noStrike">
                <a:solidFill>
                  <a:srgbClr val="f1f0f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54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0CB3-CF1B-4072-8D9E-A6A81BCE4F30}" type="slidenum"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f0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1f0f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1f0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1f0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1f0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1f0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1f0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54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DE7D-602C-418A-87BB-36E35C6363FE}" type="slidenum"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54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9206-0F2C-41FE-AC1F-24E397C9656B}" type="slidenum"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54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AA7E-F953-4656-B5FD-DEEFAB4BB3B2}" type="slidenum"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54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85E5-0945-4096-8BA2-1AAF95804BE8}" type="slidenum"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54d"/>
                </a:solidFill>
                <a:latin typeface="Calibri"/>
                <a:ea typeface="PMingLiU"/>
              </a:rPr>
              <a:t>Title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  <a:ea typeface="PMingLiU"/>
              </a:rPr>
              <a:t>Lorem ipsum dolor sit amet, consectetur adipisicing elit, sed do eiusmod tempor incididunt ut labore et dolore magna aliqua.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35280" y="206280"/>
            <a:ext cx="6851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54d"/>
                </a:solidFill>
                <a:latin typeface="Calibri"/>
                <a:ea typeface="PMingLiU"/>
              </a:rPr>
              <a:t>Title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35280" y="1200240"/>
            <a:ext cx="6851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  <a:ea typeface="PMingLiU"/>
              </a:rPr>
              <a:t>Lorem ipsum dolor sit amet, consectetur adipisicing elit, sed do eiusmod tempor incididunt ut labore et dolore magna aliqua.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54d"/>
                </a:solidFill>
                <a:latin typeface="Calibri"/>
                <a:ea typeface="PMingLiU"/>
              </a:rPr>
              <a:t>Title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  <a:ea typeface="PMingLiU"/>
              </a:rPr>
              <a:t>Lorem ipsum dolor sit amet, consectetur adipisicing elit, sed do eiusmod tempor incididunt ut labore et dolore magna aliqua.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54d"/>
                </a:solidFill>
                <a:latin typeface="Calibri"/>
                <a:ea typeface="PMingLiU"/>
              </a:rPr>
              <a:t>Title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7794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  <a:ea typeface="PMingLiU"/>
              </a:rPr>
              <a:t>Lorem ipsum dolor sit amet, consectetur adipisicing elit, sed do eiusmod tempor incididunt ut labore et dolore magna aliqua.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03:04Z</dcterms:created>
  <dc:creator>Presentation</dc:creator>
  <dc:description/>
  <dc:language>en-US</dc:language>
  <cp:lastModifiedBy>pc</cp:lastModifiedBy>
  <dcterms:modified xsi:type="dcterms:W3CDTF">2015-07-02T01:26:58Z</dcterms:modified>
  <cp:revision>4</cp:revision>
  <dc:subject/>
  <dc:title>Te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