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15F-BCA0-4871-8E86-133A56B6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244-8827-4371-94B3-164867B5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652-5902-4A2A-9586-2E573AA9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85E-4549-482F-84C5-A68808A0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339-36FF-47E6-A945-0C1E6080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AD5-913B-490D-BD30-EECCA382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C1A-472D-44B0-9F83-188CB881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3C9-5EEB-46AC-9D95-1FB4AE91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685-B2B2-436F-8A7C-8F9E1840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1BC-20F9-44C6-B66C-752FA00A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7C6-D0D8-47A3-A695-DA58C5D5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F7A-91C1-4A9B-9CF1-C983CE5E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D8FB-9CD1-48E9-9546-5AD3759F48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B6E2-7EE2-49CA-9CB6-82E38A4F38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260720" y="7912080"/>
            <a:ext cx="1045800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WHO,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WHAT,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AND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WHER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CAN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YOU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PERSONALIZE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491120" y="6324480"/>
            <a:ext cx="9675000" cy="16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685093"/>
                </a:solidFill>
                <a:uFillTx/>
                <a:latin typeface="Microsoft YaHei UI"/>
              </a:rPr>
              <a:t>OF PERSONALIZ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253760" y="2146320"/>
            <a:ext cx="501012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dc4a4e"/>
                </a:solidFill>
                <a:latin typeface="Microsoft YaHei UI"/>
              </a:rPr>
              <a:t>3W’s</a:t>
            </a:r>
            <a:endParaRPr b="0" lang="en-US" sz="1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6072480" y="1790640"/>
            <a:ext cx="872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"/>
          <p:cNvSpPr/>
          <p:nvPr/>
        </p:nvSpPr>
        <p:spPr>
          <a:xfrm>
            <a:off x="3393360" y="2641680"/>
            <a:ext cx="666072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 u="sng">
                <a:solidFill>
                  <a:srgbClr val="f1efd7"/>
                </a:solidFill>
                <a:uFillTx/>
                <a:latin typeface="Microsoft YaHei UI"/>
              </a:rPr>
              <a:t>WHAT</a:t>
            </a:r>
            <a:endParaRPr b="0" lang="en-US" sz="1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3595320" y="6908760"/>
            <a:ext cx="580176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shoul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personaliz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853200" y="1143000"/>
            <a:ext cx="1166688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Now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let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ci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Leverag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lread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have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l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2667600" y="4330800"/>
            <a:ext cx="322488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Calls-to-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Im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6100920" y="4292640"/>
            <a:ext cx="32925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Us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Produc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ff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5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"/>
          <p:cNvSpPr/>
          <p:nvPr/>
        </p:nvSpPr>
        <p:spPr>
          <a:xfrm>
            <a:off x="605880" y="1143000"/>
            <a:ext cx="114883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o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mpani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h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o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noug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e-exi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tar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4882680" y="3086280"/>
            <a:ext cx="2579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Blo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P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Calls-to-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8166600" y="3124080"/>
            <a:ext cx="1637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E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Im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1625040" y="3124080"/>
            <a:ext cx="22622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Ca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Vide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1102320" y="5753160"/>
            <a:ext cx="47041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139680"/>
                <a:tab algn="l" pos="16524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t’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ques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hi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39680"/>
                <a:tab algn="l" pos="16524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ie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fi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hi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ar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139680"/>
                <a:tab algn="l" pos="16524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udience—whi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ha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39680"/>
                <a:tab algn="l" pos="16524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D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ey’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909720" y="5308560"/>
            <a:ext cx="695520" cy="22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7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685093"/>
                </a:solidFill>
                <a:latin typeface="Microsoft YaHei UI"/>
              </a:rPr>
              <a:t>{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5430960" y="5334120"/>
            <a:ext cx="695520" cy="22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7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685093"/>
                </a:solidFill>
                <a:latin typeface="Microsoft YaHei UI"/>
              </a:rPr>
              <a:t>}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748080" y="1143000"/>
            <a:ext cx="112932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ls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velo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ulti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in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i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tent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sign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vario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udi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677160" y="2527200"/>
            <a:ext cx="1111716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exampl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w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E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m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b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homepag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healthc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E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m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4258440" y="5435640"/>
            <a:ext cx="481824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mbin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ntent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TAs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mag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4529520" y="6350040"/>
            <a:ext cx="427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ersonaliz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5193720" y="6807240"/>
            <a:ext cx="296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us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7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"/>
          <p:cNvSpPr/>
          <p:nvPr/>
        </p:nvSpPr>
        <p:spPr>
          <a:xfrm>
            <a:off x="4744440" y="495360"/>
            <a:ext cx="735156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2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ospects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liv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lev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lead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972720" y="736560"/>
            <a:ext cx="33886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B2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3512160" y="2273400"/>
            <a:ext cx="133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Ver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5398920" y="2273400"/>
            <a:ext cx="233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8036280" y="2273400"/>
            <a:ext cx="165636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85093"/>
                </a:solidFill>
                <a:latin typeface="Microsoft YaHei UI"/>
              </a:rPr>
              <a:t>B2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4477680" y="495360"/>
            <a:ext cx="88376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sum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rket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ospects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e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xperienc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as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6188760" y="2273400"/>
            <a:ext cx="152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7935120" y="2273400"/>
            <a:ext cx="415764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Pri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Sensi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heth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B2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nsu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arketing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rospec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rece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relev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nt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os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3186360" y="2273400"/>
            <a:ext cx="272088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Produc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ff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1efd7"/>
                </a:solidFill>
                <a:latin typeface="Microsoft YaHei UI"/>
              </a:rPr>
              <a:t>B2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669960" y="787320"/>
            <a:ext cx="3905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Microsoft YaHei UI"/>
              </a:rPr>
              <a:t>Consume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Microsoft YaHei UI"/>
              </a:rPr>
              <a:t>Market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2334600" y="2641680"/>
            <a:ext cx="791496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f1efd7"/>
                </a:solidFill>
                <a:latin typeface="Microsoft YaHei UI"/>
              </a:rPr>
              <a:t>WHERE</a:t>
            </a:r>
            <a:endParaRPr b="0" lang="en-US" sz="1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3919320" y="6896160"/>
            <a:ext cx="514044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Whe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personaliz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829440" y="1092240"/>
            <a:ext cx="11600280" cy="15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’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termin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h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’l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ne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ci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he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c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ospec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i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ppro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7264080" y="3606840"/>
            <a:ext cx="43441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6336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recomme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sta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6336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it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ebs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e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6336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hanne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1274760" y="5562720"/>
            <a:ext cx="396576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Mob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nlin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Adverti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ff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1630080" y="3187800"/>
            <a:ext cx="1439280" cy="15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Web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E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7056720" y="3137040"/>
            <a:ext cx="59364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300" spc="-1" strike="noStrike">
                <a:solidFill>
                  <a:srgbClr val="685093"/>
                </a:solidFill>
                <a:latin typeface="Microsoft YaHei UI"/>
              </a:rPr>
              <a:t>{</a:t>
            </a: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11298240" y="3137040"/>
            <a:ext cx="59364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300" spc="-1" strike="noStrike">
                <a:solidFill>
                  <a:srgbClr val="685093"/>
                </a:solidFill>
                <a:latin typeface="Microsoft YaHei UI"/>
              </a:rPr>
              <a:t>}</a:t>
            </a: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8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0" y="9145440"/>
            <a:ext cx="13004640" cy="608040"/>
          </a:xfrm>
          <a:prstGeom prst="pie">
            <a:avLst/>
          </a:prstGeom>
          <a:solidFill>
            <a:srgbClr val="91796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0" y="8921880"/>
            <a:ext cx="13004640" cy="233280"/>
          </a:xfrm>
          <a:prstGeom prst="pie">
            <a:avLst/>
          </a:prstGeom>
          <a:solidFill>
            <a:srgbClr val="67584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939960" y="766800"/>
            <a:ext cx="11102760" cy="253800"/>
          </a:xfrm>
          <a:prstGeom prst="pie">
            <a:avLst/>
          </a:prstGeom>
          <a:noFill/>
          <a:ln w="127080">
            <a:solidFill>
              <a:srgbClr val="675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3632040" y="8061480"/>
            <a:ext cx="1247760" cy="880920"/>
          </a:xfrm>
          <a:prstGeom prst="pie">
            <a:avLst/>
          </a:prstGeom>
          <a:solidFill>
            <a:srgbClr val="93969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509840" y="4902120"/>
            <a:ext cx="5491080" cy="3438720"/>
          </a:xfrm>
          <a:prstGeom prst="pie">
            <a:avLst/>
          </a:prstGeom>
          <a:solidFill>
            <a:srgbClr val="a7a9a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798560" y="5194440"/>
            <a:ext cx="4913280" cy="2855880"/>
          </a:xfrm>
          <a:prstGeom prst="pie">
            <a:avLst/>
          </a:prstGeom>
          <a:solidFill>
            <a:srgbClr val="e8f6f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1795320" y="5194440"/>
            <a:ext cx="4913280" cy="2855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3276720" y="8721720"/>
            <a:ext cx="1958760" cy="220680"/>
          </a:xfrm>
          <a:prstGeom prst="pie">
            <a:avLst/>
          </a:prstGeom>
          <a:solidFill>
            <a:srgbClr val="a7a9a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2743200" y="5562720"/>
            <a:ext cx="3017880" cy="2117520"/>
          </a:xfrm>
          <a:prstGeom prst="pie">
            <a:avLst/>
          </a:prstGeom>
          <a:solidFill>
            <a:srgbClr val="f0483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2933640" y="5710320"/>
            <a:ext cx="2594160" cy="158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2933640" y="6002280"/>
            <a:ext cx="2594160" cy="1495440"/>
          </a:xfrm>
          <a:prstGeom prst="pie">
            <a:avLst/>
          </a:prstGeom>
          <a:solidFill>
            <a:srgbClr val="5b643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3940200" y="6516720"/>
            <a:ext cx="550800" cy="50328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3778200" y="7080120"/>
            <a:ext cx="873000" cy="406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4229280" y="6734160"/>
            <a:ext cx="295200" cy="19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3905280" y="6734160"/>
            <a:ext cx="295200" cy="19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4095720" y="6603840"/>
            <a:ext cx="44640" cy="1018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4033800" y="6558120"/>
            <a:ext cx="123840" cy="45720"/>
          </a:xfrm>
          <a:prstGeom prst="pie">
            <a:avLst/>
          </a:prstGeom>
          <a:noFill/>
          <a:ln w="63360">
            <a:solidFill>
              <a:srgbClr val="231f2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4168800" y="6899400"/>
            <a:ext cx="85680" cy="475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3919680" y="6348240"/>
            <a:ext cx="571320" cy="168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4133880" y="6972480"/>
            <a:ext cx="162000" cy="21744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4433760" y="6516720"/>
            <a:ext cx="150840" cy="1857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3846600" y="6516720"/>
            <a:ext cx="150840" cy="1857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3821040" y="5986440"/>
            <a:ext cx="766800" cy="409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324320" y="6041880"/>
            <a:ext cx="61920" cy="284400"/>
          </a:xfrm>
          <a:prstGeom prst="pie">
            <a:avLst/>
          </a:prstGeom>
          <a:noFill/>
          <a:ln w="25560">
            <a:solidFill>
              <a:srgbClr val="a7a9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4038480" y="6041880"/>
            <a:ext cx="63720" cy="284400"/>
          </a:xfrm>
          <a:prstGeom prst="pie">
            <a:avLst/>
          </a:prstGeom>
          <a:noFill/>
          <a:ln w="25560">
            <a:solidFill>
              <a:srgbClr val="a7a9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954600" y="6378480"/>
            <a:ext cx="493560" cy="50760"/>
          </a:xfrm>
          <a:prstGeom prst="pie">
            <a:avLst/>
          </a:prstGeom>
          <a:noFill/>
          <a:ln w="25560">
            <a:solidFill>
              <a:srgbClr val="a7a9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3954600" y="6459480"/>
            <a:ext cx="493560" cy="50760"/>
          </a:xfrm>
          <a:prstGeom prst="pie">
            <a:avLst/>
          </a:prstGeom>
          <a:noFill/>
          <a:ln w="25560">
            <a:solidFill>
              <a:srgbClr val="a7a9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4268880" y="6554880"/>
            <a:ext cx="106200" cy="166680"/>
          </a:xfrm>
          <a:prstGeom prst="pie">
            <a:avLst/>
          </a:prstGeom>
          <a:noFill/>
          <a:ln w="38160">
            <a:solidFill>
              <a:srgbClr val="231f2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4275000" y="6627960"/>
            <a:ext cx="115920" cy="50760"/>
          </a:xfrm>
          <a:prstGeom prst="pie">
            <a:avLst/>
          </a:prstGeom>
          <a:noFill/>
          <a:ln w="25560">
            <a:solidFill>
              <a:srgbClr val="231f2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4378320" y="6611760"/>
            <a:ext cx="625320" cy="62424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5865840" y="8115480"/>
            <a:ext cx="2390760" cy="726840"/>
          </a:xfrm>
          <a:prstGeom prst="pie">
            <a:avLst/>
          </a:prstGeom>
          <a:noFill/>
          <a:ln w="50760">
            <a:solidFill>
              <a:srgbClr val="a7a9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8093160" y="8256600"/>
            <a:ext cx="1487520" cy="61128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9817200" y="3645000"/>
            <a:ext cx="799920" cy="469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"/>
          <p:cNvSpPr/>
          <p:nvPr/>
        </p:nvSpPr>
        <p:spPr>
          <a:xfrm>
            <a:off x="684000" y="1092240"/>
            <a:ext cx="1086228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ebs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mpor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hanne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ospec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c2415"/>
                </a:solidFill>
                <a:latin typeface="Microsoft YaHei UI"/>
              </a:rPr>
              <a:t>engaged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3c2415"/>
                </a:solidFill>
                <a:latin typeface="Microsoft YaHei UI"/>
              </a:rPr>
              <a:t>entive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c2415"/>
                </a:solidFill>
                <a:latin typeface="Microsoft YaHei UI"/>
              </a:rPr>
              <a:t>interes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learn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7914960" y="4241880"/>
            <a:ext cx="457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Unfortunate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7556760" y="4699080"/>
            <a:ext cx="529560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98%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first-tim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visito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ebs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nonymo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38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"/>
          <p:cNvSpPr/>
          <p:nvPr/>
        </p:nvSpPr>
        <p:spPr>
          <a:xfrm>
            <a:off x="921960" y="1092240"/>
            <a:ext cx="10322640" cy="15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l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ll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ng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onymo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ﬁrst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visito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ebs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dentify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i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1412280" y="4826160"/>
            <a:ext cx="181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Indus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1404360" y="6032520"/>
            <a:ext cx="1712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Lo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1251720" y="7201080"/>
            <a:ext cx="30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Digit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Behavi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1338480" y="3594240"/>
            <a:ext cx="200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Compan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2957400" y="7450200"/>
            <a:ext cx="189000" cy="113976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2768760" y="7888320"/>
            <a:ext cx="188640" cy="48096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3276720" y="8020080"/>
            <a:ext cx="188640" cy="48240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2579760" y="7950240"/>
            <a:ext cx="189000" cy="48240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2390760" y="7996320"/>
            <a:ext cx="189000" cy="48240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2390760" y="8197920"/>
            <a:ext cx="1076400" cy="83664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2413080" y="9015480"/>
            <a:ext cx="871560" cy="414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503440" y="9329760"/>
            <a:ext cx="692280" cy="419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836640" y="6238800"/>
            <a:ext cx="3801960" cy="1185840"/>
          </a:xfrm>
          <a:prstGeom prst="pie">
            <a:avLst/>
          </a:prstGeom>
          <a:solidFill>
            <a:srgbClr val="d4bf4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760320" y="6162840"/>
            <a:ext cx="3954600" cy="1338120"/>
          </a:xfrm>
          <a:prstGeom prst="pie">
            <a:avLst/>
          </a:prstGeom>
          <a:noFill/>
          <a:ln w="152280">
            <a:solidFill>
              <a:srgbClr val="ab91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4619520" y="7475400"/>
            <a:ext cx="271440" cy="295560"/>
          </a:xfrm>
          <a:prstGeom prst="pie">
            <a:avLst/>
          </a:prstGeom>
          <a:noFill/>
          <a:ln w="38160">
            <a:solidFill>
              <a:srgbClr val="704b4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4853160" y="7299360"/>
            <a:ext cx="68040" cy="214200"/>
          </a:xfrm>
          <a:prstGeom prst="pie">
            <a:avLst/>
          </a:prstGeom>
          <a:noFill/>
          <a:ln w="38160">
            <a:solidFill>
              <a:srgbClr val="704b4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4451400" y="7346880"/>
            <a:ext cx="325440" cy="293760"/>
          </a:xfrm>
          <a:prstGeom prst="pie">
            <a:avLst/>
          </a:prstGeom>
          <a:noFill/>
          <a:ln w="38160">
            <a:solidFill>
              <a:srgbClr val="704b4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549360" y="6026040"/>
            <a:ext cx="573120" cy="763560"/>
          </a:xfrm>
          <a:prstGeom prst="pie">
            <a:avLst/>
          </a:prstGeom>
          <a:noFill/>
          <a:ln w="38160">
            <a:solidFill>
              <a:srgbClr val="704b4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344520" y="5951520"/>
            <a:ext cx="344520" cy="654120"/>
          </a:xfrm>
          <a:prstGeom prst="pie">
            <a:avLst/>
          </a:prstGeom>
          <a:noFill/>
          <a:ln w="38160">
            <a:solidFill>
              <a:srgbClr val="704b4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2525760" y="9169560"/>
            <a:ext cx="108000" cy="107640"/>
          </a:xfrm>
          <a:prstGeom prst="pie">
            <a:avLst/>
          </a:prstGeom>
          <a:solidFill>
            <a:srgbClr val="5b643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2039760" y="533520"/>
            <a:ext cx="8925120" cy="92556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2227320" y="666720"/>
            <a:ext cx="8548560" cy="658800"/>
          </a:xfrm>
          <a:prstGeom prst="pie">
            <a:avLst/>
          </a:prstGeom>
          <a:noFill/>
          <a:ln w="25560">
            <a:solidFill>
              <a:srgbClr val="eba9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441360" y="711360"/>
            <a:ext cx="1236348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Personalization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Appeal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E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Gi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ustomers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i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xpecta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ul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rket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onymo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ospects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l-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ol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ppeal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rke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5933160" y="4597560"/>
            <a:ext cx="5672880" cy="23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241200"/>
                <a:tab algn="l" pos="55872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Th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goo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new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i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241200"/>
                <a:tab algn="l" pos="55872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personalizatio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241200"/>
                <a:tab algn="l" pos="55872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easie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to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implemen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241200"/>
                <a:tab algn="l" pos="55872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ru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tha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you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think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5323680" y="4064040"/>
            <a:ext cx="92268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100" spc="-1" strike="noStrike">
                <a:solidFill>
                  <a:srgbClr val="ba346f"/>
                </a:solidFill>
                <a:latin typeface="Microsoft YaHei UI"/>
              </a:rPr>
              <a:t>{</a:t>
            </a: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1318040" y="4064040"/>
            <a:ext cx="92268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100" spc="-1" strike="noStrike">
                <a:solidFill>
                  <a:srgbClr val="ba346f"/>
                </a:solidFill>
                <a:latin typeface="Microsoft YaHei UI"/>
              </a:rPr>
              <a:t>}</a:t>
            </a: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616120" y="576360"/>
            <a:ext cx="7772400" cy="92700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2762280" y="709560"/>
            <a:ext cx="7480440" cy="660600"/>
          </a:xfrm>
          <a:prstGeom prst="pie">
            <a:avLst/>
          </a:prstGeom>
          <a:noFill/>
          <a:ln w="25560">
            <a:solidFill>
              <a:srgbClr val="eba9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8505720" y="4695840"/>
            <a:ext cx="1854360" cy="1179360"/>
          </a:xfrm>
          <a:prstGeom prst="pie">
            <a:avLst/>
          </a:prstGeom>
          <a:solidFill>
            <a:srgbClr val="a7a9a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10307520" y="5224320"/>
            <a:ext cx="1128960" cy="43020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9975960" y="4826160"/>
            <a:ext cx="369720" cy="936360"/>
          </a:xfrm>
          <a:prstGeom prst="pie">
            <a:avLst/>
          </a:prstGeom>
          <a:solidFill>
            <a:srgbClr val="93969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9736200" y="4753080"/>
            <a:ext cx="412560" cy="1066680"/>
          </a:xfrm>
          <a:prstGeom prst="pie">
            <a:avLst/>
          </a:prstGeom>
          <a:solidFill>
            <a:srgbClr val="93969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7583400" y="7678800"/>
            <a:ext cx="960480" cy="132228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8164440" y="6603840"/>
            <a:ext cx="1174680" cy="1173240"/>
          </a:xfrm>
          <a:prstGeom prst="pie">
            <a:avLst/>
          </a:prstGeom>
          <a:solidFill>
            <a:srgbClr val="a7a9a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8228160" y="6667560"/>
            <a:ext cx="1046160" cy="1046160"/>
          </a:xfrm>
          <a:prstGeom prst="pie">
            <a:avLst/>
          </a:prstGeom>
          <a:solidFill>
            <a:srgbClr val="93969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8586720" y="7026120"/>
            <a:ext cx="328680" cy="328680"/>
          </a:xfrm>
          <a:prstGeom prst="pie">
            <a:avLst/>
          </a:prstGeom>
          <a:solidFill>
            <a:srgbClr val="1b1b1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8280360" y="7102440"/>
            <a:ext cx="550800" cy="739800"/>
          </a:xfrm>
          <a:prstGeom prst="pie">
            <a:avLst/>
          </a:prstGeom>
          <a:solidFill>
            <a:srgbClr val="f0483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8713800" y="7164360"/>
            <a:ext cx="66600" cy="66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330200" y="4483080"/>
            <a:ext cx="4103640" cy="1014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1330200" y="5705640"/>
            <a:ext cx="5149800" cy="1012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30200" y="6912000"/>
            <a:ext cx="5480280" cy="1012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0577520" y="7392960"/>
            <a:ext cx="289080" cy="289080"/>
          </a:xfrm>
          <a:prstGeom prst="pie">
            <a:avLst/>
          </a:prstGeom>
          <a:solidFill>
            <a:srgbClr val="ba346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10744200" y="7754760"/>
            <a:ext cx="243000" cy="206640"/>
          </a:xfrm>
          <a:prstGeom prst="pie">
            <a:avLst/>
          </a:prstGeom>
          <a:solidFill>
            <a:srgbClr val="855a5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787040" y="7904160"/>
            <a:ext cx="93600" cy="103320"/>
          </a:xfrm>
          <a:prstGeom prst="pie">
            <a:avLst/>
          </a:prstGeom>
          <a:solidFill>
            <a:srgbClr val="855a5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0887120" y="7862760"/>
            <a:ext cx="54000" cy="71640"/>
          </a:xfrm>
          <a:prstGeom prst="pie">
            <a:avLst/>
          </a:prstGeom>
          <a:solidFill>
            <a:srgbClr val="d8c6b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10761840" y="7839000"/>
            <a:ext cx="72720" cy="54000"/>
          </a:xfrm>
          <a:prstGeom prst="pie">
            <a:avLst/>
          </a:prstGeom>
          <a:solidFill>
            <a:srgbClr val="d8c6b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10388520" y="6730920"/>
            <a:ext cx="1295640" cy="19432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018080" y="1803240"/>
            <a:ext cx="924156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ﬁ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uccessful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rke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3164400" y="723960"/>
            <a:ext cx="65365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Deﬁ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Company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W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1246680" y="4788000"/>
            <a:ext cx="423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Painfu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1073520" y="6019920"/>
            <a:ext cx="548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Time-Consum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Mainte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1021320" y="7226280"/>
            <a:ext cx="599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Arsen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Br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Ne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948960" y="3060720"/>
            <a:ext cx="1016712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k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l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ol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ar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rket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trateg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c2415"/>
                </a:solidFill>
                <a:latin typeface="Microsoft YaHei UI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qui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9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1"/>
          <p:cNvSpPr/>
          <p:nvPr/>
        </p:nvSpPr>
        <p:spPr>
          <a:xfrm>
            <a:off x="1916640" y="7074000"/>
            <a:ext cx="915912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Real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tool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bu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to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f1efd7"/>
                </a:solidFill>
                <a:latin typeface="Microsoft YaHei UI"/>
              </a:rPr>
              <a:t>OPER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an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f1efd7"/>
                </a:solidFill>
                <a:latin typeface="Microsoft YaHei UI"/>
              </a:rPr>
              <a:t>OPTIMIZ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automatic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3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"/>
          <p:cNvSpPr/>
          <p:nvPr/>
        </p:nvSpPr>
        <p:spPr>
          <a:xfrm>
            <a:off x="7778160" y="5092560"/>
            <a:ext cx="364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Chec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ou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Marketo'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7643520" y="5549760"/>
            <a:ext cx="47282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Real-Tim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Persona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http://www.marketo.com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software/person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575720" y="1917720"/>
            <a:ext cx="984096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Deﬁne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you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W’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and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get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started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today!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1917720" y="533520"/>
            <a:ext cx="9169560" cy="92700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2063880" y="666720"/>
            <a:ext cx="8877240" cy="660600"/>
          </a:xfrm>
          <a:prstGeom prst="pie">
            <a:avLst/>
          </a:prstGeom>
          <a:noFill/>
          <a:ln w="25560">
            <a:solidFill>
              <a:srgbClr val="eba9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4616280" y="7120080"/>
            <a:ext cx="1135080" cy="1135080"/>
          </a:xfrm>
          <a:prstGeom prst="pie">
            <a:avLst/>
          </a:prstGeom>
          <a:solidFill>
            <a:srgbClr val="ba346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4818240" y="7289640"/>
            <a:ext cx="731520" cy="731880"/>
          </a:xfrm>
          <a:prstGeom prst="pie">
            <a:avLst/>
          </a:prstGeom>
          <a:solidFill>
            <a:srgbClr val="5b643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8507520" y="3408480"/>
            <a:ext cx="534960" cy="534960"/>
          </a:xfrm>
          <a:prstGeom prst="pie">
            <a:avLst/>
          </a:prstGeom>
          <a:solidFill>
            <a:srgbClr val="ba346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8609040" y="3498840"/>
            <a:ext cx="324000" cy="324000"/>
          </a:xfrm>
          <a:prstGeom prst="pie">
            <a:avLst/>
          </a:prstGeom>
          <a:solidFill>
            <a:srgbClr val="5b643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9274320" y="3467160"/>
            <a:ext cx="674640" cy="674640"/>
          </a:xfrm>
          <a:prstGeom prst="pie">
            <a:avLst/>
          </a:prstGeom>
          <a:solidFill>
            <a:srgbClr val="ba346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9462960" y="3629160"/>
            <a:ext cx="325440" cy="325440"/>
          </a:xfrm>
          <a:prstGeom prst="pie">
            <a:avLst/>
          </a:prstGeom>
          <a:solidFill>
            <a:srgbClr val="5b643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689120" y="1841400"/>
            <a:ext cx="10147320" cy="7658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2144520" y="2222640"/>
            <a:ext cx="471528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499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9200" spc="-1" strike="noStrike">
                <a:solidFill>
                  <a:srgbClr val="f1efd7"/>
                </a:solidFill>
                <a:latin typeface="Microsoft YaHei UI"/>
              </a:rPr>
              <a:t>1.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Identify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erso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ribut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int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ot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behavio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roﬁl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and/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ﬁrmo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6828120" y="4876920"/>
            <a:ext cx="46191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499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9200" spc="-1" strike="noStrike">
                <a:solidFill>
                  <a:srgbClr val="f1efd7"/>
                </a:solidFill>
                <a:latin typeface="Microsoft YaHei UI"/>
              </a:rPr>
              <a:t>2.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Customiz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erso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exper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resen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2113560" y="673200"/>
            <a:ext cx="87400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Combin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Tw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Thin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892800" y="2146320"/>
            <a:ext cx="4626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685093"/>
                </a:solidFill>
                <a:latin typeface="Microsoft YaHei UI"/>
              </a:rPr>
              <a:t>1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95520" y="660240"/>
            <a:ext cx="1147464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Ho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Hel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You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Marke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261440" y="2197080"/>
            <a:ext cx="42969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cre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meaningfu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ser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601640" y="4025880"/>
            <a:ext cx="10373400" cy="37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4500" spc="-1" strike="noStrike">
                <a:solidFill>
                  <a:srgbClr val="685093"/>
                </a:solidFill>
                <a:latin typeface="Microsoft YaHei U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educ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nur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top-of-fu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optimiz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3359160" y="3222720"/>
            <a:ext cx="6458040" cy="887400"/>
          </a:xfrm>
          <a:prstGeom prst="pie">
            <a:avLst/>
          </a:prstGeom>
          <a:solidFill>
            <a:srgbClr val="91796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9496440" y="3422520"/>
            <a:ext cx="1817640" cy="486000"/>
          </a:xfrm>
          <a:prstGeom prst="pie">
            <a:avLst/>
          </a:prstGeom>
          <a:solidFill>
            <a:srgbClr val="91796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1862280" y="3422520"/>
            <a:ext cx="1819080" cy="486000"/>
          </a:xfrm>
          <a:prstGeom prst="pie">
            <a:avLst/>
          </a:prstGeom>
          <a:solidFill>
            <a:srgbClr val="91796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2044800" y="533520"/>
            <a:ext cx="8915400" cy="92700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2190600" y="666720"/>
            <a:ext cx="8623440" cy="660600"/>
          </a:xfrm>
          <a:prstGeom prst="pie">
            <a:avLst/>
          </a:prstGeom>
          <a:noFill/>
          <a:ln w="25560">
            <a:solidFill>
              <a:srgbClr val="eba9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1557360" y="5261040"/>
            <a:ext cx="2865240" cy="28652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5257800" y="5261040"/>
            <a:ext cx="2867040" cy="28652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959680" y="5261040"/>
            <a:ext cx="2867040" cy="28652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1346040" y="5029200"/>
            <a:ext cx="2865600" cy="286704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5046840" y="5029200"/>
            <a:ext cx="2865240" cy="286704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8748720" y="5029200"/>
            <a:ext cx="2865600" cy="286704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6066000" y="4726080"/>
            <a:ext cx="782640" cy="782640"/>
          </a:xfrm>
          <a:prstGeom prst="pie">
            <a:avLst/>
          </a:prstGeom>
          <a:solidFill>
            <a:srgbClr val="ba346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6299280" y="4829040"/>
            <a:ext cx="69840" cy="6984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6566040" y="4965840"/>
            <a:ext cx="39600" cy="3960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6321600" y="5003640"/>
            <a:ext cx="90360" cy="9072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6505560" y="5167440"/>
            <a:ext cx="98280" cy="9828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6400800" y="5308560"/>
            <a:ext cx="47520" cy="4752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6210360" y="5234040"/>
            <a:ext cx="46080" cy="4428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6730920" y="5305320"/>
            <a:ext cx="25560" cy="2700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737640" y="4687920"/>
            <a:ext cx="836640" cy="685800"/>
          </a:xfrm>
          <a:prstGeom prst="pie">
            <a:avLst/>
          </a:prstGeom>
          <a:solidFill>
            <a:srgbClr val="704b4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10080720" y="5203800"/>
            <a:ext cx="309600" cy="343080"/>
          </a:xfrm>
          <a:prstGeom prst="pie">
            <a:avLst/>
          </a:prstGeom>
          <a:solidFill>
            <a:srgbClr val="704b4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10263240" y="4971960"/>
            <a:ext cx="236520" cy="193680"/>
          </a:xfrm>
          <a:prstGeom prst="pie">
            <a:avLst/>
          </a:prstGeom>
          <a:solidFill>
            <a:srgbClr val="d8c6b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9872640" y="5043600"/>
            <a:ext cx="193680" cy="234720"/>
          </a:xfrm>
          <a:prstGeom prst="pie">
            <a:avLst/>
          </a:prstGeom>
          <a:solidFill>
            <a:srgbClr val="d8c6b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309760" y="4952880"/>
            <a:ext cx="885960" cy="530280"/>
          </a:xfrm>
          <a:prstGeom prst="pie">
            <a:avLst/>
          </a:prstGeom>
          <a:solidFill>
            <a:srgbClr val="ab913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2309760" y="4751280"/>
            <a:ext cx="885960" cy="292320"/>
          </a:xfrm>
          <a:prstGeom prst="pie">
            <a:avLst/>
          </a:prstGeom>
          <a:solidFill>
            <a:srgbClr val="ab913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2617920" y="5051520"/>
            <a:ext cx="112680" cy="1108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2955960" y="5270400"/>
            <a:ext cx="111240" cy="1126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2452680" y="5218200"/>
            <a:ext cx="112680" cy="1126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2269440" y="8521560"/>
            <a:ext cx="84405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a346f"/>
                </a:solidFill>
                <a:latin typeface="Microsoft YaHei UI"/>
              </a:rPr>
              <a:t>tha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ba346f"/>
                </a:solidFill>
                <a:latin typeface="Microsoft YaHei UI"/>
              </a:rPr>
              <a:t>you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ba346f"/>
                </a:solidFill>
                <a:latin typeface="Microsoft YaHei UI"/>
              </a:rPr>
              <a:t>wan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ba346f"/>
                </a:solidFill>
                <a:latin typeface="Microsoft YaHei UI"/>
              </a:rPr>
              <a:t>t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ba346f"/>
                </a:solidFill>
                <a:latin typeface="Microsoft YaHei UI"/>
              </a:rPr>
              <a:t>personaliz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-32760" y="660240"/>
            <a:ext cx="12689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Star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wi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W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Person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l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e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mplicated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lax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’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eg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imp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ﬁn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4000" spc="-1" strike="noStrike">
                <a:solidFill>
                  <a:srgbClr val="f1efd7"/>
                </a:solidFill>
                <a:latin typeface="Microsoft YaHei UI"/>
              </a:rPr>
              <a:t>Def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1efd7"/>
                </a:solidFill>
                <a:latin typeface="Microsoft YaHei UI"/>
              </a:rPr>
              <a:t>th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171760" y="5918040"/>
            <a:ext cx="254736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ba346f"/>
                </a:solidFill>
                <a:latin typeface="Microsoft YaHei UI"/>
              </a:rPr>
              <a:t>WH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1654200" y="5918040"/>
            <a:ext cx="217836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ba346f"/>
                </a:solidFill>
                <a:latin typeface="Microsoft YaHei UI"/>
              </a:rPr>
              <a:t>WH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8640720" y="5918040"/>
            <a:ext cx="30258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ba346f"/>
                </a:solidFill>
                <a:latin typeface="Microsoft YaHei UI"/>
              </a:rPr>
              <a:t>WHER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5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3827520" y="2641680"/>
            <a:ext cx="569880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f1efd7"/>
                </a:solidFill>
                <a:latin typeface="Microsoft YaHei UI"/>
              </a:rPr>
              <a:t>WHO</a:t>
            </a:r>
            <a:endParaRPr b="0" lang="en-US" sz="1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3763080" y="6896160"/>
            <a:ext cx="5453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Wh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personaliz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830520" y="1359000"/>
            <a:ext cx="118141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“Who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arge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udien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hic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ﬁn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mbin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ib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B2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arketer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’l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foc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firmographics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su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9677520" y="4699080"/>
            <a:ext cx="1549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2415"/>
                </a:solidFill>
                <a:latin typeface="Microsoft YaHei UI"/>
              </a:rPr>
              <a:t>Reven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5760720" y="4699080"/>
            <a:ext cx="213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2415"/>
                </a:solidFill>
                <a:latin typeface="Microsoft YaHei UI"/>
              </a:rPr>
              <a:t>Vertic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3c2415"/>
                </a:solidFill>
                <a:latin typeface="Microsoft YaHei UI"/>
              </a:rPr>
              <a:t>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1634400" y="4699080"/>
            <a:ext cx="2878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2415"/>
                </a:solidFill>
                <a:latin typeface="Microsoft YaHei UI"/>
              </a:rPr>
              <a:t>Compan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3c2415"/>
                </a:solidFill>
                <a:latin typeface="Microsoft YaHei UI"/>
              </a:rPr>
              <a:t>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215640" y="1397160"/>
            <a:ext cx="1296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nsum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arketer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’l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ersonaliz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nt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bas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2681640" y="3632040"/>
            <a:ext cx="35395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Custom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Journe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3195720" y="4470480"/>
            <a:ext cx="24865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Geo-lo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2455200" y="4915080"/>
            <a:ext cx="4005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(personaliz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dow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zip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cod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2838240" y="5549760"/>
            <a:ext cx="3238920" cy="23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Produc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Intere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Pric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Sensitiv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Buyin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His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939960" y="766800"/>
            <a:ext cx="11102760" cy="253800"/>
          </a:xfrm>
          <a:prstGeom prst="pie">
            <a:avLst/>
          </a:prstGeom>
          <a:noFill/>
          <a:ln w="127080">
            <a:solidFill>
              <a:srgbClr val="675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330280" y="3443400"/>
            <a:ext cx="1440000" cy="2536560"/>
          </a:xfrm>
          <a:prstGeom prst="pie">
            <a:avLst/>
          </a:prstGeom>
          <a:solidFill>
            <a:srgbClr val="8d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330280" y="3119400"/>
            <a:ext cx="1214640" cy="2862360"/>
          </a:xfrm>
          <a:prstGeom prst="pie">
            <a:avLst/>
          </a:prstGeom>
          <a:solidFill>
            <a:srgbClr val="ab913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2330280" y="3213000"/>
            <a:ext cx="1186200" cy="2768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330280" y="3444840"/>
            <a:ext cx="1440000" cy="2536920"/>
          </a:xfrm>
          <a:prstGeom prst="pie">
            <a:avLst/>
          </a:prstGeom>
          <a:solidFill>
            <a:srgbClr val="ab913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2435400" y="4398840"/>
            <a:ext cx="1228680" cy="397080"/>
          </a:xfrm>
          <a:prstGeom prst="pie">
            <a:avLst/>
          </a:prstGeom>
          <a:noFill/>
          <a:ln w="25560">
            <a:solidFill>
              <a:srgbClr val="942e2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832120" y="3714840"/>
            <a:ext cx="438120" cy="43812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4497480" y="4446720"/>
            <a:ext cx="1439640" cy="2536560"/>
          </a:xfrm>
          <a:prstGeom prst="pie">
            <a:avLst/>
          </a:prstGeom>
          <a:solidFill>
            <a:srgbClr val="8d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4497480" y="4122720"/>
            <a:ext cx="1214280" cy="2862360"/>
          </a:xfrm>
          <a:prstGeom prst="pie">
            <a:avLst/>
          </a:prstGeom>
          <a:solidFill>
            <a:srgbClr val="8e8e6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4497480" y="4216320"/>
            <a:ext cx="1149120" cy="2768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497480" y="4448160"/>
            <a:ext cx="1439640" cy="2536920"/>
          </a:xfrm>
          <a:prstGeom prst="pie">
            <a:avLst/>
          </a:prstGeom>
          <a:solidFill>
            <a:srgbClr val="8e8e6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4998960" y="4718160"/>
            <a:ext cx="438120" cy="43812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6664320" y="5450040"/>
            <a:ext cx="1441440" cy="2536560"/>
          </a:xfrm>
          <a:prstGeom prst="pie">
            <a:avLst/>
          </a:prstGeom>
          <a:solidFill>
            <a:srgbClr val="8d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6664320" y="5126040"/>
            <a:ext cx="1216080" cy="286236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6664320" y="5219640"/>
            <a:ext cx="1162080" cy="2768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6664320" y="5451480"/>
            <a:ext cx="1441440" cy="253692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6799320" y="6391440"/>
            <a:ext cx="1204920" cy="50760"/>
          </a:xfrm>
          <a:prstGeom prst="pie">
            <a:avLst/>
          </a:prstGeom>
          <a:noFill/>
          <a:ln w="25560">
            <a:solidFill>
              <a:srgbClr val="f1ef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6799320" y="6711840"/>
            <a:ext cx="1204920" cy="50760"/>
          </a:xfrm>
          <a:prstGeom prst="pie">
            <a:avLst/>
          </a:prstGeom>
          <a:noFill/>
          <a:ln w="25560">
            <a:solidFill>
              <a:srgbClr val="f1ef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7165800" y="5721480"/>
            <a:ext cx="438480" cy="43812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8832960" y="6453360"/>
            <a:ext cx="1439640" cy="2536560"/>
          </a:xfrm>
          <a:prstGeom prst="pie">
            <a:avLst/>
          </a:prstGeom>
          <a:solidFill>
            <a:srgbClr val="8d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8832960" y="6129360"/>
            <a:ext cx="1214280" cy="2862360"/>
          </a:xfrm>
          <a:prstGeom prst="pie">
            <a:avLst/>
          </a:prstGeom>
          <a:solidFill>
            <a:srgbClr val="8e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8832960" y="6222960"/>
            <a:ext cx="1131840" cy="2768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8832960" y="6454800"/>
            <a:ext cx="1439640" cy="2536920"/>
          </a:xfrm>
          <a:prstGeom prst="pie">
            <a:avLst/>
          </a:prstGeom>
          <a:solidFill>
            <a:srgbClr val="8e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9333000" y="6724800"/>
            <a:ext cx="438120" cy="43812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9829800" y="2565360"/>
            <a:ext cx="800280" cy="4698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"/>
          <p:cNvSpPr/>
          <p:nvPr/>
        </p:nvSpPr>
        <p:spPr>
          <a:xfrm>
            <a:off x="925920" y="1359000"/>
            <a:ext cx="11585160" cy="22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“Who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ls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nclu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udience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tag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ustom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ci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Journ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(CDJ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“Who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“h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7864920" y="3619440"/>
            <a:ext cx="471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rospects”—anyon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8171640" y="4076640"/>
            <a:ext cx="409140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Evalu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st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sa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journe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2484000" y="4444920"/>
            <a:ext cx="11026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YaHei UI"/>
              </a:rPr>
              <a:t>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2942640" y="3695760"/>
            <a:ext cx="26136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YaHei U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5101920" y="4699080"/>
            <a:ext cx="26136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YaHei U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4532040" y="5359320"/>
            <a:ext cx="580752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1efd7"/>
                </a:solidFill>
                <a:latin typeface="Microsoft YaHei UI"/>
              </a:rPr>
              <a:t>Intere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icrosoft YaHei U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1600" spc="-1" strike="noStrike">
                <a:solidFill>
                  <a:srgbClr val="f1efd7"/>
                </a:solidFill>
                <a:latin typeface="Microsoft YaHei UI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icrosoft YaHei U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f1efd7"/>
                </a:solidFill>
                <a:latin typeface="Microsoft YaHei UI"/>
              </a:rPr>
              <a:t>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a</cp:lastModifiedBy>
  <dcterms:modified xsi:type="dcterms:W3CDTF">2015-06-27T01:24:16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