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C33-CCD7-438A-835F-A6E7CE2B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F46-2793-4F70-B443-20392B4D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76696-186D-4974-A0C6-93B6365A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64030-8F37-4882-80EC-A814C185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52973-A1BE-468C-9709-9D9E58A4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6C578-69E7-475E-90B6-A7148B2D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FF533-D221-4D2C-8E22-324EE60D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022F3-1280-494E-9516-C21AB0D7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4DBF3-6033-4998-9886-769E7C35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C7E14-1931-4EDF-A1AA-6A74CA56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A186F-A173-45BC-98ED-D9209E45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D61F5-E0D5-4258-A6E3-9646947B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1DC-C02E-42AC-9227-CF1ECBF5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4B654-9153-433C-9FC6-ED2175A1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DF1B9-5F5E-4F95-91DF-1FA21250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56CF1-4DB7-4D4E-8727-E8F9CC05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5A9D8-36B6-4952-9B14-26C0B37C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BD659-5BF5-4FC8-8AFE-636EFD45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FD949-BA09-4A5D-AD5C-7C628363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85ABD-A00F-4B73-B8F6-1BA24C83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BD2E0-5051-4C69-B30C-42A4A9CF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47C0D-6426-4E3D-B7DB-4D8FEBF4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6882A-4659-4AB6-86CF-863C1B5A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733-22D5-4013-8103-C3F63C32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97ACC-D7E9-4F5D-9331-CDD9B0C6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73792-8930-47F6-909D-CC143FEE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8D09E-145E-4A2B-8EED-03221012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90B17-F884-43B4-8C4D-5AA8F7EF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17B20-6F2A-48D5-B7B3-63C2E766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2281D-E19C-433A-8308-7B902FF5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62773-BD0E-4F34-8A77-863549DB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4A5BB-CF80-4E66-8784-55AEF36E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45531-7798-4EF1-8F77-B73FF2F6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618AF-E1F0-4F96-9D9A-D0D448E7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4A70-D398-4A5A-8E4C-E4AF0DD6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83882-91C7-44C3-B316-558DD4FB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3007B-6A83-4F12-8B01-C13EDBC9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856DA-F5B4-4026-8B20-54246D04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28AB3-CD54-4FC4-AA13-BC281E6E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00586-1D24-4D99-80D9-E5D1A2CC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9ABCE-24BC-4B68-91B4-B08DE52A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BEAFD-C8AE-4A2C-9BF0-36BAE83B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A78D4-D142-4706-B337-F609A2E6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7EEFA-429F-4658-8978-25DF8F58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1C16D-35AF-4A29-B712-7CC8BEF1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D795-4F79-485A-A95C-7C57ACDA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696FB-EB6D-4E04-838D-932397B6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D6B08-E607-48FF-A46E-9617BE26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8FE88-F189-4D15-86D6-DD27D6CA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C4A8B-3813-4410-944F-A98C28F8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5A9C5-5164-48D3-9854-E2417CAE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0F7B-A786-440F-8839-6361FC45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82EA-750B-45CC-A496-619E0997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9ED2-9C87-42F2-BEED-21A202BA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2AA1-36DA-4665-9DC7-75979800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96A3-93FE-4DFB-AE9A-92A21DE3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33B-51CF-486D-99C7-F128C9F9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8A05-3A32-4787-8E2E-379068F7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14CA-CAFF-4E59-9311-5F47011D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59F8-FC64-48B7-A5F0-3AA01430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F108-2B54-4DE9-8F59-27FB1DD0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4692-AC35-4AA5-BCE1-E6343601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875F7-700F-4E23-A680-619E4AC0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C7CFB-9F6E-4BF2-B8FC-7BF43A3F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D94FB-6FB7-4DEC-BE9D-4739D620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A3DEB-2DA4-4900-B5FA-1FC8D39C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0195E-63B1-4158-8102-31AE2FC8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A55-BF54-464D-828B-E8158719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75405-68F7-45CA-90BC-DBF7AD05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3367C-C3D9-4286-AB4D-AF8A8C6C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12728-FB14-4B26-980E-AB4AC1E5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9B33-9534-48A0-8FE6-77060AB9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52407-2254-412B-8F50-6EAA38A0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884D-F134-4A3F-8740-D319FFD1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73DE-995A-454B-8090-9CBBE650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A684F-39B7-43F7-87F6-081F58BC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7CF82-A130-4A5D-A5F3-9A1A4828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17BE2-DAB1-4CDE-95C9-BC189C3A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EE8-C30F-483A-AF73-6EB677AB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C831D-8C33-423E-95F2-F0FE4E78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8A16F-94D9-4546-824E-1F4C07E2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1487F-BC0C-47F0-A1ED-4925CFAE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12894-C50A-413A-9EAA-3DFBCF5B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C905D-BC54-44F1-927C-B1909D37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DD7B5-D06A-4DF5-84D9-4287E322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B35A2-4B53-41D8-95A0-1EF676F6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2EC55-DC73-4911-8F6B-C454C2E0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6D8CB-78B4-47B1-9D25-9FE811C6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F5E40-39CD-48C5-9FCE-BE9F20B8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CCC8-4122-48B6-B51E-B0FA8FEA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2281B-D311-410C-A911-6B800272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8EDE0-37EE-4D42-85CF-73B405C1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1D614-79C2-4F1F-91B0-B8DCE0C3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D2E28-A34F-4823-8524-79F6FDAF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8DA51-3FA6-4E3E-978E-4EDCF515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6FCC1-C6F8-4323-B02E-41724558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CC19B-A41D-41E2-A867-4732C089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83B04-66C7-4ED6-B7BF-2280A70D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98FC1-B9A4-4FEA-85B1-ED7BACEE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9CEFE-DCB4-45C0-BBD5-FCDAF352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772-2828-4FCF-B9A5-81CEA39E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0A00B-FE4C-455F-81BA-9352DB1E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A707C-B36B-48CF-9A1F-DCB08540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A5B7B-2C84-4ADC-865E-6095C422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82E5D-3D9F-4716-811A-203F8705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3968C-549A-4369-895A-D42F10A0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2B8F9-9796-424B-B937-97B9C5FB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9C735-F21D-4366-9AE0-3ACFD749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8E9A1-7F8F-4564-8F46-EFC5FAEE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6EB53-3F95-4112-9B22-85DFB785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7D403-0ECD-461C-83E2-F73289CD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F68C-DA3A-49DA-90CC-B90772BD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602D7-03F3-436F-A2FF-778F6F85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0AC78-68FE-4BE9-AC6F-BBCD735A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5A473-4E1E-40E6-BDFF-2A270B70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51A81-E727-40B2-9E94-69FF7405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58C76-5D10-401D-B559-5E9213B3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E3F66-B025-46F5-8033-1A72910A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79382-1292-4C33-9993-C7B07811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85ACB-DF80-408C-BEAB-C4209C88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C8429-5640-45CD-AE82-F10EE0F4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F5830-AF0B-4DFA-B1CE-0B25B6A4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0C1-AB98-44DE-9B9F-D1C852E8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D6779-730C-43FE-9AF7-8062E3D1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307CA-B43F-4852-B25C-3786FC90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3E0C4-4E5A-468B-AA45-7F5F259D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93706-BA57-4520-9491-A83995BD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5B273-8A0C-4D32-BE29-10299F06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50EC3-5512-4D50-A096-6675E164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928A3-946D-4841-B0E8-8C94021B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A3063-276B-4EAA-9FF1-E4C85DD1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3CCEF-11EE-46DA-B7A6-0E2E2372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3FAC5-2E5F-4BD3-88F4-02C8DCB2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40B-8BCB-4DFF-B6C3-6E5DA1DD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706D5-12CB-416A-8348-F56D0239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F2DED-1DEE-4FA5-8C5B-E49D0788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2FD36-6EFD-495B-882C-5F3F25F2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688D4-1DEE-49CB-8D9C-0F352B24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3B31E-2397-43F5-8A6D-375E3340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05E97-13A3-4DDA-8DF6-5637666B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BE0A5-3D73-4F29-8E3B-23F1041D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561EB-7819-49AB-9AEF-8A39347C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99BF9-F2DD-4E01-A78B-5D08EEBC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17F91-B5C6-4385-962A-DD16101B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pptok.com/" TargetMode="External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pptok.com/" TargetMode="External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pptok.com/" TargetMode="External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pptok.com/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pptok.com/" TargetMode="External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pptok.com/" TargetMode="External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pptok.com/" TargetMode="External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pptok.com/" TargetMode="External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pptok.com/" TargetMode="External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pptok.com/" TargetMode="External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pptok.com/" TargetMode="External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3C1F-E67A-4999-85C5-E6A378AD5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434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436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437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矩形 10">
              <a:hlinkClick r:id="rId4"/>
            </p:cNvPr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5214-49EA-41DA-B153-790BC419B8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483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485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486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矩形 10">
              <a:hlinkClick r:id="rId4"/>
            </p:cNvPr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820E-5399-48FC-8D69-E0307C64FD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532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534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535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矩形 10">
              <a:hlinkClick r:id="rId4"/>
            </p:cNvPr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3E55-B237-4CD5-BEA3-2F64E65A38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B014-90AF-40D0-8119-42ADD6FFC3B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49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50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矩形 10">
              <a:hlinkClick r:id="rId4"/>
            </p:cNvPr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91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93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94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矩形 10">
              <a:hlinkClick r:id="rId4"/>
            </p:cNvPr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23E9-8E82-474F-A233-37E0059394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140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142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143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矩形 10">
              <a:hlinkClick r:id="rId4"/>
            </p:cNvPr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065D-2330-42BC-9AAE-0BAC50BF2E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189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191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192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矩形 10">
              <a:hlinkClick r:id="rId4"/>
            </p:cNvPr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4BE2-CC99-428B-85A1-EE56702597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238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240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241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矩形 10">
              <a:hlinkClick r:id="rId4"/>
            </p:cNvPr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3FEB-1E13-4195-9C40-B4494A49EF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287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289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290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矩形 10">
              <a:hlinkClick r:id="rId4"/>
            </p:cNvPr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C48A-7A6D-4013-B360-38381495E2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336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338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339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矩形 10">
              <a:hlinkClick r:id="rId4"/>
            </p:cNvPr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EB5B-804E-4153-B1D3-6B001510FF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385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387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388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矩形 10">
              <a:hlinkClick r:id="rId4"/>
            </p:cNvPr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8E06-8C04-42BB-9AC1-9FCAEA4DD2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"/>
          <p:cNvPicPr/>
          <p:nvPr/>
        </p:nvPicPr>
        <p:blipFill>
          <a:blip r:embed="rId1"/>
          <a:stretch/>
        </p:blipFill>
        <p:spPr>
          <a:xfrm>
            <a:off x="-1087560" y="-241200"/>
            <a:ext cx="11319120" cy="73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6" descr=""/>
          <p:cNvPicPr/>
          <p:nvPr/>
        </p:nvPicPr>
        <p:blipFill>
          <a:blip r:embed="rId1"/>
          <a:stretch/>
        </p:blipFill>
        <p:spPr>
          <a:xfrm>
            <a:off x="-1087560" y="-158760"/>
            <a:ext cx="11319120" cy="71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-1087560" y="-222120"/>
            <a:ext cx="11319120" cy="73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1"/>
          <a:stretch/>
        </p:blipFill>
        <p:spPr>
          <a:xfrm>
            <a:off x="-1087560" y="-230040"/>
            <a:ext cx="11319120" cy="73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5" descr=""/>
          <p:cNvPicPr/>
          <p:nvPr/>
        </p:nvPicPr>
        <p:blipFill>
          <a:blip r:embed="rId1"/>
          <a:stretch/>
        </p:blipFill>
        <p:spPr>
          <a:xfrm>
            <a:off x="-1087560" y="-241200"/>
            <a:ext cx="11319120" cy="73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4" descr=""/>
          <p:cNvPicPr/>
          <p:nvPr/>
        </p:nvPicPr>
        <p:blipFill>
          <a:blip r:embed="rId1"/>
          <a:stretch/>
        </p:blipFill>
        <p:spPr>
          <a:xfrm>
            <a:off x="-1087560" y="-241200"/>
            <a:ext cx="11319120" cy="73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2:32:26Z</dcterms:created>
  <dc:creator>053648</dc:creator>
  <dc:description/>
  <dc:language>en-US</dc:language>
  <cp:lastModifiedBy>zhnagsir</cp:lastModifiedBy>
  <dcterms:modified xsi:type="dcterms:W3CDTF">2015-07-06T03:47:41Z</dcterms:modified>
  <cp:revision>2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