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884D-96C7-4CE9-A0F9-608D66D7A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EDD9-FF53-4BB1-89E9-E3BF7C77D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6F72-C05E-4812-820C-ABC4062B5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D6F5-1325-4CCD-80D0-5F0EA65E0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B651-7029-4918-8289-89B5C505D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48FB-226E-46E8-9328-55335F610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0F80-F5B4-43C7-BECC-446AE75E1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C8AC-A949-4365-874B-473B6DED1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8A02-428A-47CC-9042-2F88EC557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8486-8B92-4162-8806-9815BC50C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7677-4879-4A48-8A6E-8D09B4A57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3F89-87A5-41AE-A422-1143A3D2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58B74-B0F9-4182-A43E-A29980492C3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6878520" y="1428840"/>
            <a:ext cx="1003320" cy="38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清新及相关类别演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6509880" y="1428840"/>
            <a:ext cx="729000" cy="32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WE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User</cp:lastModifiedBy>
  <dcterms:modified xsi:type="dcterms:W3CDTF">2014-05-05T07:00:12Z</dcterms:modified>
  <cp:revision>47</cp:revision>
  <dc:subject/>
  <dc:title>幻灯片 1</dc:title>
</cp:coreProperties>
</file>