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040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0820-E78B-47CD-AB2F-6C678049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93A6-4C51-490C-94E6-6B3C0697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590-2750-44B7-BC4A-90FC45C1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648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13840"/>
            <a:ext cx="264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DD2-D8F8-4F0E-B80D-A836B836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0D9-FDBD-4EB0-986A-1202BB2A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C3B-CABA-4933-87B3-C502D0EF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C75-7159-4812-9396-FFBC5BDA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2B4-FAE3-444A-B953-857235C4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1240"/>
            <a:ext cx="8229600" cy="38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AD0-AC4F-4311-BD23-9117F00C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F20C-A485-4169-AC0D-C59743C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1384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280-94E9-4573-9BAB-E2C6D9CE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6480"/>
            <a:ext cx="40158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13840"/>
            <a:ext cx="82296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6F8-F458-4C65-8B2F-AEC731B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648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365760" indent="365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731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097280" indent="-365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463040" indent="-731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463040" indent="-731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463040" indent="-731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894E-619D-4E17-B290-D7E22DE499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717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7172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FBF6-27D4-477C-9109-BB28494AC8C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220840" y="1306440"/>
            <a:ext cx="2038680" cy="2819520"/>
            <a:chOff x="-2220840" y="1306440"/>
            <a:chExt cx="2038680" cy="2819520"/>
          </a:xfrm>
        </p:grpSpPr>
        <p:pic>
          <p:nvPicPr>
            <p:cNvPr id="42" name="图片 4" descr=""/>
            <p:cNvPicPr/>
            <p:nvPr/>
          </p:nvPicPr>
          <p:blipFill>
            <a:blip r:embed="rId1"/>
            <a:srcRect l="0" t="-141" r="0" b="0"/>
            <a:stretch/>
          </p:blipFill>
          <p:spPr>
            <a:xfrm>
              <a:off x="-2220840" y="1306440"/>
              <a:ext cx="1019880" cy="10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5" descr=""/>
            <p:cNvPicPr/>
            <p:nvPr/>
          </p:nvPicPr>
          <p:blipFill>
            <a:blip r:embed="rId2"/>
            <a:srcRect l="4065" t="0" r="20962" b="0"/>
            <a:stretch/>
          </p:blipFill>
          <p:spPr>
            <a:xfrm>
              <a:off x="-1200600" y="1908000"/>
              <a:ext cx="10184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图片 7" descr=""/>
            <p:cNvPicPr/>
            <p:nvPr/>
          </p:nvPicPr>
          <p:blipFill>
            <a:blip r:embed="rId3"/>
            <a:srcRect l="13813" t="0" r="13813" b="0"/>
            <a:stretch/>
          </p:blipFill>
          <p:spPr>
            <a:xfrm>
              <a:off x="-1200600" y="3107160"/>
              <a:ext cx="1018440" cy="101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图片 8" descr=""/>
            <p:cNvPicPr/>
            <p:nvPr/>
          </p:nvPicPr>
          <p:blipFill>
            <a:blip r:embed="rId4"/>
            <a:srcRect l="12157" t="7272" r="23149" b="7272"/>
            <a:stretch/>
          </p:blipFill>
          <p:spPr>
            <a:xfrm>
              <a:off x="-2220840" y="2521800"/>
              <a:ext cx="1018440" cy="101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-2266920" y="-227160"/>
            <a:ext cx="1893960" cy="2622600"/>
            <a:chOff x="-2266920" y="-227160"/>
            <a:chExt cx="1893960" cy="2622600"/>
          </a:xfrm>
        </p:grpSpPr>
        <p:pic>
          <p:nvPicPr>
            <p:cNvPr id="47" name="Picture 6" descr=""/>
            <p:cNvPicPr/>
            <p:nvPr/>
          </p:nvPicPr>
          <p:blipFill>
            <a:blip r:embed="rId5"/>
            <a:stretch/>
          </p:blipFill>
          <p:spPr>
            <a:xfrm>
              <a:off x="-2266920" y="-227160"/>
              <a:ext cx="1893960" cy="262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"/>
            <p:cNvPicPr/>
            <p:nvPr/>
          </p:nvPicPr>
          <p:blipFill>
            <a:blip r:embed="rId6"/>
            <a:stretch/>
          </p:blipFill>
          <p:spPr>
            <a:xfrm>
              <a:off x="-2054520" y="66600"/>
              <a:ext cx="1469520" cy="203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"/>
            <p:cNvPicPr/>
            <p:nvPr/>
          </p:nvPicPr>
          <p:blipFill>
            <a:blip r:embed="rId7"/>
            <a:stretch/>
          </p:blipFill>
          <p:spPr>
            <a:xfrm>
              <a:off x="-1896840" y="284760"/>
              <a:ext cx="1154160" cy="1598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7" descr=""/>
          <p:cNvPicPr/>
          <p:nvPr/>
        </p:nvPicPr>
        <p:blipFill>
          <a:blip r:embed="rId8"/>
          <a:stretch/>
        </p:blipFill>
        <p:spPr>
          <a:xfrm>
            <a:off x="3828960" y="868320"/>
            <a:ext cx="1486080" cy="205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9"/>
          <a:stretch/>
        </p:blipFill>
        <p:spPr>
          <a:xfrm>
            <a:off x="3322800" y="3008160"/>
            <a:ext cx="2498400" cy="8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10"/>
          <a:stretch/>
        </p:blipFill>
        <p:spPr>
          <a:xfrm>
            <a:off x="4073400" y="4202280"/>
            <a:ext cx="995400" cy="493560"/>
          </a:xfrm>
          <a:prstGeom prst="rect">
            <a:avLst/>
          </a:prstGeom>
          <a:ln w="0">
            <a:noFill/>
          </a:ln>
        </p:spPr>
      </p:pic>
      <p:pic>
        <p:nvPicPr>
          <p:cNvPr id="53" name="陈奕迅-名阳无限好.wav" descr=""/>
          <p:cNvPicPr/>
          <p:nvPr/>
        </p:nvPicPr>
        <p:blipFill>
          <a:blip r:embed="rId11"/>
          <a:stretch/>
        </p:blipFill>
        <p:spPr>
          <a:xfrm>
            <a:off x="-2359080" y="2654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332000" y="1693800"/>
            <a:ext cx="6632640" cy="85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1673280" y="2496960"/>
            <a:ext cx="5797440" cy="3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3665520" y="2886120"/>
            <a:ext cx="1814400" cy="89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E6E-A7BD-463D-ABB2-8C18562B3D3D}" type="slidenum">
              <a:t>10</a:t>
            </a:fld>
          </a:p>
        </p:txBody>
      </p:sp>
    </p:spTree>
  </p:cSld>
  <p:transition spd="med" advTm="1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922320" y="1260360"/>
            <a:ext cx="7300080" cy="2724120"/>
            <a:chOff x="922320" y="1260360"/>
            <a:chExt cx="7300080" cy="2724120"/>
          </a:xfrm>
        </p:grpSpPr>
        <p:grpSp>
          <p:nvGrpSpPr>
            <p:cNvPr id="55" name=""/>
            <p:cNvGrpSpPr/>
            <p:nvPr/>
          </p:nvGrpSpPr>
          <p:grpSpPr>
            <a:xfrm>
              <a:off x="922320" y="1260360"/>
              <a:ext cx="7300080" cy="1566720"/>
              <a:chOff x="922320" y="1260360"/>
              <a:chExt cx="7300080" cy="1566720"/>
            </a:xfrm>
          </p:grpSpPr>
          <p:sp>
            <p:nvSpPr>
              <p:cNvPr id="56" name="TextBox 3"/>
              <p:cNvSpPr/>
              <p:nvPr/>
            </p:nvSpPr>
            <p:spPr>
              <a:xfrm>
                <a:off x="3217320" y="1260360"/>
                <a:ext cx="2966400" cy="137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翻开我的日记本，上面记录着近期发生的各种小事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: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哼着李志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《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春末南方的城市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和小羊同学踏着单车在绿道上一路飞奔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和小伙子从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E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座三楼搬着椅子到一楼，坐在过道和学弟学妹们听匡哥说法；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在阳光灿烂的下午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Z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方正静蕾简体"/>
                    <a:ea typeface="方正静蕾简体"/>
                  </a:rPr>
                  <a:t>骑车去宽窄巷子，在皮肤上留下初夏黝黑的印记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922320" y="2781720"/>
                <a:ext cx="7300080" cy="45360"/>
                <a:chOff x="922320" y="2781720"/>
                <a:chExt cx="7300080" cy="45360"/>
              </a:xfrm>
            </p:grpSpPr>
            <p:sp>
              <p:nvSpPr>
                <p:cNvPr id="58" name="矩形 4"/>
                <p:cNvSpPr/>
                <p:nvPr/>
              </p:nvSpPr>
              <p:spPr>
                <a:xfrm>
                  <a:off x="922320" y="2781720"/>
                  <a:ext cx="5941080" cy="45360"/>
                </a:xfrm>
                <a:prstGeom prst="rect">
                  <a:avLst/>
                </a:prstGeom>
                <a:solidFill>
                  <a:srgbClr val="f79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矩形 5"/>
                <p:cNvSpPr/>
                <p:nvPr/>
              </p:nvSpPr>
              <p:spPr>
                <a:xfrm>
                  <a:off x="6998400" y="2781720"/>
                  <a:ext cx="1224000" cy="45360"/>
                </a:xfrm>
                <a:prstGeom prst="rect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" name="图片 8" descr=""/>
            <p:cNvPicPr/>
            <p:nvPr/>
          </p:nvPicPr>
          <p:blipFill>
            <a:blip r:embed="rId1"/>
            <a:srcRect l="0" t="31784" r="0" b="43834"/>
            <a:stretch/>
          </p:blipFill>
          <p:spPr>
            <a:xfrm>
              <a:off x="922320" y="3014640"/>
              <a:ext cx="594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矩形 9"/>
            <p:cNvSpPr/>
            <p:nvPr/>
          </p:nvSpPr>
          <p:spPr>
            <a:xfrm>
              <a:off x="6998040" y="3014640"/>
              <a:ext cx="1224000" cy="96984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518-75B7-4CE8-A5BF-652840EAEF92}" type="slidenum">
              <a:t>2</a:t>
            </a:fld>
          </a:p>
        </p:txBody>
      </p:sp>
    </p:spTree>
  </p:cSld>
  <p:transition spd="med"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2459520" y="1260360"/>
            <a:ext cx="415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一封封信写给即将一起毕业的朋友，听它们“咚”的一声落到信箱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答辩结束那天晚上，和小伙子吃完烧烤，走过学校的每一条街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为它们起一个新名字。和不同的朋友做不同的有趣的事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在心里认真的以此作为一次毕业前的告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64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67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2"/>
          <a:srcRect l="0" t="30821" r="0" b="47400"/>
          <a:stretch/>
        </p:blipFill>
        <p:spPr>
          <a:xfrm>
            <a:off x="920880" y="3014640"/>
            <a:ext cx="593856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A8B-D48A-44E9-AE05-F6E3CDF2C9C3}" type="slidenum">
              <a:t>3</a:t>
            </a:fld>
          </a:p>
        </p:txBody>
      </p:sp>
    </p:spTree>
  </p:cSld>
  <p:transition spd="med" advTm="1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3"/>
          <p:cNvSpPr/>
          <p:nvPr/>
        </p:nvSpPr>
        <p:spPr>
          <a:xfrm>
            <a:off x="2583000" y="1260360"/>
            <a:ext cx="1140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深深的觉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具有纪念意义的不仅仅是一次共同旅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也可以是午饭后三个小时的草坪聊天时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71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74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" descr=""/>
          <p:cNvPicPr/>
          <p:nvPr/>
        </p:nvPicPr>
        <p:blipFill>
          <a:blip r:embed="rId2"/>
          <a:srcRect l="0" t="30821" r="0" b="47400"/>
          <a:stretch/>
        </p:blipFill>
        <p:spPr>
          <a:xfrm>
            <a:off x="920880" y="3014640"/>
            <a:ext cx="5938560" cy="9698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" descr=""/>
          <p:cNvPicPr/>
          <p:nvPr/>
        </p:nvPicPr>
        <p:blipFill>
          <a:blip r:embed="rId3"/>
          <a:srcRect l="0" t="54149" r="0" b="24077"/>
          <a:stretch/>
        </p:blipFill>
        <p:spPr>
          <a:xfrm>
            <a:off x="927000" y="3014640"/>
            <a:ext cx="594036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8140-2967-4301-B32C-BC2C6B5CC45E}" type="slidenum">
              <a:t>4</a:t>
            </a:fld>
          </a:p>
        </p:txBody>
      </p:sp>
    </p:spTree>
  </p:cSld>
  <p:transition spd="med" advTm="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4514760" y="1260360"/>
            <a:ext cx="63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过去四年，有过失败，有过眼泪，有过颓废，也终于等来最后的梦想成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你们看着我这一路走来，我也看着你们终于长成自己喜欢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因为眼前有太多的方向，于是习惯于回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有时候回头看见出发的地方如此破败，大概这也能成为今后不再惧怕的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79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82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7" descr=""/>
          <p:cNvPicPr/>
          <p:nvPr/>
        </p:nvPicPr>
        <p:blipFill>
          <a:blip r:embed="rId2"/>
          <a:srcRect l="0" t="7495" r="0" b="70533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7AF-D37A-4E5B-839B-B42E4C6C51F4}" type="slidenum">
              <a:t>5</a:t>
            </a:fld>
          </a:p>
        </p:txBody>
      </p:sp>
    </p:spTree>
  </p:cSld>
  <p:transition spd="med" advTm="19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751480" y="1260360"/>
            <a:ext cx="4158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想，朋友就是你们这些人，为了安慰担心的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把自己难以启齿的过往讲出来，又看我当场放肆地笑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朋友就是你们这些人，在我最忙碌的时候选择远远地微笑，看着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一步一步接近成功，在我最失意的时候告诉我，这里永远会有肩膀可以依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86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89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" descr=""/>
          <p:cNvPicPr/>
          <p:nvPr/>
        </p:nvPicPr>
        <p:blipFill>
          <a:blip r:embed="rId2"/>
          <a:srcRect l="0" t="42052" r="0" b="45699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5BA-301F-4856-AD8E-0FC86B0C48D0}" type="slidenum">
              <a:t>6</a:t>
            </a:fld>
          </a:p>
        </p:txBody>
      </p:sp>
    </p:spTree>
  </p:cSld>
  <p:transition spd="med" advTm="18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127960" y="1035000"/>
            <a:ext cx="40212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现在手机里还存着某个冬日午后的短信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其实大家都在不停地忙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当你难受的时候，你会想到朋友，也会担心是否会影响到朋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但，其实朋友们也是这样想的。所以当需要时，告诉我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们一起暂停，再携手前行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93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96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2"/>
          <a:srcRect l="0" t="33084" r="0" b="45231"/>
          <a:stretch/>
        </p:blipFill>
        <p:spPr>
          <a:xfrm>
            <a:off x="914400" y="3014640"/>
            <a:ext cx="594036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ADC-D451-4811-90AE-33E03D235B2D}" type="slidenum">
              <a:t>7</a:t>
            </a:fld>
          </a:p>
        </p:txBody>
      </p:sp>
    </p:spTree>
  </p:cSld>
  <p:transition spd="med" advTm="1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1753560" y="1324080"/>
            <a:ext cx="2923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我也时常会想象毕业之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想象我离开成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想象我们的三十岁会是什么样子、会在哪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答案总是，不会孤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100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103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2"/>
          <a:srcRect l="0" t="37980" r="0" b="40241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858-427B-4650-9FC7-912D245B9B91}" type="slidenum">
              <a:t>8</a:t>
            </a:fld>
          </a:p>
        </p:txBody>
      </p:sp>
    </p:spTree>
  </p:cSld>
  <p:transition spd="med"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1977120" y="1324080"/>
            <a:ext cx="1552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时间能洗尽铅华，亦能沉淀明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这些话写给自己，也想讲给你们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顺便拉上不远的未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静蕾简体"/>
                <a:ea typeface="方正静蕾简体"/>
              </a:rPr>
              <a:t>做个见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922320" y="2781360"/>
            <a:ext cx="7299360" cy="46080"/>
            <a:chOff x="922320" y="2781360"/>
            <a:chExt cx="7299360" cy="46080"/>
          </a:xfrm>
        </p:grpSpPr>
        <p:sp>
          <p:nvSpPr>
            <p:cNvPr id="107" name="矩形 4"/>
            <p:cNvSpPr/>
            <p:nvPr/>
          </p:nvSpPr>
          <p:spPr>
            <a:xfrm>
              <a:off x="922320" y="2781360"/>
              <a:ext cx="5940360" cy="46080"/>
            </a:xfrm>
            <a:prstGeom prst="rect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"/>
            <p:cNvSpPr/>
            <p:nvPr/>
          </p:nvSpPr>
          <p:spPr>
            <a:xfrm>
              <a:off x="6997680" y="2781360"/>
              <a:ext cx="1224000" cy="4608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图片 8" descr=""/>
          <p:cNvPicPr/>
          <p:nvPr/>
        </p:nvPicPr>
        <p:blipFill>
          <a:blip r:embed="rId1"/>
          <a:srcRect l="0" t="31784" r="0" b="43834"/>
          <a:stretch/>
        </p:blipFill>
        <p:spPr>
          <a:xfrm>
            <a:off x="92232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110" name="矩形 9"/>
          <p:cNvSpPr/>
          <p:nvPr/>
        </p:nvSpPr>
        <p:spPr>
          <a:xfrm>
            <a:off x="6997680" y="3014640"/>
            <a:ext cx="1224000" cy="9698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2"/>
          <a:srcRect l="0" t="32195" r="0" b="46030"/>
          <a:stretch/>
        </p:blipFill>
        <p:spPr>
          <a:xfrm>
            <a:off x="927000" y="3014640"/>
            <a:ext cx="59389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997-0E59-41F2-BC26-03C053C9E6DF}" type="slidenum">
              <a:t>9</a:t>
            </a:fld>
          </a:p>
        </p:txBody>
      </p:sp>
    </p:spTree>
  </p:cSld>
  <p:transition spd="med" advTm="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22:40:00Z</dcterms:created>
  <dc:creator>曹将</dc:creator>
  <dc:description/>
  <dc:language>en-US</dc:language>
  <cp:lastModifiedBy>曹将</cp:lastModifiedBy>
  <dcterms:modified xsi:type="dcterms:W3CDTF">2015-08-17T02:51:1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