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3DF-89BF-4498-90F9-B3FCEF3C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0FA-1510-49D9-B39A-1FC88316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84F-6A17-45BD-A8CD-73E666A7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62A-8C4C-4068-BFDF-B7010341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6E5-2A93-4686-917F-7BBCD60B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309-73D5-44AE-8308-86F2677D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8386-65C1-472E-83C6-D448A935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839-2197-4CC5-8EFE-EB54E23B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187-E006-4A85-B60D-F171A1A9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3EB-2A87-41CE-86AB-92A35E3A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D1F-AE5D-4AD1-9702-6FB23B1F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4CB-40AA-43AF-9E34-0C439C11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1C6F-EE0E-49F7-921D-E4701535D1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1.jpeg"/><Relationship Id="rId10" Type="http://schemas.openxmlformats.org/officeDocument/2006/relationships/image" Target="../media/image2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3.jpeg"/><Relationship Id="rId15" Type="http://schemas.openxmlformats.org/officeDocument/2006/relationships/image" Target="../media/image6.jpeg"/><Relationship Id="rId16" Type="http://schemas.openxmlformats.org/officeDocument/2006/relationships/image" Target="../media/image7.jpeg"/><Relationship Id="rId17" Type="http://schemas.openxmlformats.org/officeDocument/2006/relationships/image" Target="../media/image1.jpeg"/><Relationship Id="rId18" Type="http://schemas.openxmlformats.org/officeDocument/2006/relationships/image" Target="../media/image2.jpeg"/><Relationship Id="rId19" Type="http://schemas.openxmlformats.org/officeDocument/2006/relationships/image" Target="../media/image3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3.jpeg"/><Relationship Id="rId23" Type="http://schemas.openxmlformats.org/officeDocument/2006/relationships/image" Target="../media/image6.jpeg"/><Relationship Id="rId24" Type="http://schemas.openxmlformats.org/officeDocument/2006/relationships/image" Target="../media/image7.jpeg"/><Relationship Id="rId25" Type="http://schemas.openxmlformats.org/officeDocument/2006/relationships/image" Target="../media/image1.jpeg"/><Relationship Id="rId26" Type="http://schemas.openxmlformats.org/officeDocument/2006/relationships/image" Target="../media/image2.jpeg"/><Relationship Id="rId27" Type="http://schemas.openxmlformats.org/officeDocument/2006/relationships/image" Target="../media/image3.jpeg"/><Relationship Id="rId28" Type="http://schemas.openxmlformats.org/officeDocument/2006/relationships/image" Target="../media/image4.jpeg"/><Relationship Id="rId29" Type="http://schemas.openxmlformats.org/officeDocument/2006/relationships/image" Target="../media/image5.jpeg"/><Relationship Id="rId30" Type="http://schemas.openxmlformats.org/officeDocument/2006/relationships/image" Target="../media/image3.jpeg"/><Relationship Id="rId31" Type="http://schemas.openxmlformats.org/officeDocument/2006/relationships/image" Target="../media/image6.jpeg"/><Relationship Id="rId32" Type="http://schemas.openxmlformats.org/officeDocument/2006/relationships/image" Target="../media/image7.jpeg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48320" y="76212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Disney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15200" y="5486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4343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号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2057400"/>
            <a:ext cx="8763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t Disney-MGM Studios, you can enjoy rides and shows based on Hollywood mov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t Animal Kingdom, you can take a safari ride to see elephants, giraffes 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长颈鹿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, hippos 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河马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, rhinos 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犀牛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, and l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3049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The other two theme parks:                                   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Disney-MGM Studio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迪斯尼米高梅影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Disney’s Animal Kingdom Park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迪斯尼动物王国主题公园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-457200" y="4191120"/>
            <a:ext cx="10058400" cy="2400120"/>
            <a:chOff x="-457200" y="4191120"/>
            <a:chExt cx="10058400" cy="2400120"/>
          </a:xfrm>
        </p:grpSpPr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6629400" y="4191120"/>
              <a:ext cx="297180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-457200" y="4191120"/>
              <a:ext cx="3200400" cy="24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4"/>
            <a:stretch/>
          </p:blipFill>
          <p:spPr>
            <a:xfrm>
              <a:off x="3200400" y="4191120"/>
              <a:ext cx="3048120" cy="23428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38080" y="380880"/>
            <a:ext cx="754380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We all dreamed colorful dreams when we were yo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ut suddenly one day or a moment, a second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we grew up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realized something might never hap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Disney World gives us a chance to return back to our dreams.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lways keep a dream in your mind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If your dreams get broken somehow, I will remind you that you belong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28600" y="5486400"/>
            <a:ext cx="1523880" cy="1371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828800" y="5486400"/>
            <a:ext cx="1522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429000" y="5486400"/>
            <a:ext cx="1522440" cy="1371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029200" y="5486400"/>
            <a:ext cx="152244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3505320" cy="25495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371600" y="990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219320" y="2438280"/>
            <a:ext cx="7619760" cy="1663560"/>
            <a:chOff x="1219320" y="2438280"/>
            <a:chExt cx="7619760" cy="1663560"/>
          </a:xfrm>
        </p:grpSpPr>
        <p:sp>
          <p:nvSpPr>
            <p:cNvPr id="212" name=""/>
            <p:cNvSpPr/>
            <p:nvPr/>
          </p:nvSpPr>
          <p:spPr>
            <a:xfrm>
              <a:off x="1219320" y="3733560"/>
              <a:ext cx="685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ttp://zhidao.baidu.com/question/15544544.html?an=0&amp;si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9320" y="2438280"/>
              <a:ext cx="761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ttp://zhidao.baidu.com/question/87690729.html?an=1&amp;si=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24360" y="3124080"/>
              <a:ext cx="541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ttp://travel.huanqiu.com/ztyw/2010-05/820929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743200" y="47242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Thanks for you attention~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20841000">
            <a:off x="1143000" y="49525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6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2344400" y="4572000"/>
            <a:ext cx="34137000" cy="1981080"/>
            <a:chOff x="-12344400" y="4572000"/>
            <a:chExt cx="34137000" cy="1981080"/>
          </a:xfrm>
        </p:grpSpPr>
        <p:grpSp>
          <p:nvGrpSpPr>
            <p:cNvPr id="45" name=""/>
            <p:cNvGrpSpPr/>
            <p:nvPr/>
          </p:nvGrpSpPr>
          <p:grpSpPr>
            <a:xfrm>
              <a:off x="-12344400" y="4572000"/>
              <a:ext cx="17068320" cy="1981080"/>
              <a:chOff x="-12344400" y="4572000"/>
              <a:chExt cx="17068320" cy="198108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-12344400" y="4572000"/>
                <a:ext cx="17068320" cy="1981080"/>
                <a:chOff x="-12344400" y="4572000"/>
                <a:chExt cx="17068320" cy="198108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-12344400" y="4572000"/>
                  <a:ext cx="17068320" cy="1981080"/>
                  <a:chOff x="-12344400" y="4572000"/>
                  <a:chExt cx="17068320" cy="198108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-3810240" y="4572000"/>
                    <a:ext cx="8534160" cy="1981080"/>
                    <a:chOff x="-3810240" y="4572000"/>
                    <a:chExt cx="8534160" cy="198108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>
                      <a:off x="-3810240" y="6553080"/>
                      <a:ext cx="8534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>
                      <a:off x="2742840" y="480060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" name=""/>
                    <p:cNvSpPr/>
                    <p:nvPr/>
                  </p:nvSpPr>
                  <p:spPr>
                    <a:xfrm>
                      <a:off x="609120" y="480060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" name=""/>
                    <p:cNvSpPr/>
                    <p:nvPr/>
                  </p:nvSpPr>
                  <p:spPr>
                    <a:xfrm>
                      <a:off x="-1523880" y="4800600"/>
                      <a:ext cx="190476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" name=""/>
                    <p:cNvSpPr/>
                    <p:nvPr/>
                  </p:nvSpPr>
                  <p:spPr>
                    <a:xfrm>
                      <a:off x="-3657600" y="480060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" name=""/>
                    <p:cNvSpPr/>
                    <p:nvPr/>
                  </p:nvSpPr>
                  <p:spPr>
                    <a:xfrm>
                      <a:off x="-3810240" y="4572000"/>
                      <a:ext cx="8534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" name=""/>
                  <p:cNvGrpSpPr/>
                  <p:nvPr/>
                </p:nvGrpSpPr>
                <p:grpSpPr>
                  <a:xfrm>
                    <a:off x="-12344400" y="4572000"/>
                    <a:ext cx="8534160" cy="1981080"/>
                    <a:chOff x="-12344400" y="4572000"/>
                    <a:chExt cx="8534160" cy="1981080"/>
                  </a:xfrm>
                </p:grpSpPr>
                <p:sp>
                  <p:nvSpPr>
                    <p:cNvPr id="56" name=""/>
                    <p:cNvSpPr/>
                    <p:nvPr/>
                  </p:nvSpPr>
                  <p:spPr>
                    <a:xfrm>
                      <a:off x="-12192120" y="480060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" name=""/>
                    <p:cNvSpPr/>
                    <p:nvPr/>
                  </p:nvSpPr>
                  <p:spPr>
                    <a:xfrm>
                      <a:off x="-10058400" y="4800600"/>
                      <a:ext cx="190476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-7925040" y="480060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-5791320" y="480060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" name=""/>
                    <p:cNvSpPr/>
                    <p:nvPr/>
                  </p:nvSpPr>
                  <p:spPr>
                    <a:xfrm>
                      <a:off x="-12344400" y="6553080"/>
                      <a:ext cx="8534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" name=""/>
                    <p:cNvSpPr/>
                    <p:nvPr/>
                  </p:nvSpPr>
                  <p:spPr>
                    <a:xfrm>
                      <a:off x="-12344400" y="4572000"/>
                      <a:ext cx="8534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-12192120" y="4800600"/>
                  <a:ext cx="4037040" cy="1523880"/>
                  <a:chOff x="-12192120" y="4800600"/>
                  <a:chExt cx="4037040" cy="1523880"/>
                </a:xfrm>
              </p:grpSpPr>
              <p:pic>
                <p:nvPicPr>
                  <p:cNvPr id="6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-12192120" y="4800600"/>
                    <a:ext cx="19051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058400" y="4800600"/>
                    <a:ext cx="1903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65" name=""/>
              <p:cNvGrpSpPr/>
              <p:nvPr/>
            </p:nvGrpSpPr>
            <p:grpSpPr>
              <a:xfrm>
                <a:off x="-8077320" y="4800240"/>
                <a:ext cx="12723840" cy="1553760"/>
                <a:chOff x="-8077320" y="4800240"/>
                <a:chExt cx="12723840" cy="155376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8077320" y="4800240"/>
                  <a:ext cx="2057400" cy="152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-5791320" y="4800240"/>
                  <a:ext cx="1903320" cy="152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-3657600" y="4800240"/>
                  <a:ext cx="1903320" cy="152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-1524240" y="4800240"/>
                  <a:ext cx="1903680" cy="1523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09480" y="4800240"/>
                  <a:ext cx="1903320" cy="1553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743200" y="4800240"/>
                  <a:ext cx="1903320" cy="1553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72" name=""/>
            <p:cNvGrpSpPr/>
            <p:nvPr/>
          </p:nvGrpSpPr>
          <p:grpSpPr>
            <a:xfrm>
              <a:off x="4724280" y="4572000"/>
              <a:ext cx="17068320" cy="1981080"/>
              <a:chOff x="4724280" y="4572000"/>
              <a:chExt cx="17068320" cy="19810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4724280" y="4572000"/>
                <a:ext cx="17068320" cy="1981080"/>
                <a:chOff x="4724280" y="4572000"/>
                <a:chExt cx="17068320" cy="1981080"/>
              </a:xfrm>
            </p:grpSpPr>
            <p:grpSp>
              <p:nvGrpSpPr>
                <p:cNvPr id="74" name=""/>
                <p:cNvGrpSpPr/>
                <p:nvPr/>
              </p:nvGrpSpPr>
              <p:grpSpPr>
                <a:xfrm>
                  <a:off x="4724280" y="4572000"/>
                  <a:ext cx="17068320" cy="1981080"/>
                  <a:chOff x="4724280" y="4572000"/>
                  <a:chExt cx="17068320" cy="1981080"/>
                </a:xfrm>
              </p:grpSpPr>
              <p:grpSp>
                <p:nvGrpSpPr>
                  <p:cNvPr id="75" name=""/>
                  <p:cNvGrpSpPr/>
                  <p:nvPr/>
                </p:nvGrpSpPr>
                <p:grpSpPr>
                  <a:xfrm>
                    <a:off x="13258440" y="4572000"/>
                    <a:ext cx="8534160" cy="1981080"/>
                    <a:chOff x="13258440" y="4572000"/>
                    <a:chExt cx="8534160" cy="1981080"/>
                  </a:xfrm>
                </p:grpSpPr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13258440" y="6553080"/>
                      <a:ext cx="8534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19811520" y="480060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>
                      <a:off x="17677800" y="480060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15544440" y="4800600"/>
                      <a:ext cx="190476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13410720" y="480060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13258440" y="4572000"/>
                      <a:ext cx="8534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" name=""/>
                  <p:cNvGrpSpPr/>
                  <p:nvPr/>
                </p:nvGrpSpPr>
                <p:grpSpPr>
                  <a:xfrm>
                    <a:off x="4724280" y="4572000"/>
                    <a:ext cx="8534160" cy="1981080"/>
                    <a:chOff x="4724280" y="4572000"/>
                    <a:chExt cx="8534160" cy="198108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4876560" y="480060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7010280" y="4800600"/>
                      <a:ext cx="190476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9143640" y="480060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11277360" y="480060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4724280" y="6553080"/>
                      <a:ext cx="8534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4724280" y="4572000"/>
                      <a:ext cx="8534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4876560" y="4800600"/>
                  <a:ext cx="4037040" cy="1523880"/>
                  <a:chOff x="4876560" y="4800600"/>
                  <a:chExt cx="4037040" cy="1523880"/>
                </a:xfrm>
              </p:grpSpPr>
              <p:pic>
                <p:nvPicPr>
                  <p:cNvPr id="9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876560" y="4800600"/>
                    <a:ext cx="19051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4800600"/>
                    <a:ext cx="1903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92" name=""/>
              <p:cNvGrpSpPr/>
              <p:nvPr/>
            </p:nvGrpSpPr>
            <p:grpSpPr>
              <a:xfrm>
                <a:off x="8991360" y="4800240"/>
                <a:ext cx="12723840" cy="1553760"/>
                <a:chOff x="8991360" y="4800240"/>
                <a:chExt cx="12723840" cy="155376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991360" y="4800240"/>
                  <a:ext cx="2057400" cy="152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1277360" y="4800240"/>
                  <a:ext cx="1903320" cy="152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13411080" y="4800240"/>
                  <a:ext cx="1903320" cy="152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15544440" y="4800240"/>
                  <a:ext cx="1903680" cy="1523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7678160" y="4800240"/>
                  <a:ext cx="1903320" cy="1553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9811880" y="4800240"/>
                  <a:ext cx="1903320" cy="1553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9" name=""/>
          <p:cNvGrpSpPr/>
          <p:nvPr/>
        </p:nvGrpSpPr>
        <p:grpSpPr>
          <a:xfrm>
            <a:off x="-17068680" y="1447920"/>
            <a:ext cx="34137000" cy="1981080"/>
            <a:chOff x="-17068680" y="1447920"/>
            <a:chExt cx="34137000" cy="1981080"/>
          </a:xfrm>
        </p:grpSpPr>
        <p:grpSp>
          <p:nvGrpSpPr>
            <p:cNvPr id="100" name=""/>
            <p:cNvGrpSpPr/>
            <p:nvPr/>
          </p:nvGrpSpPr>
          <p:grpSpPr>
            <a:xfrm>
              <a:off x="-17068680" y="1447920"/>
              <a:ext cx="17068320" cy="1981080"/>
              <a:chOff x="-17068680" y="1447920"/>
              <a:chExt cx="17068320" cy="19810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-17068680" y="1447920"/>
                <a:ext cx="17068320" cy="1981080"/>
                <a:chOff x="-17068680" y="1447920"/>
                <a:chExt cx="17068320" cy="19810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-17068680" y="1447920"/>
                  <a:ext cx="17068320" cy="1981080"/>
                  <a:chOff x="-17068680" y="1447920"/>
                  <a:chExt cx="17068320" cy="19810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-8534520" y="1447920"/>
                    <a:ext cx="8534160" cy="1981080"/>
                    <a:chOff x="-8534520" y="1447920"/>
                    <a:chExt cx="8534160" cy="19810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-8534520" y="3429000"/>
                      <a:ext cx="8534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-1981440" y="167652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-4115160" y="167652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-6248520" y="1676520"/>
                      <a:ext cx="190476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-8382240" y="167652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-8534520" y="1447920"/>
                      <a:ext cx="8534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-17068680" y="1447920"/>
                    <a:ext cx="8533800" cy="1981080"/>
                    <a:chOff x="-17068680" y="1447920"/>
                    <a:chExt cx="8533800" cy="198108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-16916400" y="1676520"/>
                      <a:ext cx="190476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-14782680" y="1676520"/>
                      <a:ext cx="190440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-12649320" y="1676520"/>
                      <a:ext cx="190476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-10515600" y="1676520"/>
                      <a:ext cx="190476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-17068680" y="3429000"/>
                      <a:ext cx="853380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-17068680" y="1447920"/>
                      <a:ext cx="853380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-16916400" y="1676520"/>
                  <a:ext cx="4036680" cy="1523880"/>
                  <a:chOff x="-16916400" y="1676520"/>
                  <a:chExt cx="4036680" cy="1523880"/>
                </a:xfrm>
              </p:grpSpPr>
              <p:pic>
                <p:nvPicPr>
                  <p:cNvPr id="11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-16916400" y="1676520"/>
                    <a:ext cx="19047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-14782680" y="1676520"/>
                    <a:ext cx="190296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-12801600" y="1676160"/>
                <a:ext cx="12723480" cy="1553760"/>
                <a:chOff x="-12801600" y="1676160"/>
                <a:chExt cx="12723480" cy="155376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-12801600" y="1676160"/>
                  <a:ext cx="2057040" cy="152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-10515600" y="1676160"/>
                  <a:ext cx="1902960" cy="152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-8381880" y="1676160"/>
                  <a:ext cx="1902960" cy="152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-6248520" y="1676160"/>
                  <a:ext cx="1903320" cy="1523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-4114800" y="1676160"/>
                  <a:ext cx="1902960" cy="1553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1981080" y="1676160"/>
                  <a:ext cx="1902960" cy="1553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27" name=""/>
            <p:cNvGrpSpPr/>
            <p:nvPr/>
          </p:nvGrpSpPr>
          <p:grpSpPr>
            <a:xfrm>
              <a:off x="0" y="1447920"/>
              <a:ext cx="17068320" cy="1981080"/>
              <a:chOff x="0" y="1447920"/>
              <a:chExt cx="17068320" cy="198108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0" y="1447920"/>
                <a:ext cx="17068320" cy="1981080"/>
                <a:chOff x="0" y="1447920"/>
                <a:chExt cx="17068320" cy="198108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0" y="1447920"/>
                  <a:ext cx="17068320" cy="1981080"/>
                  <a:chOff x="0" y="1447920"/>
                  <a:chExt cx="17068320" cy="1981080"/>
                </a:xfrm>
              </p:grpSpPr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8534160" y="1447920"/>
                    <a:ext cx="8534160" cy="1981080"/>
                    <a:chOff x="8534160" y="1447920"/>
                    <a:chExt cx="8534160" cy="198108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8534160" y="3429000"/>
                      <a:ext cx="8534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15087240" y="167652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2953520" y="167652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0820160" y="1676520"/>
                      <a:ext cx="190476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8686440" y="167652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34160" y="1447920"/>
                      <a:ext cx="8534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0" y="1447920"/>
                    <a:ext cx="8534160" cy="1981080"/>
                    <a:chOff x="0" y="1447920"/>
                    <a:chExt cx="8534160" cy="198108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52280" y="167652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286000" y="1676520"/>
                      <a:ext cx="190476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4419360" y="167652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553080" y="1676520"/>
                      <a:ext cx="1905120" cy="15238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0" y="3429000"/>
                      <a:ext cx="8534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0" y="1447920"/>
                      <a:ext cx="8534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152280" y="1676520"/>
                  <a:ext cx="4037040" cy="1523880"/>
                  <a:chOff x="152280" y="1676520"/>
                  <a:chExt cx="4037040" cy="1523880"/>
                </a:xfrm>
              </p:grpSpPr>
              <p:pic>
                <p:nvPicPr>
                  <p:cNvPr id="145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52280" y="1676520"/>
                    <a:ext cx="19051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286000" y="1676520"/>
                    <a:ext cx="1903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47" name=""/>
              <p:cNvGrpSpPr/>
              <p:nvPr/>
            </p:nvGrpSpPr>
            <p:grpSpPr>
              <a:xfrm>
                <a:off x="4267080" y="1676160"/>
                <a:ext cx="12723840" cy="1553760"/>
                <a:chOff x="4267080" y="1676160"/>
                <a:chExt cx="12723840" cy="1553760"/>
              </a:xfrm>
            </p:grpSpPr>
            <p:pic>
              <p:nvPicPr>
                <p:cNvPr id="14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4267080" y="1676160"/>
                  <a:ext cx="2057400" cy="152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553080" y="1676160"/>
                  <a:ext cx="1903320" cy="152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8686800" y="1676160"/>
                  <a:ext cx="1903320" cy="152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10820160" y="1676160"/>
                  <a:ext cx="1903680" cy="1523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2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2953880" y="1676160"/>
                  <a:ext cx="1903320" cy="1553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15087600" y="1676160"/>
                  <a:ext cx="1903320" cy="1553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54" name=""/>
          <p:cNvSpPr/>
          <p:nvPr/>
        </p:nvSpPr>
        <p:spPr>
          <a:xfrm>
            <a:off x="2438280" y="380880"/>
            <a:ext cx="449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Disney Worl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38098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6576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3657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01000" y="380988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3657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3886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38098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3581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4166 0.01111 L 0.25 4.44444E-006 E">
                                      <p:cBhvr>
                                        <p:cTn id="30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5052 4.44444E-006 L -0.23281 4.44444E-006 E">
                                      <p:cBhvr>
                                        <p:cTn id="32" dur="5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74 -0.04051 C 0.04166 -0.04884 0.11892 -0.13264 0.10573 -0.15301 C 0.09253 -0.17338 -0.04167 -0.14004 -0.05625 -0.16226 C -0.07084 -0.18449 0.02031 -0.2493 0.01771 -0.28634 C 0.01527 -0.32338 -0.05556 -0.35301 -0.07188 -0.38518 C -0.0882 -0.41736 -0.07431 -0.45601 -0.08039 -0.47939 C -0.08646 -0.50277 -0.1132 -0.52268 -0.10799 -0.52546 C -0.10278 -0.52824 -0.0566 -0.51088 -0.04948 -0.4956 C -0.04236 -0.48032 -0.07032 -0.44884 -0.06493 -0.43356 C -0.05955 -0.41828 -0.02778 -0.41666 -0.01667 -0.4037 C -0.00556 -0.39074 -0.01146 -0.38101 0.00225 -0.35532 C 0.01597 -0.32963 0.0592 -0.27592 0.06614 -0.24953 C 0.07309 -0.22314 0.05555 -0.22129 0.04375 -0.19676 C 0.03177 -0.17222 -0.00417 -0.12777 -0.00625 -0.10254 C -0.00834 -0.07731 0.00416 -0.03217 0.02274 -0.04051 Z">
                                      <p:cBhvr>
                                        <p:cTn id="67" dur="5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979 -0.00879 -0.03958 -0.01736 -0.03784 -0.03912 C -0.03611 -0.06088 0.01077 -0.10601 0.01042 -0.13101 C 0.01007 -0.15601 -0.03732 -0.16574 -0.03958 -0.18865 C -0.04184 -0.21157 -0.0026 -0.24444 -0.00347 -0.26898 C -0.00434 -0.29351 -0.04774 -0.31643 -0.04479 -0.33564 C -0.04184 -0.35486 0.01268 -0.36643 0.01389 -0.38402 C 0.01511 -0.40162 -0.03819 -0.42662 -0.03784 -0.44143 C -0.0375 -0.45625 0.01927 -0.45879 0.01563 -0.47361 C 0.01198 -0.48842 -0.06458 -0.51273 -0.06024 -0.53101 C -0.0559 -0.5493 0.03802 -0.57476 0.0415 -0.58402 C 0.04497 -0.59328 -0.03732 -0.59791 -0.03958 -0.58634 C -0.04184 -0.57476 0.02882 -0.54444 0.02761 -0.51504 C 0.02639 -0.48564 -0.04427 -0.43726 -0.04652 -0.40925 C -0.04878 -0.38125 0.01129 -0.37546 0.01389 -0.34722 C 0.0165 -0.31898 -0.03246 -0.26828 -0.03107 -0.23912 C -0.02968 -0.20995 0.02188 -0.1993 0.0224 -0.17245 C 0.02292 -0.1456 -0.02621 -0.10648 -0.0276 -0.07824 C -0.02899 -0.05 0.01268 -0.01458 0.01389 -0.00231 C 0.01511 0.00996 -0.01458 -0.00185 -0.02066 -0.00463 L -0.02239 -0.01851 L 0 0 Z">
                                      <p:cBhvr>
                                        <p:cTn id="69" dur="5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711 -0.0007 -0.03524 -0.05533 -0.02743 -0.07801 C -0.01961 -0.1007 0.04757 -0.11042 0.0467 -0.13542 C 0.04584 -0.16042 -0.02882 -0.19607 -0.03264 -0.22755 C -0.03645 -0.25926 0.025 -0.29236 0.02414 -0.32639 C 0.02327 -0.36042 -0.0427 -0.40718 -0.03784 -0.43218 C -0.03298 -0.45741 0.04653 -0.45672 0.05348 -0.47801 C 0.06042 -0.49931 -0.01145 -0.53982 0.00348 -0.56088 C 0.01841 -0.58195 0.13664 -0.60926 0.14323 -0.6044 C 0.14983 -0.59954 0.0533 -0.56482 0.04323 -0.53102 C 0.03316 -0.49723 0.08507 -0.42732 0.08282 -0.40209 C 0.08056 -0.37686 0.03542 -0.4007 0.02934 -0.3794 C 0.02327 -0.35764 0.05191 -0.29954 0.0467 -0.27338 C 0.0415 -0.24723 -0.00451 -0.24561 -0.00173 -0.22292 C 0.00105 -0.20047 0.06094 -0.16274 0.06389 -0.13774 C 0.06684 -0.11274 0.02709 -0.09723 0.01563 -0.07338 C 0.00417 -0.04954 0.00712 0.00069 0 0 Z">
                                      <p:cBhvr>
                                        <p:cTn id="71" dur="5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24 -0.1125 L 0.10851 -0.1676 L 0.03785 -0.42061 L 0.17413 -0.54468 L 0.14653 -0.62061 L 0.23958 -0.42755 L 0.08958 -0.34699 L 0.13611 -0.14699 L 0.04826 -0.06204 L 0.00521 0.02777 L 0.00694 0.01157 L 0 0 Z">
                                      <p:cBhvr>
                                        <p:cTn id="73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38 -0.01481 -0.02656 -0.08171 -0.01198 -0.11041 C 0.0026 -0.13912 0.08055 -0.13981 0.08802 -0.17245 C 0.09548 -0.20509 0.02448 -0.26481 0.03281 -0.30578 C 0.04114 -0.34676 0.12482 -0.3824 0.13802 -0.41852 C 0.15121 -0.45463 0.09896 -0.49629 0.11215 -0.52199 C 0.12534 -0.54768 0.22291 -0.58009 0.21736 -0.57245 C 0.2118 -0.56481 0.09062 -0.52453 0.07934 -0.47592 C 0.06805 -0.42731 0.16111 -0.3368 0.15 -0.28055 C 0.13889 -0.2243 0.03368 -0.18125 0.01215 -0.13796 C -0.00938 -0.09467 0.02344 -0.04259 0.02066 -0.02083 C 0.01788 0.00093 0.00538 0.01482 0 0 Z">
                                      <p:cBhvr>
                                        <p:cTn id="75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659 -0.0037 -0.05486 -0.05347 -0.04826 -0.08287 C -0.04166 -0.11227 0.03768 -0.14652 0.03976 -0.17708 C 0.04184 -0.20764 -0.04479 -0.23171 -0.03611 -0.26666 C -0.02743 -0.30162 0.08403 -0.34953 0.0915 -0.38634 C 0.09896 -0.42315 0.00087 -0.46065 0.00868 -0.4875 C 0.0165 -0.51435 0.10469 -0.53194 0.13802 -0.54722 C 0.17136 -0.5625 0.22344 -0.59583 0.20868 -0.5794 C 0.19393 -0.56296 0.06181 -0.4824 0.05 -0.44838 C 0.0382 -0.41435 0.14167 -0.40069 0.13802 -0.37477 C 0.13438 -0.34884 0.03455 -0.33472 0.02761 -0.29213 C 0.02066 -0.24953 0.10261 -0.15833 0.09653 -0.11967 C 0.09046 -0.08102 0.00764 -0.08032 -0.0085 -0.05995 C -0.02465 -0.03958 0.0066 0.00371 0 0 Z">
                                      <p:cBhvr>
                                        <p:cTn id="77" dur="5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13 -0.00764 0.05087 -0.03148 0.04306 -0.0574 C 0.03525 -0.08333 -0.05 -0.12338 -0.04653 -0.15625 C -0.04305 -0.18912 0.0592 -0.21805 0.06372 -0.25532 C 0.06823 -0.29259 -0.02604 -0.34768 -0.01892 -0.37939 C -0.0118 -0.41111 0.09584 -0.42129 0.10695 -0.44606 C 0.11806 -0.47083 0.03993 -0.50926 0.04827 -0.5287 C 0.0566 -0.54814 0.16719 -0.57893 0.15695 -0.56319 C 0.1467 -0.54745 0.000699999999999999 -0.46828 -0.01371 -0.43449 C -0.02812 -0.40069 0.07188 -0.39652 0.07066 -0.36088 C 0.06945 -0.32523 -0.01788 -0.25833 -0.02066 -0.22083 C -0.02344 -0.18333 0.05087 -0.16736 0.05347 -0.13564 C 0.05608 -0.10416 0.00174 -0.05347 -0.00521 -0.03217 C -0.01215 -0.01088 0.00729 -0.01041 0.01215 -0.00694 C 0.01702 -0.00347 0.02726 -0.01273 0.02413 -0.01157 C 0.02101 -0.01041 -0.00312 0.00764 0 0 Z">
                                      <p:cBhvr>
                                        <p:cTn id="79" dur="5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806 -0.00717 -0.07274 -0.04375 -0.06389 -0.06203 C -0.05504 -0.08032 0.04323 -0.08055 0.0533 -0.11064 C 0.06337 -0.14027 0.00052 -0.20439 -0.00347 -0.24143 C -0.00747 -0.27847 0.03437 -0.30764 0.02917 -0.33333 C 0.02396 -0.35902 -0.03542 -0.3699 -0.03455 -0.39537 C -0.03368 -0.42106 0.02083 -0.45717 0.03437 -0.4875 C 0.04792 -0.51782 0.04305 -0.57014 0.04653 -0.57708 C 0.05 -0.58402 0.06076 -0.55972 0.05503 -0.5287 C 0.0493 -0.49768 0.01597 -0.43426 0.01198 -0.39097 C 0.00798 -0.34791 0.03368 -0.30926 0.0309 -0.26898 C 0.02812 -0.2287 -0.00747 -0.1912 -0.00521 -0.14953 C -0.00295 -0.10787 0.04514 -0.04352 0.04479 -0.01852 C 0.04444 0.00648 0.01805 0.00718 0 0 Z">
                                      <p:cBhvr>
                                        <p:cTn id="81" dur="5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4648320" cy="3571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19320" y="30492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 you met Mickey Mouse or Minnie Mouse?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f you ha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you’ve probably been to Disneyland or Disney Worl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4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indefinite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5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495680" y="24382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kyo Disney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990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fornia Disney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03848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g Kong Disney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29200" y="3276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neyland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17524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Orlando Disney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6592680" y="-1717200"/>
            <a:ext cx="6069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ney  World in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2438280"/>
            <a:ext cx="3962520" cy="3657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72000" y="4952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奥兰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Orland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位于美国佛罗里达州中部，是世界上最好的休闲城市之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4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4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52480" y="243828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g Kong Disneyland is a close *replica of the original Disneyland theme park in California, but with a distinctly Chinese flavor in order to attract millions of tourists from Ch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6094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ifornia Disneyland is founded in 1955 .It was the first time to establish a Disney theme park in America. It is an area of about 512 acres and has more than  50 years of histo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80060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ccccff"/>
                </a:solidFill>
                <a:uFillTx/>
                <a:latin typeface="Arial"/>
              </a:rPr>
              <a:t>A good news for us</a:t>
            </a:r>
            <a:r>
              <a:rPr b="0" lang="zh-CN" sz="2800" spc="-1" strike="noStrike">
                <a:solidFill>
                  <a:srgbClr val="ccccff"/>
                </a:solidFill>
                <a:latin typeface="Arial"/>
              </a:rPr>
              <a:t>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anghai Disneyland Park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will open in around 20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so we will be able to enjoy  the fantastic travel in shanghai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514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*replic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复制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6477120" cy="4675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6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5335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ney World,Florida,is the  biggest amusement resort in the world. It covers 24.4 thousand acres. It was opened on October 1,1971,five years after Walt Disney’s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2352600"/>
            <a:ext cx="5410080" cy="4505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562720" y="4038480"/>
            <a:ext cx="3352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There is very little that could be called *vulgar 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*vulgar</a:t>
            </a:r>
            <a:r>
              <a:rPr b="0" lang="zh-CN" sz="1800" spc="-1" strike="noStrike">
                <a:solidFill>
                  <a:srgbClr val="ffff66"/>
                </a:solidFill>
                <a:latin typeface="Arial"/>
              </a:rPr>
              <a:t>粗俗的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It attracts people of most ta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NEY 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143000"/>
            <a:ext cx="830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lando Disney World h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ent theme parks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agic Kingd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e first. It has many rides and attractions. The spires of Cinderella’s castle soar above the Magic Kingdom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 rot="696000">
            <a:off x="5028840" y="2057040"/>
            <a:ext cx="3505320" cy="5181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14400" y="57913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nderella’s ca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47246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500"/>
                            </p:stCondLst>
                            <p:childTnLst>
                              <p:par>
                                <p:cTn id="2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0880" y="5335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You  might enjoy 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Epcot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Experimental Prototype Community Of Tomorrow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主题乐园，坐落于美国佛州华特迪士尼世界度假区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)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, a Disney World theme park that features countries and cultures of the world. It also has some science exhib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962520" y="3429000"/>
            <a:ext cx="2057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EPCO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7200" y="2362320"/>
            <a:ext cx="8381520" cy="3504960"/>
            <a:chOff x="457200" y="2362320"/>
            <a:chExt cx="8381520" cy="3504960"/>
          </a:xfrm>
        </p:grpSpPr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457200" y="2362320"/>
              <a:ext cx="4190760" cy="35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4800240" y="2362320"/>
              <a:ext cx="4038480" cy="3504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417 0.06106 L 0.32084 0.38298 E">
                                      <p:cBhvr>
                                        <p:cTn id="233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mph" presetID="3" presetSubtype="2" repeatCount="1000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80880" y="457200"/>
            <a:ext cx="426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t Epcot, you can “visit” such countries as   China, England, France, Morocco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摩洛哥 非洲国家名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, Japan, and Mex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3006720"/>
            <a:ext cx="4800600" cy="3851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800600" y="0"/>
            <a:ext cx="4343400" cy="3801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257800" y="3962520"/>
            <a:ext cx="35053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You can eat the foods of these countries or buy gifts made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0" y="3006720"/>
            <a:ext cx="4800600" cy="3851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4800600" y="0"/>
            <a:ext cx="4343400" cy="380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4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4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2:54:00Z</dcterms:created>
  <dc:creator>eve</dc:creator>
  <dc:description/>
  <dc:language>en-US</dc:language>
  <cp:lastModifiedBy>eve</cp:lastModifiedBy>
  <dcterms:modified xsi:type="dcterms:W3CDTF">2011-07-09T10:39:06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