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2DE-0AD8-4A43-8FFB-F78C502D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BEF-BFFF-4D8A-B889-62D31127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950-D18D-4973-83F4-0E362F19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7A3D-DFFF-476D-9981-FF8A4A7E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696-9156-46FE-BCDA-529198F2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919C-D465-4642-84A3-6730D196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0BF-2B4B-431F-BE2A-2653CFAF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C936-1D80-489F-9A86-5ACB8682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299-A517-44B1-BEBA-E3B26D1D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525-39E7-488D-9618-039B86BD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56E-83DB-49A5-84DD-CC6578F7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F8DF-7953-451C-9059-8AEEC022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9259-8755-4690-9475-D0A91C760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端午快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很想念不在我身边的你</a:t>
            </a:r>
            <a:r>
              <a:rPr b="0" lang="en-US" sz="3200" spc="-1" strike="noStrike">
                <a:solidFill>
                  <a:srgbClr val="ff00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95640" y="4365720"/>
            <a:ext cx="5184720" cy="1481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466560" y="2492280"/>
            <a:ext cx="986292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508428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闻着粽子的飘香，想起远方的你是否安好？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16360" y="4869000"/>
            <a:ext cx="4464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一颗心迁挂着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一份爱祝福着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57400" cy="3573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2987640" cy="3500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050560" y="4005000"/>
            <a:ext cx="6707160" cy="26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我托思恋给你带来了充满温馨的香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还带来了我亲手做的粽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思念是外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里面第一层是祝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第二层是幸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第三层是温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中心是充满爱你的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059280" y="1197000"/>
            <a:ext cx="3066840" cy="1308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9144000" cy="3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6350040" cy="4064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908000" y="4554000"/>
            <a:ext cx="5904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我知道，我不能陪在你的身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我知道，我能做的只有遥远的思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快乐吗？你幸福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我默默祝福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有分离就有相聚，分别得越久越是亲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我想告诉你，这个端午节我特别想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1341360"/>
            <a:ext cx="331308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真的好想念你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2695680" cy="2343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端    午    快    乐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5157720"/>
            <a:ext cx="7201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11:06:35Z</dcterms:created>
  <dc:creator>tt</dc:creator>
  <dc:description/>
  <dc:language>en-US</dc:language>
  <cp:lastModifiedBy>tt</cp:lastModifiedBy>
  <dcterms:modified xsi:type="dcterms:W3CDTF">2015-06-03T08:02:55Z</dcterms:modified>
  <cp:revision>5</cp:revision>
  <dc:subject/>
  <dc:title>端午快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87</vt:lpwstr>
  </property>
</Properties>
</file>