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B5A-8249-41DE-B7EB-0CDE5ECB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6E5-3BFF-4A0F-B527-A36839F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254-EC0F-422A-8AE8-1373C7D2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C36-53DB-41B7-A140-CA83FD7D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AB3-9307-4EAE-990F-484E1D1B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E57-3816-4C65-8CAA-AD2AE597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2F0-2914-4FAD-A055-96105A8A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381-48C6-4890-A631-C86277D9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A1E-3E21-48C8-970D-D4AEDC8B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D52-725F-401C-AB70-BDB494FB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E59-2570-4832-8E58-F335E0F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9DE-0D8F-44A3-9675-10339136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3E91-1EFD-4491-B82B-7F43D4475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765000"/>
            <a:ext cx="4681440" cy="26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8000"/>
                  </a:srgbClr>
                </a:solidFill>
                <a:latin typeface="宋体"/>
              </a:rPr>
              <a:t>开学啦！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68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5214960" y="642960"/>
            <a:ext cx="371484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3336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  <a:ea typeface="宋体"/>
              </a:rPr>
              <a:t>度过快乐的暑假，我们又回到美丽的 “大家庭”之中。东星小学二年级欢迎各位小朋友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63640" y="1557360"/>
            <a:ext cx="63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12536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03280" y="62064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相互认识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39640" y="189000"/>
            <a:ext cx="6985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新学期我们该怎么做？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-54000"/>
            <a:ext cx="7777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华文行楷"/>
              </a:rPr>
              <a:t>学具准备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双肩书包：尽量选择轻巧、大小合适的双肩书包（强调不要拉包，课桌里放不下，路队站不好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铅笔盒（软质笔袋）：简单、实用就好，样式不要太花哨，更不要带机关的，以免分散注意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铅笔：每天至少带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支尖铅笔，不要自动铅笔。（不要带削笔刀，每天在家把铅笔削尖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橡皮：选用白色的软的（强调不要那种花里胡哨的彩色硬橡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直尺一把，主要不要太长，要能放进笔袋里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所有文具上贴好名条（铅笔、笔帽、尺子、垫板等），以免丢失，（很多同学都不在乎丢失这种文具，有时一天能捡到一大堆，但找不到失主。）在准备以上用具时，要注意简单、实用，功能不要太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　　（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准备好包书的皮子。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-54000"/>
            <a:ext cx="777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一、课前准备书本、铅笔、练习本、橡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二、做好课前预习，读（课文）、提前课后生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三、遵守课堂纪律，上课不讲小话、不做小动作，珍惜课堂的每一分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四、按时认真完成作业，字迹工整，力争上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五、心怀感恩，尊师敬老；与人为善，助人为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风景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00000" y="907920"/>
            <a:ext cx="4586400" cy="278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游戏展示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blog.bandao.cn/UserFiles/UserPics/4183/200905/200905121932550043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476280"/>
            <a:ext cx="7704000" cy="57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猜字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口咬掉牛尾巴   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七人头上长棵草   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月一日非今天   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人一张口，口下长只手  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076720" y="1484280"/>
            <a:ext cx="7905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告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76720" y="2421000"/>
            <a:ext cx="8654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19640" y="3357720"/>
            <a:ext cx="647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明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732720" y="393372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拿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00000" y="1197000"/>
            <a:ext cx="7632720" cy="34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相信自己，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     </a:t>
            </a: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可以更优秀！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09:02:32Z</dcterms:created>
  <dc:creator>USIC USER</dc:creator>
  <dc:description/>
  <dc:language>en-US</dc:language>
  <cp:lastModifiedBy>Lenovo</cp:lastModifiedBy>
  <dcterms:modified xsi:type="dcterms:W3CDTF">2013-09-01T13:47:06Z</dcterms:modified>
  <cp:revision>87</cp:revision>
  <dc:subject/>
  <dc:title>无投影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