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4B5-6EAF-49C8-B4F3-A39FF85E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BD9-27E7-4BF0-9689-9EC682F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419-1058-412C-9472-DF6B92D4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D08-6CCF-4CB7-95FE-EBECEF23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7DA-312D-4726-AF2D-640970E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83B-9051-420C-8445-AF1A887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1F8-B57E-4197-98B2-DD000C0A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4A8-6735-4335-A571-1FABAAD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0F6-CDB3-4F25-BCC7-6BA5C7B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B46-C6F5-4BAF-AA06-E17FA097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4ED-7173-4423-B2E7-12875E7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252-8FB7-4B27-88A9-2127D5F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831-1865-4AFE-9246-D39AB37F58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4AA2-1D61-4DB3-8D20-F8D61CE165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89700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图片 13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3816360" cy="2762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4"/>
          <a:stretch/>
        </p:blipFill>
        <p:spPr>
          <a:xfrm>
            <a:off x="4319640" y="787320"/>
            <a:ext cx="4068720" cy="27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360云盘\02-个人资料\！PPT图片及版面资源\06-PPT精选插图\03-人物\xpic6942.jpg"/>
          <p:cNvPicPr/>
          <p:nvPr/>
        </p:nvPicPr>
        <p:blipFill>
          <a:blip r:embed="rId5"/>
          <a:stretch/>
        </p:blipFill>
        <p:spPr>
          <a:xfrm>
            <a:off x="709560" y="1206360"/>
            <a:ext cx="3460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:\360云盘\02-个人资料\！PPT图片及版面资源\06-PPT精选插图\03-人物\Fotolia_28236516_Subscription_XXL.jpg"/>
          <p:cNvPicPr/>
          <p:nvPr/>
        </p:nvPicPr>
        <p:blipFill>
          <a:blip r:embed="rId2"/>
          <a:stretch/>
        </p:blipFill>
        <p:spPr>
          <a:xfrm>
            <a:off x="4643280" y="9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360云盘\02-个人资料\！PPT图片及版面资源\06-PPT精选插图\03-人物\xpic7485.jpg"/>
          <p:cNvPicPr/>
          <p:nvPr/>
        </p:nvPicPr>
        <p:blipFill>
          <a:blip r:embed="rId3"/>
          <a:stretch/>
        </p:blipFill>
        <p:spPr>
          <a:xfrm>
            <a:off x="682560" y="3076560"/>
            <a:ext cx="5194440" cy="346248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4"/>
          <p:cNvGrpSpPr/>
          <p:nvPr/>
        </p:nvGrpSpPr>
        <p:grpSpPr>
          <a:xfrm>
            <a:off x="1763640" y="1030320"/>
            <a:ext cx="2532240" cy="1879560"/>
            <a:chOff x="1763640" y="1030320"/>
            <a:chExt cx="2532240" cy="1879560"/>
          </a:xfrm>
        </p:grpSpPr>
        <p:pic>
          <p:nvPicPr>
            <p:cNvPr id="56" name="Picture 3" descr="F:\360云盘\02-个人资料\！PPT图片及版面资源\06-PPT精选插图\02-商务\mf821-02223878.jpg"/>
            <p:cNvPicPr/>
            <p:nvPr/>
          </p:nvPicPr>
          <p:blipFill>
            <a:blip r:embed="rId4"/>
            <a:stretch/>
          </p:blipFill>
          <p:spPr>
            <a:xfrm>
              <a:off x="176364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F:\360云盘\02-个人资料\！PPT图片及版面资源\06-PPT精选插图\03-人物\mf821-02166789.jpg"/>
            <p:cNvPicPr/>
            <p:nvPr/>
          </p:nvPicPr>
          <p:blipFill>
            <a:blip r:embed="rId5"/>
            <a:stretch/>
          </p:blipFill>
          <p:spPr>
            <a:xfrm>
              <a:off x="304272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图片 47" descr=""/>
          <p:cNvPicPr/>
          <p:nvPr/>
        </p:nvPicPr>
        <p:blipFill>
          <a:blip r:embed="rId6"/>
          <a:srcRect l="0" t="189" r="0" b="189"/>
          <a:stretch/>
        </p:blipFill>
        <p:spPr>
          <a:xfrm>
            <a:off x="6083280" y="3076560"/>
            <a:ext cx="23050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3:25:36Z</dcterms:modified>
  <cp:revision>1096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