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6E1-FE0A-4BD6-9A9D-08DC93C9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7880-1C66-400B-99F3-C76251E6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BDCD-79A9-41A0-8BED-76FE6B95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122F-0C2B-433A-A38D-4A229933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5AA3-DC18-48CA-BFD3-C4CF2F04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669C-A0A6-4FD7-A875-DCC76AF0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3076-1F27-46A7-AC4A-ED719603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B1AB-5A08-4E15-9145-84339BCE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01C5-154C-4A5B-A33A-D438C8A6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D810-4F59-4AEA-A83D-534DDF14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E98D-D953-40C4-8D21-7CC53741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D18-2E1D-48BB-8D75-383D4D25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0269-040D-4586-9E4E-D69FAC0E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08E5-AA32-4370-B90A-D72581E4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63CC-39C3-4D73-9EA7-187EAAB1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7BFD-2135-47EB-AD14-2E742F69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901E-EDBD-45D3-9108-9F8549F3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54359-31A6-48C0-A793-0F2ED171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D766F-598A-4B5D-A4C3-A9BD3BF1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0C5FB-7D66-40DB-87BC-7D7039F7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2F087-F29B-4BA9-995E-9693314B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F4FFE-FD5F-4192-99C7-B59A804F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87FE-594D-4EA1-80DF-D63E61C0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1742A-B59A-4C6C-8DE7-1DCA628C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8B85-A913-450A-AD4E-8CA2D102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DE98-F45A-4DD5-9084-9D79CEDB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E6181-59A4-4B94-AC13-935B1D20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CCC26-664F-4D95-A3ED-AEB49D41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A889A-D2D1-43DE-8F23-7C47A9F1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C39BF-AD69-4AC8-8BD2-0D9278ED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0716-9F49-44BD-9166-20395B71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5391-1F65-4646-B736-B3194B86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4E44-B9ED-4339-AE2A-40F1370F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520-83E8-44CF-BF8C-724D0612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DF3C-C548-4EF4-B377-C7367179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E89-A019-46F1-AD7A-805FCC54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D164-51C1-4ED7-A50E-913A732B0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8370-B743-4463-9C33-050D38423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7895-621C-4B63-9BF6-682847A2A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>
            <a:lum bright="12000"/>
          </a:blip>
          <a:srcRect l="0" t="0" r="-46" b="30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D:\&#35270;&#39057;\&#27801;&#30011;&#12298;&#29238;&#20146;&#12299;&#65292;&#31607;&#23376;&#20804;&#24351;&#65292;&#24863;&#20154;&#65281;.f4v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348000" y="620640"/>
            <a:ext cx="5689800" cy="5516640"/>
          </a:xfrm>
          <a:prstGeom prst="bevel">
            <a:avLst>
              <a:gd name="adj" fmla="val 5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348000" y="1052640"/>
            <a:ext cx="53294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仿宋_GB2312"/>
              </a:rPr>
              <a:t>      </a:t>
            </a:r>
            <a:r>
              <a:rPr b="0" lang="zh-CN" sz="2400" spc="-1" strike="noStrike">
                <a:solidFill>
                  <a:srgbClr val="663300"/>
                </a:solidFill>
                <a:latin typeface="仿宋_GB2312"/>
              </a:rPr>
              <a:t>世界上有这么一个男人，小时候你怕他的威严，长大了你学他沉稳，他的爱很深沉但不求回报；你跟他耍赖不讲理，你瞎胡闹，你闯祸回家，他批评训斥你，但他对你的爱却从不改变；你只一句话，他就成为你的超人兼跑腿兼保镖兼顾问……神马男人都是浮云，全球最靠谱的男人就是他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仿宋_GB2312"/>
              </a:rPr>
              <a:t>     </a:t>
            </a:r>
            <a:r>
              <a:rPr b="0" lang="zh-CN" sz="3600" spc="-1" strike="noStrike">
                <a:solidFill>
                  <a:srgbClr val="663300"/>
                </a:solidFill>
                <a:latin typeface="仿宋_GB2312"/>
              </a:rPr>
              <a:t>——</a:t>
            </a:r>
            <a:r>
              <a:rPr b="0" lang="zh-CN" sz="3600" spc="-1" strike="noStrike">
                <a:solidFill>
                  <a:srgbClr val="663300"/>
                </a:solidFill>
                <a:latin typeface="仿宋_GB2312"/>
              </a:rPr>
              <a:t>这个人就是老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6360" y="260280"/>
            <a:ext cx="31672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31680" y="1263600"/>
            <a:ext cx="9175680" cy="5694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042920" y="1413000"/>
            <a:ext cx="5545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生病打针，我哭，爸爸默默地陪着我。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40" y="981000"/>
            <a:ext cx="9180720" cy="5877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3851280" y="1341360"/>
            <a:ext cx="432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最喜欢和爸爸一起运动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-96" b="0"/>
          <a:stretch/>
        </p:blipFill>
        <p:spPr>
          <a:xfrm>
            <a:off x="0" y="1390680"/>
            <a:ext cx="4500720" cy="5467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0" t="0" r="33" b="-56"/>
          <a:stretch/>
        </p:blipFill>
        <p:spPr>
          <a:xfrm>
            <a:off x="4494240" y="1413000"/>
            <a:ext cx="4649760" cy="5445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5435640" y="1557360"/>
            <a:ext cx="345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喜欢和爸爸看海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6520" t="0" r="0" b="0"/>
          <a:stretch/>
        </p:blipFill>
        <p:spPr>
          <a:xfrm>
            <a:off x="36360" y="1268280"/>
            <a:ext cx="4650120" cy="55897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45080" y="1268280"/>
            <a:ext cx="4392720" cy="5589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042920" y="1484280"/>
            <a:ext cx="34578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爸爸的肩膀象山一样……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57440" y="274320"/>
            <a:ext cx="65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觉得父母的爱有条件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77128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有没有设想过，如果你出生就已是有残疾，你的人生会是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但是，无论你是如何，父母都不曾放弃过你，父母都会竭尽自己所能去让你过得更快乐！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</a:rPr>
              <a:t>我们一起来分享一个父亲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56000" y="439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有嫌弃过你的父母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56000" y="980640"/>
            <a:ext cx="6408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是否因为觉得父母无法理解你，总是很唠叨而与他们争吵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是否因为父母给你的物质生活条件不够优越，能够给你创造更好的条件而埋怨过他们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是否因为父母忙于工作，无法到学校为你送汤或是周末不能在家陪伴你而指责过他们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但是，无论你是如何不满与嫌弃，父母依旧是如此爱你——一个哑巴父亲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381780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第一次进幼儿园时拉着他的手不放、第一次学起单车时害怕他放手、第一次偷偷模仿他的笔迹在试卷上签字、第一次因为他对打来电话的男生呵斥而跟他吵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    ……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曾经的那个“甜蜜的负担”已经长大，大手拉小手的场景还犹然记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400" y="1343160"/>
            <a:ext cx="4775040" cy="5472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789440" y="1343160"/>
            <a:ext cx="4248360" cy="54007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们长大了，爸爸老了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0" t="0" r="0" b="-26"/>
          <a:stretch/>
        </p:blipFill>
        <p:spPr>
          <a:xfrm>
            <a:off x="0" y="1463760"/>
            <a:ext cx="9144000" cy="53942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4465800" cy="2376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6600ff"/>
                </a:solidFill>
                <a:latin typeface="Arial"/>
              </a:rPr>
              <a:t>我们所有的心事，往往都会告诉母亲，却常常止于父亲。我们默默感受父亲的温度，心怀感恩却欲言又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770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微软雅黑"/>
              </a:rPr>
              <a:t>爱要及时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7848360" cy="4969080"/>
          </a:xfrm>
          <a:prstGeom prst="rect">
            <a:avLst/>
          </a:prstGeom>
          <a:solidFill>
            <a:srgbClr val="ffffcc"/>
          </a:solidFill>
          <a:ln w="9360">
            <a:solidFill>
              <a:srgbClr val="66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仿宋_GB2312"/>
              </a:rPr>
              <a:t>算一算你和父母在一起的时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父母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生下你，在你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1-18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，你和父母几乎天天见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-2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，在外地读书，每年回去见父母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1-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以后在外面打拼，半年才回一次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成家立业，父母已经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了，自己工作太忙，要陪孩子，要应酬客户，只有在节日才回家看看父母，一年大约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3-5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    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在父母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前，和你在一起的时间是非常有限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所以，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</a:rPr>
              <a:t>爱要及时，尽孝要及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【长大了要为父母做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件事 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定期带父母去做体检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父母的零花钱不能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帮父母完成年轻时未完成的梦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陪父母重游故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与父母一起拜访他们的朋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经常给父母拍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跟父亲做交心的沟通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带父母去旅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771640" y="733320"/>
            <a:ext cx="5472360" cy="4241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629080" y="733320"/>
            <a:ext cx="5832360" cy="4375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987640" y="5300640"/>
            <a:ext cx="51865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80"/>
                </a:solidFill>
                <a:latin typeface="方正姚体"/>
              </a:rPr>
              <a:t>父亲，就是永远爱你的、</a:t>
            </a:r>
            <a:endParaRPr b="1" lang="en-US" sz="1800" spc="-1" strike="noStrike">
              <a:ln w="0">
                <a:noFill/>
              </a:ln>
              <a:solidFill>
                <a:srgbClr val="000080"/>
              </a:solidFill>
              <a:latin typeface="方正姚体"/>
              <a:ea typeface="方正姚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80"/>
                </a:solidFill>
                <a:latin typeface="方正姚体"/>
              </a:rPr>
              <a:t>值得信赖的、值得尊敬的好人！</a:t>
            </a:r>
            <a:endParaRPr b="1" lang="en-US" sz="1800" spc="-1" strike="noStrike">
              <a:ln w="0">
                <a:noFill/>
              </a:ln>
              <a:solidFill>
                <a:srgbClr val="000080"/>
              </a:solidFill>
              <a:latin typeface="方正姚体"/>
              <a:ea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317520" y="0"/>
            <a:ext cx="9747360" cy="71532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87280" y="3715920"/>
            <a:ext cx="7560000" cy="273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今年的父亲节在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日，虽然已经过去，但作为子女的我们，应该要让父亲感觉每天都是过父亲节，让父母感受到我们的关心与爱！据说，选定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月过父亲节是因为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月的阳光是一年之中最炽热的，象征着父亲给予子女那火热的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60360" y="53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学会付出，学会承担责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84360" y="1197000"/>
            <a:ext cx="6408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爱父母不仅仅在于说，更在于落实到你的每个行动中，父母最希望看到你健康成长，学有所成，作为子女的你能否为了父母的心愿而不断努力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龄在不断增长，意味着肩上的责任也在不断增加，父母在一年年变老，我们也要逐渐成长为值得父母依靠的那座山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做父母非常不容易，要有经济基础，要有成熟的心智，而各位同学尚未具备这样的条件，所以，处于青春期的同学必须理智成熟地处理与异性的关系，因为这不仅仅是感情，更多的还有责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0" r="0" b="48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60280"/>
            <a:ext cx="9144000" cy="115272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47640" y="476280"/>
            <a:ext cx="626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方正姚体"/>
              </a:rPr>
              <a:t>父爱如山，感恩永远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方正姚体"/>
              <a:ea typeface="方正姚体"/>
            </a:endParaRPr>
          </a:p>
        </p:txBody>
      </p:sp>
      <p:sp>
        <p:nvSpPr>
          <p:cNvPr id="132" name=""/>
          <p:cNvSpPr txBox="1"/>
          <p:nvPr/>
        </p:nvSpPr>
        <p:spPr>
          <a:xfrm rot="540000">
            <a:off x="1187280" y="2155680"/>
            <a:ext cx="6963120" cy="30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99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你知道父亲节是如何来的吗？</a:t>
            </a:r>
            <a:endParaRPr b="1" lang="en-US" sz="1800" spc="-1" strike="noStrike">
              <a:ln w="9360">
                <a:solidFill>
                  <a:srgbClr val="99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103680" y="1080"/>
            <a:ext cx="9247320" cy="681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界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父亲节，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9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诞生在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国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90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华盛顿一位叫布鲁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德的夫人，在庆贺母亲节的时候突然产生了一个念头：既然有母亲节，为什么不能有个父亲节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德夫人和他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弟弟早年丧母，他们由慈爱的父亲一手抚养大的。许多年过去了，姐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每逢父亲的生辰忌日，总会回想起父亲含辛茹苦养家的情景。在拉斯马斯博士的支持下，她提笔给州政府写了一封言辞恳切的信，呼吁建立父亲节，并建议将节日定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她父亲生日这天。州政府采纳了她的建议，仓促间将父亲节定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，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90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星期日。翌年，多德夫人所在的斯坡堪市正式庆祝这一节日，市长宣布了父亲节的文告，定这天为全州纪念日。以后，其他州也庆贺父亲节。在父亲节这天，人们选择特定的鲜花来表示对父亲的敬意。人们采纳了多德夫人伯建议，佩戴红玫瑰向健在的父亲们表示爱戴，佩戴白玫瑰对故去的父亲表示悼念。后来在温哥华，人们选择了佩戴白丁香，宾夕法尼亚人用蒲公英向父亲表示致意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0240" y="1413000"/>
            <a:ext cx="9140760" cy="5445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708360" y="5516640"/>
            <a:ext cx="4103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笨笨粗粗的手，很温柔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160" y="1343160"/>
            <a:ext cx="9107280" cy="5445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03280" y="1484280"/>
            <a:ext cx="6264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手拉小手，迈出第一步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40" y="1052640"/>
            <a:ext cx="9109080" cy="5833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2987640" y="1268280"/>
            <a:ext cx="5688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爸爸有力的双臂，比秋千舒服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30240" y="1082520"/>
            <a:ext cx="9212400" cy="5776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042920" y="5877000"/>
            <a:ext cx="700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爸爸有力的双手，带我飞得更高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6360" y="1317600"/>
            <a:ext cx="9001440" cy="5452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395280" y="1484280"/>
            <a:ext cx="4681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只要爸爸在，我就不害怕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0T08:18:57Z</dcterms:created>
  <dc:creator>Administrator</dc:creator>
  <dc:description/>
  <dc:language>en-US</dc:language>
  <cp:lastModifiedBy/>
  <dcterms:modified xsi:type="dcterms:W3CDTF">2015-07-02T03:03:3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