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F1F-0235-4F7C-804F-6D1A6296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C49-F5DB-467F-9DD4-C84AEEE0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7A4-4175-4B8A-B9A4-57C13030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512-73B1-4FF6-8E4B-9797BF08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154-7EC5-495C-8BBA-F780E993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083-2305-4DAB-9219-FEC3893D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5BF-972C-40F2-A36D-947A2953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88D-CE3B-4648-990B-5C52588C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E49-F069-4565-A7D9-ECFCD074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743-BEBA-45DF-BF9A-7545E36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B12-0C52-42D2-A19E-1CA9F35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925-4217-4579-92C9-0B64D351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zjpxzx.com/" TargetMode="External"/><Relationship Id="rId3" Type="http://schemas.openxmlformats.org/officeDocument/2006/relationships/hyperlink" Target="http://www.zjpxzx.com/" TargetMode="External"/><Relationship Id="rId4" Type="http://schemas.openxmlformats.org/officeDocument/2006/relationships/hyperlink" Target="http://www.zjpxzx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4997-172A-4D60-A3EE-44A4B0AA400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33720" y="6411960"/>
            <a:ext cx="4267080" cy="446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黑体"/>
              </a:rPr>
              <a:t>资料航母浙江培训在线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宋体"/>
                <a:ea typeface="黑体"/>
                <a:hlinkClick r:id="rId2"/>
              </a:rPr>
              <a:t>www.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宋体"/>
                <a:ea typeface="黑体"/>
                <a:hlinkClick r:id="rId3"/>
              </a:rPr>
              <a:t>zjpxzx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宋体"/>
                <a:ea typeface="黑体"/>
                <a:hlinkClick r:id="rId4"/>
              </a:rPr>
              <a:t>.com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黑体"/>
              </a:rPr>
              <a:t>下载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1295280"/>
            <a:ext cx="6477120" cy="38102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個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OT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76520" y="2666880"/>
            <a:ext cx="5486400" cy="2895840"/>
          </a:xfrm>
          <a:prstGeom prst="diamond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中黑體"/>
              </a:rPr>
              <a:t>     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是偏愛書面溝通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或是面對面的溝通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和你的老闆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在年齡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教育和工作經驗上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有何不同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的童年和家庭背景和你老闆的有何不同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是喜歡一次做一件事情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或是喜歡同時做很多事情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較擅長於處理細節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或是大原則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工作以外的生活和你老闆有何不同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需要嚴密的監督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或喜歡獨自工作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是自動自發的人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或是需要有人來督促你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需要有經常的回饋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或者是只要有定期的回饋就夠了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是否有其他人所難以了解的任何特殊怪癖或人格特質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何種工作會令你傾向於推委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"/>
              </a:rPr>
              <a:t>你了解你自己嗎</a:t>
            </a:r>
            <a:r>
              <a:rPr b="0" lang="zh-TW" sz="4400" spc="-1" strike="noStrike">
                <a:solidFill>
                  <a:srgbClr val="000000"/>
                </a:solidFill>
                <a:latin typeface="華康中黑體"/>
              </a:rPr>
              <a:t>?(</a:t>
            </a:r>
            <a:r>
              <a:rPr b="0" lang="zh-TW" sz="4400" spc="-1" strike="noStrike">
                <a:solidFill>
                  <a:srgbClr val="000000"/>
                </a:solidFill>
                <a:latin typeface="華康中黑體"/>
              </a:rPr>
              <a:t>續</a:t>
            </a:r>
            <a:r>
              <a:rPr b="0" lang="zh-TW" sz="4400" spc="-1" strike="noStrike">
                <a:solidFill>
                  <a:srgbClr val="000000"/>
                </a:solidFill>
                <a:latin typeface="華康中黑體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0880" y="5486400"/>
          <a:ext cx="822960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486400"/>
                    <a:ext cx="82296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28600" y="1219320"/>
          <a:ext cx="8637480" cy="4527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19320"/>
                    <a:ext cx="8637480" cy="45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514600" y="2286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竹科園區學歷統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080" y="629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960" y="6400800"/>
            <a:ext cx="21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Source:1998.12.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個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OT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優勢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高學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人際關係良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正確價值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能獨立自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專業知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劣勢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過於理想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觀意識過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個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OT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機會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就業市場愈來愈傾向高學歷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現今高科技就業市場蓬勃發展，高級人才卻不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威脅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無法屈就低職位、低薪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所學科系和熱門產業不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熱門產業競爭者眾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5120" y="2666880"/>
            <a:ext cx="5486400" cy="2895840"/>
          </a:xfrm>
          <a:prstGeom prst="diamond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培養個人的競爭優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6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1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語文能力國際化，第二外語不嫌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2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資訊收集網路化，解讀轉換更搶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3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掌握主流趨勢，趁早儲備戰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4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持續深化專業，永遠不被取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5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多把刷子才夠看，自我行銷必修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5120" y="2666880"/>
            <a:ext cx="5486400" cy="2895840"/>
          </a:xfrm>
          <a:prstGeom prst="diamond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6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創意為專業加分，多方激盪更豐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7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勇於接受挑戰，輪調外派捨我其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8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效率時間管理，專心分工事半功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9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尊重團體效益，情緒智商得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華康中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條件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10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</a:rPr>
              <a:t>機動調整舞台，滾石也能生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培養個人的競爭優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了解自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9933"/>
                </a:solidFill>
                <a:latin typeface="Times New Roman"/>
              </a:rPr>
              <a:t>依據佛洛依德的人格理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1" lang="zh-TW" sz="2800" spc="-1" strike="noStrike">
                <a:solidFill>
                  <a:srgbClr val="d60093"/>
                </a:solidFill>
                <a:latin typeface="Times New Roman"/>
              </a:rPr>
              <a:t>本我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(id)─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是求生的驅力，會評估並嘗試滿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身體上的各種需要。但不能分辨幻想與現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1" lang="zh-TW" sz="2800" spc="-1" strike="noStrike">
                <a:solidFill>
                  <a:srgbClr val="6600cc"/>
                </a:solidFill>
                <a:latin typeface="Times New Roman"/>
              </a:rPr>
              <a:t>自我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(ego)─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能協調「本我」的需要與現實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間，以實務的方法滿足「本我」的目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超我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(superego)─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代表所有內心認定的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內化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規則、習慣、習俗及父母教給小孩子的常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與本我的欲求有牴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了解自我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續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1" lang="zh-TW" sz="2800" spc="-1" strike="noStrike">
                <a:solidFill>
                  <a:srgbClr val="006699"/>
                </a:solidFill>
                <a:latin typeface="Times New Roman"/>
              </a:rPr>
              <a:t>自己認為的你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：每個人會在心中塑造自己，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衡量自己與他人的差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1" lang="zh-TW" sz="2800" spc="-1" strike="noStrike">
                <a:solidFill>
                  <a:srgbClr val="9900cc"/>
                </a:solidFill>
                <a:latin typeface="Times New Roman"/>
              </a:rPr>
              <a:t>別人認為的你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：在別人面前塑造自己的形象，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通過別人的談吐行為對自己下結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真正的你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：是客觀存在的，隨著特定的時間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空間成長，逐漸形成自己特定的性格、氣質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能力和品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A=C</a:t>
            </a:r>
            <a:r>
              <a:rPr b="1" lang="zh-TW" sz="2800" spc="-1" strike="noStrike">
                <a:solidFill>
                  <a:srgbClr val="d60093"/>
                </a:solidFill>
                <a:latin typeface="Times New Roman"/>
              </a:rPr>
              <a:t>，便能正確估量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要出類拔萃，應是能夠及早認識自己，從而不斷改造自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50000">
              <a:srgbClr val="ccff99"/>
            </a:gs>
            <a:gs pos="100000">
              <a:srgbClr val="5e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76520" y="2666880"/>
            <a:ext cx="5486400" cy="2895840"/>
          </a:xfrm>
          <a:prstGeom prst="diamond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1426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希望從工作得到什麼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工作的主要目標是什麼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的老闆如何幫助你達成這些目標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是處在何種衝突和期限的壓力下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工作中的那一部份做得最好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工作表現中最弱的地方是什麼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是傾向於與人分享或是隱藏資料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工作中你最喜歡的是那一部份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工作中你最不喜歡的是那一部份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在上午或是在下午狀況比較好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◎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你喜歡衝突和對抗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或是會對其羞怯</a:t>
            </a: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"/>
              </a:rPr>
              <a:t>你了解你自己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09:17:36Z</dcterms:created>
  <dc:creator>sf33</dc:creator>
  <dc:description/>
  <dc:language>en-US</dc:language>
  <cp:lastModifiedBy>Administrator</cp:lastModifiedBy>
  <dcterms:modified xsi:type="dcterms:W3CDTF">2007-10-16T08:29:58Z</dcterms:modified>
  <cp:revision>3</cp:revision>
  <dc:subject/>
  <dc:title>個人SWOT分析</dc:title>
</cp:coreProperties>
</file>