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653-5CE3-4A2B-A123-21EA028C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D0B-CC3B-4693-898B-8A40D26C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380-4933-45C7-8CDE-DFFB3E14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B17-8B60-45C4-BF6E-982BF9E4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716-6E05-4220-A1BC-96C6A0DF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796-BF63-4EA2-9A5C-6C408B26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247-C87E-4C74-9E65-73B472FB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851-8E24-40C7-9D00-CD6F0D1C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E1C-0E16-4260-B333-66EC0DBC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C96-3142-4C1D-9077-A785B056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AE5-63B0-4071-A8C7-3B761B2D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4F0-4F34-4E31-92A9-17330C89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 flipH="1">
            <a:off x="8153280" y="0"/>
            <a:ext cx="990720" cy="685800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68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6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68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E5B9-B934-4FDF-8D20-11B6A256DF1F}" type="datetime">
              <a:rPr b="0" lang="zh-CN" sz="1000" spc="-1" strike="noStrike">
                <a:solidFill>
                  <a:srgbClr val="b13f9a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3B20-FB10-4ACB-B025-B4F613DBD120}" type="slidenum">
              <a:rPr b="0" lang="zh-CN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7"/>
          <p:cNvSpPr/>
          <p:nvPr/>
        </p:nvSpPr>
        <p:spPr>
          <a:xfrm flipH="1">
            <a:off x="2666880" y="0"/>
            <a:ext cx="6477120" cy="685800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66880" y="0"/>
            <a:ext cx="360" cy="6858000"/>
            <a:chOff x="2666880" y="0"/>
            <a:chExt cx="360" cy="6858000"/>
          </a:xfrm>
        </p:grpSpPr>
        <p:sp>
          <p:nvSpPr>
            <p:cNvPr id="44" name="直接连接符 8"/>
            <p:cNvSpPr/>
            <p:nvPr/>
          </p:nvSpPr>
          <p:spPr>
            <a:xfrm flipV="1">
              <a:off x="2666880" y="0"/>
              <a:ext cx="0" cy="6858000"/>
            </a:xfrm>
            <a:prstGeom prst="line">
              <a:avLst/>
            </a:prstGeom>
            <a:ln w="1152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 rot="16200000">
              <a:off x="-761760" y="342864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zh-CN" sz="4200" spc="-1" strike="noStrike">
                <a:solidFill>
                  <a:srgbClr val="b13f9a"/>
                </a:solidFill>
                <a:latin typeface="Trebuchet MS"/>
              </a:rPr>
              <a:t>2015</a:t>
            </a:r>
            <a:r>
              <a:rPr b="1" lang="zh-CN" sz="4200" spc="-1" strike="noStrike">
                <a:solidFill>
                  <a:srgbClr val="b13f9a"/>
                </a:solidFill>
                <a:latin typeface="Trebuchet MS"/>
              </a:rPr>
              <a:t>年终总结报告</a:t>
            </a:r>
            <a:endParaRPr b="1" lang="en-US" sz="4200" spc="-1" strike="noStrike">
              <a:solidFill>
                <a:srgbClr val="b13f9a"/>
              </a:solidFill>
              <a:latin typeface="Trebuchet MS"/>
            </a:endParaRPr>
          </a:p>
        </p:txBody>
      </p:sp>
      <p:pic>
        <p:nvPicPr>
          <p:cNvPr id="47" name="图片 5" descr="u=427596887,1814088518&amp;fm=0&amp;gp=0.jpg"/>
          <p:cNvPicPr/>
          <p:nvPr/>
        </p:nvPicPr>
        <p:blipFill>
          <a:blip r:embed="rId3"/>
          <a:stretch/>
        </p:blipFill>
        <p:spPr>
          <a:xfrm>
            <a:off x="0" y="0"/>
            <a:ext cx="314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三、加强对“仁道地产”品牌信用度的推广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作为我们应从点滴服务做起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因为品牌的第一公里是“销售”，所以不管是成交前还是成交后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我们都应用无微不至的服务来对待客户。在交房时出现的问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我们要耐心的去解决。从品质的服务来共同树立我们公司的品牌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6" name="图片 3" descr="u=94234906,3739310238&amp;fm=0&amp;gp=0.jpg"/>
          <p:cNvPicPr/>
          <p:nvPr/>
        </p:nvPicPr>
        <p:blipFill>
          <a:blip r:embed="rId1"/>
          <a:stretch/>
        </p:blipFill>
        <p:spPr>
          <a:xfrm>
            <a:off x="214200" y="4143240"/>
            <a:ext cx="3286080" cy="271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737-11F7-4DC9-9727-ABFB231182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四、全面协助经理对案场管理制度的落地，严格执行制定的一些相关管理制度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包括对前台接访制度、前台秩序管理、分电制度等相关制度的监督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8" name="图片 3" descr="u=94234906,3739310238&amp;fm=0&amp;gp=0.jpg"/>
          <p:cNvPicPr/>
          <p:nvPr/>
        </p:nvPicPr>
        <p:blipFill>
          <a:blip r:embed="rId1"/>
          <a:stretch/>
        </p:blipFill>
        <p:spPr>
          <a:xfrm>
            <a:off x="214200" y="4000680"/>
            <a:ext cx="3286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0040" y="1356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公司下达的销售任务，把任务进行任务链的具体下切。根据具体情况分配到每月、每周、每日及每个人身上，完成各个时间段的销售任务。并在完成销售任务的基础上提高销售业绩。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前我们在售房源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套，根据销售人员的销售能力，把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套房子合理的分解到每一位置业顾问身上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一组同二组一样领任务共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套，一月份任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套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份任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套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份任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套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份任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套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份任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套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底保证完成任务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171360" y="5000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rebuchet MS"/>
                <a:ea typeface="华文新魏"/>
              </a:rPr>
              <a:t>展望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  <a:ea typeface="Trebuchet MS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4" descr="u=94234906,3739310238&amp;fm=0&amp;gp=0.jpg"/>
          <p:cNvPicPr/>
          <p:nvPr/>
        </p:nvPicPr>
        <p:blipFill>
          <a:blip r:embed="rId1"/>
          <a:stretch/>
        </p:blipFill>
        <p:spPr>
          <a:xfrm>
            <a:off x="214200" y="4929120"/>
            <a:ext cx="3286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571760"/>
            <a:ext cx="723888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通过对这一年工作的回顾和总结，激励鞭策着我和各位家人能更好地振奋精神、扎实工作、以强烈的事业心和高度的责任感，为实现新一年的管理目标、业务业绩指标和工作计划而努力奋斗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3" name="图片 3" descr="u=3843469545,3936569125&amp;fm=0&amp;gp=0.jpg"/>
          <p:cNvPicPr/>
          <p:nvPr/>
        </p:nvPicPr>
        <p:blipFill>
          <a:blip r:embed="rId1"/>
          <a:stretch/>
        </p:blipFill>
        <p:spPr>
          <a:xfrm>
            <a:off x="0" y="3643200"/>
            <a:ext cx="4714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214200" y="221472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13f9a"/>
                </a:solidFill>
                <a:latin typeface="Trebuchet MS"/>
                <a:ea typeface="华文新魏"/>
              </a:rPr>
              <a:t>各位领导</a:t>
            </a:r>
            <a:r>
              <a:rPr b="0" lang="en-US" sz="5400" spc="-1" strike="noStrike">
                <a:solidFill>
                  <a:srgbClr val="b13f9a"/>
                </a:solidFill>
                <a:latin typeface="Trebuchet MS"/>
                <a:ea typeface="Trebuchet MS"/>
              </a:rPr>
              <a:t>,</a:t>
            </a:r>
            <a:r>
              <a:rPr b="0" lang="zh-CN" sz="5400" spc="-1" strike="noStrike">
                <a:solidFill>
                  <a:srgbClr val="b13f9a"/>
                </a:solidFill>
                <a:latin typeface="Trebuchet MS"/>
                <a:ea typeface="华文新魏"/>
              </a:rPr>
              <a:t>各位家人</a:t>
            </a:r>
            <a:r>
              <a:rPr b="0" lang="en-US" sz="5400" spc="-1" strike="noStrike">
                <a:solidFill>
                  <a:srgbClr val="b13f9a"/>
                </a:solidFill>
                <a:latin typeface="Trebuchet MS"/>
                <a:ea typeface="Trebuchet MS"/>
              </a:rPr>
              <a:t>,</a:t>
            </a:r>
            <a:r>
              <a:rPr b="0" lang="zh-CN" sz="5400" spc="-1" strike="noStrike">
                <a:solidFill>
                  <a:srgbClr val="b13f9a"/>
                </a:solidFill>
                <a:latin typeface="Trebuchet MS"/>
                <a:ea typeface="华文新魏"/>
              </a:rPr>
              <a:t>大家好</a:t>
            </a:r>
            <a:r>
              <a:rPr b="0" lang="en-US" sz="5400" spc="-1" strike="noStrike">
                <a:solidFill>
                  <a:srgbClr val="b13f9a"/>
                </a:solidFill>
                <a:latin typeface="Trebuchet MS"/>
                <a:ea typeface="Trebuchet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u=675527414,3565629213&amp;fm=0&amp;gp=0.jpg"/>
          <p:cNvPicPr/>
          <p:nvPr/>
        </p:nvPicPr>
        <p:blipFill>
          <a:blip r:embed="rId1"/>
          <a:stretch/>
        </p:blipFill>
        <p:spPr>
          <a:xfrm>
            <a:off x="0" y="3571920"/>
            <a:ext cx="3214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1214280"/>
            <a:ext cx="72388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首先给各位拜个早年。预祝各位在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01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年工作顺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合家欢乐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也忠心祝愿我们公司在新的一年更上一层楼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取的更大的成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0" lang="zh-CN" sz="3200" spc="-1" strike="noStrike">
                <a:solidFill>
                  <a:srgbClr val="b13f9a"/>
                </a:solidFill>
                <a:latin typeface="Trebuchet MS"/>
              </a:rPr>
              <a:t>同时感谢张总创建的这个平台，让我能兢兢业业的工作着，健康成长着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" name="图片 4" descr="u=94234906,3739310238&amp;fm=0&amp;gp=0.jpg"/>
          <p:cNvPicPr/>
          <p:nvPr/>
        </p:nvPicPr>
        <p:blipFill>
          <a:blip r:embed="rId1"/>
          <a:stretch/>
        </p:blipFill>
        <p:spPr>
          <a:xfrm>
            <a:off x="214200" y="3571920"/>
            <a:ext cx="3357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107172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人的一生其实很短，但一定要过得有意义；我认为有份稳定的工作，有着简单积极向上精神生活，有份健康的身体，有着家人的平安团聚就是幸福的，因此，回首这一年。我的主管工作，虽然没有取得特别骄人的成绩，但也是可喜的。可以放声的说：我也是幸福的！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3" name="图片 3" descr="u=94234906,3739310238&amp;fm=0&amp;gp=0.jpg"/>
          <p:cNvPicPr/>
          <p:nvPr/>
        </p:nvPicPr>
        <p:blipFill>
          <a:blip r:embed="rId1"/>
          <a:stretch/>
        </p:blipFill>
        <p:spPr>
          <a:xfrm>
            <a:off x="214200" y="3571920"/>
            <a:ext cx="3357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680" y="9284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虽然我担任管理的也只是短暂的几个月的时间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我深感管理的难度越来越大。考验也越来越严峻。深感工作的重担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及领导们给予我的厚望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我感到责任重大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唯有通过加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陪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努力与公司共同进步来回报关心。支持我的同事及领导。作为自己本身一年多来，我努力进取，积极施展自已，少说话，多做事，争取为公司创造更多的价值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" name="图片 3" descr="u=94234906,3739310238&amp;fm=0&amp;gp=0.jpg"/>
          <p:cNvPicPr/>
          <p:nvPr/>
        </p:nvPicPr>
        <p:blipFill>
          <a:blip r:embed="rId1"/>
          <a:stretch/>
        </p:blipFill>
        <p:spPr>
          <a:xfrm>
            <a:off x="214200" y="3571920"/>
            <a:ext cx="3357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协助经理的案场管理工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并不到位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标准化流程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监督不到位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价值观落地情况需要进一步的执行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培训学习方面需要进一步加强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" name="图片 3" descr="u=94234906,3739310238&amp;fm=0&amp;gp=0.jpg"/>
          <p:cNvPicPr/>
          <p:nvPr/>
        </p:nvPicPr>
        <p:blipFill>
          <a:blip r:embed="rId1"/>
          <a:stretch/>
        </p:blipFill>
        <p:spPr>
          <a:xfrm>
            <a:off x="357120" y="3571920"/>
            <a:ext cx="3000600" cy="3071880"/>
          </a:xfrm>
          <a:prstGeom prst="rect">
            <a:avLst/>
          </a:prstGeom>
          <a:ln w="0">
            <a:noFill/>
          </a:ln>
        </p:spPr>
      </p:pic>
      <p:sp>
        <p:nvSpPr>
          <p:cNvPr id="58" name="矩形 10"/>
          <p:cNvSpPr/>
          <p:nvPr/>
        </p:nvSpPr>
        <p:spPr>
          <a:xfrm flipV="1" rot="10800000">
            <a:off x="142920" y="3567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13f9a"/>
                </a:solidFill>
                <a:latin typeface="Trebuchet MS"/>
                <a:ea typeface="华文新魏"/>
              </a:rPr>
              <a:t>回首</a:t>
            </a:r>
            <a:r>
              <a:rPr b="1" lang="en-US" sz="5400" spc="-1" strike="noStrike">
                <a:solidFill>
                  <a:srgbClr val="b13f9a"/>
                </a:solidFill>
                <a:latin typeface="Trebuchet MS"/>
                <a:ea typeface="Trebuchet MS"/>
              </a:rPr>
              <a:t>2011</a:t>
            </a:r>
            <a:r>
              <a:rPr b="1" lang="zh-CN" sz="5400" spc="-1" strike="noStrike">
                <a:solidFill>
                  <a:srgbClr val="b13f9a"/>
                </a:solidFill>
                <a:latin typeface="Trebuchet MS"/>
                <a:ea typeface="华文新魏"/>
              </a:rPr>
              <a:t>的不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截止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011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本年度底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桃源印象的销售进度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已经将近总任务量的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95%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并且业主已经成功办理了交房手续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现还有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50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套洋房和地下室、车位在售，底商也在前期蓄水阶段。总体处于后期维护阶段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" name="图片 3" descr="u=94234906,3739310238&amp;fm=0&amp;gp=0.jpg"/>
          <p:cNvPicPr/>
          <p:nvPr/>
        </p:nvPicPr>
        <p:blipFill>
          <a:blip r:embed="rId1"/>
          <a:stretch/>
        </p:blipFill>
        <p:spPr>
          <a:xfrm>
            <a:off x="142920" y="3643200"/>
            <a:ext cx="36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56760" y="1214280"/>
            <a:ext cx="723924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工作发展总结计划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一、由现阶段的营销转换为行销。（客户战略）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的市场无疑会延续，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年的一个整体市场受政策影响的行情。在这种低迷的市场行情下，做销已处于非常被动的销售模式，改变销售模式，行销才是持续盈利的出路之一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" name="图片 3" descr="u=94234906,3739310238&amp;fm=0&amp;gp=0.jpg"/>
          <p:cNvPicPr/>
          <p:nvPr/>
        </p:nvPicPr>
        <p:blipFill>
          <a:blip r:embed="rId1"/>
          <a:stretch/>
        </p:blipFill>
        <p:spPr>
          <a:xfrm>
            <a:off x="357120" y="4143240"/>
            <a:ext cx="31431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213920"/>
            <a:ext cx="723888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二、由针对本区的广告宣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转化为包办蓝印户口的宣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因为现阶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针对桃源准现房的高品质大面积洋房发售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总房款比较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针对宝坻市场三室户型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受限购令影响比较大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大量的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M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单及报纸、广告牌、活动等户外宣传，收获甚微。但是无疑在这个冷淡的市场，蓝印无疑是每个项目的卖点，针对桃源准现房发售的特点，来吸纳更多的客户源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" name="图片 3" descr="u=94234906,3739310238&amp;fm=0&amp;gp=0.jpg"/>
          <p:cNvPicPr/>
          <p:nvPr/>
        </p:nvPicPr>
        <p:blipFill>
          <a:blip r:embed="rId1"/>
          <a:stretch/>
        </p:blipFill>
        <p:spPr>
          <a:xfrm>
            <a:off x="214200" y="485784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01:38:00Z</dcterms:created>
  <dc:creator>雨林木风</dc:creator>
  <dc:description/>
  <dc:language>en-US</dc:language>
  <cp:lastModifiedBy>001</cp:lastModifiedBy>
  <dcterms:modified xsi:type="dcterms:W3CDTF">2015-08-21T10:08:04Z</dcterms:modified>
  <cp:revision>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