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ADDE-DD61-4758-9396-420C3A27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932D-395D-4188-BB36-3CE8D955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09DC-D35A-44C4-89FD-28415B32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D8B1-EF84-424A-9E93-C4240ABE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9FA7-C090-4370-A9C1-A48F864B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59A3-A0ED-4BC2-AE04-BE601FEF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10E8-201D-4F1F-BB24-37342658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27A3-A88C-4650-A297-BAC26DDF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E16A-E70D-45C8-AB67-A0B1816F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CF76-F071-44C6-9D15-2411A3CF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6D32-E608-481C-B691-7A1AB72B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55D4-F0B9-40DD-AE27-D28EE2C3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5C2C-E5C9-48FA-9FDE-DDECF96316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ff44"/>
            </a:gs>
            <a:gs pos="100000">
              <a:srgbClr val="bde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梯形 3"/>
          <p:cNvSpPr/>
          <p:nvPr/>
        </p:nvSpPr>
        <p:spPr>
          <a:xfrm flipV="1">
            <a:off x="2365200" y="2735640"/>
            <a:ext cx="4211640" cy="360360"/>
          </a:xfrm>
          <a:custGeom>
            <a:avLst/>
            <a:gdLst>
              <a:gd name="textAreaLeft" fmla="*/ 159120 w 4211640"/>
              <a:gd name="textAreaRight" fmla="*/ 4052520 w 4211640"/>
              <a:gd name="textAreaTop" fmla="*/ 13320 h 360360"/>
              <a:gd name="textAreaBottom" fmla="*/ 360720 h 360360"/>
            </a:gdLst>
            <a:ahLst/>
            <a:rect l="textAreaLeft" t="textAreaTop" r="textAreaRight" b="textAreaBottom"/>
            <a:pathLst>
              <a:path w="4211638" h="360363">
                <a:moveTo>
                  <a:pt x="0" y="360363"/>
                </a:moveTo>
                <a:lnTo>
                  <a:pt x="239155" y="0"/>
                </a:lnTo>
                <a:lnTo>
                  <a:pt x="3972483" y="0"/>
                </a:lnTo>
                <a:lnTo>
                  <a:pt x="4211638" y="360363"/>
                </a:lnTo>
                <a:close/>
              </a:path>
            </a:pathLst>
          </a:custGeom>
          <a:solidFill>
            <a:srgbClr val="aaea25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梯形 4"/>
          <p:cNvSpPr/>
          <p:nvPr/>
        </p:nvSpPr>
        <p:spPr>
          <a:xfrm>
            <a:off x="2346480" y="1959120"/>
            <a:ext cx="4248000" cy="8017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es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2709720" y="2776680"/>
            <a:ext cx="35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D PPT DESIG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http://ekko.ekkomediagroup.com/~custom/wheels_images/AF128/1224012188-AF128ChromeWheel.png"/>
          <p:cNvPicPr/>
          <p:nvPr/>
        </p:nvPicPr>
        <p:blipFill>
          <a:blip r:embed="rId1"/>
          <a:srcRect l="0" t="0" r="0" b="64663"/>
          <a:stretch/>
        </p:blipFill>
        <p:spPr>
          <a:xfrm>
            <a:off x="2674800" y="5589720"/>
            <a:ext cx="3589560" cy="1268280"/>
          </a:xfrm>
          <a:prstGeom prst="rect">
            <a:avLst/>
          </a:prstGeom>
          <a:ln w="0">
            <a:noFill/>
          </a:ln>
        </p:spPr>
      </p:pic>
      <p:sp>
        <p:nvSpPr>
          <p:cNvPr id="45" name="矩形 2"/>
          <p:cNvSpPr/>
          <p:nvPr/>
        </p:nvSpPr>
        <p:spPr>
          <a:xfrm>
            <a:off x="3297600" y="3500280"/>
            <a:ext cx="235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西西软件园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www.cr173.co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梯形 4"/>
          <p:cNvSpPr/>
          <p:nvPr/>
        </p:nvSpPr>
        <p:spPr>
          <a:xfrm rot="16200000">
            <a:off x="6468120" y="4539240"/>
            <a:ext cx="1536480" cy="1871640"/>
          </a:xfrm>
          <a:custGeom>
            <a:avLst/>
            <a:gdLst>
              <a:gd name="textAreaLeft" fmla="*/ 243360 w 1536480"/>
              <a:gd name="textAreaRight" fmla="*/ 1293120 w 1536480"/>
              <a:gd name="textAreaTop" fmla="*/ 296280 h 1871640"/>
              <a:gd name="textAreaBottom" fmla="*/ 1872000 h 1871640"/>
            </a:gdLst>
            <a:ahLst/>
            <a:rect l="textAreaLeft" t="textAreaTop" r="textAreaRight" b="textAreaBottom"/>
            <a:pathLst>
              <a:path w="1536700" h="1871662">
                <a:moveTo>
                  <a:pt x="0" y="1871662"/>
                </a:moveTo>
                <a:lnTo>
                  <a:pt x="365120" y="0"/>
                </a:lnTo>
                <a:lnTo>
                  <a:pt x="1171580" y="0"/>
                </a:lnTo>
                <a:lnTo>
                  <a:pt x="1536700" y="1871662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梯形 5"/>
          <p:cNvSpPr/>
          <p:nvPr/>
        </p:nvSpPr>
        <p:spPr>
          <a:xfrm rot="16200000">
            <a:off x="6379920" y="772920"/>
            <a:ext cx="1712880" cy="1871640"/>
          </a:xfrm>
          <a:custGeom>
            <a:avLst/>
            <a:gdLst>
              <a:gd name="textAreaLeft" fmla="*/ 285480 w 1712880"/>
              <a:gd name="textAreaRight" fmla="*/ 1427400 w 1712880"/>
              <a:gd name="textAreaTop" fmla="*/ 311760 h 1871640"/>
              <a:gd name="textAreaBottom" fmla="*/ 1872000 h 1871640"/>
            </a:gdLst>
            <a:ahLst/>
            <a:rect l="textAreaLeft" t="textAreaTop" r="textAreaRight" b="textAreaBottom"/>
            <a:pathLst>
              <a:path w="1712912" h="1871662">
                <a:moveTo>
                  <a:pt x="0" y="1871662"/>
                </a:moveTo>
                <a:lnTo>
                  <a:pt x="428228" y="0"/>
                </a:lnTo>
                <a:lnTo>
                  <a:pt x="1284684" y="0"/>
                </a:lnTo>
                <a:lnTo>
                  <a:pt x="1712912" y="1871662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梯形 6"/>
          <p:cNvSpPr/>
          <p:nvPr/>
        </p:nvSpPr>
        <p:spPr>
          <a:xfrm flipH="1" rot="5400000">
            <a:off x="674280" y="2624040"/>
            <a:ext cx="3740400" cy="1749600"/>
          </a:xfrm>
          <a:custGeom>
            <a:avLst/>
            <a:gdLst>
              <a:gd name="textAreaLeft" fmla="*/ 316800 w 3740400"/>
              <a:gd name="textAreaRight" fmla="*/ 3423600 w 3740400"/>
              <a:gd name="textAreaTop" fmla="*/ 147960 h 1749600"/>
              <a:gd name="textAreaBottom" fmla="*/ 1749960 h 1749600"/>
            </a:gdLst>
            <a:ahLst/>
            <a:rect l="textAreaLeft" t="textAreaTop" r="textAreaRight" b="textAreaBottom"/>
            <a:pathLst>
              <a:path w="3740150" h="1749425">
                <a:moveTo>
                  <a:pt x="0" y="1749425"/>
                </a:moveTo>
                <a:lnTo>
                  <a:pt x="475459" y="0"/>
                </a:lnTo>
                <a:lnTo>
                  <a:pt x="3264691" y="0"/>
                </a:lnTo>
                <a:lnTo>
                  <a:pt x="3740150" y="1749425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-795240" y="2852640"/>
            <a:ext cx="48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f7f7f"/>
                </a:solidFill>
                <a:latin typeface="Haettenschweiler"/>
              </a:rPr>
              <a:t>CONT</a:t>
            </a:r>
            <a:r>
              <a:rPr b="0" lang="en-US" sz="7200" spc="-1" strike="noStrike">
                <a:solidFill>
                  <a:srgbClr val="ffffff"/>
                </a:solidFill>
                <a:latin typeface="Haettenschweiler"/>
              </a:rPr>
              <a:t>EN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3236040" y="1050840"/>
            <a:ext cx="134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2d050"/>
                </a:solidFill>
                <a:latin typeface="Haettenschweiler"/>
              </a:rPr>
              <a:t>0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4159080" y="2852640"/>
            <a:ext cx="134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f7f7f"/>
                </a:solidFill>
                <a:latin typeface="Haettenschweiler"/>
              </a:rPr>
              <a:t>0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3303360" y="4707000"/>
            <a:ext cx="134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4c600"/>
                </a:solidFill>
                <a:latin typeface="Haettenschweiler"/>
              </a:rPr>
              <a:t>0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4693680" y="1465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微软雅黑"/>
                <a:ea typeface="微软雅黑"/>
              </a:rPr>
              <a:t>企业简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5547960" y="3279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3"/>
          <p:cNvSpPr/>
          <p:nvPr/>
        </p:nvSpPr>
        <p:spPr>
          <a:xfrm>
            <a:off x="4693680" y="5087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c600"/>
                </a:solidFill>
                <a:latin typeface="微软雅黑"/>
                <a:ea typeface="微软雅黑"/>
              </a:rPr>
              <a:t>销售渠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4406760" y="1908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rial"/>
                <a:ea typeface="Arial"/>
              </a:rPr>
              <a:t>About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4"/>
          <p:cNvSpPr/>
          <p:nvPr/>
        </p:nvSpPr>
        <p:spPr>
          <a:xfrm>
            <a:off x="5261400" y="37227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4407840" y="559260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c600"/>
                </a:solidFill>
                <a:latin typeface="Arial"/>
                <a:ea typeface="Arial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2343600" y="39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梯形 6"/>
          <p:cNvSpPr/>
          <p:nvPr/>
        </p:nvSpPr>
        <p:spPr>
          <a:xfrm flipV="1" rot="5400000">
            <a:off x="4524840" y="2918880"/>
            <a:ext cx="4248360" cy="2183040"/>
          </a:xfrm>
          <a:custGeom>
            <a:avLst/>
            <a:gdLst>
              <a:gd name="textAreaLeft" fmla="*/ 655560 w 4248360"/>
              <a:gd name="textAreaRight" fmla="*/ 3592800 w 4248360"/>
              <a:gd name="textAreaTop" fmla="*/ 337320 h 2183040"/>
              <a:gd name="textAreaBottom" fmla="*/ 2183760 h 2183040"/>
            </a:gdLst>
            <a:ahLst/>
            <a:rect l="textAreaLeft" t="textAreaTop" r="textAreaRight" b="textAreaBottom"/>
            <a:pathLst>
              <a:path w="4248150" h="2182812">
                <a:moveTo>
                  <a:pt x="0" y="2182812"/>
                </a:moveTo>
                <a:lnTo>
                  <a:pt x="983728" y="0"/>
                </a:lnTo>
                <a:lnTo>
                  <a:pt x="3264422" y="0"/>
                </a:lnTo>
                <a:lnTo>
                  <a:pt x="4248150" y="2182812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梯形 5"/>
          <p:cNvSpPr/>
          <p:nvPr/>
        </p:nvSpPr>
        <p:spPr>
          <a:xfrm rot="5400000">
            <a:off x="1583280" y="2486520"/>
            <a:ext cx="4248360" cy="2160720"/>
          </a:xfrm>
          <a:custGeom>
            <a:avLst/>
            <a:gdLst>
              <a:gd name="textAreaLeft" fmla="*/ 483120 w 4248360"/>
              <a:gd name="textAreaRight" fmla="*/ 3765240 w 4248360"/>
              <a:gd name="textAreaTop" fmla="*/ 245520 h 2160720"/>
              <a:gd name="textAreaBottom" fmla="*/ 2161080 h 2160720"/>
            </a:gdLst>
            <a:ahLst/>
            <a:rect l="textAreaLeft" t="textAreaTop" r="textAreaRight" b="textAreaBottom"/>
            <a:pathLst>
              <a:path w="4248150" h="2160587">
                <a:moveTo>
                  <a:pt x="0" y="2160587"/>
                </a:moveTo>
                <a:lnTo>
                  <a:pt x="724877" y="0"/>
                </a:lnTo>
                <a:lnTo>
                  <a:pt x="3523273" y="0"/>
                </a:lnTo>
                <a:lnTo>
                  <a:pt x="4248150" y="2160587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9600" y="388440"/>
            <a:ext cx="432612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9465"/>
                </a:solidFill>
                <a:latin typeface="微软雅黑"/>
                <a:ea typeface="微软雅黑"/>
              </a:rPr>
              <a:t>在此录入文字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梯形 3"/>
          <p:cNvSpPr/>
          <p:nvPr/>
        </p:nvSpPr>
        <p:spPr>
          <a:xfrm rot="5400000">
            <a:off x="1258560" y="2852640"/>
            <a:ext cx="4465440" cy="2160720"/>
          </a:xfrm>
          <a:custGeom>
            <a:avLst/>
            <a:gdLst>
              <a:gd name="textAreaLeft" fmla="*/ 521280 w 4465440"/>
              <a:gd name="textAreaRight" fmla="*/ 3944160 w 4465440"/>
              <a:gd name="textAreaTop" fmla="*/ 252000 h 2160720"/>
              <a:gd name="textAreaBottom" fmla="*/ 2161080 h 2160720"/>
            </a:gdLst>
            <a:ahLst/>
            <a:rect l="textAreaLeft" t="textAreaTop" r="textAreaRight" b="textAreaBottom"/>
            <a:pathLst>
              <a:path w="4465637" h="2160587">
                <a:moveTo>
                  <a:pt x="0" y="2160587"/>
                </a:moveTo>
                <a:lnTo>
                  <a:pt x="782025" y="0"/>
                </a:lnTo>
                <a:lnTo>
                  <a:pt x="3683612" y="0"/>
                </a:lnTo>
                <a:lnTo>
                  <a:pt x="4465637" y="2160587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梯形 4"/>
          <p:cNvSpPr/>
          <p:nvPr/>
        </p:nvSpPr>
        <p:spPr>
          <a:xfrm rot="16200000">
            <a:off x="4212360" y="2204280"/>
            <a:ext cx="4464000" cy="2160720"/>
          </a:xfrm>
          <a:custGeom>
            <a:avLst/>
            <a:gdLst>
              <a:gd name="textAreaLeft" fmla="*/ 558720 w 4464000"/>
              <a:gd name="textAreaRight" fmla="*/ 3905280 w 4464000"/>
              <a:gd name="textAreaTop" fmla="*/ 270360 h 2160720"/>
              <a:gd name="textAreaBottom" fmla="*/ 2161080 h 2160720"/>
            </a:gdLst>
            <a:ahLst/>
            <a:rect l="textAreaLeft" t="textAreaTop" r="textAreaRight" b="textAreaBottom"/>
            <a:pathLst>
              <a:path w="4464050" h="2160587">
                <a:moveTo>
                  <a:pt x="0" y="2160587"/>
                </a:moveTo>
                <a:lnTo>
                  <a:pt x="838373" y="0"/>
                </a:lnTo>
                <a:lnTo>
                  <a:pt x="3625677" y="0"/>
                </a:lnTo>
                <a:lnTo>
                  <a:pt x="4464050" y="2160587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3072240" y="252252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5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5970240" y="188928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2846880" y="388944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5799600" y="314964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梯形 3"/>
          <p:cNvSpPr/>
          <p:nvPr/>
        </p:nvSpPr>
        <p:spPr>
          <a:xfrm flipV="1" rot="5400000">
            <a:off x="3996360" y="2030040"/>
            <a:ext cx="4248360" cy="3960720"/>
          </a:xfrm>
          <a:custGeom>
            <a:avLst/>
            <a:gdLst>
              <a:gd name="textAreaLeft" fmla="*/ 1047600 w 4248360"/>
              <a:gd name="textAreaRight" fmla="*/ 3200760 w 4248360"/>
              <a:gd name="textAreaTop" fmla="*/ 976680 h 3960720"/>
              <a:gd name="textAreaBottom" fmla="*/ 3961080 h 3960720"/>
            </a:gdLst>
            <a:ahLst/>
            <a:rect l="textAreaLeft" t="textAreaTop" r="textAreaRight" b="textAreaBottom"/>
            <a:pathLst>
              <a:path w="4248150" h="3960813">
                <a:moveTo>
                  <a:pt x="0" y="3960813"/>
                </a:moveTo>
                <a:lnTo>
                  <a:pt x="1571255" y="0"/>
                </a:lnTo>
                <a:lnTo>
                  <a:pt x="2676895" y="0"/>
                </a:lnTo>
                <a:lnTo>
                  <a:pt x="4248150" y="3960813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梯形 4"/>
          <p:cNvSpPr/>
          <p:nvPr/>
        </p:nvSpPr>
        <p:spPr>
          <a:xfrm rot="16200000">
            <a:off x="4572720" y="2204280"/>
            <a:ext cx="4464000" cy="2160720"/>
          </a:xfrm>
          <a:custGeom>
            <a:avLst/>
            <a:gdLst>
              <a:gd name="textAreaLeft" fmla="*/ 558720 w 4464000"/>
              <a:gd name="textAreaRight" fmla="*/ 3905280 w 4464000"/>
              <a:gd name="textAreaTop" fmla="*/ 270360 h 2160720"/>
              <a:gd name="textAreaBottom" fmla="*/ 2161080 h 2160720"/>
            </a:gdLst>
            <a:ahLst/>
            <a:rect l="textAreaLeft" t="textAreaTop" r="textAreaRight" b="textAreaBottom"/>
            <a:pathLst>
              <a:path w="4464050" h="2160588">
                <a:moveTo>
                  <a:pt x="0" y="2160588"/>
                </a:moveTo>
                <a:lnTo>
                  <a:pt x="838373" y="0"/>
                </a:lnTo>
                <a:lnTo>
                  <a:pt x="3625677" y="0"/>
                </a:lnTo>
                <a:lnTo>
                  <a:pt x="4464050" y="2160588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6330600" y="188928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6159240" y="314964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梯形 7"/>
          <p:cNvSpPr/>
          <p:nvPr/>
        </p:nvSpPr>
        <p:spPr>
          <a:xfrm rot="16200000">
            <a:off x="2316960" y="2739240"/>
            <a:ext cx="4464000" cy="2160720"/>
          </a:xfrm>
          <a:custGeom>
            <a:avLst/>
            <a:gdLst>
              <a:gd name="textAreaLeft" fmla="*/ 558720 w 4464000"/>
              <a:gd name="textAreaRight" fmla="*/ 3905280 w 4464000"/>
              <a:gd name="textAreaTop" fmla="*/ 270360 h 2160720"/>
              <a:gd name="textAreaBottom" fmla="*/ 2161080 h 2160720"/>
            </a:gdLst>
            <a:ahLst/>
            <a:rect l="textAreaLeft" t="textAreaTop" r="textAreaRight" b="textAreaBottom"/>
            <a:pathLst>
              <a:path w="4464050" h="2160587">
                <a:moveTo>
                  <a:pt x="0" y="2160587"/>
                </a:moveTo>
                <a:lnTo>
                  <a:pt x="838373" y="0"/>
                </a:lnTo>
                <a:lnTo>
                  <a:pt x="3625677" y="0"/>
                </a:lnTo>
                <a:lnTo>
                  <a:pt x="4464050" y="2160587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4076280" y="242244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3904200" y="368460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梯形 10"/>
          <p:cNvSpPr/>
          <p:nvPr/>
        </p:nvSpPr>
        <p:spPr>
          <a:xfrm rot="5400000">
            <a:off x="143640" y="2456640"/>
            <a:ext cx="4248000" cy="2160720"/>
          </a:xfrm>
          <a:custGeom>
            <a:avLst/>
            <a:gdLst>
              <a:gd name="textAreaLeft" fmla="*/ 483120 w 4248000"/>
              <a:gd name="textAreaRight" fmla="*/ 3764880 w 4248000"/>
              <a:gd name="textAreaTop" fmla="*/ 245520 h 2160720"/>
              <a:gd name="textAreaBottom" fmla="*/ 2161080 h 2160720"/>
            </a:gdLst>
            <a:ahLst/>
            <a:rect l="textAreaLeft" t="textAreaTop" r="textAreaRight" b="textAreaBottom"/>
            <a:pathLst>
              <a:path w="4248150" h="2160588">
                <a:moveTo>
                  <a:pt x="0" y="2160588"/>
                </a:moveTo>
                <a:lnTo>
                  <a:pt x="724877" y="0"/>
                </a:lnTo>
                <a:lnTo>
                  <a:pt x="3523273" y="0"/>
                </a:lnTo>
                <a:lnTo>
                  <a:pt x="4248150" y="2160588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梯形 11"/>
          <p:cNvSpPr/>
          <p:nvPr/>
        </p:nvSpPr>
        <p:spPr>
          <a:xfrm rot="5400000">
            <a:off x="-180720" y="2823480"/>
            <a:ext cx="4464360" cy="2160360"/>
          </a:xfrm>
          <a:custGeom>
            <a:avLst/>
            <a:gdLst>
              <a:gd name="textAreaLeft" fmla="*/ 521280 w 4464360"/>
              <a:gd name="textAreaRight" fmla="*/ 3943080 w 4464360"/>
              <a:gd name="textAreaTop" fmla="*/ 252000 h 2160360"/>
              <a:gd name="textAreaBottom" fmla="*/ 2160720 h 2160360"/>
            </a:gdLst>
            <a:ahLst/>
            <a:rect l="textAreaLeft" t="textAreaTop" r="textAreaRight" b="textAreaBottom"/>
            <a:pathLst>
              <a:path w="4464050" h="2160588">
                <a:moveTo>
                  <a:pt x="0" y="2160588"/>
                </a:moveTo>
                <a:lnTo>
                  <a:pt x="782025" y="0"/>
                </a:lnTo>
                <a:lnTo>
                  <a:pt x="3682025" y="0"/>
                </a:lnTo>
                <a:lnTo>
                  <a:pt x="4464050" y="2160588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1631520" y="249228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5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3"/>
          <p:cNvSpPr/>
          <p:nvPr/>
        </p:nvSpPr>
        <p:spPr>
          <a:xfrm>
            <a:off x="1406880" y="385920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9600" y="388440"/>
            <a:ext cx="432612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9465"/>
                </a:solidFill>
                <a:latin typeface="微软雅黑"/>
                <a:ea typeface="微软雅黑"/>
              </a:rPr>
              <a:t>在此录入文字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梯形 3"/>
          <p:cNvSpPr/>
          <p:nvPr/>
        </p:nvSpPr>
        <p:spPr>
          <a:xfrm flipV="1" rot="5400000">
            <a:off x="4923720" y="2800080"/>
            <a:ext cx="3917880" cy="2462040"/>
          </a:xfrm>
          <a:custGeom>
            <a:avLst/>
            <a:gdLst>
              <a:gd name="textAreaLeft" fmla="*/ 265680 w 3917880"/>
              <a:gd name="textAreaRight" fmla="*/ 3652200 w 3917880"/>
              <a:gd name="textAreaTop" fmla="*/ 166680 h 2462040"/>
              <a:gd name="textAreaBottom" fmla="*/ 2462040 h 2462040"/>
            </a:gdLst>
            <a:ahLst/>
            <a:rect l="textAreaLeft" t="textAreaTop" r="textAreaRight" b="textAreaBottom"/>
            <a:pathLst>
              <a:path w="3917950" h="2462213">
                <a:moveTo>
                  <a:pt x="0" y="2462213"/>
                </a:moveTo>
                <a:lnTo>
                  <a:pt x="398952" y="0"/>
                </a:lnTo>
                <a:lnTo>
                  <a:pt x="3518998" y="0"/>
                </a:lnTo>
                <a:lnTo>
                  <a:pt x="3917950" y="2462213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梯形 4"/>
          <p:cNvSpPr/>
          <p:nvPr/>
        </p:nvSpPr>
        <p:spPr>
          <a:xfrm rot="16200000">
            <a:off x="5352120" y="2307240"/>
            <a:ext cx="4465440" cy="2327400"/>
          </a:xfrm>
          <a:custGeom>
            <a:avLst/>
            <a:gdLst>
              <a:gd name="textAreaLeft" fmla="*/ 300240 w 4465440"/>
              <a:gd name="textAreaRight" fmla="*/ 4165200 w 4465440"/>
              <a:gd name="textAreaTop" fmla="*/ 156600 h 2327400"/>
              <a:gd name="textAreaBottom" fmla="*/ 2327760 h 2327400"/>
            </a:gdLst>
            <a:ahLst/>
            <a:rect l="textAreaLeft" t="textAreaTop" r="textAreaRight" b="textAreaBottom"/>
            <a:pathLst>
              <a:path w="4465638" h="2327275">
                <a:moveTo>
                  <a:pt x="0" y="2327275"/>
                </a:moveTo>
                <a:lnTo>
                  <a:pt x="450770" y="0"/>
                </a:lnTo>
                <a:lnTo>
                  <a:pt x="4014868" y="0"/>
                </a:lnTo>
                <a:lnTo>
                  <a:pt x="4465638" y="2327275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7194240" y="207504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6659640" y="3335400"/>
            <a:ext cx="19382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梯形 7"/>
          <p:cNvSpPr/>
          <p:nvPr/>
        </p:nvSpPr>
        <p:spPr>
          <a:xfrm rot="16200000">
            <a:off x="2699640" y="2925000"/>
            <a:ext cx="4464000" cy="2160720"/>
          </a:xfrm>
          <a:custGeom>
            <a:avLst/>
            <a:gdLst>
              <a:gd name="textAreaLeft" fmla="*/ 393480 w 4464000"/>
              <a:gd name="textAreaRight" fmla="*/ 4070520 w 4464000"/>
              <a:gd name="textAreaTop" fmla="*/ 190440 h 2160720"/>
              <a:gd name="textAreaBottom" fmla="*/ 2161080 h 2160720"/>
            </a:gdLst>
            <a:ahLst/>
            <a:rect l="textAreaLeft" t="textAreaTop" r="textAreaRight" b="textAreaBottom"/>
            <a:pathLst>
              <a:path w="4464050" h="2160588">
                <a:moveTo>
                  <a:pt x="0" y="2160588"/>
                </a:moveTo>
                <a:lnTo>
                  <a:pt x="590683" y="0"/>
                </a:lnTo>
                <a:lnTo>
                  <a:pt x="3873367" y="0"/>
                </a:lnTo>
                <a:lnTo>
                  <a:pt x="4464050" y="2160588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4458960" y="260820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4287600" y="387036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图表 14" descr=""/>
          <p:cNvPicPr/>
          <p:nvPr/>
        </p:nvPicPr>
        <p:blipFill>
          <a:blip r:embed="rId1"/>
          <a:stretch/>
        </p:blipFill>
        <p:spPr>
          <a:xfrm>
            <a:off x="284040" y="2577960"/>
            <a:ext cx="3089520" cy="2459160"/>
          </a:xfrm>
          <a:prstGeom prst="rect">
            <a:avLst/>
          </a:prstGeom>
          <a:ln w="0">
            <a:noFill/>
          </a:ln>
        </p:spPr>
      </p:pic>
      <p:sp>
        <p:nvSpPr>
          <p:cNvPr id="89" name="标题 1"/>
          <p:cNvSpPr/>
          <p:nvPr/>
        </p:nvSpPr>
        <p:spPr>
          <a:xfrm>
            <a:off x="399960" y="388800"/>
            <a:ext cx="43261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9465"/>
                </a:solidFill>
                <a:latin typeface="微软雅黑"/>
                <a:ea typeface="微软雅黑"/>
              </a:rPr>
              <a:t>在此录入文字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6" descr=""/>
          <p:cNvPicPr/>
          <p:nvPr/>
        </p:nvPicPr>
        <p:blipFill>
          <a:blip r:embed="rId1"/>
          <a:stretch/>
        </p:blipFill>
        <p:spPr>
          <a:xfrm>
            <a:off x="3176640" y="1633680"/>
            <a:ext cx="2065320" cy="7894440"/>
          </a:xfrm>
          <a:prstGeom prst="rect">
            <a:avLst/>
          </a:prstGeom>
          <a:ln w="0">
            <a:noFill/>
          </a:ln>
        </p:spPr>
      </p:pic>
      <p:pic>
        <p:nvPicPr>
          <p:cNvPr id="91" name="图片 8" descr=""/>
          <p:cNvPicPr/>
          <p:nvPr/>
        </p:nvPicPr>
        <p:blipFill>
          <a:blip r:embed="rId2"/>
          <a:stretch/>
        </p:blipFill>
        <p:spPr>
          <a:xfrm>
            <a:off x="457200" y="1657440"/>
            <a:ext cx="2352600" cy="7619760"/>
          </a:xfrm>
          <a:prstGeom prst="rect">
            <a:avLst/>
          </a:prstGeom>
          <a:ln w="0">
            <a:noFill/>
          </a:ln>
        </p:spPr>
      </p:pic>
      <p:sp>
        <p:nvSpPr>
          <p:cNvPr id="92" name="梯形 9"/>
          <p:cNvSpPr/>
          <p:nvPr/>
        </p:nvSpPr>
        <p:spPr>
          <a:xfrm flipV="1" rot="5400000">
            <a:off x="4983840" y="3128040"/>
            <a:ext cx="4248000" cy="2182680"/>
          </a:xfrm>
          <a:custGeom>
            <a:avLst/>
            <a:gdLst>
              <a:gd name="textAreaLeft" fmla="*/ 477720 w 4248000"/>
              <a:gd name="textAreaRight" fmla="*/ 3770280 w 4248000"/>
              <a:gd name="textAreaTop" fmla="*/ 245160 h 2182680"/>
              <a:gd name="textAreaBottom" fmla="*/ 2182680 h 2182680"/>
            </a:gdLst>
            <a:ahLst/>
            <a:rect l="textAreaLeft" t="textAreaTop" r="textAreaRight" b="textAreaBottom"/>
            <a:pathLst>
              <a:path w="4248150" h="2182813">
                <a:moveTo>
                  <a:pt x="0" y="2182813"/>
                </a:moveTo>
                <a:lnTo>
                  <a:pt x="716945" y="0"/>
                </a:lnTo>
                <a:lnTo>
                  <a:pt x="3531205" y="0"/>
                </a:lnTo>
                <a:lnTo>
                  <a:pt x="4248150" y="2182813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梯形 10"/>
          <p:cNvSpPr/>
          <p:nvPr/>
        </p:nvSpPr>
        <p:spPr>
          <a:xfrm rot="16200000">
            <a:off x="4539240" y="2599560"/>
            <a:ext cx="4464000" cy="2160360"/>
          </a:xfrm>
          <a:custGeom>
            <a:avLst/>
            <a:gdLst>
              <a:gd name="textAreaLeft" fmla="*/ 406440 w 4464000"/>
              <a:gd name="textAreaRight" fmla="*/ 4057560 w 4464000"/>
              <a:gd name="textAreaTop" fmla="*/ 196560 h 2160360"/>
              <a:gd name="textAreaBottom" fmla="*/ 2160720 h 2160360"/>
            </a:gdLst>
            <a:ahLst/>
            <a:rect l="textAreaLeft" t="textAreaTop" r="textAreaRight" b="textAreaBottom"/>
            <a:pathLst>
              <a:path w="4464050" h="2160587">
                <a:moveTo>
                  <a:pt x="0" y="2160587"/>
                </a:moveTo>
                <a:lnTo>
                  <a:pt x="609739" y="0"/>
                </a:lnTo>
                <a:lnTo>
                  <a:pt x="3854311" y="0"/>
                </a:lnTo>
                <a:lnTo>
                  <a:pt x="4464050" y="2160587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6298920" y="228456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6127560" y="354492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9600" y="388440"/>
            <a:ext cx="432612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9465"/>
                </a:solidFill>
                <a:latin typeface="微软雅黑"/>
                <a:ea typeface="微软雅黑"/>
              </a:rPr>
              <a:t>在此录入文字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梯形 7"/>
          <p:cNvSpPr/>
          <p:nvPr/>
        </p:nvSpPr>
        <p:spPr>
          <a:xfrm rot="5400000">
            <a:off x="1434240" y="1632600"/>
            <a:ext cx="4249800" cy="3743280"/>
          </a:xfrm>
          <a:custGeom>
            <a:avLst/>
            <a:gdLst>
              <a:gd name="textAreaLeft" fmla="*/ 837000 w 4249800"/>
              <a:gd name="textAreaRight" fmla="*/ 3412800 w 4249800"/>
              <a:gd name="textAreaTop" fmla="*/ 737280 h 3743280"/>
              <a:gd name="textAreaBottom" fmla="*/ 3743640 h 3743280"/>
            </a:gdLst>
            <a:ahLst/>
            <a:rect l="textAreaLeft" t="textAreaTop" r="textAreaRight" b="textAreaBottom"/>
            <a:pathLst>
              <a:path w="4249737" h="3743325">
                <a:moveTo>
                  <a:pt x="0" y="3743325"/>
                </a:moveTo>
                <a:lnTo>
                  <a:pt x="1255886" y="0"/>
                </a:lnTo>
                <a:lnTo>
                  <a:pt x="2993851" y="0"/>
                </a:lnTo>
                <a:lnTo>
                  <a:pt x="4249737" y="3743325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梯形 8"/>
          <p:cNvSpPr/>
          <p:nvPr/>
        </p:nvSpPr>
        <p:spPr>
          <a:xfrm rot="5400000">
            <a:off x="4086720" y="2656440"/>
            <a:ext cx="4464360" cy="2160720"/>
          </a:xfrm>
          <a:custGeom>
            <a:avLst/>
            <a:gdLst>
              <a:gd name="textAreaLeft" fmla="*/ 521280 w 4464360"/>
              <a:gd name="textAreaRight" fmla="*/ 3943080 w 4464360"/>
              <a:gd name="textAreaTop" fmla="*/ 252360 h 2160720"/>
              <a:gd name="textAreaBottom" fmla="*/ 2161080 h 2160720"/>
            </a:gdLst>
            <a:ahLst/>
            <a:rect l="textAreaLeft" t="textAreaTop" r="textAreaRight" b="textAreaBottom"/>
            <a:pathLst>
              <a:path w="4464050" h="2160588">
                <a:moveTo>
                  <a:pt x="0" y="2160588"/>
                </a:moveTo>
                <a:lnTo>
                  <a:pt x="782025" y="0"/>
                </a:lnTo>
                <a:lnTo>
                  <a:pt x="3682025" y="0"/>
                </a:lnTo>
                <a:lnTo>
                  <a:pt x="4464050" y="2160588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5900400" y="232560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5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5674320" y="369252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梯形 11"/>
          <p:cNvSpPr/>
          <p:nvPr/>
        </p:nvSpPr>
        <p:spPr>
          <a:xfrm rot="5400000">
            <a:off x="786960" y="1919160"/>
            <a:ext cx="4464000" cy="3816360"/>
          </a:xfrm>
          <a:custGeom>
            <a:avLst/>
            <a:gdLst>
              <a:gd name="textAreaLeft" fmla="*/ 717480 w 4464000"/>
              <a:gd name="textAreaRight" fmla="*/ 3746520 w 4464000"/>
              <a:gd name="textAreaTop" fmla="*/ 613440 h 3816360"/>
              <a:gd name="textAreaBottom" fmla="*/ 3816720 h 3816360"/>
            </a:gdLst>
            <a:ahLst/>
            <a:rect l="textAreaLeft" t="textAreaTop" r="textAreaRight" b="textAreaBottom"/>
            <a:pathLst>
              <a:path w="4464050" h="3816350">
                <a:moveTo>
                  <a:pt x="0" y="3816350"/>
                </a:moveTo>
                <a:lnTo>
                  <a:pt x="1076516" y="0"/>
                </a:lnTo>
                <a:lnTo>
                  <a:pt x="3387534" y="0"/>
                </a:lnTo>
                <a:lnTo>
                  <a:pt x="4464050" y="3816350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432080" y="2475000"/>
            <a:ext cx="2815920" cy="36446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4"/>
          <p:cNvSpPr/>
          <p:nvPr/>
        </p:nvSpPr>
        <p:spPr>
          <a:xfrm>
            <a:off x="2009880" y="2544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数据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标题 1"/>
          <p:cNvSpPr/>
          <p:nvPr/>
        </p:nvSpPr>
        <p:spPr>
          <a:xfrm>
            <a:off x="399960" y="388800"/>
            <a:ext cx="43261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9465"/>
                </a:solidFill>
                <a:latin typeface="微软雅黑"/>
                <a:ea typeface="微软雅黑"/>
              </a:rPr>
              <a:t>在此录入文字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1:18:29Z</dcterms:created>
  <dc:creator/>
  <dc:description/>
  <dc:language>en-US</dc:language>
  <cp:lastModifiedBy>Administrator</cp:lastModifiedBy>
  <dcterms:modified xsi:type="dcterms:W3CDTF">2015-07-11T02:23:32Z</dcterms:modified>
  <cp:revision>14</cp:revision>
  <dc:subject/>
  <dc:title>PowerPoint 演示文稿</dc:title>
</cp:coreProperties>
</file>