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8.jpeg" ContentType="image/jpeg"/>
  <Override PartName="/ppt/media/type.wav" ContentType="audio/x-wav"/>
  <Override PartName="/ppt/media/image6.jpeg" ContentType="image/jpeg"/>
  <Override PartName="/ppt/media/image17.jpeg" ContentType="image/jpeg"/>
  <Override PartName="/ppt/media/image22.png" ContentType="image/png"/>
  <Override PartName="/ppt/media/projctor.wav" ContentType="audio/x-wav"/>
  <Override PartName="/ppt/media/image21.jpeg" ContentType="image/jpeg"/>
  <Override PartName="/ppt/media/chimes.wav" ContentType="audio/x-wav"/>
  <Override PartName="/ppt/media/image7.png" ContentType="image/png"/>
  <Override PartName="/ppt/media/image10.jpeg" ContentType="image/jpeg"/>
  <Override PartName="/ppt/media/image8.jpeg" ContentType="image/jpeg"/>
  <Override PartName="/ppt/media/image28.jpeg" ContentType="image/jpeg"/>
  <Override PartName="/ppt/media/whoosh.wav" ContentType="audio/x-wav"/>
  <Override PartName="/ppt/media/image29.jpeg" ContentType="image/jpeg"/>
  <Override PartName="/ppt/media/image9.jpeg" ContentType="image/jpeg"/>
  <Override PartName="/ppt/media/image12.jpeg" ContentType="image/jpeg"/>
  <Override PartName="/ppt/media/image25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16.jpeg" ContentType="image/jpeg"/>
  <Override PartName="/ppt/media/image4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WHOOSH.WAV" ContentType="audio/x-wav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3.jpeg" ContentType="image/jpeg"/>
  <Override PartName="/ppt/media/image23.png" ContentType="image/png"/>
  <Override PartName="/ppt/media/image15.jpeg" ContentType="image/jpeg"/>
  <Override PartName="/ppt/media/camera.wav" ContentType="audio/x-wav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19D-113C-4853-A12A-E63B106A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1F0-CC59-447C-BCEB-B2159FA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CA2-3D88-4266-9DED-12170B12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01A-1811-4A9A-A410-C9226272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E50-F426-4BD4-96AC-9CDEDBD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4C0-031D-4987-92BC-85044C09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A82-FF2C-48F1-A4C6-524B3D9D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712-AF81-4882-9556-081F367E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CE1-7301-40D1-852E-D84D4F5F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963-FAB8-4F5E-B04F-9D33FD4F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ED9-6922-4B3F-9FF3-56D91A61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F48-79B7-41A3-9541-2FED707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F5B3-E66F-4078-8B3B-19F2A8597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7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8.xml"/><Relationship Id="rId3" Type="http://schemas.openxmlformats.org/officeDocument/2006/relationships/image" Target="../media/image15.jpeg"/><Relationship Id="rId4" Type="http://schemas.openxmlformats.org/officeDocument/2006/relationships/slide" Target="slide8.xml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1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9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9.jpeg"/><Relationship Id="rId4" Type="http://schemas.openxmlformats.org/officeDocument/2006/relationships/image" Target="../media/image20.jpeg"/><Relationship Id="rId5" Type="http://schemas.openxmlformats.org/officeDocument/2006/relationships/image" Target="../media/image28.jpeg"/><Relationship Id="rId6" Type="http://schemas.openxmlformats.org/officeDocument/2006/relationships/image" Target="../media/image25.jpeg"/><Relationship Id="rId7" Type="http://schemas.openxmlformats.org/officeDocument/2006/relationships/image" Target="../media/image12.jpeg"/><Relationship Id="rId8" Type="http://schemas.openxmlformats.org/officeDocument/2006/relationships/image" Target="../media/image27.jpeg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第三单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伶仃：瘦弱。本文用来形容杨二嫂两    条纤细的腿站立如圆规的姿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惶恐：惊慌害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絮絮：形容说话连续不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恣睢：放纵，放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悲凉：悲哀凄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瑟索：即瑟缩，身体因寒冷而蜷缩或兼发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533520" y="6248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821920" y="5410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"/>
                <a:ea typeface="隶书"/>
              </a:rPr>
              <a:t>神异的图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萧索的荒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519360" cy="487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3670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533520" y="6248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457200" y="6248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533520" y="6248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457200" y="6324480"/>
            <a:ext cx="457200" cy="381240"/>
          </a:xfrm>
          <a:prstGeom prst="leftArrow">
            <a:avLst>
              <a:gd name="adj1" fmla="val 50000"/>
              <a:gd name="adj2" fmla="val 2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533520" y="6248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11253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说以什么为线索来组织故事情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3860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以“我”在故乡的见闻感受为线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2276640"/>
            <a:ext cx="83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索：贯穿在整个叙事性作品的情节发展中的脉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8920" y="1700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回故乡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故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离故乡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457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感知情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3657600"/>
            <a:ext cx="73915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故乡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故乡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故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3623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端           发展和高潮         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124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Wingdings 2"/>
                <a:ea typeface="Wingdings 2"/>
              </a:rPr>
              <a:t>线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9144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小说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时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（回故乡、在故乡、离故乡）为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以“我”回故乡的所见所闻为线索逐步展开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33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故事情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2205000"/>
            <a:ext cx="129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回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1-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13372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19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回乡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24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回乡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29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所见景象及心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00536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在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6-77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4076640"/>
            <a:ext cx="73080" cy="115272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8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到家那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3573360"/>
            <a:ext cx="73080" cy="8654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581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过了三四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501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又过了九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5589720"/>
            <a:ext cx="129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离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78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段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结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573408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00360" y="566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船上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609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”的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母子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7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回忆少年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见到杨二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见到了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01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动身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严寒的冬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242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卖屋、搬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萧索、悲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8880" y="2276640"/>
            <a:ext cx="911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4960" y="364500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发展与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38880" y="5734080"/>
            <a:ext cx="91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56000" y="117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回顾小说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981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以塑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人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为中心，通过完整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故事情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叙述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环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描写反映社会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34936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华文琥珀"/>
              </a:rPr>
              <a:t>小说三要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2421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人物、故事情节、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78936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琥珀"/>
              </a:rPr>
              <a:t>人物塑造方法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华文琥珀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3860640"/>
            <a:ext cx="63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外貌、语言、动作、心理。 （神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4581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华文琥珀"/>
              </a:rPr>
              <a:t>故事情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琥珀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4653000"/>
            <a:ext cx="75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开端、发展、高潮、结局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序幕、尾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琥珀"/>
              </a:rPr>
              <a:t>环   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5410080"/>
            <a:ext cx="216000" cy="6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515772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：  写“我”渐近故乡时的悲凉心情和眼前故乡破败萧条的景象，交代了“我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故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时间和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743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段：叙述“我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故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见闻、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5029200"/>
            <a:ext cx="519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09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段：写“我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离开故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心情、感想，表达了“我”对新生活的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821920" y="5410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"/>
                <a:ea typeface="隶书"/>
              </a:rPr>
              <a:t>神异的图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萧索的荒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519360" cy="4876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3670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知环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记忆中的故乡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-------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现实中的故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6576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全文感情基调：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3581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悲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5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乡除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景物的变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外，还有什么变化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627280" y="3429000"/>
            <a:ext cx="345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人的变化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900000" y="549360"/>
            <a:ext cx="76788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9907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小说刻画了哪几个人物形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876920"/>
            <a:ext cx="92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主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采用了什么方法来刻画人物形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728720" cy="2233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048120" y="243828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943600" y="2362320"/>
            <a:ext cx="2087640" cy="237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0" y="289548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闰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80680" y="277992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杨二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95560" y="3068640"/>
            <a:ext cx="139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我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638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外貌描写、语言描写 、动作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529080" cy="4221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211640" y="333360"/>
            <a:ext cx="46814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西瓜田里的少年闰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4032360" cy="4077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0920" y="5445000"/>
            <a:ext cx="511164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捕鸟的少年闰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0" r="52511" b="0"/>
          <a:stretch/>
        </p:blipFill>
        <p:spPr>
          <a:xfrm>
            <a:off x="574560" y="201600"/>
            <a:ext cx="2917800" cy="331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rcRect l="52706" t="0" r="0" b="0"/>
          <a:stretch/>
        </p:blipFill>
        <p:spPr>
          <a:xfrm>
            <a:off x="5148360" y="4010040"/>
            <a:ext cx="3527280" cy="24350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49840" y="3181320"/>
            <a:ext cx="230796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年闰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rcRect l="0" t="1463" r="61282" b="24131"/>
          <a:stretch/>
        </p:blipFill>
        <p:spPr>
          <a:xfrm>
            <a:off x="4727520" y="169920"/>
            <a:ext cx="3721320" cy="2755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>
            <a:lum bright="12000"/>
          </a:blip>
          <a:srcRect l="2916" t="11233" r="4395" b="1852"/>
          <a:stretch/>
        </p:blipFill>
        <p:spPr>
          <a:xfrm>
            <a:off x="628560" y="4011480"/>
            <a:ext cx="378144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80880"/>
            <a:ext cx="0" cy="6096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80880"/>
            <a:ext cx="0" cy="6096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28600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8000" y="404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少年闰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333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中年闰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1125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十一二岁，紫色圆脸，头戴小毡帽，颈套银项圈，红活圆实的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10666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脸色灰黄，很深的皱纹，头戴破毡帽，身穿极薄的棉衣，手又粗又笨而且开裂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565360"/>
            <a:ext cx="13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362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手捏钢叉  向猹尽力刺去  很高兴  说话脱口而出  滔滔不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24382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2362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现出欢喜和凄凉的神情  只是摇头  默默地吸烟  说话吞吞吐吐  断断续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393372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“我”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3500280"/>
            <a:ext cx="335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只是不怕“我”    不到半日，便熟识了  告诉我许多稀奇事    分别时躲到厨房哭着不肯出门   送“我”贝壳和很好看的羽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544500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生活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5589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热爱生活，农村生活知识丰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3645000"/>
            <a:ext cx="40388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态度恭敬，称“我”为“老爷”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16640"/>
            <a:ext cx="3962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要一副香炉和烛台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184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健康、壮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00720" y="184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饱经风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3141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活泼机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94640" y="4869000"/>
            <a:ext cx="85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亲切无间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92360" y="616572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无忧无虑，快乐纯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苦不堪言、麻木迟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292640"/>
            <a:ext cx="36720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隔了一层可悲的厚障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5950080"/>
            <a:ext cx="3211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悲苦无奈，寄希望于神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95280" y="981000"/>
            <a:ext cx="8228880" cy="4952880"/>
            <a:chOff x="395280" y="981000"/>
            <a:chExt cx="8228880" cy="4952880"/>
          </a:xfrm>
        </p:grpSpPr>
        <p:grpSp>
          <p:nvGrpSpPr>
            <p:cNvPr id="227" name=""/>
            <p:cNvGrpSpPr/>
            <p:nvPr/>
          </p:nvGrpSpPr>
          <p:grpSpPr>
            <a:xfrm>
              <a:off x="395280" y="981000"/>
              <a:ext cx="2840400" cy="4952880"/>
              <a:chOff x="395280" y="981000"/>
              <a:chExt cx="2840400" cy="4952880"/>
            </a:xfrm>
          </p:grpSpPr>
          <p:pic>
            <p:nvPicPr>
              <p:cNvPr id="2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5280" y="3983040"/>
                <a:ext cx="2840400" cy="1950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" name=""/>
              <p:cNvGrpSpPr/>
              <p:nvPr/>
            </p:nvGrpSpPr>
            <p:grpSpPr>
              <a:xfrm>
                <a:off x="689040" y="981000"/>
                <a:ext cx="2252880" cy="1950840"/>
                <a:chOff x="689040" y="981000"/>
                <a:chExt cx="2252880" cy="1950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9040" y="981000"/>
                  <a:ext cx="2252880" cy="195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2000" y="2154960"/>
                  <a:ext cx="909000" cy="770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32" name=""/>
            <p:cNvGrpSpPr/>
            <p:nvPr/>
          </p:nvGrpSpPr>
          <p:grpSpPr>
            <a:xfrm>
              <a:off x="5783760" y="981000"/>
              <a:ext cx="2840400" cy="4952880"/>
              <a:chOff x="5783760" y="981000"/>
              <a:chExt cx="2840400" cy="4952880"/>
            </a:xfrm>
          </p:grpSpPr>
          <p:pic>
            <p:nvPicPr>
              <p:cNvPr id="23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979240" y="981000"/>
                <a:ext cx="2253240" cy="19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83760" y="3983040"/>
                <a:ext cx="2840400" cy="195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5" name=""/>
          <p:cNvSpPr/>
          <p:nvPr/>
        </p:nvSpPr>
        <p:spPr>
          <a:xfrm>
            <a:off x="2987640" y="981000"/>
            <a:ext cx="32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生气勃勃、热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开朗、勇敢善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2349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99"/>
                </a:solidFill>
                <a:uFillTx/>
                <a:latin typeface="Times New Roman"/>
                <a:ea typeface="黑体"/>
              </a:rPr>
              <a:t>小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1280" y="3860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cc00"/>
                </a:solidFill>
                <a:uFillTx/>
                <a:latin typeface="Times New Roman"/>
                <a:ea typeface="黑体"/>
              </a:rPr>
              <a:t>木偶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4508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苍老贫困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因循守旧、麻木迟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791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068640"/>
            <a:ext cx="381240" cy="817560"/>
          </a:xfrm>
          <a:prstGeom prst="downArrow">
            <a:avLst>
              <a:gd name="adj1" fmla="val 50000"/>
              <a:gd name="adj2" fmla="val 536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1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少年闰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59500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年闰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484360" y="3141720"/>
            <a:ext cx="182880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为什么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26920" y="62064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什么原因使闰土前后判若两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249228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多子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饥荒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苛税、兵、匪、官、绅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是使其陷入悲苦境地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4778280"/>
            <a:ext cx="1571400" cy="94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47" y="1786"/>
                </a:moveTo>
                <a:lnTo>
                  <a:pt x="24676" y="1786"/>
                </a:lnTo>
                <a:lnTo>
                  <a:pt x="24676" y="1786"/>
                </a:lnTo>
                <a:lnTo>
                  <a:pt x="7243" y="-37537"/>
                </a:lnTo>
              </a:path>
              <a:path w="21600" h="21600">
                <a:moveTo>
                  <a:pt x="22647" y="0"/>
                </a:moveTo>
                <a:lnTo>
                  <a:pt x="22647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子多福的封建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87640" y="5157720"/>
            <a:ext cx="609480" cy="520560"/>
          </a:xfrm>
          <a:prstGeom prst="borderCallout1">
            <a:avLst>
              <a:gd name="adj1" fmla="val 18750"/>
              <a:gd name="adj2" fmla="val -8333"/>
              <a:gd name="adj3" fmla="val -370763"/>
              <a:gd name="adj4" fmla="val -20305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4941720"/>
            <a:ext cx="2438640" cy="520560"/>
          </a:xfrm>
          <a:prstGeom prst="borderCallout1">
            <a:avLst>
              <a:gd name="adj1" fmla="val 18750"/>
              <a:gd name="adj2" fmla="val -8333"/>
              <a:gd name="adj3" fmla="val -399652"/>
              <a:gd name="adj4" fmla="val -11185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祸（帝、封双重压迫的具体体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2520" y="1413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（是岁月流逝的痕迹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75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260280"/>
            <a:ext cx="4824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鲁迅小说创作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836640"/>
            <a:ext cx="87854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觉得医学并非一件紧要事，凡是愚弱的国民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使体格如何健全，如何茁壮，也只能做毫无意义的示众的材料和看客，病死多少是不必以为不幸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所以我们的第一要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zhāo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在改变他们的精神，而善于改变精神的是，我那时以为当然是推文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鲁迅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呐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437000"/>
            <a:ext cx="8569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做小说，我仍抱着十多年前的“启蒙主义”，以为必须是“为人生”，而且要改良这人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鲁迅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为什么做起小说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9912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表层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多子饥荒苛税兵匪官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深层原因（根本原因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帝国主义、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封建主义双重剥削和压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299736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农村经济衰败，农民生活的贫困，封建传统观念（即礼教、等级观念）毒害，使闰土发生了巨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5013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是在生活的重压下艰难地挣扎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中国广大劳苦民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609480" y="765000"/>
          <a:ext cx="8077320" cy="5160960"/>
        </p:xfrm>
        <a:graphic>
          <a:graphicData uri="http://schemas.openxmlformats.org/drawingml/2006/table">
            <a:tbl>
              <a:tblPr/>
              <a:tblGrid>
                <a:gridCol w="1828800"/>
                <a:gridCol w="2638440"/>
                <a:gridCol w="36100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年杨二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年杨二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体形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2843280" y="20606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擦着白粉，年轻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92720" y="22622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凸颧骨，薄嘴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3573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终日坐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19640" y="33577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尖利的怪声，絮絮地说 ，塞手套进裤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522936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1080" y="4960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豆腐西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19640" y="4508640"/>
            <a:ext cx="33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圆规形象：自私、尖刻、贪婪、势利、爱搬弄是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2286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析人物形象———杨二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523880" y="1066680"/>
            <a:ext cx="6153120" cy="3733920"/>
            <a:chOff x="1523880" y="1066680"/>
            <a:chExt cx="6153120" cy="37339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1523880" y="1295280"/>
              <a:ext cx="30416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6229080" y="1066680"/>
              <a:ext cx="1447920" cy="37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>
            <a:off x="4648320" y="2743200"/>
            <a:ext cx="1523880" cy="533520"/>
          </a:xfrm>
          <a:prstGeom prst="leftRightArrow">
            <a:avLst>
              <a:gd name="adj1" fmla="val 50000"/>
              <a:gd name="adj2" fmla="val 5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16765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24000" y="48690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幼圆"/>
              </a:rPr>
              <a:t>端庄文静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Times New Roman"/>
                <a:ea typeface="幼圆"/>
              </a:rPr>
              <a:t>豆腐西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4800600"/>
            <a:ext cx="18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泼辣刻薄自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圆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6172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609588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社会挤压、扭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笑、可气、可恨、可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6248520"/>
            <a:ext cx="1219320" cy="380880"/>
          </a:xfrm>
          <a:prstGeom prst="rightArrow">
            <a:avLst>
              <a:gd name="adj1" fmla="val 50000"/>
              <a:gd name="adj2" fmla="val 800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 小结：通过肖像、语言、神态、动作的细节描写，表现了杨二嫂的自私、尖刻、贪婪、势利的性格。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2708280"/>
            <a:ext cx="8064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Garamond"/>
              </a:rPr>
              <a:t>、      杨二嫂为什么也发生这么大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农村经济衰败、生活的贫困、小市民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势利贪婪（或：市侩）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的恶习使她发生了这么大的变化。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71640" y="36450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闰土：淳朴善良麻木迟钝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贫苦农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373392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杨二嫂：尖酸刻薄自私势利贪婪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小市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5157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发生变化的原因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农村经济衰败、农民和小市民生活的贫困、封建传统观念对人们精神的毒害，造成人们纯真人性的扭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116000" y="0"/>
            <a:ext cx="5978520" cy="3652920"/>
            <a:chOff x="1116000" y="0"/>
            <a:chExt cx="5978520" cy="365292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1116000" y="304920"/>
              <a:ext cx="30477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2"/>
            <a:srcRect l="0" t="2173" r="0" b="0"/>
            <a:stretch/>
          </p:blipFill>
          <p:spPr>
            <a:xfrm>
              <a:off x="5646600" y="0"/>
              <a:ext cx="1447920" cy="365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"/>
          <p:cNvSpPr/>
          <p:nvPr/>
        </p:nvSpPr>
        <p:spPr>
          <a:xfrm>
            <a:off x="39528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68000" y="4653000"/>
            <a:ext cx="42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说通过对比手法的运用，表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巨大变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395280" y="4221000"/>
          <a:ext cx="1203480" cy="24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221000"/>
                    <a:ext cx="1203480" cy="24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4"/>
          <a:srcRect l="68216" t="0" r="17529" b="21110"/>
          <a:stretch/>
        </p:blipFill>
        <p:spPr>
          <a:xfrm>
            <a:off x="7661160" y="396720"/>
            <a:ext cx="1365480" cy="46166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39640" y="2602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说刻画杨二嫂形象与描写闰土的方法有何异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1557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03280" y="1557360"/>
            <a:ext cx="5791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通过人物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外貌、语言、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描写来表现人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03280" y="2492280"/>
            <a:ext cx="55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通过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对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了人物的前后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3429000"/>
            <a:ext cx="14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3213000"/>
            <a:ext cx="58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闰土是先回忆，再眼前，因为少年闰土的美好形象已经在“我”头脑中留下了深刻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5157720"/>
            <a:ext cx="695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杨二嫂则是先闻其声，再见其人。这更符合杨二嫂尖利、泼辣的性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676520" y="5486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端庄文静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豆腐西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54864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放纵刻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私的圆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22096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勇敢机智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真的小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2209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苍老麻木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旧的木偶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67280" y="39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情同手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49040" y="398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厚障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57320" y="6858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vantGarde Bk BT"/>
                <a:ea typeface="隶书"/>
              </a:rPr>
              <a:t>美丽的神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vantGarde Bk BT"/>
                <a:ea typeface="隶书"/>
              </a:rPr>
              <a:t>图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86320" y="709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萧索的荒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5400000">
            <a:off x="1295280" y="2590560"/>
            <a:ext cx="609588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00">
                    <a:alpha val="50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悲哀</a:t>
            </a:r>
            <a:endParaRPr b="1" lang="en-US" sz="1800" spc="1" strike="noStrike">
              <a:ln w="0">
                <a:noFill/>
              </a:ln>
              <a:solidFill>
                <a:srgbClr val="800000">
                  <a:alpha val="50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135080" cy="1523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113832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7238880" y="53341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7315200" y="3733920"/>
            <a:ext cx="1149480" cy="1523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7238880" y="1828800"/>
            <a:ext cx="1185840" cy="1752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6934320" y="304920"/>
            <a:ext cx="1758960" cy="12618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457200" y="3809880"/>
            <a:ext cx="11430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85800" y="266760"/>
            <a:ext cx="8229600" cy="6324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600200" y="190512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水生宏儿再相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219320" y="685800"/>
            <a:ext cx="624816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方正舒体"/>
              </a:rPr>
              <a:t>希望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方正舒体"/>
              <a:ea typeface="方正舒体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657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空怀“希望”而不去奋斗，希望便“无所谓有”；有了希望并始终不渝地奋斗、实践，希望便“无所谓无”。人们都向希望之路奔跑，就会迎来新生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403200"/>
          <a:ext cx="8064720" cy="6054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3200"/>
                    <a:ext cx="8064720" cy="6054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57840" y="2847960"/>
            <a:ext cx="2451240" cy="367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916360" y="304920"/>
            <a:ext cx="32176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走近鲁迅</a:t>
            </a:r>
            <a:endParaRPr b="1" lang="en-US" sz="6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1209960" y="1066680"/>
            <a:ext cx="6792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81—19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于浙江绍兴，原名周树人，字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才，我国现代伟大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文学家、思想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革命家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篇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狂人日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始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鲁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笔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74960" y="2611440"/>
            <a:ext cx="398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著名作品集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野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朝花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呐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彷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4160" y="3716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华文新魏"/>
              </a:rPr>
              <a:t>在初中我们学过他的作品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9264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从百草园到三味书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8690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藤野先生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5516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社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6572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孔乙己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4292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《祝福》（祥林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4941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《药》（夏老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0309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"/>
              </a:rPr>
              <a:t>鲁迅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858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悲剧将人生的有价值的东西毁灭给人看，喜剧将那无价值的撕破给人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有地方特色，倒容易成为世界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满足是向上的车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伟大的心胸，应该用笑脸来迎接悲惨的厄运，用百倍的勇气来应付一切的不幸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能培一朵花，就不妨做做会朽的腐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命是以时间为单位的，浪费别人的时间等于谋财害命，浪费自己的时间等于慢性自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即使是天才，生下来的第一声啼哭也绝不会是一首好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好象是一只牛，吃的是草，挤出的是牛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哪里有天才，我是把别人喝咖啡的工夫都用在了工作上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无情未必真豪杰，怜子如何不丈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度尽劫波兄弟在，相逢一笑泯恩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心事浩茫连广宇，于无声处听惊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岂有豪情似旧时，花开花落两由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059280" y="189000"/>
            <a:ext cx="30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时代背景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965160"/>
            <a:ext cx="8515080" cy="29757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写作背景</a:t>
            </a: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1919</a:t>
            </a: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月，鲁迅回故乡绍兴，接母亲到北京。在故乡，他目睹了故乡的冷漠、麻木、市侩和猥琐，“希望”的破灭，心中感到无比的悲哀。</a:t>
            </a: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1921</a:t>
            </a: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年，作者依据这次回家的经历为题材，写了这篇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文章是用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第一人称“我”</a:t>
            </a:r>
            <a:r>
              <a:rPr b="1" lang="zh-CN" sz="3200" spc="-1" strike="noStrike">
                <a:solidFill>
                  <a:srgbClr val="d50943"/>
                </a:solidFill>
                <a:latin typeface="Times New Roman"/>
              </a:rPr>
              <a:t>来写的，是作者所塑造的一个人物形象，不能指作者自己</a:t>
            </a:r>
            <a:r>
              <a:rPr b="1" lang="zh-CN" sz="2400" spc="-1" strike="noStrike">
                <a:solidFill>
                  <a:srgbClr val="d5094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066680" y="2057400"/>
            <a:ext cx="662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速读课文 整体感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341360"/>
            <a:ext cx="9828360" cy="64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秕谷（     ）   鹁鸪（      ） 颧骨（    ）   折本（     ）   潺潺（     ）  阴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伶仃（          ）  恣睢（       ） 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愕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嗤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瑟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惘然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祭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噤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43280" y="333360"/>
            <a:ext cx="33130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掌握字词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37160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1371600"/>
            <a:ext cx="20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 g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1371600"/>
            <a:ext cx="21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90512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8288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743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íng d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19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637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ì su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28000" y="2666880"/>
            <a:ext cx="16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276720"/>
            <a:ext cx="19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3284640"/>
            <a:ext cx="18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32767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1148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4076640"/>
            <a:ext cx="6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076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869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86900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d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486900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57340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573408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0" y="566100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17T03:00:5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