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26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7.png" ContentType="image/png"/>
  <Override PartName="/ppt/media/image9.png" ContentType="image/png"/>
  <Override PartName="/ppt/media/image28.jpeg" ContentType="image/jpeg"/>
  <Override PartName="/ppt/media/image8.png" ContentType="image/png"/>
  <Override PartName="/ppt/media/type.wav" ContentType="audio/x-wav"/>
  <Override PartName="/ppt/media/wind.wav" ContentType="audio/x-wav"/>
  <Override PartName="/ppt/media/TYPE.WAV" ContentType="audio/x-wav"/>
  <Override PartName="/ppt/media/image16.jpeg" ContentType="image/jpeg"/>
  <Override PartName="/ppt/media/WHOOSH.WAV" ContentType="audio/x-wav"/>
  <Override PartName="/ppt/media/image31.png" ContentType="image/png"/>
  <Override PartName="/ppt/media/image6.png" ContentType="image/png"/>
  <Override PartName="/ppt/media/image30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32.gif" ContentType="image/gif"/>
  <Override PartName="/ppt/media/image1.wmf" ContentType="image/x-wmf"/>
  <Override PartName="/ppt/media/image13.png" ContentType="image/png"/>
  <Override PartName="/ppt/media/image14.png" ContentType="image/png"/>
  <Override PartName="/ppt/media/image15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BFB-39F2-487E-B723-1E70DC7A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DBC-EBE1-4B7D-83D3-4543D9E6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799-CF32-441C-B9F5-18CD6D4C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A61-9257-4382-BAE8-F55CE8F3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04A-C836-4322-AFA3-76402093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1C3-12B0-4899-8275-85BD3B83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DFA-2250-4D29-B470-93A70802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563-7787-4DEE-9B12-D9868DB8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13F-1F10-4C63-BBD0-F3D4975C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4A6-6800-4C1E-87A6-A9A1711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A84-B97D-42C8-A2DA-5E14878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DDB-7B4F-41D1-B922-4A48E809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4497-BFF7-43EC-BEB3-7B5AB08DC7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2.gif"/><Relationship Id="rId3" Type="http://schemas.openxmlformats.org/officeDocument/2006/relationships/slide" Target="slide10.xml"/><Relationship Id="rId4" Type="http://schemas.openxmlformats.org/officeDocument/2006/relationships/image" Target="../media/image12.gif"/><Relationship Id="rId5" Type="http://schemas.openxmlformats.org/officeDocument/2006/relationships/slide" Target="slide10.xml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8.jpeg"/><Relationship Id="rId3" Type="http://schemas.openxmlformats.org/officeDocument/2006/relationships/image" Target="../media/image23.jpeg"/><Relationship Id="rId4" Type="http://schemas.openxmlformats.org/officeDocument/2006/relationships/image" Target="../media/image26.jpeg"/><Relationship Id="rId5" Type="http://schemas.openxmlformats.org/officeDocument/2006/relationships/image" Target="../media/image21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0.jpeg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 rot="5225400">
            <a:off x="-1334160" y="2019960"/>
            <a:ext cx="5792760" cy="2362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-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2f5e"/>
                    </a:gs>
                    <a:gs pos="100000">
                      <a:srgbClr val="ff66cc"/>
                    </a:gs>
                  </a:gsLst>
                  <a:lin ang="16494000"/>
                </a:gradFill>
                <a:latin typeface="宋体"/>
              </a:rPr>
              <a:t>故乡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2f5e"/>
                  </a:gs>
                  <a:gs pos="100000">
                    <a:srgbClr val="ff66cc"/>
                  </a:gs>
                </a:gsLst>
                <a:lin ang="16494000"/>
              </a:gradFill>
              <a:latin typeface="宋体"/>
              <a:ea typeface="宋体"/>
            </a:endParaRPr>
          </a:p>
        </p:txBody>
      </p:sp>
      <p:sp>
        <p:nvSpPr>
          <p:cNvPr id="42" name="Text Box 3"/>
          <p:cNvSpPr/>
          <p:nvPr/>
        </p:nvSpPr>
        <p:spPr>
          <a:xfrm rot="10800">
            <a:off x="3123720" y="2422080"/>
            <a:ext cx="19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鲁 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415320" y="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阅读课文思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50920" y="1052640"/>
            <a:ext cx="8664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课文的线索是什么？以什么为基本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课文重点刻画哪两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主要采用什么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4000" y="3357720"/>
            <a:ext cx="882000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线索：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隶书"/>
              </a:rPr>
              <a:t>“我”回故乡的见闻和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内容：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Times New Roman"/>
                <a:ea typeface="隶书"/>
              </a:rPr>
              <a:t>记忆中的故乡与现实中的故乡巨大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68360" y="501336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人物：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隶书"/>
              </a:rPr>
              <a:t>闰土、杨二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手法：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隶书"/>
              </a:rPr>
              <a:t>对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754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黑体"/>
              </a:rPr>
              <a:t>组材顺序和线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23623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顺序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点转移和时间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838080" y="358128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线索：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我”回故乡的见闻和感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75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75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LE21"/>
          <p:cNvPicPr/>
          <p:nvPr/>
        </p:nvPicPr>
        <p:blipFill>
          <a:blip r:embed="rId1"/>
          <a:srcRect l="56271" t="0" r="0" b="0"/>
          <a:stretch/>
        </p:blipFill>
        <p:spPr>
          <a:xfrm>
            <a:off x="4114800" y="685800"/>
            <a:ext cx="3736800" cy="5324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533520" y="533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黑体"/>
              </a:rPr>
              <a:t>情节结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80880" y="30481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部分：回故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3657600" y="1676520"/>
            <a:ext cx="152280" cy="3581280"/>
          </a:xfrm>
          <a:custGeom>
            <a:avLst/>
            <a:gdLst>
              <a:gd name="textAreaLeft" fmla="*/ 97200 w 152280"/>
              <a:gd name="textAreaRight" fmla="*/ 152640 w 15228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962520" y="1371600"/>
            <a:ext cx="17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回乡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962520" y="2514600"/>
            <a:ext cx="18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回乡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62520" y="3809880"/>
            <a:ext cx="26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回乡所见景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962520" y="5029200"/>
            <a:ext cx="17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回乡心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705720" y="1371600"/>
            <a:ext cx="12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深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705720" y="2590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卖屋、搬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705720" y="3733920"/>
            <a:ext cx="16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萧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705720" y="5029200"/>
            <a:ext cx="18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悲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75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75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75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75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75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75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75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75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LE26"/>
          <p:cNvPicPr/>
          <p:nvPr/>
        </p:nvPicPr>
        <p:blipFill>
          <a:blip r:embed="rId1"/>
          <a:srcRect l="52501" t="0" r="0" b="0"/>
          <a:stretch/>
        </p:blipFill>
        <p:spPr>
          <a:xfrm>
            <a:off x="6705720" y="533520"/>
            <a:ext cx="203040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LE27"/>
          <p:cNvPicPr/>
          <p:nvPr/>
        </p:nvPicPr>
        <p:blipFill>
          <a:blip r:embed="rId2"/>
          <a:srcRect l="62537" t="0" r="0" b="0"/>
          <a:stretch/>
        </p:blipFill>
        <p:spPr>
          <a:xfrm>
            <a:off x="4800600" y="2743200"/>
            <a:ext cx="2278080" cy="3789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JS16"/>
          <p:cNvPicPr/>
          <p:nvPr/>
        </p:nvPicPr>
        <p:blipFill>
          <a:blip r:embed="rId3"/>
          <a:srcRect l="55016" t="0" r="0" b="0"/>
          <a:stretch/>
        </p:blipFill>
        <p:spPr>
          <a:xfrm>
            <a:off x="6400800" y="0"/>
            <a:ext cx="210348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JS15"/>
          <p:cNvPicPr/>
          <p:nvPr/>
        </p:nvPicPr>
        <p:blipFill>
          <a:blip r:embed="rId4"/>
          <a:srcRect l="0" t="1463" r="61282" b="24131"/>
          <a:stretch/>
        </p:blipFill>
        <p:spPr>
          <a:xfrm>
            <a:off x="6561000" y="3733920"/>
            <a:ext cx="258300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LE18"/>
          <p:cNvPicPr/>
          <p:nvPr/>
        </p:nvPicPr>
        <p:blipFill>
          <a:blip r:embed="rId5"/>
          <a:srcRect l="1125" t="5786" r="52511" b="5738"/>
          <a:stretch/>
        </p:blipFill>
        <p:spPr>
          <a:xfrm>
            <a:off x="179280" y="765000"/>
            <a:ext cx="4292640" cy="5105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609480" y="28954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第二部分：在故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3581280" y="1828800"/>
            <a:ext cx="152640" cy="3276720"/>
          </a:xfrm>
          <a:custGeom>
            <a:avLst/>
            <a:gdLst>
              <a:gd name="textAreaLeft" fmla="*/ 97560 w 152640"/>
              <a:gd name="textAreaRight" fmla="*/ 153000 w 15264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886200" y="160020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到家那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62520" y="3505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过了三四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886200" y="4952880"/>
            <a:ext cx="23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又过了九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5562720" y="990720"/>
            <a:ext cx="174600" cy="1676160"/>
          </a:xfrm>
          <a:custGeom>
            <a:avLst/>
            <a:gdLst>
              <a:gd name="textAreaLeft" fmla="*/ 111600 w 174600"/>
              <a:gd name="textAreaRight" fmla="*/ 174960 w 174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715000" y="685800"/>
            <a:ext cx="26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母子相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715000" y="1523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回忆少年闰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5715000" y="2362320"/>
            <a:ext cx="26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见到杨二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6019920" y="3505320"/>
            <a:ext cx="21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见到闰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095880" y="495288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动身起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75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75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75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7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75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75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75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LE6"/>
          <p:cNvPicPr/>
          <p:nvPr/>
        </p:nvPicPr>
        <p:blipFill>
          <a:blip r:embed="rId1"/>
          <a:srcRect l="0" t="0" r="57521" b="13519"/>
          <a:stretch/>
        </p:blipFill>
        <p:spPr>
          <a:xfrm>
            <a:off x="0" y="304920"/>
            <a:ext cx="3843360" cy="487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Js20"/>
          <p:cNvPicPr/>
          <p:nvPr/>
        </p:nvPicPr>
        <p:blipFill>
          <a:blip r:embed="rId2"/>
          <a:srcRect l="50006" t="1254" r="0" b="0"/>
          <a:stretch/>
        </p:blipFill>
        <p:spPr>
          <a:xfrm>
            <a:off x="5961240" y="2666880"/>
            <a:ext cx="3182760" cy="4191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JS9"/>
          <p:cNvPicPr/>
          <p:nvPr/>
        </p:nvPicPr>
        <p:blipFill>
          <a:blip r:embed="rId3"/>
          <a:srcRect l="6947" t="4978" r="47495" b="1720"/>
          <a:stretch/>
        </p:blipFill>
        <p:spPr>
          <a:xfrm>
            <a:off x="17524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33520" y="2666880"/>
            <a:ext cx="47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第三部分：离故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038480" y="182880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572000" y="16002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船上谈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495680" y="35812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我”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75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75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75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907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小说以“我”的行踪（回故乡、在故乡、离故乡）为经，以“我”的见闻、感受为纬，逐步展开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0" y="0"/>
            <a:ext cx="3348000" cy="916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行楷"/>
              </a:rPr>
              <a:t>故事情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042920" y="220500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回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方正姚体"/>
              </a:rPr>
              <a:t>1-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2484360" y="2133720"/>
            <a:ext cx="71640" cy="9349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627280" y="1916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新魏"/>
              </a:rPr>
              <a:t>回乡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627280" y="24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新魏"/>
              </a:rPr>
              <a:t>回乡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700360" y="292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新魏"/>
              </a:rPr>
              <a:t>所见景象及心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042920" y="4005360"/>
            <a:ext cx="1368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在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方正姚体"/>
              </a:rPr>
              <a:t>6-7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2484360" y="4076640"/>
            <a:ext cx="73080" cy="115272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56000" y="378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新魏"/>
              </a:rPr>
              <a:t>到家那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211640" y="3573360"/>
            <a:ext cx="73080" cy="8654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2484360" y="4581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新魏"/>
              </a:rPr>
              <a:t>过了三四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556000" y="501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新魏"/>
              </a:rPr>
              <a:t>又过了九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1116000" y="558972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离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方正姚体"/>
              </a:rPr>
              <a:t>7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姚体"/>
              </a:rPr>
              <a:t>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方正姚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姚体"/>
              </a:rPr>
              <a:t>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2556000" y="5734080"/>
            <a:ext cx="71280" cy="79200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2700360" y="566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新魏"/>
              </a:rPr>
              <a:t>船上谈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771640" y="609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新魏"/>
              </a:rPr>
              <a:t>我”的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4356000" y="33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母子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4427640" y="37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回忆少年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435600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见到杨二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442764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见到了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4427640" y="501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动身启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406728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严寒的冬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4067280" y="2421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卖屋、搬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5292720" y="29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萧索、悲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-38880" y="2276640"/>
            <a:ext cx="911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方正姚体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-84960" y="364500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方正姚体"/>
              </a:rPr>
              <a:t>发展与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-38880" y="5734080"/>
            <a:ext cx="91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姚体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1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0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2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4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1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5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0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2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课堂作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课后练习第一、二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本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训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4360" y="1628280"/>
            <a:ext cx="8137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主合作交流展示（一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回故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划出文章第一部分中的环境（景物）描写，分析环境（景物）描写的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95280" y="9810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回到家见到的又是怎样的景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68360" y="213372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枯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断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寒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渲染了一种凄清的景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39640" y="3860640"/>
            <a:ext cx="79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我”要永别故乡、永离老屋，而老屋的颓废、荒芜、冷落更增加了惆怅、悲凉的情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0920" y="260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作者千里迢迢回到阔别二十余年的故乡，体会到的不是激动、喜悦，而是悲哀，不仅是因为故乡的景的变化，还有就是故乡的人，作者在文中主要塑造了哪些人物形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42920" y="4221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闰土、杨二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3"/>
          <p:cNvSpPr/>
          <p:nvPr/>
        </p:nvSpPr>
        <p:spPr>
          <a:xfrm>
            <a:off x="1699560" y="4557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163680" y="16765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朗读课文，疏解字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252160" y="4267080"/>
            <a:ext cx="9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、梳理情节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232720" y="3048120"/>
            <a:ext cx="51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说以什么为线索来组织故事情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gif044"/>
          <p:cNvPicPr/>
          <p:nvPr/>
        </p:nvPicPr>
        <p:blipFill>
          <a:blip r:embed="rId3"/>
          <a:stretch/>
        </p:blipFill>
        <p:spPr>
          <a:xfrm>
            <a:off x="6156360" y="4149720"/>
            <a:ext cx="187164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143000" y="533520"/>
            <a:ext cx="1981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关注命运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9" name="Picture 3" descr="01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810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0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133720" y="3124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01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0" y="4343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7"/>
          <p:cNvPicPr/>
          <p:nvPr/>
        </p:nvPicPr>
        <p:blipFill>
          <a:blip r:embed="rId7"/>
          <a:stretch/>
        </p:blipFill>
        <p:spPr>
          <a:xfrm>
            <a:off x="3200400" y="914400"/>
            <a:ext cx="5029200" cy="6350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048120" y="2133720"/>
            <a:ext cx="32526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闰土命运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3348000" y="3213000"/>
            <a:ext cx="346392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杨二嫂命运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3419640" y="4437000"/>
            <a:ext cx="3790800" cy="59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”的命运研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539640" y="1429920"/>
            <a:ext cx="79218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主合作交流展示（二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故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表格分析闰土、杨二嫂这两个人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采用什么描写方式刻画人物的？试圈点批划出这些文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刻画出两人物怎样的性格特点？采用了什么写作手法？有何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-57240" y="762120"/>
            <a:ext cx="1521000" cy="3886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闰土命运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LE12"/>
          <p:cNvPicPr/>
          <p:nvPr/>
        </p:nvPicPr>
        <p:blipFill>
          <a:blip r:embed="rId1"/>
          <a:srcRect l="0" t="0" r="52511" b="0"/>
          <a:stretch/>
        </p:blipFill>
        <p:spPr>
          <a:xfrm>
            <a:off x="3492360" y="549360"/>
            <a:ext cx="4319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967280" y="1268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一二岁  紫色圆脸   毡帽、银项圈   红活圆实的手 健康壮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718240" y="2924280"/>
            <a:ext cx="2692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泼刚健  动作利落  有智有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朴质生动    热情纯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703480" y="450864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友好热情   纯真平等友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770080" y="5661000"/>
            <a:ext cx="20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热爱生活 生活知识丰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真活泼   无忧无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56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564000" y="2924280"/>
            <a:ext cx="86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203640" y="44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对我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203640" y="558972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对生活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性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5219640" y="333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隶书"/>
              </a:rPr>
              <a:t>少年闰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019"/>
          <p:cNvPicPr/>
          <p:nvPr/>
        </p:nvPicPr>
        <p:blipFill>
          <a:blip r:embed="rId1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6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6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6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6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6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6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6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6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5219640" y="1197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脸色灰黄   皱纹深  极薄的棉衣  眼肿得通红  破毡帽  手粗笨开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897160" y="278136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话吞吞吐吐    只是摇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谦恭又含糊     迟钝麻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958000" y="450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恭恭敬敬    呼“我”老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014160" y="580536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悲哀痛苦    寄托神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544560" y="162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419640" y="3068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226680" y="450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我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3215520" y="5734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生活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292720" y="26028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中年闰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1" descr="021"/>
          <p:cNvPicPr/>
          <p:nvPr/>
        </p:nvPicPr>
        <p:blipFill>
          <a:blip r:embed="rId1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6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6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6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6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6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6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6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143000" y="1828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219320" y="17524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600200" y="118440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_TH_B2128"/>
          <p:cNvSpPr/>
          <p:nvPr/>
        </p:nvSpPr>
        <p:spPr>
          <a:xfrm>
            <a:off x="1717560" y="1228680"/>
            <a:ext cx="1605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50920" y="260280"/>
          <a:ext cx="8569080" cy="6496200"/>
        </p:xfrm>
        <a:graphic>
          <a:graphicData uri="http://schemas.openxmlformats.org/drawingml/2006/table">
            <a:tbl>
              <a:tblPr/>
              <a:tblGrid>
                <a:gridCol w="1152360"/>
                <a:gridCol w="3625920"/>
                <a:gridCol w="3790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刻画人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的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                                                 </a:t>
                      </a: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变            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年前的闰土</a:t>
                      </a:r>
                      <a:r>
                        <a:rPr b="1" lang="zh-CN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年后的闰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对“我”的态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对生活的态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人物形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变化原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表层原因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深层原因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4" name="Text Box 45"/>
          <p:cNvSpPr/>
          <p:nvPr/>
        </p:nvSpPr>
        <p:spPr>
          <a:xfrm>
            <a:off x="511560" y="1413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外貌描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6"/>
          <p:cNvSpPr/>
          <p:nvPr/>
        </p:nvSpPr>
        <p:spPr>
          <a:xfrm>
            <a:off x="1546200" y="1268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十一二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紫色圆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头戴小毡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颈套银项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双红活圆实的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7"/>
          <p:cNvSpPr/>
          <p:nvPr/>
        </p:nvSpPr>
        <p:spPr>
          <a:xfrm>
            <a:off x="5003640" y="1017720"/>
            <a:ext cx="4069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身材增加一倍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灰黄的脸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很深的皱纹，眼睛周围肿得通红，头戴破毡帽，身穿极薄棉衣，浑身瑟索着，手提一个纸包和一支长烟管，手又粗又笨而且开裂，像是松树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8"/>
          <p:cNvSpPr/>
          <p:nvPr/>
        </p:nvSpPr>
        <p:spPr>
          <a:xfrm>
            <a:off x="216000" y="2492280"/>
            <a:ext cx="13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作描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9"/>
          <p:cNvSpPr/>
          <p:nvPr/>
        </p:nvSpPr>
        <p:spPr>
          <a:xfrm>
            <a:off x="1692360" y="2276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手捏钢叉、捕鸟，活泼刚健，动作干脆利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0"/>
          <p:cNvSpPr/>
          <p:nvPr/>
        </p:nvSpPr>
        <p:spPr>
          <a:xfrm>
            <a:off x="5940360" y="2421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显得迟钝麻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1"/>
          <p:cNvSpPr/>
          <p:nvPr/>
        </p:nvSpPr>
        <p:spPr>
          <a:xfrm>
            <a:off x="1743120" y="552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2"/>
          <p:cNvSpPr/>
          <p:nvPr/>
        </p:nvSpPr>
        <p:spPr>
          <a:xfrm>
            <a:off x="179280" y="321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描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3"/>
          <p:cNvSpPr/>
          <p:nvPr/>
        </p:nvSpPr>
        <p:spPr>
          <a:xfrm>
            <a:off x="1763640" y="3068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说话脱口而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说不完的新鲜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4"/>
          <p:cNvSpPr/>
          <p:nvPr/>
        </p:nvSpPr>
        <p:spPr>
          <a:xfrm>
            <a:off x="5364000" y="306864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说话吞吞吐吐，断断续续，喊我“老爷”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谦恭而又含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5"/>
          <p:cNvSpPr/>
          <p:nvPr/>
        </p:nvSpPr>
        <p:spPr>
          <a:xfrm>
            <a:off x="1258920" y="3789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只是不怕我，送“我”贝壳和鸟毛，告诉“我”很多稀奇事。对“我”友好热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6"/>
          <p:cNvSpPr/>
          <p:nvPr/>
        </p:nvSpPr>
        <p:spPr>
          <a:xfrm>
            <a:off x="5508720" y="400536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7"/>
          <p:cNvSpPr/>
          <p:nvPr/>
        </p:nvSpPr>
        <p:spPr>
          <a:xfrm>
            <a:off x="4932360" y="386064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对“我”恭恭敬敬，喊“我”为老爷，和“我”之间隔了一层可悲的厚障壁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1671480" y="530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9"/>
          <p:cNvSpPr/>
          <p:nvPr/>
        </p:nvSpPr>
        <p:spPr>
          <a:xfrm>
            <a:off x="2131200" y="4724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真活泼，无忧无虑，热爱生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0"/>
          <p:cNvSpPr/>
          <p:nvPr/>
        </p:nvSpPr>
        <p:spPr>
          <a:xfrm>
            <a:off x="4978440" y="4600440"/>
            <a:ext cx="37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悲哀、痛苦，生活压得他喘不过气来。把生活的希望寄托在神灵身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1"/>
          <p:cNvSpPr/>
          <p:nvPr/>
        </p:nvSpPr>
        <p:spPr>
          <a:xfrm>
            <a:off x="1476360" y="524988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真活泼，无忧无虑，热情、纯真、质朴、懂得许多知识，有智有勇的小英雄形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2"/>
          <p:cNvSpPr/>
          <p:nvPr/>
        </p:nvSpPr>
        <p:spPr>
          <a:xfrm>
            <a:off x="5003640" y="5373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善良忠厚、勤劳朴实、迟钝麻木、迷信、封建等级观念森严的木偶人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3"/>
          <p:cNvSpPr/>
          <p:nvPr/>
        </p:nvSpPr>
        <p:spPr>
          <a:xfrm>
            <a:off x="5451840" y="61578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多子，饥荒，苛税，兵，匪，官，绅，都苦得他像一个木偶人了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4"/>
          <p:cNvSpPr/>
          <p:nvPr/>
        </p:nvSpPr>
        <p:spPr>
          <a:xfrm>
            <a:off x="3690000" y="6400800"/>
            <a:ext cx="39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深受帝国主义和封建主义的双重压迫以及封建等级制度的毒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533520" y="838080"/>
            <a:ext cx="8228520" cy="4952880"/>
            <a:chOff x="533520" y="838080"/>
            <a:chExt cx="8228520" cy="4952880"/>
          </a:xfrm>
        </p:grpSpPr>
        <p:grpSp>
          <p:nvGrpSpPr>
            <p:cNvPr id="235" name="Group 3"/>
            <p:cNvGrpSpPr/>
            <p:nvPr/>
          </p:nvGrpSpPr>
          <p:grpSpPr>
            <a:xfrm>
              <a:off x="533520" y="838080"/>
              <a:ext cx="2840400" cy="4952880"/>
              <a:chOff x="533520" y="838080"/>
              <a:chExt cx="2840400" cy="4952880"/>
            </a:xfrm>
          </p:grpSpPr>
          <p:pic>
            <p:nvPicPr>
              <p:cNvPr id="236" name="Picture 4" descr="hxx8"/>
              <p:cNvPicPr/>
              <p:nvPr/>
            </p:nvPicPr>
            <p:blipFill>
              <a:blip r:embed="rId1"/>
              <a:stretch/>
            </p:blipFill>
            <p:spPr>
              <a:xfrm>
                <a:off x="533520" y="3840120"/>
                <a:ext cx="2840400" cy="1950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7" name="Group 5"/>
              <p:cNvGrpSpPr/>
              <p:nvPr/>
            </p:nvGrpSpPr>
            <p:grpSpPr>
              <a:xfrm>
                <a:off x="827280" y="838080"/>
                <a:ext cx="2252880" cy="1951200"/>
                <a:chOff x="827280" y="838080"/>
                <a:chExt cx="2252880" cy="1951200"/>
              </a:xfrm>
            </p:grpSpPr>
            <p:pic>
              <p:nvPicPr>
                <p:cNvPr id="238" name="Picture 6" descr="hxx6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7280" y="838080"/>
                  <a:ext cx="2252880" cy="195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7" descr="hxx5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9880" y="2012040"/>
                  <a:ext cx="909360" cy="770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40" name="Group 8"/>
            <p:cNvGrpSpPr/>
            <p:nvPr/>
          </p:nvGrpSpPr>
          <p:grpSpPr>
            <a:xfrm>
              <a:off x="5921280" y="838080"/>
              <a:ext cx="2840760" cy="4952880"/>
              <a:chOff x="5921280" y="838080"/>
              <a:chExt cx="2840760" cy="4952880"/>
            </a:xfrm>
          </p:grpSpPr>
          <p:pic>
            <p:nvPicPr>
              <p:cNvPr id="241" name="Picture 9" descr="hxx9"/>
              <p:cNvPicPr/>
              <p:nvPr/>
            </p:nvPicPr>
            <p:blipFill>
              <a:blip r:embed="rId4"/>
              <a:stretch/>
            </p:blipFill>
            <p:spPr>
              <a:xfrm>
                <a:off x="6117480" y="838080"/>
                <a:ext cx="2252520" cy="19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0" descr="hxx4"/>
              <p:cNvPicPr/>
              <p:nvPr/>
            </p:nvPicPr>
            <p:blipFill>
              <a:blip r:embed="rId5"/>
              <a:stretch/>
            </p:blipFill>
            <p:spPr>
              <a:xfrm>
                <a:off x="5921280" y="3840120"/>
                <a:ext cx="2840760" cy="1950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3" name="Group 11"/>
          <p:cNvGrpSpPr/>
          <p:nvPr/>
        </p:nvGrpSpPr>
        <p:grpSpPr>
          <a:xfrm>
            <a:off x="3429000" y="990720"/>
            <a:ext cx="1733400" cy="4481640"/>
            <a:chOff x="3429000" y="990720"/>
            <a:chExt cx="1733400" cy="4481640"/>
          </a:xfrm>
        </p:grpSpPr>
        <p:sp>
          <p:nvSpPr>
            <p:cNvPr id="244" name="Text Box 12"/>
            <p:cNvSpPr/>
            <p:nvPr/>
          </p:nvSpPr>
          <p:spPr>
            <a:xfrm>
              <a:off x="3429000" y="990720"/>
              <a:ext cx="150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幼圆"/>
                </a:rPr>
                <a:t>生气勃勃热情开朗勇敢善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3"/>
            <p:cNvSpPr/>
            <p:nvPr/>
          </p:nvSpPr>
          <p:spPr>
            <a:xfrm>
              <a:off x="3533760" y="4646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苍老贫困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因循守旧麻木迟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4"/>
            <p:cNvSpPr/>
            <p:nvPr/>
          </p:nvSpPr>
          <p:spPr>
            <a:xfrm>
              <a:off x="3586320" y="2448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ff3399"/>
                  </a:solidFill>
                  <a:uFillTx/>
                  <a:latin typeface="Times New Roman"/>
                  <a:ea typeface="幼圆"/>
                </a:rPr>
                <a:t>小英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5"/>
            <p:cNvSpPr/>
            <p:nvPr/>
          </p:nvSpPr>
          <p:spPr>
            <a:xfrm>
              <a:off x="3638520" y="38350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木偶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380880" y="2895480"/>
            <a:ext cx="8077320" cy="1000080"/>
            <a:chOff x="380880" y="2895480"/>
            <a:chExt cx="8077320" cy="1000080"/>
          </a:xfrm>
        </p:grpSpPr>
        <p:sp>
          <p:nvSpPr>
            <p:cNvPr id="249" name="AutoShape 17"/>
            <p:cNvSpPr/>
            <p:nvPr/>
          </p:nvSpPr>
          <p:spPr>
            <a:xfrm>
              <a:off x="4137840" y="2895480"/>
              <a:ext cx="226440" cy="943560"/>
            </a:xfrm>
            <a:prstGeom prst="downArrow">
              <a:avLst>
                <a:gd name="adj1" fmla="val 50000"/>
                <a:gd name="adj2" fmla="val 104173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8"/>
            <p:cNvSpPr/>
            <p:nvPr/>
          </p:nvSpPr>
          <p:spPr>
            <a:xfrm>
              <a:off x="380880" y="3070080"/>
              <a:ext cx="807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33"/>
                  </a:solidFill>
                  <a:latin typeface="Times New Roman"/>
                </a:rPr>
                <a:t>多子饥荒苛税兵匪官绅                      封建礼教封建等级观念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表层原因                                                     深层原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19"/>
          <p:cNvSpPr/>
          <p:nvPr/>
        </p:nvSpPr>
        <p:spPr>
          <a:xfrm>
            <a:off x="228600" y="228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8000"/>
                </a:solidFill>
                <a:uFillTx/>
                <a:latin typeface="Times New Roman"/>
              </a:rPr>
              <a:t>对比及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1828800" y="228600"/>
            <a:ext cx="69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Garamond"/>
              </a:rPr>
              <a:t>闰土二十多年来为什么发生这么大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179280" y="58770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闰土是一个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淳朴善良的贫苦农民。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农村经济衰败，农民生活的贫困，封建传统观念（即礼教、等级观念）毒害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，使闰土发生了巨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JS16"/>
          <p:cNvPicPr/>
          <p:nvPr/>
        </p:nvPicPr>
        <p:blipFill>
          <a:blip r:embed="rId1"/>
          <a:srcRect l="55016" t="0" r="0" b="0"/>
          <a:stretch/>
        </p:blipFill>
        <p:spPr>
          <a:xfrm>
            <a:off x="2862360" y="0"/>
            <a:ext cx="504828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324000" y="1341360"/>
            <a:ext cx="2160360" cy="727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杨二嫂是怎样一个人？小说是从哪些方面描写她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617240" y="1052640"/>
            <a:ext cx="1155240" cy="36003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杨二嫂命运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75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066680" y="3581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未见其人先闻其声，先声夺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590920" y="2133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杨二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609480" y="304920"/>
            <a:ext cx="2210040" cy="459720"/>
          </a:xfrm>
          <a:prstGeom prst="rect">
            <a:avLst/>
          </a:prstGeom>
          <a:solidFill>
            <a:srgbClr val="9dffe5"/>
          </a:solidFill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刻 画 人 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隶书"/>
              </a:rPr>
              <a:t>杨二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55600" y="1036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外貌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55600" y="256068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语言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9051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79280" y="4846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动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055960" y="1341360"/>
            <a:ext cx="44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凸颧骨、薄嘴唇、圆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050920" y="2809800"/>
            <a:ext cx="6050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哈、这模样了，胡子这么长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不认识么，我还抱过你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忘了？这可真贵人眼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阿呀呀，你放了道台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6014880" y="134136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尖酸刻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6466680" y="2781360"/>
            <a:ext cx="13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刁蛮无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615360" y="321300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拉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6732000" y="37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讽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6851880" y="414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无中生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2773080" y="5079960"/>
            <a:ext cx="252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慢慢向外走，顺便将我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亲的一幅手套塞在裤腰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802920" y="537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贪小便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0" y="1305000"/>
            <a:ext cx="9828360" cy="64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秕谷（     ）   鹁鸪（      ） 颧骨（     ）   折本（     ）   潺潺（     ）  阴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伶仃（          ）  恣睢（     ）  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愕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嗤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瑟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黛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惘然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祭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寒噤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533520" y="2286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准字音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447920" y="137160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495680" y="1371600"/>
            <a:ext cx="20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ó g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467480" y="1371600"/>
            <a:ext cx="21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219320" y="190512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419720" y="18288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143000" y="27432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íng dī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7451640" y="198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4120" y="27432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ìsu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7772400" y="26668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685800" y="3276720"/>
            <a:ext cx="19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348000" y="3284640"/>
            <a:ext cx="18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7010280" y="32767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838080" y="41148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3995640" y="4149720"/>
            <a:ext cx="6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732720" y="4149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258920" y="4869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3851280" y="4869000"/>
            <a:ext cx="13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d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6877080" y="4869000"/>
            <a:ext cx="17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1187280" y="57340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4211640" y="573408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6588000" y="566100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4551480" y="-540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27"/>
          <p:cNvSpPr txBox="1"/>
          <p:nvPr/>
        </p:nvSpPr>
        <p:spPr>
          <a:xfrm>
            <a:off x="4067280" y="333360"/>
            <a:ext cx="302868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扫清文字障碍</a:t>
            </a:r>
            <a:endParaRPr b="0" lang="en-US" sz="40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1600200" y="1477800"/>
            <a:ext cx="68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__TH_B2128"/>
          <p:cNvSpPr/>
          <p:nvPr/>
        </p:nvSpPr>
        <p:spPr>
          <a:xfrm>
            <a:off x="1717560" y="1522440"/>
            <a:ext cx="1605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50920" y="189000"/>
          <a:ext cx="8642160" cy="6529320"/>
        </p:xfrm>
        <a:graphic>
          <a:graphicData uri="http://schemas.openxmlformats.org/drawingml/2006/table">
            <a:tbl>
              <a:tblPr/>
              <a:tblGrid>
                <a:gridCol w="1008000"/>
                <a:gridCol w="3811680"/>
                <a:gridCol w="3822480"/>
              </a:tblGrid>
              <a:tr h="492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刻画人物</a:t>
                      </a: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的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</a:t>
                      </a: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变          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二十年前的杨二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二十年后的杨二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对“我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的态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对生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的态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人物形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0"/>
          <p:cNvSpPr/>
          <p:nvPr/>
        </p:nvSpPr>
        <p:spPr>
          <a:xfrm>
            <a:off x="366840" y="1413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外貌描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1"/>
          <p:cNvSpPr/>
          <p:nvPr/>
        </p:nvSpPr>
        <p:spPr>
          <a:xfrm>
            <a:off x="108000" y="255744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作描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2"/>
          <p:cNvSpPr/>
          <p:nvPr/>
        </p:nvSpPr>
        <p:spPr>
          <a:xfrm>
            <a:off x="108000" y="33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描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3"/>
          <p:cNvSpPr/>
          <p:nvPr/>
        </p:nvSpPr>
        <p:spPr>
          <a:xfrm>
            <a:off x="1403280" y="1268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豆腐西施，擦着白粉，颧骨没有这么高，嘴唇没有这么薄，年轻漂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5040360" y="1268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凸颧骨，薄嘴唇，两手搭在髀间，没有系裙，张开两脚，活像画图仪器里细脚伶仃的圆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5"/>
          <p:cNvSpPr/>
          <p:nvPr/>
        </p:nvSpPr>
        <p:spPr>
          <a:xfrm>
            <a:off x="2019600" y="256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终日坐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5003640" y="2349360"/>
            <a:ext cx="3961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Arial"/>
              </a:rPr>
              <a:t>圆规一面愤愤地回转身，一面絮絮叨叨的说，一面回转身，顺便将我母亲的一副手套塞在裤腰里出去了；拿着狗气杀飞也似的跑了；顺手牵羊，又偷又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7"/>
          <p:cNvSpPr/>
          <p:nvPr/>
        </p:nvSpPr>
        <p:spPr>
          <a:xfrm>
            <a:off x="5002200" y="57340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自私、尖刻、贪婪、势利，爱搬弄是非爱唠叨，想方设法从“我”的搬家中捞点东西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，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泼悍庸俗的小市民的形象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8"/>
          <p:cNvSpPr/>
          <p:nvPr/>
        </p:nvSpPr>
        <p:spPr>
          <a:xfrm>
            <a:off x="4932360" y="321300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1600" spc="-1" strike="noStrike">
                <a:solidFill>
                  <a:srgbClr val="3333cc"/>
                </a:solidFill>
                <a:latin typeface="Arial"/>
              </a:rPr>
              <a:t>不认识了么，我还抱过你咧”“忘了？这真是贵人眼高”“阿呀呀，你放了道台了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……”“</a:t>
            </a:r>
            <a:r>
              <a:rPr b="1" lang="zh-CN" sz="1600" spc="-1" strike="noStrike">
                <a:solidFill>
                  <a:srgbClr val="3333cc"/>
                </a:solidFill>
                <a:latin typeface="Arial"/>
              </a:rPr>
              <a:t>阿呀阿呀，真是愈有钱，便愈不肯放松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…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9"/>
          <p:cNvSpPr/>
          <p:nvPr/>
        </p:nvSpPr>
        <p:spPr>
          <a:xfrm>
            <a:off x="2487240" y="5950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安分守己的豆腐西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1258920" y="494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虽靠姿色招揽顾，但终日坐着较为安分守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1"/>
          <p:cNvSpPr/>
          <p:nvPr/>
        </p:nvSpPr>
        <p:spPr>
          <a:xfrm>
            <a:off x="5076720" y="486900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顺手牵羊偷“我”母亲的手套，搬弄事非，前天伊在灰堆里掏出十多个碗碟，定说是闰土埋着的，贼喊捉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2"/>
          <p:cNvSpPr/>
          <p:nvPr/>
        </p:nvSpPr>
        <p:spPr>
          <a:xfrm>
            <a:off x="5561280" y="422100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对“我”说话尖酸刻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3"/>
          <p:cNvSpPr/>
          <p:nvPr/>
        </p:nvSpPr>
        <p:spPr>
          <a:xfrm>
            <a:off x="2265480" y="3422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终日坐着，不怎么说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4"/>
          <p:cNvSpPr/>
          <p:nvPr/>
        </p:nvSpPr>
        <p:spPr>
          <a:xfrm>
            <a:off x="270504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抱过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3132000" y="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杨二嫂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50920" y="56610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轻漂亮端庄文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豆腐西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651640" y="57340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尖刻自私势利贪婪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圆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5"/>
          <p:cNvGrpSpPr/>
          <p:nvPr/>
        </p:nvGrpSpPr>
        <p:grpSpPr>
          <a:xfrm>
            <a:off x="324000" y="333360"/>
            <a:ext cx="8229240" cy="5333760"/>
            <a:chOff x="324000" y="333360"/>
            <a:chExt cx="8229240" cy="5333760"/>
          </a:xfrm>
        </p:grpSpPr>
        <p:pic>
          <p:nvPicPr>
            <p:cNvPr id="296" name="Picture 6" descr="hxx"/>
            <p:cNvPicPr/>
            <p:nvPr/>
          </p:nvPicPr>
          <p:blipFill>
            <a:blip r:embed="rId1"/>
            <a:stretch/>
          </p:blipFill>
          <p:spPr>
            <a:xfrm>
              <a:off x="324000" y="659880"/>
              <a:ext cx="4068000" cy="45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7" descr="hxx2"/>
            <p:cNvPicPr/>
            <p:nvPr/>
          </p:nvPicPr>
          <p:blipFill>
            <a:blip r:embed="rId2"/>
            <a:stretch/>
          </p:blipFill>
          <p:spPr>
            <a:xfrm>
              <a:off x="6616800" y="333360"/>
              <a:ext cx="1936440" cy="533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1676520" y="54864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端庄文静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豆腐西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105520" y="54864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放纵刻薄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私的圆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676520" y="22096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勇敢机智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真的小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5029200" y="2209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苍老麻木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旧的木偶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2267280" y="39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情同手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5549040" y="398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厚障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1957320" y="6858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vantGarde Bk BT"/>
                <a:ea typeface="隶书"/>
              </a:rPr>
              <a:t>美丽的神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vantGarde Bk BT"/>
                <a:ea typeface="隶书"/>
              </a:rPr>
              <a:t>图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5386320" y="709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萧索的荒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10"/>
          <p:cNvSpPr txBox="1"/>
          <p:nvPr/>
        </p:nvSpPr>
        <p:spPr>
          <a:xfrm rot="5400000">
            <a:off x="1295280" y="2590560"/>
            <a:ext cx="609588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00">
                    <a:alpha val="50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悲哀</a:t>
            </a:r>
            <a:endParaRPr b="1" lang="en-US" sz="1800" spc="1" strike="noStrike">
              <a:ln w="0">
                <a:noFill/>
              </a:ln>
              <a:solidFill>
                <a:srgbClr val="800000">
                  <a:alpha val="50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7" name="Picture 11" descr="hxx7"/>
          <p:cNvPicPr/>
          <p:nvPr/>
        </p:nvPicPr>
        <p:blipFill>
          <a:blip r:embed="rId1"/>
          <a:stretch/>
        </p:blipFill>
        <p:spPr>
          <a:xfrm>
            <a:off x="457200" y="228600"/>
            <a:ext cx="1135080" cy="1523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2" descr="hxx6"/>
          <p:cNvPicPr/>
          <p:nvPr/>
        </p:nvPicPr>
        <p:blipFill>
          <a:blip r:embed="rId2"/>
          <a:stretch/>
        </p:blipFill>
        <p:spPr>
          <a:xfrm>
            <a:off x="457200" y="1981080"/>
            <a:ext cx="1138320" cy="1524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3" descr="hxx"/>
          <p:cNvPicPr/>
          <p:nvPr/>
        </p:nvPicPr>
        <p:blipFill>
          <a:blip r:embed="rId3"/>
          <a:stretch/>
        </p:blipFill>
        <p:spPr>
          <a:xfrm>
            <a:off x="457200" y="53341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hxx2"/>
          <p:cNvPicPr/>
          <p:nvPr/>
        </p:nvPicPr>
        <p:blipFill>
          <a:blip r:embed="rId4"/>
          <a:stretch/>
        </p:blipFill>
        <p:spPr>
          <a:xfrm>
            <a:off x="7238880" y="53341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5" descr="hxx4"/>
          <p:cNvPicPr/>
          <p:nvPr/>
        </p:nvPicPr>
        <p:blipFill>
          <a:blip r:embed="rId5"/>
          <a:stretch/>
        </p:blipFill>
        <p:spPr>
          <a:xfrm>
            <a:off x="7315200" y="3733920"/>
            <a:ext cx="1149480" cy="1523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6" descr="hxx8"/>
          <p:cNvPicPr/>
          <p:nvPr/>
        </p:nvPicPr>
        <p:blipFill>
          <a:blip r:embed="rId6"/>
          <a:stretch/>
        </p:blipFill>
        <p:spPr>
          <a:xfrm>
            <a:off x="7238880" y="1828800"/>
            <a:ext cx="1185840" cy="17524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7" descr="hxx3"/>
          <p:cNvPicPr/>
          <p:nvPr/>
        </p:nvPicPr>
        <p:blipFill>
          <a:blip r:embed="rId7"/>
          <a:stretch/>
        </p:blipFill>
        <p:spPr>
          <a:xfrm>
            <a:off x="6934320" y="304920"/>
            <a:ext cx="1758960" cy="1261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8" descr="hxx9"/>
          <p:cNvPicPr/>
          <p:nvPr/>
        </p:nvPicPr>
        <p:blipFill>
          <a:blip r:embed="rId8"/>
          <a:stretch/>
        </p:blipFill>
        <p:spPr>
          <a:xfrm>
            <a:off x="457200" y="3809880"/>
            <a:ext cx="11430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0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539640" y="220500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活动三          把握“我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69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文中有许多描写“我”的心情的句子，分析“我”的心情是如何变化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29840" y="2060640"/>
            <a:ext cx="8713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回故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急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见故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悲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忆故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沉重、忧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忆闰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高兴、佩服、依依不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见杨二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惊吓、困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见闰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兴奋、惊异、悲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离故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失望、气闷、悲哀、憧憬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10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5"/>
          <p:cNvSpPr/>
          <p:nvPr/>
        </p:nvSpPr>
        <p:spPr>
          <a:xfrm>
            <a:off x="539640" y="260280"/>
            <a:ext cx="7707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结合以下问题，分析“我”是一个怎样的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971640" y="1341360"/>
            <a:ext cx="795816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故乡的山水也都渐渐远离了我，但我却并不感到怎样的留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这是为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826920" y="2421000"/>
            <a:ext cx="78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ee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1212ee"/>
                </a:solidFill>
                <a:latin typeface="Times New Roman"/>
              </a:rPr>
              <a:t>因为</a:t>
            </a:r>
            <a:r>
              <a:rPr b="1" lang="zh-CN" sz="2400" spc="-1" strike="noStrike">
                <a:solidFill>
                  <a:srgbClr val="1212ee"/>
                </a:solidFill>
                <a:latin typeface="Arial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1212ee"/>
                </a:solidFill>
                <a:latin typeface="Times New Roman"/>
              </a:rPr>
              <a:t>我</a:t>
            </a:r>
            <a:r>
              <a:rPr b="1" lang="zh-CN" sz="2400" spc="-1" strike="noStrike">
                <a:solidFill>
                  <a:srgbClr val="1212ee"/>
                </a:solidFill>
                <a:latin typeface="Arial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1212ee"/>
                </a:solidFill>
                <a:latin typeface="Times New Roman"/>
              </a:rPr>
              <a:t>对故乡的现实（即人与事）感到失望，故乡没有给</a:t>
            </a:r>
            <a:r>
              <a:rPr b="1" lang="zh-CN" sz="2400" spc="-1" strike="noStrike">
                <a:solidFill>
                  <a:srgbClr val="1212ee"/>
                </a:solidFill>
                <a:latin typeface="Arial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1212ee"/>
                </a:solidFill>
                <a:latin typeface="Times New Roman"/>
              </a:rPr>
              <a:t>我</a:t>
            </a:r>
            <a:r>
              <a:rPr b="1" lang="zh-CN" sz="2400" spc="-1" strike="noStrike">
                <a:solidFill>
                  <a:srgbClr val="1212ee"/>
                </a:solidFill>
                <a:latin typeface="Arial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1212ee"/>
                </a:solidFill>
                <a:latin typeface="Times New Roman"/>
              </a:rPr>
              <a:t>留下好印象。</a:t>
            </a:r>
            <a:r>
              <a:rPr b="1" lang="zh-CN" sz="2400" spc="-1" strike="noStrike">
                <a:solidFill>
                  <a:srgbClr val="1212ee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826920" y="3500280"/>
            <a:ext cx="808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Arial"/>
                <a:ea typeface="华文新魏"/>
              </a:rPr>
              <a:t>“</a:t>
            </a:r>
            <a:r>
              <a:rPr b="1" lang="zh-CN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我只觉得我四面有着看不见的高墙，将我隔成孤身，使我非常气闷</a:t>
            </a:r>
            <a:r>
              <a:rPr b="1" lang="zh-CN" sz="3000" spc="-1" strike="noStrike">
                <a:solidFill>
                  <a:srgbClr val="ff0066"/>
                </a:solidFill>
                <a:latin typeface="Arial"/>
                <a:ea typeface="华文新魏"/>
              </a:rPr>
              <a:t>”</a:t>
            </a:r>
            <a:r>
              <a:rPr b="1" lang="zh-CN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中的</a:t>
            </a:r>
            <a:r>
              <a:rPr b="1" lang="zh-CN" sz="3000" spc="-1" strike="noStrike">
                <a:solidFill>
                  <a:srgbClr val="ff0066"/>
                </a:solidFill>
                <a:latin typeface="Arial"/>
                <a:ea typeface="华文新魏"/>
              </a:rPr>
              <a:t>“</a:t>
            </a:r>
            <a:r>
              <a:rPr b="1" lang="zh-CN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高墙</a:t>
            </a:r>
            <a:r>
              <a:rPr b="1" lang="zh-CN" sz="3000" spc="-1" strike="noStrike">
                <a:solidFill>
                  <a:srgbClr val="ff0066"/>
                </a:solidFill>
                <a:latin typeface="Arial"/>
                <a:ea typeface="华文新魏"/>
              </a:rPr>
              <a:t>”</a:t>
            </a:r>
            <a:r>
              <a:rPr b="1" lang="zh-CN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指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900000" y="501336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2ee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1212ee"/>
                </a:solidFill>
                <a:latin typeface="Times New Roman"/>
              </a:rPr>
              <a:t>指封建思想，等级观念毒害下造成人与人之间的冷淡隔膜。</a:t>
            </a:r>
            <a:r>
              <a:rPr b="0" lang="zh-CN" sz="2400" spc="-1" strike="noStrike">
                <a:solidFill>
                  <a:srgbClr val="1212ee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0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250920" y="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一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250920" y="7650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十多年前远离故乡，过着辛苦辗转的生活。回到故乡，看到故乡的衰败萧索，看到故乡人的生活穷困悲苦，看到故乡人纯真人性的扭曲感到痛苦悲哀。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对故乡的未来有着美好的憧憬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故乡人过上新的生活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闰土怀有深厚的感情，表现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劳苦人民的同情与爱，对等级观念的否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95280" y="4581360"/>
            <a:ext cx="83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说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是消沉的知识分子， 而是一个同情、热爱劳动人民的、追求新生活，心怀希望的、具有民主进步思想倾向的小资产阶级知识分子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580680" y="82440"/>
            <a:ext cx="191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语言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品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73664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04920" y="12193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希望他们不再象我，又大家隔膜起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然而我又不愿意他们因为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一气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都如我的辛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展转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生活，也不愿意他们都如闰土的辛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麻木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生活，也不愿意都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别人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辛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恣睢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生活。他们应该有新的生活，为我们所未经生活过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457200" y="4038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辛苦展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像“我”那样异地谋生，到处奔波，生活不安定。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辛苦麻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像闰土那样在社会的重压下贫困艰辛，精神麻木。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辛苦恣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杨二嫂那样生活每况愈下而自私、尖刻、贪婪。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全句表达了作者希望“应该有新生活”的强烈愿望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0" y="5910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闰土在海边时，他们都和我一样只看见院子里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高墙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上的四角的天空。     我只觉得我四面有看不见的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高墙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将我隔成孤身，使我非常气闷；那西瓜地上的银圈的小英雄的影像我本来十分清楚，现在却忽地模糊了，又使我非常的悲哀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0" y="42609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个“高墙”是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实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第二个“高墙”是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虚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法，指“我”与闰土之间隔着“厚障壁”，即封建意识、封建等级观念造成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974880" y="55404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0" y="249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在蒙胧中，眼前展开一片海边碧绿的沙地来，上面深蓝的天空中挂着一轮金黄的圆月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411120" y="2001960"/>
            <a:ext cx="83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明“我”对希望的实现、新生活的到来充满了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坚定的信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929200" y="46926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0" y="343548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想到希望，忽然害怕起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95280" y="417996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希望是美好的，但 在黑暗的社会中要实现则困难重重，必须经过长期艰苦的奋斗，不然这“希望”也会成为“崇拜的偶像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042920" y="54936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684360" y="189000"/>
            <a:ext cx="302868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扫清文字障碍</a:t>
            </a:r>
            <a:endParaRPr b="0" lang="en-US" sz="40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5640" y="1052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解释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84360" y="1628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阴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84360" y="249228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4360" y="2349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萧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84360" y="299736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鄙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84360" y="3716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惘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84360" y="4508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隔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684360" y="5229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恣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84360" y="59500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展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1979640" y="1628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阴沉，昏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2566080" y="2368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缺乏生机，不热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908000" y="3068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视，看不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1763640" y="378936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里好象失去了什么东西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1835280" y="4581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想感情不相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835280" y="5229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意胡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1765440" y="595008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不安定，四处奔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89080" y="83664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现在我所谓希望，不也是我自己手制的偶像么？只是他的愿望切近，我的愿望茫远罢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324000" y="2924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对来说，闰土的改善生活的愿望实现起来容易 ，  而我的愿望是改变社会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映我一方面有追求新生活的坚定信念，另一方面也感到希望的渺茫 。  当时的鲁迅并没有找到解决中国问题的具体的“路”，因而“我”对路的憧憬不免迷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066680" y="1592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0" y="6811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想：希望是本无所谓有，无所谓无的。这正如地上的路；其实地上 本没有路，走的人多了，也便成了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8000" y="2771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路，既指地上的路，也指人生之路。有了希望不去实践，希望必然落空，等于没有；有了希望 ，并为之奋斗，希望定会实现。  这个比喻，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表达了“我”追求新生活的坚定信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395280" y="220500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活动四          探究主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-360" y="18900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中国人精神的反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孩子的纯真、有生气到成年人的麻木、愚钝，表现了中国普通民众的生命和活力是怎样被扼杀的。（如闰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表现中国社会愚昧、落后、贫穷的轮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闰土父子和杨二嫂身上，可以看出这样轮回的影子：闰土：少年→中年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生：少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是一个廿年前的闰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→中年（现在的闰土）？ →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杨二嫂：年轻→中年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渴望纯真的人与人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再回故乡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闰土、杨二嫂等人已经有了深深的精神上的隔阂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渴望打破封建社会的尊卑秩序，渴望建立超越庸俗的物质关系的新型人与人之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640" y="220500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小结              写作特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324000" y="6206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对比突出主题思想。少年润土与中年润土的对比，反映农民命运的日益悲惨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润土前后关系的对比，反映封建等级观念对人们思想的禁锢；杨二嫂的前后对照，反映了封建传统观念对人性的扭曲；故乡景象的对比，反映了每况愈下的中国农村经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79280" y="3500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景物描写渲染气氛，烘托人物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79280" y="4724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准确的描写表现人物。（语言描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50920" y="551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巧妙的运用第一人称的叙述方法，使小说结构流转自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539640" y="220500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课文小结      谈学习收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250920" y="187200"/>
            <a:ext cx="84963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说主要是通过闰土、杨二嫂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关系来反映人们之间的隔膜和苦难生活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时的亲密伙伴、忠厚老实的农民闰土，曾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密无间，现在却恭敬地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的悲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曾经那样美丽的杨二嫂，却怪腔怪调地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了道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三房姨太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抬的大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弄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话可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杨二嫂、闰土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种不同的人及其三种不同的精神关系，不仅反映了现实和过去巨大的反差，也深刻地揭示了这种反差下深层的意蕴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现了民众痛苦生活的现实，以及由于受封建社会传统观念的影响，劳苦大众所受的精神上的束缚，人与人之间的冷漠、隔膜；真切地抒发了作者对现实的强烈不满，和希望有新生活的炽热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250920" y="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谈谈小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9640" y="90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琥珀"/>
              </a:rPr>
              <a:t>小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619280" y="765000"/>
            <a:ext cx="75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以塑造人物为中心，通过完整的故事情节的叙述和环境的描写反映社会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0" y="2205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琥珀"/>
              </a:rPr>
              <a:t>小说分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3708360" y="198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3997440" y="1700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长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997440" y="220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中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3997440" y="270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短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1763640" y="220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按篇幅长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0" y="349092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琥珀"/>
              </a:rPr>
              <a:t>小说三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2124000" y="34290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人物、故事情节、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0" y="422100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琥珀"/>
              </a:rPr>
              <a:t>人物塑造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2124000" y="4221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外貌、语言、动作、心理。 （神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0" y="508464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华文彩云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琥珀"/>
              </a:rPr>
              <a:t>故事情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1763640" y="508464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开端、发展、高潮、结局。 （序幕、尾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1908000" y="60213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琥珀"/>
              </a:rPr>
              <a:t>环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3492360" y="5950080"/>
            <a:ext cx="142920" cy="72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3708360" y="569736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自然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社会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0"/>
          <p:cNvSpPr/>
          <p:nvPr/>
        </p:nvSpPr>
        <p:spPr>
          <a:xfrm>
            <a:off x="4788000" y="2781360"/>
            <a:ext cx="3247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小小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6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6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6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6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16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6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6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6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6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6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6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6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6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16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6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6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6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6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;'"/>
          <p:cNvPicPr/>
          <p:nvPr/>
        </p:nvPicPr>
        <p:blipFill>
          <a:blip r:embed="rId1"/>
          <a:stretch/>
        </p:blipFill>
        <p:spPr>
          <a:xfrm>
            <a:off x="900000" y="262080"/>
            <a:ext cx="2376720" cy="1645920"/>
          </a:xfrm>
          <a:prstGeom prst="rect">
            <a:avLst/>
          </a:prstGeom>
          <a:ln w="0">
            <a:noFill/>
          </a:ln>
        </p:spPr>
      </p:pic>
      <p:pic>
        <p:nvPicPr>
          <p:cNvPr id="375" name="WordArt 3" descr=""/>
          <p:cNvPicPr/>
          <p:nvPr/>
        </p:nvPicPr>
        <p:blipFill>
          <a:blip r:embed="rId2"/>
          <a:stretch/>
        </p:blipFill>
        <p:spPr>
          <a:xfrm>
            <a:off x="4200480" y="328680"/>
            <a:ext cx="3591000" cy="13669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物形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外貌、语言、动作、神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动形象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故事情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波澜起伏，悬念迭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引人入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环境描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自然环境、社会环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渲染烘托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2" dur="250" autoRev="1" fill="hold"/>
                                        <p:tgtEl>
                                          <p:spTgt spid="3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04920" y="609480"/>
            <a:ext cx="883908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整体感知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作者回到阔别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余年的故乡，在故乡呆了大约多长时间？是如何推算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这么长的时间，作者对每天都作了介绍吗？着重写了哪些天的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作者又着重写了这些天的哪些人、哪些事？用了哪些方法刻划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题为“故乡”，请你根据时间顺序，在“故乡”前再添一个词，概括全文结构层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684360" y="17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阅读小说应该从哪几个方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116000" y="364500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故事情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5292720" y="3645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2987640" y="36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物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 rot="5400000">
            <a:off x="4164480" y="2683440"/>
            <a:ext cx="381240" cy="3456000"/>
          </a:xfrm>
          <a:custGeom>
            <a:avLst/>
            <a:gdLst>
              <a:gd name="textAreaLeft" fmla="*/ 0 w 381240"/>
              <a:gd name="textAreaRight" fmla="*/ 137520 w 38124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95"/>
                </a:lnTo>
                <a:cubicBezTo>
                  <a:pt x="10800" y="9895"/>
                  <a:pt x="16200" y="10795"/>
                  <a:pt x="21600" y="10795"/>
                </a:cubicBezTo>
                <a:cubicBezTo>
                  <a:pt x="16200" y="10795"/>
                  <a:pt x="10800" y="11695"/>
                  <a:pt x="10800" y="1259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3708360" y="486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主题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9" descr="Q_018"/>
          <p:cNvPicPr/>
          <p:nvPr/>
        </p:nvPicPr>
        <p:blipFill>
          <a:blip r:embed="rId1"/>
          <a:stretch/>
        </p:blipFill>
        <p:spPr>
          <a:xfrm>
            <a:off x="684360" y="333360"/>
            <a:ext cx="598320" cy="6588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0"/>
          <p:cNvSpPr/>
          <p:nvPr/>
        </p:nvSpPr>
        <p:spPr>
          <a:xfrm>
            <a:off x="2280600" y="7491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小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0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4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6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6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16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16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6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6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04920" y="609480"/>
            <a:ext cx="858816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整体感知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作者回到阔别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余年的故乡，在故乡呆了大约多长时间？是如何推算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明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约半个月左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依据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第二日”，“这样的过了三、四天”，“又过了九日” 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920" y="609480"/>
            <a:ext cx="8839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整体感知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这么长的时间，作者对每天都作了介绍吗？着重写了哪些天的事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明确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重写了这些日子的事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第二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一日是天气很冷的午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又过了九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4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2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48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04920" y="404640"/>
            <a:ext cx="8839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整体感知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作者又着重写了这些天的哪些人、哪些事？</a:t>
            </a:r>
            <a:r>
              <a:rPr b="1" lang="zh-CN" sz="2400" spc="-1" strike="noStrike">
                <a:solidFill>
                  <a:srgbClr val="333399"/>
                </a:solidFill>
                <a:latin typeface="Verdana"/>
              </a:rPr>
              <a:t>用了哪些方法刻划人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明确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母子见面；回忆少年闰土（回忆瓜地刺猹、初见印象、讲雪地捕鸟和瓜地刺猹、离别赠物）；见到杨二嫂（声音、视觉、语言、动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日是天气很冷的午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会见闰土（肖像、神态、语言、动作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又过了九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动身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696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、题为“故乡”，请你根据时间顺序，在“故乡”前再添一个词，概括全文结构层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回故乡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在故乡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离故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5:15:30Z</dcterms:created>
  <dc:creator>计算机房</dc:creator>
  <dc:description/>
  <dc:language>en-US</dc:language>
  <cp:lastModifiedBy>计算机房</cp:lastModifiedBy>
  <dcterms:modified xsi:type="dcterms:W3CDTF">2012-10-29T02:00:32Z</dcterms:modified>
  <cp:revision>8</cp:revision>
  <dc:subject/>
  <dc:title>幻灯片 1</dc:title>
</cp:coreProperties>
</file>