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B8ED-1A27-4ED3-8628-2DE7D30E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5E3-47C5-47C8-8E7F-A9598A92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B03-919B-4961-AC1E-75332E53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B5E-CCEC-49BC-8188-D107F197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9582-F29D-48E8-B3AF-6163A8C5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85EB-86E6-4FE3-9973-FA90816E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EA0A-C275-49D2-A42C-88FB4120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4055-DBE8-4818-A92F-29E8470D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2E00-E82F-49D0-A70D-5548B209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3CBA-F0FA-4A7D-A9C2-01CF88C1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B523-0551-4FDA-89E0-F78E1FF3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637F-6833-4D17-9E0B-D647CC64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9E87-B60D-4A4E-960D-3288EDE5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0B78-060B-4B0F-957E-2C0611D9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F2CF-88EB-4220-B80A-1DAA859D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1E1A-4931-4A94-A3CD-5C1FD097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894D-1C75-4CF7-A508-6E7B9D41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8C75-394D-4299-A602-CD7F1A50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CF0C-9111-4287-8FF6-0A03EC59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CE5-0766-4A0B-8FBB-9AE22C99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AA3-D9C4-4248-894C-8BE14AA3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3E1-4EAE-44BF-A1F9-944CA66A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2579-BCDB-426C-A813-33D266B4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4095-3B5F-4948-A69A-CA5D66FE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C714-4372-440D-86B7-4F63EF8BC52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70D9-AA15-4027-8BA3-B9E7D76F23A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在自己的岗位上创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48436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用创业的心态去工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工作的本身就是创业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创业，不只是自己单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企业为了我们提供了更优化的发展平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你让企业赢，企业就会让你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创业精神”就是你的“职业精神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岗位上，一切都是为了自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创业，不只是自己单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创业”这两个字扰得我们心神不宁的时候，我们是否真正了解到什么是创业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所谓“创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----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创造、“业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-----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事业。创造出自己的事业，这就是创业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创业，创业！当所有人提到“创业”这个词，心潮澎湃地想要下海去博杀一番时，你是否想过创业不仅仅是“自己单干”那么窄窄的一条路。只要转个身，你就可以看到，创业的是机会就在身边，就在自己的岗位上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企业为我们提供了更优化的发展平台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在岗位上，每个人都可以实现创业；只要摆正态度，就能够做出成绩。在岗位上，每个人都可以达到理想的人生高度、事业高度；只要勇于拼搏，目标就一定能够实现。企业不仅可以满足我们的人生追求、价值追求，同时还给我们提供了更广阔的发展空间和更优化的发展平台。可以说在岗位上创业，实际是一种“零”成本、高回报的创业模式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首先，企业本身已经为员工在岗位上创业提供了一切资源，无论是岗位资源、人力资源、还是资金资源，都不需要“创业者”四处奔波筹集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其次，企业的经验可以供员工直接拿来吸收，这就使“创业”的风险降到最低，员工可以冒着最小的风险系数开辟事业。当员工在“创业”过程中发现自己的某些技能缺失，或者存在缺陷，企业就会及时提供相应的培训与辅导，帮助员工补齐自己的短板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最后，在岗位创业，企业会分担员工的压力。对员工而言，企业永远是自己的最坚实的后盾。特别是在员工出现失败的情况下，企业会为员工的失败买单，不仅如此，还会为员工的失败提供咨询和分析，帮助员工找出失败的原因，帮助员工建立自信，走出失败的阴影，从头再来，这一点是单独创业者不可能获得的“优待”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可见，与自己单独创业相比，在岗位上创业所要面对的创业环境要更加优化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你让企业赢，企业就会让你赢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没有公司的赢，就没有员工自我的价值的实现，没有公司的赢，也就没有员工的发展。但是如果没有双赢，就没有公司的长盛不衰。员工成长是公司发展的动力，公司发展是员工成长的根基，只有共同成长才能实现双赢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当我们进入到一家企业的时候，我们的事业就已经和企业的发展邦在了一起。我们努力工作，把自身的发展放在企业发展的前提之下，这样我们就会成为企业不可或缺的人才。企业发展得越壮大，就会赋于我们更大的责任，对我们的回报也会越来越多。站在岗位上，我们要时刻铭记：你然该企业赢，企业就会让你赢；如果企业输，企业就会让你输。所以我们要树立与企业一同成长的观念，积极地融入企业中去，用自己的成长，来推动企业的成长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因此，我们在企业里，不要有“混日子”的思想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----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薪水有企业发，福利有企业发，养老金有企业发，以后就由企业养着了，这种思想会滋生人的惰性，会让人不思进取，从而在自己的岗位上腐烂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创业精神”就是你的“职业精神”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工作有两种，一种叫职业，一种叫事业。当我们把工作看成职业时，往往一事无成；但当我们把工作看成事业时，往往能够成就非凡。“职业”和“事业”这两个词看上去只有一字之差，但是它们背后反映出来的却是两种完全不同的心态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对“职业心态”而言，工作只是一个饭碗，做好工作，能填饱肚子，只要劳动对得起薪水就可以了，对“事业心态”而言，工作是一辈子都要去用心经营、用心开创的。可以说，把工作当成事业的人，会时刻把工作当成自己的奋斗目标，时刻鞭策自己在岗位上做出的成绩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“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职业者”把工作当成谋生的手段，“事业者”则是自觉奋斗，在岗位上实现自我价值。当我们抱着不同的心态工作时，自然就会有截然不同的结果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陈云峰他在自己的博客中写到：“成功者与失败者，就在于对事情的态度不同：一个是把职业仅仅当作事情来坐，是在做事，而另一个则是把职业当作事业来做…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..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所以在职业生涯中的人们，想一想老板的风险和压力，很多事情就想通了，心态平和了。如果能够上升到把老板给的职位，当成自己的事业去经营，就会有更大更广阔的发展空间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一个人，如果能把自己的职业精神转换为创业精神，把自己的工作看成是在为自己创业，那么，他就成功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80%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。如果我们把自己的工作当成自己的事业去做，能够以创业的精神和态度来坚守自己的岗位，那么成功的机会就会大大增加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在岗位上，一切都是为了自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我为什么来工作？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为自己工作，往小了说，工作能够拿到薪水，薪水能够养活自己，往大了说，工作能够实现人生的自我价值，完成自己的人生抱负。或许在这个过程中可能要做出一些牺牲，但这是值得的。的却值得，因为这一切的付出都是为了自己。在现实中，我们有时候会大脑短路，忘记了我们在岗位上究竟是在为谁而工作。我们会对岗位、对企业发出种种抱怨，或是嫌企业对自己的能力和贡献熟视无睹，或是嫌企业的薪酬体系不合理，或是嫌主管、老板太苛刻。然而我们会过神来，发现我们在岗位上拼搏，所付出的一切不仅仅是为企业、老板、主管，更重要的是自己的个人前程的时候，我们再去仔细想想，我们的抱怨有多少是毫无价值、毫无意义、甚至是对自己的事业发展有害的呢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03:05:56Z</dcterms:created>
  <dc:creator>雨林木风</dc:creator>
  <dc:description/>
  <dc:language>en-US</dc:language>
  <cp:lastModifiedBy>雨林木风</cp:lastModifiedBy>
  <dcterms:modified xsi:type="dcterms:W3CDTF">2011-04-26T03:30:25Z</dcterms:modified>
  <cp:revision>2</cp:revision>
  <dc:subject/>
  <dc:title>在自己的岗位上创业</dc:title>
</cp:coreProperties>
</file>