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1AB-C6FF-45A6-AEE3-12A17EDF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891-82CD-480D-8049-DAF017C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1E7-D4A0-4FF2-ABD2-09E2776F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A78-A3FB-44C1-87DD-3DE333B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21F4-16B9-40AC-A68D-7B8B02C2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443-C613-4995-BB53-12634E9B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003-54EE-4190-AF41-563E6DC3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FA34-4584-451B-91F3-4D0C71B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630-B2CC-4B48-8519-6168BC7B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77B-D50D-4E80-8246-C6C6EF8B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793-3C9A-4DA8-91F6-1617F16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CBD-B710-49FE-89C1-8587C502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B4C-7B46-4197-B864-5671A38BE0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07D7-C727-4EDC-B529-28E1DF2A8E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1372320" y="1273320"/>
            <a:ext cx="6773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Franklin Gothic Medium"/>
              </a:rPr>
              <a:t>201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宋体"/>
              </a:rPr>
              <a:t>5</a:t>
            </a:r>
            <a:r>
              <a:rPr b="1" lang="zh-CN" sz="16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3772800" y="3794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4" name="Halo Remember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11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18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291636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2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5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5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8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2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62" name="椭圆 10"/>
            <p:cNvSpPr/>
            <p:nvPr/>
          </p:nvSpPr>
          <p:spPr>
            <a:xfrm>
              <a:off x="7093080" y="1712880"/>
              <a:ext cx="50328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11280" y="53481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941">
                                      <p:cBhvr>
                                        <p:cTn id="67" dur="1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519732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  <a:ea typeface="微软雅黑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24360" y="553068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CFB-1DB9-4234-B4FC-DDDF47C0C39D}" type="slidenum">
              <a:t>4</a:t>
            </a:fld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15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1"/>
            <p:cNvSpPr/>
            <p:nvPr/>
          </p:nvSpPr>
          <p:spPr>
            <a:xfrm>
              <a:off x="711252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18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21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25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7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448000" y="53481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41" dur="175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直接箭头连接符 7"/>
          <p:cNvCxnSpPr/>
          <p:nvPr/>
        </p:nvCxnSpPr>
        <p:spPr>
          <a:xfrm>
            <a:off x="1116000" y="4873320"/>
            <a:ext cx="6790320" cy="108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cxnSp>
        <p:nvCxnSpPr>
          <p:cNvPr id="144" name="直接箭头连接符 8"/>
          <p:cNvCxnSpPr/>
          <p:nvPr/>
        </p:nvCxnSpPr>
        <p:spPr>
          <a:xfrm flipV="1">
            <a:off x="1267920" y="1416960"/>
            <a:ext cx="1080" cy="360900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  <a:tailEnd len="med" type="arrow" w="med"/>
          </a:ln>
        </p:spPr>
      </p:cxnSp>
      <p:pic>
        <p:nvPicPr>
          <p:cNvPr id="14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6"/>
          <p:cNvSpPr/>
          <p:nvPr/>
        </p:nvSpPr>
        <p:spPr>
          <a:xfrm>
            <a:off x="41652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197320"/>
            <a:ext cx="42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淘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活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zhongtieyintongk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64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67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71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 flipH="1">
            <a:off x="779112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5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77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DBF-9DAD-4FA0-9FDC-6D297B562662}" type="slidenum">
              <a:t>7</a:t>
            </a:fld>
          </a:p>
        </p:txBody>
      </p: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941">
                                      <p:cBhvr>
                                        <p:cTn id="188" dur="1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2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84" name="TextBox 4"/>
          <p:cNvSpPr/>
          <p:nvPr/>
        </p:nvSpPr>
        <p:spPr>
          <a:xfrm>
            <a:off x="708372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  <a:ea typeface="微软雅黑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192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96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1"/>
          <p:cNvSpPr/>
          <p:nvPr/>
        </p:nvSpPr>
        <p:spPr>
          <a:xfrm>
            <a:off x="429552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00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02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7"/>
          <p:cNvSpPr/>
          <p:nvPr/>
        </p:nvSpPr>
        <p:spPr>
          <a:xfrm>
            <a:off x="431136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06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941">
                                      <p:cBhvr>
                                        <p:cTn id="253" dur="175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Administrator</dc:creator>
  <dc:description/>
  <dc:language>en-US</dc:language>
  <cp:lastModifiedBy>Microsoft</cp:lastModifiedBy>
  <dcterms:modified xsi:type="dcterms:W3CDTF">2015-08-21T10:16:23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