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D37-CF7E-4259-8D35-62C01ADE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2163-F09B-4CC5-B9A6-6F12948B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516-1353-4656-B545-ED0E4387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B6A8-C75F-4195-B41A-2DA351A2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00E9-D6E3-4E85-B3CE-1BA1CA08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3738-3679-4A11-8762-B3104CD3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798E-71D4-4A08-9B26-69B0352F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E718-A57A-44E9-BC94-BDA184E4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93F3-1748-42CD-8B35-2526A81E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C6EA-BC24-4685-B898-F5653ACC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8319-8EE4-4482-8182-D288A791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F133-9210-42A9-9AB6-1BA09077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23DC-94A7-436B-B34F-83C0D0D8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960D-0D2E-4819-9DC7-36F9E57D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40E2-8C16-4502-9DE4-841CA2FC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30CC-6513-48EF-A6F5-9AE4EB98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307A-D7C3-4A4C-A04B-7A3A85CE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B84ED-5318-4D30-887A-634FAC38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C5735-82DB-41F0-A47E-C0F58E0E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213A0-14B4-46F6-9407-70A53DB3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57315-0B0E-44DA-8067-E06608C7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70CFF-84C5-4977-B1E0-AC242705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337F-0DFB-4A4D-BAE8-0AAB6FF7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ECE1D-0A46-4942-B518-B9019315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82EDF-F3D1-43FC-AFB6-CD9ABAE1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E389F-4931-45A8-9527-BEE35DD5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1E4E0-8FED-446B-9ED5-ECC6D89B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E89B9-B9E7-4CB3-A3E8-26EB3B53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2291F-96FB-47A3-B8DF-E864A186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A68B2-067C-42F3-8998-4282117D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FC5-CAE3-4C71-878D-0809DD30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7B4-F401-4BA6-B6AD-F05E3D81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9AC-1932-4327-8BB0-92B1C3D9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7C8F-377E-4E5B-8E1A-B0C09320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46A-AEF6-4390-A46C-63E56A01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2B7-1897-4C9C-A857-8EC5E022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-4680" y="-1440"/>
            <a:ext cx="915516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矩形 9"/>
          <p:cNvSpPr/>
          <p:nvPr/>
        </p:nvSpPr>
        <p:spPr>
          <a:xfrm>
            <a:off x="219240" y="549360"/>
            <a:ext cx="8700840" cy="5759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ACAB-31E1-4F58-88D0-4ABDC7AEE83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Box 33"/>
          <p:cNvSpPr/>
          <p:nvPr/>
        </p:nvSpPr>
        <p:spPr>
          <a:xfrm>
            <a:off x="6032520" y="4428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db27"/>
                </a:solidFill>
                <a:latin typeface="Impact"/>
              </a:rPr>
              <a:t>Soloman’s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TextBox 34"/>
          <p:cNvSpPr/>
          <p:nvPr/>
        </p:nvSpPr>
        <p:spPr>
          <a:xfrm>
            <a:off x="405720" y="25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db27"/>
                </a:solidFill>
                <a:latin typeface="冬青黑体简体中文 W6"/>
                <a:ea typeface="冬青黑体简体中文 W6"/>
              </a:rPr>
              <a:t>九逸作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-4680" y="-1440"/>
            <a:ext cx="9155160" cy="6862680"/>
          </a:xfrm>
          <a:prstGeom prst="rect">
            <a:avLst/>
          </a:prstGeom>
          <a:ln w="0">
            <a:noFill/>
          </a:ln>
        </p:spPr>
      </p:pic>
      <p:sp>
        <p:nvSpPr>
          <p:cNvPr id="46" name="矩形 9"/>
          <p:cNvSpPr/>
          <p:nvPr/>
        </p:nvSpPr>
        <p:spPr>
          <a:xfrm>
            <a:off x="219240" y="549360"/>
            <a:ext cx="8700840" cy="5759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3"/>
          <p:cNvSpPr/>
          <p:nvPr/>
        </p:nvSpPr>
        <p:spPr>
          <a:xfrm>
            <a:off x="6032520" y="4428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db27"/>
                </a:solidFill>
                <a:latin typeface="Impact"/>
              </a:rPr>
              <a:t>Soloman’s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4"/>
          <p:cNvSpPr/>
          <p:nvPr/>
        </p:nvSpPr>
        <p:spPr>
          <a:xfrm>
            <a:off x="405720" y="25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db27"/>
                </a:solidFill>
                <a:latin typeface="冬青黑体简体中文 W6"/>
                <a:ea typeface="冬青黑体简体中文 W6"/>
              </a:rPr>
              <a:t>九逸作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-4680" y="324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G:\360data\重要数据\桌面\未标题-1.png"/>
          <p:cNvPicPr/>
          <p:nvPr/>
        </p:nvPicPr>
        <p:blipFill>
          <a:blip r:embed="rId4"/>
          <a:srcRect l="0" t="27707" r="0" b="12378"/>
          <a:stretch/>
        </p:blipFill>
        <p:spPr>
          <a:xfrm>
            <a:off x="-15840" y="5778360"/>
            <a:ext cx="27820800" cy="1106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565A-3503-46F0-85AD-5B3B4F6D76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-4680" y="-1440"/>
            <a:ext cx="9155160" cy="6862680"/>
          </a:xfrm>
          <a:prstGeom prst="rect">
            <a:avLst/>
          </a:prstGeom>
          <a:ln w="0">
            <a:noFill/>
          </a:ln>
        </p:spPr>
      </p:pic>
      <p:sp>
        <p:nvSpPr>
          <p:cNvPr id="93" name="矩形 9"/>
          <p:cNvSpPr/>
          <p:nvPr/>
        </p:nvSpPr>
        <p:spPr>
          <a:xfrm>
            <a:off x="219240" y="549360"/>
            <a:ext cx="8700840" cy="5759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3"/>
          <p:cNvSpPr/>
          <p:nvPr/>
        </p:nvSpPr>
        <p:spPr>
          <a:xfrm>
            <a:off x="6032520" y="4428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db27"/>
                </a:solidFill>
                <a:latin typeface="Impact"/>
              </a:rPr>
              <a:t>Soloman’s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405720" y="25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db27"/>
                </a:solidFill>
                <a:latin typeface="冬青黑体简体中文 W6"/>
                <a:ea typeface="冬青黑体简体中文 W6"/>
              </a:rPr>
              <a:t>九逸作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-4680" y="324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G:\360data\重要数据\桌面\未标题-1.png"/>
          <p:cNvPicPr/>
          <p:nvPr/>
        </p:nvPicPr>
        <p:blipFill>
          <a:blip r:embed="rId4"/>
          <a:srcRect l="0" t="27707" r="0" b="12378"/>
          <a:stretch/>
        </p:blipFill>
        <p:spPr>
          <a:xfrm>
            <a:off x="-15840" y="5778360"/>
            <a:ext cx="27820800" cy="1106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5"/>
          <a:stretch/>
        </p:blipFill>
        <p:spPr>
          <a:xfrm>
            <a:off x="-2411280" y="1197000"/>
            <a:ext cx="4468680" cy="4392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C5A8-48A0-4628-9C35-BDD8AD6C9DD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组合 22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1689120" cy="1596960"/>
          </a:xfrm>
          <a:prstGeom prst="rect">
            <a:avLst/>
          </a:prstGeom>
          <a:ln w="0">
            <a:noFill/>
          </a:ln>
        </p:spPr>
      </p:pic>
      <p:pic>
        <p:nvPicPr>
          <p:cNvPr id="141" name="标题 1" descr=""/>
          <p:cNvPicPr/>
          <p:nvPr/>
        </p:nvPicPr>
        <p:blipFill>
          <a:blip r:embed="rId2"/>
          <a:stretch/>
        </p:blipFill>
        <p:spPr>
          <a:xfrm>
            <a:off x="2419200" y="2517840"/>
            <a:ext cx="4084920" cy="1285920"/>
          </a:xfrm>
          <a:prstGeom prst="rect">
            <a:avLst/>
          </a:prstGeom>
          <a:ln w="0">
            <a:noFill/>
          </a:ln>
        </p:spPr>
      </p:pic>
      <p:pic>
        <p:nvPicPr>
          <p:cNvPr id="142" name="组合 17" descr=""/>
          <p:cNvPicPr/>
          <p:nvPr/>
        </p:nvPicPr>
        <p:blipFill>
          <a:blip r:embed="rId3"/>
          <a:stretch/>
        </p:blipFill>
        <p:spPr>
          <a:xfrm>
            <a:off x="3924360" y="1989000"/>
            <a:ext cx="1968480" cy="1854360"/>
          </a:xfrm>
          <a:prstGeom prst="rect">
            <a:avLst/>
          </a:prstGeom>
          <a:ln w="0">
            <a:noFill/>
          </a:ln>
        </p:spPr>
      </p:pic>
      <p:pic>
        <p:nvPicPr>
          <p:cNvPr id="143" name="组合 18" descr=""/>
          <p:cNvPicPr/>
          <p:nvPr/>
        </p:nvPicPr>
        <p:blipFill>
          <a:blip r:embed="rId4"/>
          <a:stretch/>
        </p:blipFill>
        <p:spPr>
          <a:xfrm>
            <a:off x="5029200" y="1884240"/>
            <a:ext cx="1859040" cy="1749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5"/>
          <a:srcRect l="14999" t="0" r="13999" b="0"/>
          <a:stretch/>
        </p:blipFill>
        <p:spPr>
          <a:xfrm>
            <a:off x="1619280" y="3139920"/>
            <a:ext cx="56894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6"/>
          <p:cNvSpPr/>
          <p:nvPr/>
        </p:nvSpPr>
        <p:spPr>
          <a:xfrm>
            <a:off x="223920" y="2705040"/>
            <a:ext cx="51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4db27"/>
                </a:solidFill>
                <a:latin typeface="冬青黑体简体中文 W6"/>
                <a:ea typeface="冬青黑体简体中文 W6"/>
              </a:rPr>
              <a:t>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4db27"/>
                </a:solidFill>
                <a:latin typeface="冬青黑体简体中文 W6"/>
                <a:ea typeface="冬青黑体简体中文 W6"/>
              </a:rPr>
              <a:t>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20"/>
          <p:cNvSpPr/>
          <p:nvPr/>
        </p:nvSpPr>
        <p:spPr>
          <a:xfrm>
            <a:off x="1690200" y="1487520"/>
            <a:ext cx="6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db27"/>
                </a:solidFill>
                <a:latin typeface="Impact"/>
              </a:rPr>
              <a:t>1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33"/>
          <p:cNvSpPr/>
          <p:nvPr/>
        </p:nvSpPr>
        <p:spPr>
          <a:xfrm>
            <a:off x="2230200" y="2568600"/>
            <a:ext cx="6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db27"/>
                </a:solidFill>
                <a:latin typeface="Impact"/>
              </a:rPr>
              <a:t>2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34"/>
          <p:cNvSpPr/>
          <p:nvPr/>
        </p:nvSpPr>
        <p:spPr>
          <a:xfrm>
            <a:off x="2230200" y="3648240"/>
            <a:ext cx="6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db27"/>
                </a:solidFill>
                <a:latin typeface="Impact"/>
              </a:rPr>
              <a:t>3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35"/>
          <p:cNvSpPr/>
          <p:nvPr/>
        </p:nvSpPr>
        <p:spPr>
          <a:xfrm>
            <a:off x="1690560" y="4727520"/>
            <a:ext cx="6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db27"/>
                </a:solidFill>
                <a:latin typeface="Impact"/>
              </a:rPr>
              <a:t>4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6"/>
          <p:cNvSpPr/>
          <p:nvPr/>
        </p:nvSpPr>
        <p:spPr>
          <a:xfrm>
            <a:off x="77040" y="27082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4db27"/>
                </a:solidFill>
                <a:latin typeface="Impact"/>
                <a:ea typeface="冬青黑体简体中文 W6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3490920" y="28749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4db27"/>
                </a:solidFill>
                <a:latin typeface="冬青黑体简体中文 W6"/>
                <a:ea typeface="冬青黑体简体中文 W6"/>
              </a:rPr>
              <a:t>小节标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圆角矩形 3"/>
          <p:cNvSpPr/>
          <p:nvPr/>
        </p:nvSpPr>
        <p:spPr>
          <a:xfrm>
            <a:off x="1619280" y="3579840"/>
            <a:ext cx="2381400" cy="1217520"/>
          </a:xfrm>
          <a:prstGeom prst="roundRect">
            <a:avLst>
              <a:gd name="adj" fmla="val 5194"/>
            </a:avLst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83"/>
          <p:cNvSpPr/>
          <p:nvPr/>
        </p:nvSpPr>
        <p:spPr>
          <a:xfrm>
            <a:off x="1838160" y="3679920"/>
            <a:ext cx="194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圆角矩形 5"/>
          <p:cNvSpPr/>
          <p:nvPr/>
        </p:nvSpPr>
        <p:spPr>
          <a:xfrm>
            <a:off x="4782960" y="3579840"/>
            <a:ext cx="2381400" cy="1217520"/>
          </a:xfrm>
          <a:prstGeom prst="roundRect">
            <a:avLst>
              <a:gd name="adj" fmla="val 7278"/>
            </a:avLst>
          </a:pr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84"/>
          <p:cNvSpPr/>
          <p:nvPr/>
        </p:nvSpPr>
        <p:spPr>
          <a:xfrm>
            <a:off x="4905360" y="3680640"/>
            <a:ext cx="213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圆角矩形 7"/>
          <p:cNvSpPr/>
          <p:nvPr/>
        </p:nvSpPr>
        <p:spPr>
          <a:xfrm>
            <a:off x="4782960" y="1849320"/>
            <a:ext cx="2381400" cy="1217880"/>
          </a:xfrm>
          <a:prstGeom prst="roundRect">
            <a:avLst>
              <a:gd name="adj" fmla="val 4153"/>
            </a:avLst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85"/>
          <p:cNvSpPr/>
          <p:nvPr/>
        </p:nvSpPr>
        <p:spPr>
          <a:xfrm>
            <a:off x="5251320" y="1949400"/>
            <a:ext cx="144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圆角矩形 9"/>
          <p:cNvSpPr/>
          <p:nvPr/>
        </p:nvSpPr>
        <p:spPr>
          <a:xfrm>
            <a:off x="1619280" y="1849320"/>
            <a:ext cx="2381400" cy="1217880"/>
          </a:xfrm>
          <a:prstGeom prst="roundRect">
            <a:avLst>
              <a:gd name="adj" fmla="val 5194"/>
            </a:avLst>
          </a:pr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1981080" y="1949400"/>
            <a:ext cx="165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椭圆 11"/>
          <p:cNvSpPr/>
          <p:nvPr/>
        </p:nvSpPr>
        <p:spPr>
          <a:xfrm>
            <a:off x="3549600" y="2468520"/>
            <a:ext cx="1647720" cy="1665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椭圆 12"/>
          <p:cNvSpPr/>
          <p:nvPr/>
        </p:nvSpPr>
        <p:spPr>
          <a:xfrm>
            <a:off x="3638520" y="2567160"/>
            <a:ext cx="1469880" cy="1468440"/>
          </a:xfrm>
          <a:prstGeom prst="ellipse">
            <a:avLst/>
          </a:pr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28440">
            <a:solidFill>
              <a:srgbClr val="f6924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87"/>
          <p:cNvSpPr/>
          <p:nvPr/>
        </p:nvSpPr>
        <p:spPr>
          <a:xfrm>
            <a:off x="3605040" y="2924280"/>
            <a:ext cx="153684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99"/>
              </a:lnSpc>
              <a:spcBef>
                <a:spcPts val="15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九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899"/>
              </a:lnSpc>
              <a:spcBef>
                <a:spcPts val="15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作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3"/>
          <p:cNvSpPr/>
          <p:nvPr/>
        </p:nvSpPr>
        <p:spPr>
          <a:xfrm>
            <a:off x="971640" y="1378080"/>
            <a:ext cx="2232000" cy="61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九逸作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4"/>
          <p:cNvSpPr/>
          <p:nvPr/>
        </p:nvSpPr>
        <p:spPr>
          <a:xfrm>
            <a:off x="971640" y="2133720"/>
            <a:ext cx="2232000" cy="3060720"/>
          </a:xfrm>
          <a:prstGeom prst="rect">
            <a:avLst/>
          </a:pr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3449520" y="1387440"/>
            <a:ext cx="2232000" cy="601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九逸作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3449520" y="2133720"/>
            <a:ext cx="2232000" cy="3070080"/>
          </a:xfrm>
          <a:prstGeom prst="rect">
            <a:avLst/>
          </a:pr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7"/>
          <p:cNvSpPr/>
          <p:nvPr/>
        </p:nvSpPr>
        <p:spPr>
          <a:xfrm>
            <a:off x="5940360" y="1378080"/>
            <a:ext cx="2232000" cy="61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九逸作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8"/>
          <p:cNvSpPr/>
          <p:nvPr/>
        </p:nvSpPr>
        <p:spPr>
          <a:xfrm>
            <a:off x="5940360" y="2133720"/>
            <a:ext cx="2232000" cy="3060720"/>
          </a:xfrm>
          <a:prstGeom prst="rect">
            <a:avLst/>
          </a:pr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9"/>
          <p:cNvSpPr/>
          <p:nvPr/>
        </p:nvSpPr>
        <p:spPr>
          <a:xfrm>
            <a:off x="857160" y="1268280"/>
            <a:ext cx="7427880" cy="403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椭圆 10"/>
          <p:cNvSpPr/>
          <p:nvPr/>
        </p:nvSpPr>
        <p:spPr>
          <a:xfrm>
            <a:off x="971640" y="5364000"/>
            <a:ext cx="7200720" cy="297000"/>
          </a:xfrm>
          <a:prstGeom prst="ellipse">
            <a:avLst/>
          </a:prstGeom>
          <a:gradFill rotWithShape="0">
            <a:gsLst>
              <a:gs pos="0">
                <a:srgbClr val="000000">
                  <a:alpha val="77254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泪滴形 3"/>
          <p:cNvSpPr/>
          <p:nvPr/>
        </p:nvSpPr>
        <p:spPr>
          <a:xfrm rot="5400000">
            <a:off x="3264120" y="2140560"/>
            <a:ext cx="1230480" cy="1228680"/>
          </a:xfrm>
          <a:custGeom>
            <a:avLst/>
            <a:gdLst/>
            <a:ahLst/>
            <a:rect l="l" t="t" r="r" b="b"/>
            <a:pathLst>
              <a:path w="1230313" h="1228725">
                <a:moveTo>
                  <a:pt x="0" y="614363"/>
                </a:moveTo>
                <a:cubicBezTo>
                  <a:pt x="0" y="275060"/>
                  <a:pt x="275415" y="0"/>
                  <a:pt x="615157" y="0"/>
                </a:cubicBezTo>
                <a:lnTo>
                  <a:pt x="1230313" y="0"/>
                </a:lnTo>
                <a:lnTo>
                  <a:pt x="1230313" y="614363"/>
                </a:lnTo>
                <a:cubicBezTo>
                  <a:pt x="1230313" y="953666"/>
                  <a:pt x="954898" y="1228726"/>
                  <a:pt x="615156" y="1228726"/>
                </a:cubicBezTo>
                <a:cubicBezTo>
                  <a:pt x="275414" y="1228726"/>
                  <a:pt x="-1" y="953666"/>
                  <a:pt x="-1" y="614363"/>
                </a:cubicBezTo>
                <a:lnTo>
                  <a:pt x="0" y="614363"/>
                </a:lnTo>
                <a:close/>
              </a:path>
            </a:pathLst>
          </a:cu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0"/>
          </a:gradFill>
          <a:ln w="9360">
            <a:solidFill>
              <a:srgbClr val="f69240"/>
            </a:solidFill>
            <a:round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泪滴形 4"/>
          <p:cNvSpPr/>
          <p:nvPr/>
        </p:nvSpPr>
        <p:spPr>
          <a:xfrm rot="10800000">
            <a:off x="4613400" y="1719360"/>
            <a:ext cx="1652400" cy="1650960"/>
          </a:xfrm>
          <a:custGeom>
            <a:avLst/>
            <a:gdLst/>
            <a:ahLst/>
            <a:rect l="l" t="t" r="r" b="b"/>
            <a:pathLst>
              <a:path w="1652588" h="1651000">
                <a:moveTo>
                  <a:pt x="0" y="825500"/>
                </a:moveTo>
                <a:cubicBezTo>
                  <a:pt x="0" y="369589"/>
                  <a:pt x="369944" y="0"/>
                  <a:pt x="826294" y="0"/>
                </a:cubicBezTo>
                <a:lnTo>
                  <a:pt x="1652588" y="0"/>
                </a:lnTo>
                <a:lnTo>
                  <a:pt x="1652588" y="825500"/>
                </a:lnTo>
                <a:cubicBezTo>
                  <a:pt x="1652588" y="1281411"/>
                  <a:pt x="1282644" y="1651000"/>
                  <a:pt x="826294" y="1651000"/>
                </a:cubicBezTo>
                <a:cubicBezTo>
                  <a:pt x="369944" y="1651000"/>
                  <a:pt x="0" y="1281411"/>
                  <a:pt x="0" y="8255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泪滴形 5"/>
          <p:cNvSpPr/>
          <p:nvPr/>
        </p:nvSpPr>
        <p:spPr>
          <a:xfrm rot="16200000">
            <a:off x="4613040" y="3487680"/>
            <a:ext cx="1230480" cy="1230120"/>
          </a:xfrm>
          <a:custGeom>
            <a:avLst/>
            <a:gdLst/>
            <a:ahLst/>
            <a:rect l="l" t="t" r="r" b="b"/>
            <a:pathLst>
              <a:path w="1230312" h="1230313">
                <a:moveTo>
                  <a:pt x="0" y="615157"/>
                </a:moveTo>
                <a:cubicBezTo>
                  <a:pt x="0" y="275415"/>
                  <a:pt x="275415" y="0"/>
                  <a:pt x="615156" y="0"/>
                </a:cubicBezTo>
                <a:lnTo>
                  <a:pt x="1230312" y="0"/>
                </a:lnTo>
                <a:lnTo>
                  <a:pt x="1230312" y="615157"/>
                </a:lnTo>
                <a:cubicBezTo>
                  <a:pt x="1230312" y="954899"/>
                  <a:pt x="954897" y="1230314"/>
                  <a:pt x="615156" y="1230314"/>
                </a:cubicBezTo>
                <a:cubicBezTo>
                  <a:pt x="275415" y="1230314"/>
                  <a:pt x="0" y="954899"/>
                  <a:pt x="0" y="615157"/>
                </a:cubicBezTo>
                <a:close/>
              </a:path>
            </a:pathLst>
          </a:cu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10800000"/>
          </a:gradFill>
          <a:ln w="9360">
            <a:solidFill>
              <a:srgbClr val="f69240"/>
            </a:solidFill>
            <a:round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泪滴形 6"/>
          <p:cNvSpPr/>
          <p:nvPr/>
        </p:nvSpPr>
        <p:spPr>
          <a:xfrm>
            <a:off x="2843280" y="3487680"/>
            <a:ext cx="1650960" cy="1650960"/>
          </a:xfrm>
          <a:custGeom>
            <a:avLst/>
            <a:gdLst/>
            <a:ahLst/>
            <a:rect l="l" t="t" r="r" b="b"/>
            <a:pathLst>
              <a:path w="1651000" h="1651000">
                <a:moveTo>
                  <a:pt x="0" y="825500"/>
                </a:moveTo>
                <a:cubicBezTo>
                  <a:pt x="0" y="369589"/>
                  <a:pt x="369589" y="0"/>
                  <a:pt x="825500" y="0"/>
                </a:cubicBezTo>
                <a:lnTo>
                  <a:pt x="1651000" y="0"/>
                </a:lnTo>
                <a:lnTo>
                  <a:pt x="1651000" y="825500"/>
                </a:lnTo>
                <a:cubicBezTo>
                  <a:pt x="1651000" y="1281411"/>
                  <a:pt x="1281411" y="1651000"/>
                  <a:pt x="825500" y="1651000"/>
                </a:cubicBezTo>
                <a:cubicBezTo>
                  <a:pt x="369589" y="1651000"/>
                  <a:pt x="0" y="1281411"/>
                  <a:pt x="0" y="8255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5136480" y="20667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九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作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41760" y="194040"/>
            <a:ext cx="3401280" cy="5538600"/>
            <a:chOff x="41760" y="194040"/>
            <a:chExt cx="3401280" cy="5538600"/>
          </a:xfrm>
        </p:grpSpPr>
        <p:sp>
          <p:nvSpPr>
            <p:cNvPr id="177" name="矩形 4"/>
            <p:cNvSpPr/>
            <p:nvPr/>
          </p:nvSpPr>
          <p:spPr>
            <a:xfrm>
              <a:off x="634680" y="2449440"/>
              <a:ext cx="2214720" cy="328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直角三角形 12"/>
            <p:cNvSpPr/>
            <p:nvPr/>
          </p:nvSpPr>
          <p:spPr>
            <a:xfrm rot="18900000">
              <a:off x="539640" y="691920"/>
              <a:ext cx="2405160" cy="2405160"/>
            </a:xfrm>
            <a:custGeom>
              <a:avLst/>
              <a:gdLst/>
              <a:ahLst/>
              <a:rect l="l" t="t" r="r" b="b"/>
              <a:pathLst>
                <a:path w="2733439" h="2733439">
                  <a:moveTo>
                    <a:pt x="954075" y="0"/>
                  </a:moveTo>
                  <a:lnTo>
                    <a:pt x="2733439" y="1779364"/>
                  </a:lnTo>
                  <a:lnTo>
                    <a:pt x="1779364" y="2733439"/>
                  </a:lnTo>
                  <a:lnTo>
                    <a:pt x="1026963" y="1981038"/>
                  </a:lnTo>
                  <a:lnTo>
                    <a:pt x="752401" y="1981038"/>
                  </a:lnTo>
                  <a:lnTo>
                    <a:pt x="752401" y="1706476"/>
                  </a:lnTo>
                  <a:lnTo>
                    <a:pt x="0" y="954075"/>
                  </a:lnTo>
                  <a:lnTo>
                    <a:pt x="95407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8f26"/>
                </a:gs>
                <a:gs pos="100000">
                  <a:srgbClr val="f4db27"/>
                </a:gs>
              </a:gsLst>
              <a:lin ang="16200000"/>
            </a:gradFill>
            <a:ln w="9360">
              <a:solidFill>
                <a:srgbClr val="f6924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TextBox 10"/>
            <p:cNvSpPr/>
            <p:nvPr/>
          </p:nvSpPr>
          <p:spPr>
            <a:xfrm>
              <a:off x="532080" y="1258200"/>
              <a:ext cx="819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910000"/>
                  </a:solidFill>
                  <a:latin typeface="Impact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Box 5"/>
            <p:cNvSpPr/>
            <p:nvPr/>
          </p:nvSpPr>
          <p:spPr>
            <a:xfrm>
              <a:off x="1550520" y="1855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10000"/>
                  </a:solidFill>
                  <a:latin typeface="冬青黑体简体中文 W6"/>
                  <a:ea typeface="冬青黑体简体中文 W6"/>
                </a:rPr>
                <a:t>输入主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Box 6"/>
            <p:cNvSpPr/>
            <p:nvPr/>
          </p:nvSpPr>
          <p:spPr>
            <a:xfrm>
              <a:off x="801000" y="3157200"/>
              <a:ext cx="148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Detail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TextBox 7"/>
            <p:cNvSpPr/>
            <p:nvPr/>
          </p:nvSpPr>
          <p:spPr>
            <a:xfrm>
              <a:off x="804240" y="3917520"/>
              <a:ext cx="159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Symbol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extBox 8"/>
            <p:cNvSpPr/>
            <p:nvPr/>
          </p:nvSpPr>
          <p:spPr>
            <a:xfrm>
              <a:off x="816480" y="4677840"/>
              <a:ext cx="131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Phot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861280" y="194040"/>
            <a:ext cx="3401280" cy="5538600"/>
            <a:chOff x="2861280" y="194040"/>
            <a:chExt cx="3401280" cy="5538600"/>
          </a:xfrm>
        </p:grpSpPr>
        <p:sp>
          <p:nvSpPr>
            <p:cNvPr id="185" name="矩形 12"/>
            <p:cNvSpPr/>
            <p:nvPr/>
          </p:nvSpPr>
          <p:spPr>
            <a:xfrm>
              <a:off x="3454200" y="2449440"/>
              <a:ext cx="2214720" cy="328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直角三角形 12"/>
            <p:cNvSpPr/>
            <p:nvPr/>
          </p:nvSpPr>
          <p:spPr>
            <a:xfrm rot="18900000">
              <a:off x="3359160" y="691920"/>
              <a:ext cx="2405160" cy="2405160"/>
            </a:xfrm>
            <a:custGeom>
              <a:avLst/>
              <a:gdLst/>
              <a:ahLst/>
              <a:rect l="l" t="t" r="r" b="b"/>
              <a:pathLst>
                <a:path w="2733439" h="2733439">
                  <a:moveTo>
                    <a:pt x="954075" y="0"/>
                  </a:moveTo>
                  <a:lnTo>
                    <a:pt x="2733439" y="1779364"/>
                  </a:lnTo>
                  <a:lnTo>
                    <a:pt x="1779364" y="2733439"/>
                  </a:lnTo>
                  <a:lnTo>
                    <a:pt x="1026963" y="1981038"/>
                  </a:lnTo>
                  <a:lnTo>
                    <a:pt x="752401" y="1981038"/>
                  </a:lnTo>
                  <a:lnTo>
                    <a:pt x="752401" y="1706476"/>
                  </a:lnTo>
                  <a:lnTo>
                    <a:pt x="0" y="954075"/>
                  </a:lnTo>
                  <a:lnTo>
                    <a:pt x="95407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8f26"/>
                </a:gs>
                <a:gs pos="100000">
                  <a:srgbClr val="f4db27"/>
                </a:gs>
              </a:gsLst>
              <a:lin ang="16200000"/>
            </a:gradFill>
            <a:ln w="9360">
              <a:solidFill>
                <a:srgbClr val="f6924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Box 20"/>
            <p:cNvSpPr/>
            <p:nvPr/>
          </p:nvSpPr>
          <p:spPr>
            <a:xfrm>
              <a:off x="3411360" y="1258200"/>
              <a:ext cx="819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910000"/>
                  </a:solidFill>
                  <a:latin typeface="Impact"/>
                </a:rPr>
                <a:t>2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15"/>
            <p:cNvSpPr/>
            <p:nvPr/>
          </p:nvSpPr>
          <p:spPr>
            <a:xfrm>
              <a:off x="4359600" y="1855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10000"/>
                  </a:solidFill>
                  <a:latin typeface="冬青黑体简体中文 W6"/>
                  <a:ea typeface="冬青黑体简体中文 W6"/>
                </a:rPr>
                <a:t>输入主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Box 16"/>
            <p:cNvSpPr/>
            <p:nvPr/>
          </p:nvSpPr>
          <p:spPr>
            <a:xfrm>
              <a:off x="3620520" y="3157200"/>
              <a:ext cx="148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Detail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Box 17"/>
            <p:cNvSpPr/>
            <p:nvPr/>
          </p:nvSpPr>
          <p:spPr>
            <a:xfrm>
              <a:off x="3623760" y="3917520"/>
              <a:ext cx="159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Symbol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Box 18"/>
            <p:cNvSpPr/>
            <p:nvPr/>
          </p:nvSpPr>
          <p:spPr>
            <a:xfrm>
              <a:off x="3636000" y="4677840"/>
              <a:ext cx="131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Phot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680800" y="194400"/>
            <a:ext cx="3401280" cy="5538240"/>
            <a:chOff x="5680800" y="194400"/>
            <a:chExt cx="3401280" cy="5538240"/>
          </a:xfrm>
        </p:grpSpPr>
        <p:sp>
          <p:nvSpPr>
            <p:cNvPr id="193" name="矩形 20"/>
            <p:cNvSpPr/>
            <p:nvPr/>
          </p:nvSpPr>
          <p:spPr>
            <a:xfrm>
              <a:off x="6273720" y="2449440"/>
              <a:ext cx="2214360" cy="328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直角三角形 12"/>
            <p:cNvSpPr/>
            <p:nvPr/>
          </p:nvSpPr>
          <p:spPr>
            <a:xfrm rot="18900000">
              <a:off x="6178680" y="691920"/>
              <a:ext cx="2404800" cy="2405160"/>
            </a:xfrm>
            <a:custGeom>
              <a:avLst/>
              <a:gdLst/>
              <a:ahLst/>
              <a:rect l="l" t="t" r="r" b="b"/>
              <a:pathLst>
                <a:path w="2733439" h="2733439">
                  <a:moveTo>
                    <a:pt x="954075" y="0"/>
                  </a:moveTo>
                  <a:lnTo>
                    <a:pt x="2733439" y="1779364"/>
                  </a:lnTo>
                  <a:lnTo>
                    <a:pt x="1779364" y="2733439"/>
                  </a:lnTo>
                  <a:lnTo>
                    <a:pt x="1026963" y="1981038"/>
                  </a:lnTo>
                  <a:lnTo>
                    <a:pt x="752401" y="1981038"/>
                  </a:lnTo>
                  <a:lnTo>
                    <a:pt x="752401" y="1706476"/>
                  </a:lnTo>
                  <a:lnTo>
                    <a:pt x="0" y="954075"/>
                  </a:lnTo>
                  <a:lnTo>
                    <a:pt x="95407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8f26"/>
                </a:gs>
                <a:gs pos="100000">
                  <a:srgbClr val="f4db27"/>
                </a:gs>
              </a:gsLst>
              <a:lin ang="16200000"/>
            </a:gradFill>
            <a:ln w="9360">
              <a:solidFill>
                <a:srgbClr val="f6924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30"/>
            <p:cNvSpPr/>
            <p:nvPr/>
          </p:nvSpPr>
          <p:spPr>
            <a:xfrm>
              <a:off x="6244920" y="1258200"/>
              <a:ext cx="819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910000"/>
                  </a:solidFill>
                  <a:latin typeface="Impact"/>
                </a:rPr>
                <a:t>3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Box 25"/>
            <p:cNvSpPr/>
            <p:nvPr/>
          </p:nvSpPr>
          <p:spPr>
            <a:xfrm>
              <a:off x="7236000" y="1855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10000"/>
                  </a:solidFill>
                  <a:latin typeface="冬青黑体简体中文 W6"/>
                  <a:ea typeface="冬青黑体简体中文 W6"/>
                </a:rPr>
                <a:t>输入主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TextBox 26"/>
            <p:cNvSpPr/>
            <p:nvPr/>
          </p:nvSpPr>
          <p:spPr>
            <a:xfrm>
              <a:off x="6439680" y="3157200"/>
              <a:ext cx="148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Detail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TextBox 27"/>
            <p:cNvSpPr/>
            <p:nvPr/>
          </p:nvSpPr>
          <p:spPr>
            <a:xfrm>
              <a:off x="6442920" y="3917520"/>
              <a:ext cx="159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Symbol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TextBox 28"/>
            <p:cNvSpPr/>
            <p:nvPr/>
          </p:nvSpPr>
          <p:spPr>
            <a:xfrm>
              <a:off x="6454800" y="4677840"/>
              <a:ext cx="131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Phot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圆角矩形 3"/>
          <p:cNvSpPr/>
          <p:nvPr/>
        </p:nvSpPr>
        <p:spPr>
          <a:xfrm>
            <a:off x="792000" y="2938320"/>
            <a:ext cx="7693200" cy="1714680"/>
          </a:xfrm>
          <a:prstGeom prst="roundRect">
            <a:avLst>
              <a:gd name="adj" fmla="val 6069"/>
            </a:avLst>
          </a:prstGeom>
          <a:noFill/>
          <a:ln w="2556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圆角矩形 4"/>
          <p:cNvSpPr/>
          <p:nvPr/>
        </p:nvSpPr>
        <p:spPr>
          <a:xfrm>
            <a:off x="6689880" y="1681200"/>
            <a:ext cx="1622160" cy="2158920"/>
          </a:xfrm>
          <a:custGeom>
            <a:avLst/>
            <a:gdLst>
              <a:gd name="textAreaLeft" fmla="*/ 43920 w 1622160"/>
              <a:gd name="textAreaRight" fmla="*/ 1578240 w 1622160"/>
              <a:gd name="textAreaTop" fmla="*/ 43920 h 2158920"/>
              <a:gd name="textAreaBottom" fmla="*/ 2115000 h 2158920"/>
            </a:gdLst>
            <a:ahLst/>
            <a:rect l="textAreaLeft" t="textAreaTop" r="textAreaRight" b="textAreaBottom"/>
            <a:pathLst>
              <a:path w="21600" h="28746">
                <a:moveTo>
                  <a:pt x="2006" y="0"/>
                </a:moveTo>
                <a:arcTo wR="2006" hR="2006" stAng="16200000" swAng="-5400000"/>
                <a:lnTo>
                  <a:pt x="0" y="26740"/>
                </a:lnTo>
                <a:arcTo wR="2006" hR="2006" stAng="10800000" swAng="-5400000"/>
                <a:lnTo>
                  <a:pt x="19594" y="28746"/>
                </a:lnTo>
                <a:arcTo wR="2006" hR="2006" stAng="5400000" swAng="-5400000"/>
                <a:lnTo>
                  <a:pt x="21600" y="2006"/>
                </a:lnTo>
                <a:arcTo wR="2006" hR="2006" stAng="0" swAng="-5400000"/>
                <a:close/>
              </a:path>
            </a:pathLst>
          </a:cu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圆角矩形 5"/>
          <p:cNvSpPr/>
          <p:nvPr/>
        </p:nvSpPr>
        <p:spPr>
          <a:xfrm>
            <a:off x="4786200" y="1684440"/>
            <a:ext cx="1622520" cy="2160360"/>
          </a:xfrm>
          <a:custGeom>
            <a:avLst/>
            <a:gdLst>
              <a:gd name="textAreaLeft" fmla="*/ 43920 w 1622520"/>
              <a:gd name="textAreaRight" fmla="*/ 1578600 w 1622520"/>
              <a:gd name="textAreaTop" fmla="*/ 43920 h 2160360"/>
              <a:gd name="textAreaBottom" fmla="*/ 2116440 h 2160360"/>
            </a:gdLst>
            <a:ahLst/>
            <a:rect l="textAreaLeft" t="textAreaTop" r="textAreaRight" b="textAreaBottom"/>
            <a:pathLst>
              <a:path w="21600" h="28758">
                <a:moveTo>
                  <a:pt x="2006" y="0"/>
                </a:moveTo>
                <a:arcTo wR="2006" hR="2006" stAng="16200000" swAng="-5400000"/>
                <a:lnTo>
                  <a:pt x="0" y="26752"/>
                </a:lnTo>
                <a:arcTo wR="2006" hR="2006" stAng="10800000" swAng="-5400000"/>
                <a:lnTo>
                  <a:pt x="19594" y="28758"/>
                </a:lnTo>
                <a:arcTo wR="2006" hR="2006" stAng="5400000" swAng="-5400000"/>
                <a:lnTo>
                  <a:pt x="21600" y="2006"/>
                </a:lnTo>
                <a:arcTo wR="2006" hR="2006" stAng="0" swAng="-5400000"/>
                <a:close/>
              </a:path>
            </a:pathLst>
          </a:cu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圆角矩形 6"/>
          <p:cNvSpPr/>
          <p:nvPr/>
        </p:nvSpPr>
        <p:spPr>
          <a:xfrm>
            <a:off x="2879640" y="1689120"/>
            <a:ext cx="1622520" cy="2158920"/>
          </a:xfrm>
          <a:custGeom>
            <a:avLst/>
            <a:gdLst>
              <a:gd name="textAreaLeft" fmla="*/ 43920 w 1622520"/>
              <a:gd name="textAreaRight" fmla="*/ 1578600 w 1622520"/>
              <a:gd name="textAreaTop" fmla="*/ 43920 h 2158920"/>
              <a:gd name="textAreaBottom" fmla="*/ 2115000 h 2158920"/>
            </a:gdLst>
            <a:ahLst/>
            <a:rect l="textAreaLeft" t="textAreaTop" r="textAreaRight" b="textAreaBottom"/>
            <a:pathLst>
              <a:path w="21600" h="28739">
                <a:moveTo>
                  <a:pt x="2006" y="0"/>
                </a:moveTo>
                <a:arcTo wR="2006" hR="2006" stAng="16200000" swAng="-5400000"/>
                <a:lnTo>
                  <a:pt x="0" y="26733"/>
                </a:lnTo>
                <a:arcTo wR="2006" hR="2006" stAng="10800000" swAng="-5400000"/>
                <a:lnTo>
                  <a:pt x="19594" y="28739"/>
                </a:lnTo>
                <a:arcTo wR="2006" hR="2006" stAng="5400000" swAng="-5400000"/>
                <a:lnTo>
                  <a:pt x="21600" y="2006"/>
                </a:lnTo>
                <a:arcTo wR="2006" hR="2006" stAng="0" swAng="-5400000"/>
                <a:close/>
              </a:path>
            </a:pathLst>
          </a:cu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圆角矩形 7"/>
          <p:cNvSpPr/>
          <p:nvPr/>
        </p:nvSpPr>
        <p:spPr>
          <a:xfrm>
            <a:off x="971640" y="1677960"/>
            <a:ext cx="1622160" cy="2158920"/>
          </a:xfrm>
          <a:custGeom>
            <a:avLst/>
            <a:gdLst>
              <a:gd name="textAreaLeft" fmla="*/ 43920 w 1622160"/>
              <a:gd name="textAreaRight" fmla="*/ 1578240 w 1622160"/>
              <a:gd name="textAreaTop" fmla="*/ 43920 h 2158920"/>
              <a:gd name="textAreaBottom" fmla="*/ 2115000 h 2158920"/>
            </a:gdLst>
            <a:ahLst/>
            <a:rect l="textAreaLeft" t="textAreaTop" r="textAreaRight" b="textAreaBottom"/>
            <a:pathLst>
              <a:path w="21600" h="28746">
                <a:moveTo>
                  <a:pt x="2006" y="0"/>
                </a:moveTo>
                <a:arcTo wR="2006" hR="2006" stAng="16200000" swAng="-5400000"/>
                <a:lnTo>
                  <a:pt x="0" y="26740"/>
                </a:lnTo>
                <a:arcTo wR="2006" hR="2006" stAng="10800000" swAng="-5400000"/>
                <a:lnTo>
                  <a:pt x="19594" y="28746"/>
                </a:lnTo>
                <a:arcTo wR="2006" hR="2006" stAng="5400000" swAng="-5400000"/>
                <a:lnTo>
                  <a:pt x="21600" y="2006"/>
                </a:lnTo>
                <a:arcTo wR="2006" hR="2006" stAng="0" swAng="-5400000"/>
                <a:close/>
              </a:path>
            </a:pathLst>
          </a:cu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2"/>
          <p:cNvSpPr/>
          <p:nvPr/>
        </p:nvSpPr>
        <p:spPr>
          <a:xfrm>
            <a:off x="2370240" y="4262400"/>
            <a:ext cx="4392360" cy="75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九逸作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971640" y="1849320"/>
            <a:ext cx="16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2865600" y="1849320"/>
            <a:ext cx="159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24"/>
          <p:cNvSpPr/>
          <p:nvPr/>
        </p:nvSpPr>
        <p:spPr>
          <a:xfrm>
            <a:off x="4819680" y="1849320"/>
            <a:ext cx="155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30"/>
          <p:cNvSpPr/>
          <p:nvPr/>
        </p:nvSpPr>
        <p:spPr>
          <a:xfrm>
            <a:off x="6734160" y="1849320"/>
            <a:ext cx="163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31"/>
          <p:cNvSpPr/>
          <p:nvPr/>
        </p:nvSpPr>
        <p:spPr>
          <a:xfrm>
            <a:off x="878040" y="3225960"/>
            <a:ext cx="17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输入主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32"/>
          <p:cNvSpPr/>
          <p:nvPr/>
        </p:nvSpPr>
        <p:spPr>
          <a:xfrm>
            <a:off x="2749680" y="32259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输入主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33"/>
          <p:cNvSpPr/>
          <p:nvPr/>
        </p:nvSpPr>
        <p:spPr>
          <a:xfrm>
            <a:off x="4687920" y="32241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输入主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34"/>
          <p:cNvSpPr/>
          <p:nvPr/>
        </p:nvSpPr>
        <p:spPr>
          <a:xfrm>
            <a:off x="6643800" y="321300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输入主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椭圆 17"/>
          <p:cNvSpPr/>
          <p:nvPr/>
        </p:nvSpPr>
        <p:spPr>
          <a:xfrm>
            <a:off x="1566720" y="2725560"/>
            <a:ext cx="360360" cy="3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椭圆 18"/>
          <p:cNvSpPr/>
          <p:nvPr/>
        </p:nvSpPr>
        <p:spPr>
          <a:xfrm>
            <a:off x="3483000" y="27576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椭圆 19"/>
          <p:cNvSpPr/>
          <p:nvPr/>
        </p:nvSpPr>
        <p:spPr>
          <a:xfrm>
            <a:off x="5370480" y="27576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椭圆 20"/>
          <p:cNvSpPr/>
          <p:nvPr/>
        </p:nvSpPr>
        <p:spPr>
          <a:xfrm>
            <a:off x="7307280" y="27496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598040" y="2714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3513960" y="2741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37"/>
          <p:cNvSpPr/>
          <p:nvPr/>
        </p:nvSpPr>
        <p:spPr>
          <a:xfrm>
            <a:off x="5403240" y="2741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8"/>
          <p:cNvSpPr/>
          <p:nvPr/>
        </p:nvSpPr>
        <p:spPr>
          <a:xfrm>
            <a:off x="7340040" y="2741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组合 22" descr=""/>
          <p:cNvPicPr/>
          <p:nvPr/>
        </p:nvPicPr>
        <p:blipFill>
          <a:blip r:embed="rId1"/>
          <a:stretch/>
        </p:blipFill>
        <p:spPr>
          <a:xfrm>
            <a:off x="1158840" y="2968560"/>
            <a:ext cx="1687680" cy="1596960"/>
          </a:xfrm>
          <a:prstGeom prst="rect">
            <a:avLst/>
          </a:prstGeom>
          <a:ln w="0">
            <a:noFill/>
          </a:ln>
        </p:spPr>
      </p:pic>
      <p:pic>
        <p:nvPicPr>
          <p:cNvPr id="223" name="标题 1" descr=""/>
          <p:cNvPicPr/>
          <p:nvPr/>
        </p:nvPicPr>
        <p:blipFill>
          <a:blip r:embed="rId2"/>
          <a:stretch/>
        </p:blipFill>
        <p:spPr>
          <a:xfrm>
            <a:off x="2408400" y="2560680"/>
            <a:ext cx="4095720" cy="1279440"/>
          </a:xfrm>
          <a:prstGeom prst="rect">
            <a:avLst/>
          </a:prstGeom>
          <a:ln w="0">
            <a:noFill/>
          </a:ln>
        </p:spPr>
      </p:pic>
      <p:pic>
        <p:nvPicPr>
          <p:cNvPr id="224" name="组合 17" descr=""/>
          <p:cNvPicPr/>
          <p:nvPr/>
        </p:nvPicPr>
        <p:blipFill>
          <a:blip r:embed="rId3"/>
          <a:stretch/>
        </p:blipFill>
        <p:spPr>
          <a:xfrm>
            <a:off x="2639880" y="1901880"/>
            <a:ext cx="1968480" cy="1852560"/>
          </a:xfrm>
          <a:prstGeom prst="rect">
            <a:avLst/>
          </a:prstGeom>
          <a:ln w="0">
            <a:noFill/>
          </a:ln>
        </p:spPr>
      </p:pic>
      <p:pic>
        <p:nvPicPr>
          <p:cNvPr id="225" name="组合 18" descr=""/>
          <p:cNvPicPr/>
          <p:nvPr/>
        </p:nvPicPr>
        <p:blipFill>
          <a:blip r:embed="rId4"/>
          <a:stretch/>
        </p:blipFill>
        <p:spPr>
          <a:xfrm>
            <a:off x="5029200" y="1932120"/>
            <a:ext cx="1859040" cy="1749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5"/>
          <a:srcRect l="14999" t="0" r="13999" b="0"/>
          <a:stretch/>
        </p:blipFill>
        <p:spPr>
          <a:xfrm>
            <a:off x="1722600" y="3197160"/>
            <a:ext cx="56894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01:56:26Z</dcterms:created>
  <dc:creator>Peng Jinfeng</dc:creator>
  <dc:description/>
  <dc:language>en-US</dc:language>
  <cp:lastModifiedBy>Peng Jinfeng</cp:lastModifiedBy>
  <dcterms:modified xsi:type="dcterms:W3CDTF">2015-06-30T02:14:33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