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BBA8-FCBA-41ED-8FBC-AFD6A14D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33F9-7DAF-49D1-B2E0-03B57D55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A73-0526-4FE2-90FE-6884B197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2F6-DC56-4846-9E4E-71477D5B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63C1-0167-43FF-AAE7-55DE5715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E243-2CB5-4878-B96B-8CB13F1A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F946-EB16-407B-BF7A-428B1D9C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4FE3-2DFC-4902-956B-A6FE0CCE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9C71-C48B-4520-99A5-FFD93BFF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07F2-41E6-40B9-9BC1-632CA00E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2EA9-0673-4A5F-9F09-419B4776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8109-5217-440B-B928-CA5A7111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725E-E671-4C26-98CC-10A48956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7E3F-0A3E-4523-9EB0-35C111A1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9588-1D83-4592-8B79-5A753537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B4BB-8CBE-4ACA-A13F-DE799D7A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325F-B084-4633-939A-651E9DBF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BD2E-487D-48C5-A5E7-E83BB6CB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24A5-1F0F-4473-9B69-EB87A4F1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E829-5C76-4C19-935C-000DC675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339-AD46-44C9-937E-30B45300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A34D-811B-440F-A958-D5D72BE5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CC2-5EF8-4F24-AD4F-F5EE3E5B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132F-B9AA-4A8F-9676-544ADCD5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未知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836640" y="4610160"/>
              <a:ext cx="4572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318960" y="4610160"/>
              <a:ext cx="4752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BEB0-0B1D-45B9-8038-A77476876CE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未知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18960" y="3773520"/>
              <a:ext cx="548496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838080" y="1752480"/>
              <a:ext cx="77691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18960" y="3773520"/>
              <a:ext cx="4752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838080" y="1752480"/>
              <a:ext cx="46080" cy="5119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1610-A88C-488B-8C7B-5A6CCC00FD7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990720" y="2057400"/>
            <a:ext cx="510516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6000"/>
                    </a:srgbClr>
                  </a:outerShdw>
                </a:effectLst>
                <a:latin typeface="华文细黑"/>
              </a:rPr>
              <a:t>6 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6000"/>
                    </a:srgbClr>
                  </a:outerShdw>
                </a:effectLst>
                <a:latin typeface="华文细黑"/>
              </a:rPr>
              <a:t>怀念母亲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6000"/>
                  </a:srgbClr>
                </a:outerShdw>
              </a:effectLst>
              <a:latin typeface="华文细黑"/>
              <a:ea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491640" y="289548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</a:rPr>
              <a:t>频来入梦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3337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Arial Black"/>
                <a:ea typeface="华文中宋"/>
              </a:rPr>
              <a:t>朗读课文，思考问题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15238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１、作者对这两位母亲怀着怎样的感情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3520" y="4343400"/>
            <a:ext cx="57909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0000ff"/>
                </a:solidFill>
                <a:latin typeface="Arial Black"/>
                <a:ea typeface="黑体"/>
              </a:rPr>
              <a:t>对“生身母亲”</a:t>
            </a:r>
            <a:br>
              <a:rPr sz="5400"/>
            </a:br>
            <a:r>
              <a:rPr b="0" i="1" lang="zh-CN" sz="5400" spc="-1" strike="noStrike">
                <a:solidFill>
                  <a:srgbClr val="0000ff"/>
                </a:solidFill>
                <a:latin typeface="Arial Black"/>
                <a:ea typeface="黑体"/>
              </a:rPr>
              <a:t>的感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12960" y="1905120"/>
            <a:ext cx="78580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中宋"/>
              </a:rPr>
              <a:t>１、我痛哭了几天，食不下咽，寝不安席。我真想随母亲于地下。我的愿望没能实现，从此我就成了没有母亲的孤儿。一个缺少母爱的孩子，是灵魂不全的人。我怀着不全的灵魂，抱终天之恨。一想到母亲，就泪流不止，数十年如一日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403848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这里写出了“我”失去母亲之后的伤心、痛苦和悔恨，文章通过这些描写写出了“我”对母亲的深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208160" y="3103560"/>
            <a:ext cx="748800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　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“怅望灰天”，惆怅地望着天空。由于作者长期在外求学，留在母亲身边的时候不多，必然对母亲的音容笑貌记忆不深，对母亲的怀念更多的是一个模糊的影子，因此尽管作者想努力回想母亲的容颜，但无奈模糊不清，只能尽力地怀念，不断地回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3716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２、我怅望灰天，在泪光里，幻出母亲的面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11336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352680" y="2514240"/>
            <a:ext cx="5105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ff0066"/>
                </a:solidFill>
                <a:latin typeface="Arial Black"/>
                <a:ea typeface="黑体"/>
              </a:rPr>
              <a:t>对“祖国母亲”</a:t>
            </a:r>
            <a:br>
              <a:rPr sz="5400"/>
            </a:br>
            <a:r>
              <a:rPr b="0" i="1" lang="zh-CN" sz="5400" spc="-1" strike="noStrike">
                <a:solidFill>
                  <a:srgbClr val="ff0066"/>
                </a:solidFill>
                <a:latin typeface="Arial Black"/>
                <a:ea typeface="黑体"/>
              </a:rPr>
              <a:t>的感情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100240" y="3103200"/>
            <a:ext cx="644832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频来入梦” 意思是祖国母亲经常到梦中来。作者身居异国他乡，心中无限思念祖国，心中不断涌现祖国的身影，不断回想起故国的生活、故国的亲人。句子中一个“也”字很巧妙地将祖国与母亲联系起来，可见在作者心目中两者的确有着同样重要的地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15238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、我的祖国母亲，我是第一次离开她。不知道为什么，我这个母亲也频来入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238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仿宋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凄凉”，寂寞冷落，凄惨。作者身在异国小城，心中十分忧愁；但是在远离家乡的日子里，能时常怀念起在故国的生活情景，不断回想起故国的亲朋好友，心中自然又多了一丝安慰、一些宽心、一点甜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4648320"/>
            <a:ext cx="6477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、然而这凄凉并不同普通的凄凉一样，是甜蜜的，浓浓的，有说不出的味道，浓浓地糊在心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2590560" cy="2971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654200" y="4727160"/>
            <a:ext cx="65260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对这两个母亲怀着同样崇高的敬意和同样真挚的爱慕。”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971800" y="2590920"/>
            <a:ext cx="2057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华文中宋"/>
              </a:rPr>
              <a:t>两位母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715000" y="205740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6000"/>
                    </a:srgbClr>
                  </a:outerShdw>
                </a:effectLst>
                <a:latin typeface="黑体"/>
              </a:rPr>
              <a:t>生身母亲</a:t>
            </a:r>
            <a:endParaRPr b="1" i="1" lang="en-US" sz="1800" spc="-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791320" y="3352680"/>
            <a:ext cx="22096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76000"/>
                    </a:srgbClr>
                  </a:outerShdw>
                </a:effectLst>
                <a:latin typeface="黑体"/>
              </a:rPr>
              <a:t>祖国母亲</a:t>
            </a:r>
            <a:endParaRPr b="1" i="1" lang="en-US" sz="1800" spc="-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124080" y="53352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怀念母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2819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两位母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1600200"/>
            <a:ext cx="838080" cy="3200400"/>
          </a:xfrm>
          <a:custGeom>
            <a:avLst/>
            <a:gdLst>
              <a:gd name="textAreaLeft" fmla="*/ 535320 w 838080"/>
              <a:gd name="textAreaRight" fmla="*/ 838440 w 8380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81280" y="1600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生身母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3434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祖国母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1600200"/>
            <a:ext cx="685800" cy="3124080"/>
          </a:xfrm>
          <a:custGeom>
            <a:avLst/>
            <a:gdLst>
              <a:gd name="textAreaLeft" fmla="*/ 0 w 685800"/>
              <a:gd name="textAreaRight" fmla="*/ 247680 w 6858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259092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崇高的敬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真挚的爱慕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716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600200" y="5410080"/>
            <a:ext cx="233352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宋体"/>
              </a:rPr>
              <a:t>我的中国心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5800" y="5410080"/>
            <a:ext cx="609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457200" y="1143000"/>
            <a:ext cx="8305920" cy="5181480"/>
            <a:chOff x="457200" y="1143000"/>
            <a:chExt cx="8305920" cy="518148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4343400" y="1143000"/>
              <a:ext cx="4419720" cy="51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3"/>
            <a:stretch/>
          </p:blipFill>
          <p:spPr>
            <a:xfrm>
              <a:off x="457200" y="1143000"/>
              <a:ext cx="3429000" cy="402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8380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192078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4" dur="190353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197280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慈母爱子，非为报也。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〖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汉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〗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刘安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、母苦儿未见，儿劳母不安。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劝孝歌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、世界上的一切光荣和骄傲，都来自母亲。（高尔基）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、母爱是一种巨大的火焰。（罗曼罗兰）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世界上有一种最美丽的声音，那便是母亲的呼唤。（但丁）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天上的风雨来了，鸟儿躲进他们的巢里，心中的风雨来了，我只躲进你的怀抱里。（冰心）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 Black"/>
                <a:ea typeface="隶书"/>
              </a:rPr>
              <a:t>国学大师</a:t>
            </a:r>
            <a:r>
              <a:rPr b="0" lang="en-US" sz="4400" spc="-1" strike="noStrike">
                <a:solidFill>
                  <a:srgbClr val="ff0066"/>
                </a:solidFill>
                <a:latin typeface="Arial Black"/>
                <a:ea typeface="隶书"/>
              </a:rPr>
              <a:t>——</a:t>
            </a:r>
            <a:r>
              <a:rPr b="0" lang="zh-CN" sz="4400" spc="-1" strike="noStrike">
                <a:solidFill>
                  <a:srgbClr val="ff0066"/>
                </a:solidFill>
                <a:latin typeface="Arial Black"/>
                <a:ea typeface="隶书"/>
              </a:rPr>
              <a:t>季羡林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6781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季羡林（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1911.8.6-2009.7.11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），北京大学教授、中科院院士、中国语言学家、文学翻译家，梵文、巴利文专家。山东清平（今临清）县人。１９３０年考入北京清华大学西语系。１９３５年考取清华大学交换研究生，赴德国留学，在哥廷根大学学习梵文、巴利文、吐火罗文等古代语言。１９４１年获哲学博士学位。１９４６年回国，历任北京大学教授兼东方语言文学系教授、系主任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781680" y="1752480"/>
            <a:ext cx="1695600" cy="4495680"/>
            <a:chOff x="6781680" y="1752480"/>
            <a:chExt cx="1695600" cy="449568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6781680" y="3809880"/>
              <a:ext cx="169560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6781680" y="1752480"/>
              <a:ext cx="1682640" cy="1957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09456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永久的悔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片段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　　“当我从北京赶回济南，又从济南赶回清平奔丧的时候，看到了母亲的棺材，看到那简陋的屋子，我真想一头撞死在棺材上，随母亲于地下。我后悔，我真不该，我千不该万不该离开了母亲。世界上无论什么名誉，什么地位，什么幸福，什么尊荣，都比不上呆在母亲身边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……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0720" y="1065600"/>
            <a:ext cx="8693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自由读课文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、读准字音，读通句子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、注意将难读的句子多读几次。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Arial Black"/>
                <a:ea typeface="华文中宋"/>
              </a:rPr>
              <a:t>字词正音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3352680"/>
            <a:ext cx="6934320" cy="1282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696080" y="1143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66680" y="2057400"/>
            <a:ext cx="1371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zh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真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4495680"/>
            <a:ext cx="198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qǐ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寝不安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205740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pí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频来入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4495680"/>
            <a:ext cx="2057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méng ló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朦    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057400"/>
            <a:ext cx="1447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q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凄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449568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bā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可见一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2057400"/>
            <a:ext cx="1143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piā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篇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2280" y="2659680"/>
            <a:ext cx="89917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边读边感悟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你读懂了些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280" y="2720160"/>
            <a:ext cx="8991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边读边想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从哪些词能感受到作者对母亲的深切怀念之情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76320"/>
            <a:ext cx="54324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食不下咽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寝不安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频来入梦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凄凉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思潮起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1600200"/>
            <a:ext cx="35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无法安然入睡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27432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指一件事连续在梦中出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9760" y="4414680"/>
            <a:ext cx="2540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4038480"/>
            <a:ext cx="47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寂寞冷落；凄惨，荒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228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吃不下东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54864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接二连三的思想活动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13:02:01Z</dcterms:created>
  <dc:creator>新课标第一网xkb1.com</dc:creator>
  <dc:description>新课标第一网xkb1.com</dc:description>
  <cp:keywords>新课标第一网xkb1.com</cp:keywords>
  <dc:language>en-US</dc:language>
  <cp:lastModifiedBy>User</cp:lastModifiedBy>
  <dcterms:modified xsi:type="dcterms:W3CDTF">2012-10-28T11:27:50Z</dcterms:modified>
  <cp:revision>295</cp:revision>
  <dc:subject>新课标第一网xkb1.com</dc:subject>
  <dc:title>新课标第一网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  <property fmtid="{D5CDD505-2E9C-101B-9397-08002B2CF9AE}" pid="3" name="Version">
    <vt:r8>1</vt:r8>
  </property>
</Properties>
</file>