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CA0A-7C94-499A-B6FD-88612AC6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14DD-B9B0-432D-BB18-02387432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4D66-6249-49E5-A402-133B5CD7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258F-5A25-4B06-A112-783064A8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DBDA-930A-48BC-98DA-0AE2B010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98F8-73DD-468C-BD73-25471202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3397-14BE-4F55-87EE-8F01092C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46CD-86DD-42AB-A858-06E1D898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30AC-2C4A-4A98-8307-50716B6F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A573-5EA5-457A-9F2B-F66DABC2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4B7B-1716-4DDF-AC48-9510F232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4EEA-18AD-498B-8BE1-D375A836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C35D-BBF4-4462-A024-439D8F51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EE0E-6B99-429E-A9B2-F51F141E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A1ED-7D98-439D-82D8-A91F5096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4223-9341-48A2-AD7A-CE875FA0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5D19-E9AB-4FD1-8572-6673514A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98F2-B419-45DE-BA43-8E0E877F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C17D-2C4B-44BC-BEFD-3E1AB123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A89D-012B-42E7-8F71-15207EBF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A68E-1AEA-44A6-8EB6-B1003DAE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73ED-9AE4-40DC-BCFB-31D9FE4C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EE89-1355-44FA-BFD4-3FDA56C0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9BC3-6E71-41EA-835C-DAA38987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E13F-2115-496D-814E-19A06090495B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5BB9-22B9-49B7-82FE-D7F9CB3A1C73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332000" y="5546880"/>
            <a:ext cx="691200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6.</a:t>
            </a: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怀念母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" name=""/>
          <p:cNvSpPr/>
          <p:nvPr/>
        </p:nvSpPr>
        <p:spPr>
          <a:xfrm>
            <a:off x="6257880" y="476280"/>
            <a:ext cx="200952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           </a:t>
            </a:r>
            <a:r>
              <a:rPr b="0" lang="zh-CN" sz="6000" spc="-1" strike="noStrike">
                <a:solidFill>
                  <a:srgbClr val="cc0066"/>
                </a:solidFill>
                <a:latin typeface="Arial"/>
              </a:rPr>
              <a:t>季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66"/>
                </a:solidFill>
                <a:latin typeface="Arial"/>
              </a:rPr>
              <a:t>      </a:t>
            </a:r>
            <a:r>
              <a:rPr b="0" lang="zh-CN" sz="6000" spc="-1" strike="noStrike">
                <a:solidFill>
                  <a:srgbClr val="cc0066"/>
                </a:solidFill>
                <a:latin typeface="Arial"/>
              </a:rPr>
              <a:t>羡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66"/>
                </a:solidFill>
                <a:latin typeface="Arial"/>
              </a:rPr>
              <a:t>      </a:t>
            </a:r>
            <a:r>
              <a:rPr b="0" lang="zh-CN" sz="6000" spc="-1" strike="noStrike">
                <a:solidFill>
                  <a:srgbClr val="cc0066"/>
                </a:solidFill>
                <a:latin typeface="Arial"/>
              </a:rPr>
              <a:t>林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66576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52640"/>
            <a:ext cx="88549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奔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丧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(sāng)       Shù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数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十年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丧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(s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à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ng)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失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Sh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ǔ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Shù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数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数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yàn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食不下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咽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dāi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待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会儿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yān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咽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喉       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dài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等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待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yè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哽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咽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3500280"/>
            <a:ext cx="142920" cy="2737080"/>
          </a:xfrm>
          <a:custGeom>
            <a:avLst/>
            <a:gdLst>
              <a:gd name="textAreaLeft" fmla="*/ 42120 w 142920"/>
              <a:gd name="textAreaRight" fmla="*/ 143280 w 142920"/>
              <a:gd name="textAreaTop" fmla="*/ 113760 h 2737080"/>
              <a:gd name="textAreaBottom" fmla="*/ 262332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95640" y="1268280"/>
            <a:ext cx="216000" cy="1440000"/>
          </a:xfrm>
          <a:custGeom>
            <a:avLst/>
            <a:gdLst>
              <a:gd name="textAreaLeft" fmla="*/ 63360 w 216000"/>
              <a:gd name="textAreaRight" fmla="*/ 216360 w 216000"/>
              <a:gd name="textAreaTop" fmla="*/ 59760 h 1440000"/>
              <a:gd name="textAreaBottom" fmla="*/ 138024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378936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1484280"/>
            <a:ext cx="73080" cy="1224000"/>
          </a:xfrm>
          <a:custGeom>
            <a:avLst/>
            <a:gdLst>
              <a:gd name="textAreaLeft" fmla="*/ 21240 w 73080"/>
              <a:gd name="textAreaRight" fmla="*/ 73440 w 7308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052640"/>
            <a:ext cx="88549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真挚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、避免、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朦胧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凄凉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、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引用、强烈、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薄暗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弃养   沮丧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寝不安席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终天之恨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可见一斑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思潮起伏   心潮腾涌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频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来入梦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真挚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：（感情）真诚恳切。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文中指作者对自己的母亲和祖国都怀着同样的敬意和真诚的爱意。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作者心目中，两位母亲的地位是同等重要的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弃养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：婉辞，指父母死亡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寝不安席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：无法安然入睡。文中指作者因为母亲的突然去世，心中感到无比悔恨，脑海中一直浮现着母亲的样子，在不断自责和愧疚中无法正常入眠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终天之恨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：终身的遗恨。文中指作者因为失去了母亲，而感到终身遗恨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薄暗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：昏暗。文中指黄昏时候，夜幕逐渐降临，天地间一片朦胧、昏暗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沮丧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：灰心失望。文中指房东太太一直期待着儿子归来，儿子却迟迟未归，心里有种失落感。从中可见母亲对孩子的牵挂，体现了母亲的爱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思潮起伏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：接二连三的思想活动。文中指作者在风雨交加的日子里，心里感到落寞无依，脑海中一直盘旋着祖国的影子，回忆着在故国的亲人和朋友，各种念头此起彼伏，不断涌现在脑海中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心潮腾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：心情跳跃、涌动。文中指作者想到自己的母亲和祖国母亲，心情非常激动，恨不得立刻回到她们身边去，不想在国外停留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1844640"/>
            <a:ext cx="88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默读课文，想想课文是围绕哪句话来写的？用双横线划出来。想想课文主要说了什么？是按什么顺序来写的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0920" y="1844640"/>
            <a:ext cx="8893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我对这两个母亲怀着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同样崇高的敬意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和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同样真挚的爱慕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这句话是全文的（      ）句，在文中起（                ）的作用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0920" y="1989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课文以回忆的形式，介绍了作者对两位母亲──一位是（           ），一位是 （           ）同样（              ）和同样（             ），充分表达了作者对亲生母亲（               ），对祖国母亲（                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7813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105264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课文以（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回忆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）的形式，介绍了作者对两位母亲──一位是（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生身母亲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），一位是 （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祖国母亲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）同样（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真挚的爱慕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）和同样（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崇高的敬意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，充分表达了作者对亲生母亲（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永久的悔意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，对祖国母亲（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不变的爱意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27813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33336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作者在开头采用（        ）的写法，指出（          ）在自己生命中同等重要的地位。接着，作者描述了自己虽然和母亲的相处时间不多，但母子感情（         ），并且由于（               ），加深了自己对母亲的（         ），并为此不断（           ）。然后，作者借助（         ），描述了在漫长的留学生涯中，对（        ），最后，作者（              ），说明为什么会对两位母亲有不变的情怀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3336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作者在开头采用（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开门见山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的写法，指出（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生母和祖国母亲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在自己生命中同等重要的地位。接着，作者描述了自己虽然和母亲的相处时间不多，但母子感情（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丝毫未减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），并且由于（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母亲的离世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），加深了自己对母亲的（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愧疚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，并为此不断（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怀念母亲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。然后，作者借助（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日记散文摘抄的语段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，描述了在漫长的留学生涯中，对（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母亲和祖国的怀念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），最后，作者（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呼应文章开头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），说明为什么会对两位母亲有不变的情怀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20908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季羡林 </a:t>
            </a:r>
            <a:br>
              <a:rPr sz="3600"/>
            </a:b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 著名的古文字学家、历史学家、东方学家、思想家、翻译家、佛学家、作家。他精通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国语言。曾任中科院哲学社会科学部委员、北京大学副校长、中国社科院南亚研究所所长。 </a:t>
            </a:r>
            <a:br>
              <a:rPr sz="3600"/>
            </a:b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91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月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日  生于山东省清平县（今并入临清市）康庄一个农民家庭；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917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年（六岁） 离家去济南投奔叔父，进私塾读书  。１９３０年考入北京清华大学西洋文学系。１９３４年毕业后，在济南山东省立高中任教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0920" y="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981000"/>
            <a:ext cx="7417080" cy="29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再读课文，找出写怀念生母和祖国母亲的句子，反复读，想想从中你体会到什么？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怀念生母的句子用波浪线标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怀念祖国母亲的句子用直线标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0920" y="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889308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怀念生母的句子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我痛哭了几天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食不下咽，寝不安席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。我真想随母亲于地下。我的愿望没能实现，从此我就成了没有母亲的孤儿。一个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缺少母爱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的孩子，是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灵魂不全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的人。我怀着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不全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的灵魂，抱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终天之恨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想到母亲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就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泪流不止，数十年如一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后来我到德国留学，住在一座叫哥廷根的孤寂的小城，不知道为什么，母亲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频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来入梦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看到她的神情，我想起自己长眠于故乡地下的母亲，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真想哭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!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我现在才知道，古今中外的母亲都是一样的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一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想到生身母亲和祖国母亲，我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就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心潮腾涌，留在国外的念头连影儿也没有。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夜里梦到母亲，我哭着醒来。醒来再想捉住这梦的时候，梦却早不知道飞到什么地方去了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天哪！连一个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清清楚楚的梦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都不给我吗？我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怅望灰天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在泪光里，幻出母亲的面影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对这两位母亲的怀念，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一直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伴随我度过了在欧洲的十一年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31644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88930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怀念祖国母亲的句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我的祖国母亲，我是第一次离开她。不知道是为什么，我这个母亲也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频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来入梦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我想到故乡，故乡的老朋友，心里有点酸酸的，有点凄凉。然而这凄凉却并不同普通的凄凉一样，是甜蜜的，浓浓的，有说不出的味道，浓浓地糊在心头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我现在还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真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是想家，想故国，想故国里的朋友。我有时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简直想得不能忍耐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风里夹着雨，天色阴得如黑夜。心里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思潮起伏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想到故国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一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想到我的母亲和祖国母亲，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就心潮腾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留在国外的念头连影儿都没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到国外以后，在我的怀念中增添了祖国母亲。这种怀念，在初到哥廷根的时候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异常强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以后也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没有断过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对这两位母亲的怀念，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一直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伴随着我度过了在欧洲的十一年。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317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316448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1844640"/>
            <a:ext cx="88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我对这两个母亲怀着同样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崇高的敬意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和同样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真挚的爱慕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8360" y="836640"/>
            <a:ext cx="79912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作业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有感情地朗读课文，摘抄文中怀念生母和祖国母亲的句子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搜集热爱祖国、思念母亲的文章或诗歌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476280"/>
            <a:ext cx="9144000" cy="23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１９３５年考取清华大学交换研究生，赴德国留学，在哥廷根大学学习梵文、巴利文、吐火罗文等古代语文。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１９４１年获哲学博士学位。１９４６年回国，历任北京大学教授兼东方语言文学系教授、系主任。 １９５６年加入中国共产党。长年任教于北京大学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2009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月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日北京时间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点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50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分，国学大师季羡林在北京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30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医院病逝，享年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98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岁。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季羡林学贯中西，名扬海外，研究领域涉及语言学、文学、历史学、宗教学、民族学、翻译学、哲学等多方面，其中梵文、巴利文、吐火罗文几乎是绝学。在佛学、语言学、印度史等方面他都取得了突出的成就。早在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世纪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60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年代就被范文澜先生誉为“国宝”。研究翻译了梵文著作和德、英等国的多部经典，其著作已汇编成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24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卷的《季羡林文集》。在他最困难的时候，也没有丢掉自己的良知。他在“文革”期间偷偷地翻译印度史诗《罗摩衍那》，又完成了《牛棚杂忆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43280" y="476280"/>
            <a:ext cx="59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这样一位学界泰斗，却从来不以“大师”自居。生活中的季羡林，真诚、朴素，为人宽厚，知恩必报。对人对物都充满了海一样的深情。中山装、布鞋，是他一贯的装束；一日三餐，吃的全是家常饭菜。以至被人误以为是”北大看自行车的老头”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26668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620640"/>
            <a:ext cx="7991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他荣登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2008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年感动中国人物之榜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【感动印象】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智者乐，仁者寿，长者随心所欲。曾经的红衣少年，如今的白发先生，留德十年寒窗苦，牛棚杂忆密辛多。心有良知璞玉，笔下道德文章。一介布衣，言有物，行有格，贫贱不移，宠辱不惊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组委会给他的【颁奖辞】是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学问铸成大地的风景，他把心汇入传统，把心留在东方。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1052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《怀念母亲》一文是季老的回忆录《留德十年》中的一篇。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《留德十年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从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93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年青年季羡林大学毕业，期待赴德留学终如愿成行写起，一直写到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94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年归国返乡为止。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数十篇文章，洋洋十数万言，写尽了十一年羁旅生涯中的跌宕起伏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《留德十年》中的文章，每一篇自成一体，各自独立；连在一起则以时间为序，整体呈现了先生十多年的经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885492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自学要求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自读全文，划出生字新词，并把生字新词读正确，把课文读通顺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划出难懂的字词，联系上下文进行理解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把文中你认为难读的句子多读几遍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052640"/>
            <a:ext cx="885492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zhì   méng lóng     q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ī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     pín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真</a:t>
            </a: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挚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、  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朦       胧、    凄凉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   频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来入梦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bān      piān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可见一斑     一</a:t>
            </a: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篇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03:47:24Z</dcterms:created>
  <dc:creator>MC SYSTEM</dc:creator>
  <dc:description/>
  <dc:language>en-US</dc:language>
  <cp:lastModifiedBy>zyw</cp:lastModifiedBy>
  <dcterms:modified xsi:type="dcterms:W3CDTF">2011-07-18T02:43:38Z</dcterms:modified>
  <cp:revision>69</cp:revision>
  <dc:subject/>
  <dc:title>幻灯片 1</dc:title>
</cp:coreProperties>
</file>