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6DA-A6FD-4FC3-A226-A70458CC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C1EF-6B3A-476C-A215-72895C5E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4345A-E4B1-40AD-A20A-D3C6B83E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BBFA7-C81F-457D-A02E-6B981B9A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AA54C1-A496-45CE-97D9-391C62471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78501-5F13-4AEB-8403-DDA0FEA9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7AEA2-A4F2-418C-AA78-4CAA8D39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8205B-9B79-45FB-A114-B2393EF9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EB828-019A-4C4F-B721-BF97BE73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C12FB-9152-4CB5-BECE-2CE3ECA7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877F4-B0C3-4E5E-BA31-BA7EBF38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42E4-20C5-4D0B-AD9C-99C0A48E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0D6-6400-46F6-9F34-F3C20F36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C557-7205-4CFC-9E33-BB3251EA9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1A0E-D877-4CB4-8441-B796E14CA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CC54-3947-41EF-B041-6137BC13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F4CA-5F19-432B-8BFD-C73D3AB2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AE93-26D5-4C77-B49C-3B21D447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D7DA-41D1-4AA3-A2EA-ACCD5EC4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5852-56C0-4E42-8211-46173B0D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9FE-4039-4FC6-8B28-67758619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AF2B-3B6D-4354-BBD6-93D7DF04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F42D-6A5F-498C-A92E-EBD037BF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6DF2-987C-442B-A674-89B4BBF6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AAAB-B093-45ED-8753-11F97B02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B828-66C3-41C1-B500-54833CDC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D3C04-5EE4-4073-89BA-28E6B50E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F3135-2C22-4F3C-90D9-8ABACA74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DBBA-3370-4F98-824A-F5619B8B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458D2-E592-45A7-8681-825EED6D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14FF-1E08-4C38-8770-18D9DE28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CDE1-6FAC-4F6E-AA26-39993415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5C603-DCD9-4652-B2EA-18E79A56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AE94B-8870-4F1B-8DE0-A85B14E5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34D47-F29C-488A-9A81-E36F39C9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EDCF5-EC76-45B7-B572-67CE8963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DB8E-9F71-4E8D-A7C2-3B4BA66F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B5F3-4C9C-408D-A65D-5761E124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E6ED-B140-4D58-92C3-7F62CBEB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399FF-E87D-4E7B-A916-F74037CB5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C8EFE-78CE-4034-B2CB-D70BD7E4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51139-7244-4A5E-9281-5772D657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E12E-21D2-45D0-B238-26DBFB6C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046B6-302A-41AD-80D1-79C7ABD5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F6466-1309-4A66-9D84-746541F5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FFA57-61F6-4A75-900D-7279B143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11437-18EA-490F-9991-3A984FC7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F39D1-A713-4A2C-A1A7-2D6AF505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4240-EAA9-4EA7-85CB-B5D84042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7B395-2B41-46AB-8A28-BDE965D5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9D508-8A8E-4A2D-821C-A5DA6E14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8A2AE-DBF4-4268-81BA-2395D166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0FE99-3052-41D4-AA80-A12AB903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74A-C711-4F8F-B118-46AB9984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0C9E-2E93-4B14-8F2F-4E375434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18138-67B8-4B3C-A5D8-FF493BE0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4003D-C3E4-4FF5-942C-35F4FE10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3498D-2D51-4A99-8149-5F69F809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419C3-8570-424B-B9B4-56810E22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34A5E-42FC-497B-BF66-F335C064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E4050-3A84-4859-99BA-C353D87A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D4F10-44AD-491A-A23F-2E3AA114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C50D6-3B68-4A00-8338-2370A298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C2AEB-8B00-4206-9453-3FF1D21F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86A-389D-47C2-B12E-C055E8BE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BB066-F99E-4B38-BDC8-BA6F6697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09039-17D9-4B7F-ACF5-9195724AA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707FF-BE6C-4FEE-BE9A-FC5E4303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A448B-E49F-493E-9C68-270AD8E9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E96B8-B84B-42AD-86A0-AE0C7FD91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78122-7FDC-473B-882D-BD061E5A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D12BF-7872-494E-A4C3-74436EB1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50215-3E03-4F63-8891-B9AA1524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AA37B-A694-4E27-917A-DBFC317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ECF25-B5D9-411D-97CA-774EC34E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0948-7617-4026-90C6-E85A3627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5509E-882E-4EFD-B52A-68A6CAE4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A7B58-5F28-47FA-8A8F-3ACB2E10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D02CD-5D1E-40F2-A245-B0D257D0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3BB7F-0410-4C49-97DC-36F8825DA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AA30C-FBA9-43D8-AE22-EA7A8D3E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61EB9-0BFA-442C-A40B-7AE6D73F8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1EE36-DEFE-4211-A215-BEB88933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8F807-6187-4109-A7CE-3C3775F5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B6D23-9FD3-4AE2-844A-5421BEA6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4206F-3F47-418D-AE2E-C8864CC0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7D1D-BECC-4314-9868-95EE9FEC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06910-85EE-404E-BFF9-A08B9707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970D2-E66F-4200-AB03-D4C3D0E9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C7CF3-DF56-406C-8BD1-0805D129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F6794-D83E-490F-81A8-429BDFF8A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B1430-F4F0-4383-AB20-3AD75402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75404-0921-4A4B-8D8A-E61E1C1F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C52DE-7AED-4652-A3AB-03A79E1D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3CBA43-7E3B-4F58-B00E-D6B15211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AB638-7268-40A1-96DF-9A1B4450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0AC52-8C6B-4874-AB79-C3C059AA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D28-E342-4559-A98F-8E72468B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D3741-EB4C-4D32-A738-06EFF93C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286E7-EABC-474C-A5C0-B699F96D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0D4AA1-D497-41CC-A99F-5B13212B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6CCB7-909E-49BB-BD1E-1831E1DB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A2C20-8E41-4C1C-9E84-242BDFC6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4E574-A470-4A9C-8265-E0895006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0EFF5-22E6-4734-8E66-400F11A9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B46B0B-29BF-4144-B69F-49CCF2D8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4138E-5C40-45A6-99B4-3CCABFD1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54AFE-5B84-4371-B355-80269235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2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3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4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7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9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0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6aed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052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5DF8F-93D1-4BCA-B26F-546B5CA86A41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5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56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57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58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60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61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63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64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6aed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5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66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052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4541-55B1-4F8C-AA69-E602F2516D8C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09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110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111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112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14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115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17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18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6aed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19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20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052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121" name="组合 18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122" name="燕尾形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15294"/>
                  </a:srgbClr>
                </a:gs>
                <a:gs pos="100000">
                  <a:srgbClr val="006aed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23" name="矩形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4313"/>
                  </a:srgbClr>
                </a:gs>
                <a:gs pos="100000">
                  <a:srgbClr val="006aed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E466-F7AD-4621-8633-33B6FD3ED358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66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167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168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169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171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172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174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175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6aed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6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77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052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44CF-5DCA-4E85-B21D-D0B8DAB4C629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20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221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222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223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4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25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226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28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29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6aed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0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052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32" name="组合 18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33" name="燕尾形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15294"/>
                  </a:srgbClr>
                </a:gs>
                <a:gs pos="100000">
                  <a:srgbClr val="006aed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34" name="矩形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4313"/>
                  </a:srgbClr>
                </a:gs>
                <a:gs pos="100000">
                  <a:srgbClr val="006aed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1023-1479-4AA2-8AA7-7A9D442F9330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77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278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279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280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1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282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283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285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286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6aed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7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88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052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89" name="组合 18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290" name="燕尾形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15294"/>
                  </a:srgbClr>
                </a:gs>
                <a:gs pos="100000">
                  <a:srgbClr val="006aed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91" name="矩形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4313"/>
                  </a:srgbClr>
                </a:gs>
                <a:gs pos="100000">
                  <a:srgbClr val="006aed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0232-CF73-4CDB-AC59-1ACDFDD35AA1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34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335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336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337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8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39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340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1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42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343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6aed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4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45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052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346" name="组合 18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347" name="燕尾形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15294"/>
                  </a:srgbClr>
                </a:gs>
                <a:gs pos="100000">
                  <a:srgbClr val="006aed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48" name="矩形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4313"/>
                  </a:srgbClr>
                </a:gs>
                <a:gs pos="100000">
                  <a:srgbClr val="006aed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9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0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1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BEBF-75DA-43D8-938F-988D35BB68BC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91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392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393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394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5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396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397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98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399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00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6aed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1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02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052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C190-25F6-4FED-9A6E-BC8048EC0A9E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5" name="组合 17"/>
          <p:cNvGrpSpPr/>
          <p:nvPr/>
        </p:nvGrpSpPr>
        <p:grpSpPr>
          <a:xfrm>
            <a:off x="-360" y="6570720"/>
            <a:ext cx="9144360" cy="287280"/>
            <a:chOff x="-360" y="6570720"/>
            <a:chExt cx="9144360" cy="287280"/>
          </a:xfrm>
        </p:grpSpPr>
        <p:grpSp>
          <p:nvGrpSpPr>
            <p:cNvPr id="446" name="组合 16"/>
            <p:cNvGrpSpPr/>
            <p:nvPr/>
          </p:nvGrpSpPr>
          <p:grpSpPr>
            <a:xfrm>
              <a:off x="-360" y="6570720"/>
              <a:ext cx="8757000" cy="286200"/>
              <a:chOff x="-360" y="6570720"/>
              <a:chExt cx="8757000" cy="286200"/>
            </a:xfrm>
          </p:grpSpPr>
          <p:grpSp>
            <p:nvGrpSpPr>
              <p:cNvPr id="447" name="任意多边形 9"/>
              <p:cNvGrpSpPr/>
              <p:nvPr/>
            </p:nvGrpSpPr>
            <p:grpSpPr>
              <a:xfrm>
                <a:off x="0" y="6710760"/>
                <a:ext cx="8756640" cy="146160"/>
                <a:chOff x="0" y="6710760"/>
                <a:chExt cx="8756640" cy="146160"/>
              </a:xfrm>
            </p:grpSpPr>
            <p:pic>
              <p:nvPicPr>
                <p:cNvPr id="448" name="任意多边形 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6710760"/>
                  <a:ext cx="8756640" cy="14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9" name=""/>
                <p:cNvSpPr/>
                <p:nvPr/>
              </p:nvSpPr>
              <p:spPr>
                <a:xfrm>
                  <a:off x="0" y="671256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grpSp>
            <p:nvGrpSpPr>
              <p:cNvPr id="450" name="任意多边形 10"/>
              <p:cNvGrpSpPr/>
              <p:nvPr/>
            </p:nvGrpSpPr>
            <p:grpSpPr>
              <a:xfrm>
                <a:off x="-360" y="6570720"/>
                <a:ext cx="8757000" cy="140040"/>
                <a:chOff x="-360" y="6570720"/>
                <a:chExt cx="8757000" cy="140040"/>
              </a:xfrm>
            </p:grpSpPr>
            <p:pic>
              <p:nvPicPr>
                <p:cNvPr id="451" name="任意多边形 1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0" y="6570720"/>
                  <a:ext cx="8756640" cy="1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2" name=""/>
                <p:cNvSpPr/>
                <p:nvPr/>
              </p:nvSpPr>
              <p:spPr>
                <a:xfrm rot="10800000">
                  <a:off x="0" y="671040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grpSp>
          <p:nvGrpSpPr>
            <p:cNvPr id="453" name="组合 15"/>
            <p:cNvGrpSpPr/>
            <p:nvPr/>
          </p:nvGrpSpPr>
          <p:grpSpPr>
            <a:xfrm>
              <a:off x="8640720" y="6571440"/>
              <a:ext cx="503280" cy="286560"/>
              <a:chOff x="8640720" y="6571440"/>
              <a:chExt cx="503280" cy="286560"/>
            </a:xfrm>
          </p:grpSpPr>
          <p:sp>
            <p:nvSpPr>
              <p:cNvPr id="454" name="燕尾形 11"/>
              <p:cNvSpPr/>
              <p:nvPr/>
            </p:nvSpPr>
            <p:spPr>
              <a:xfrm flipH="1">
                <a:off x="864072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aed"/>
                  </a:gs>
                  <a:gs pos="100000">
                    <a:srgbClr val="006aed">
                      <a:alpha val="60000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5" name="燕尾形 12"/>
              <p:cNvSpPr/>
              <p:nvPr/>
            </p:nvSpPr>
            <p:spPr>
              <a:xfrm flipH="1">
                <a:off x="876780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5cd1"/>
                  </a:gs>
                  <a:gs pos="100000">
                    <a:srgbClr val="006ae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456" name="燕尾形 13"/>
              <p:cNvSpPr/>
              <p:nvPr/>
            </p:nvSpPr>
            <p:spPr>
              <a:xfrm flipH="1">
                <a:off x="8894880" y="6571440"/>
                <a:ext cx="249120" cy="286560"/>
              </a:xfrm>
              <a:custGeom>
                <a:avLst/>
                <a:gdLst>
                  <a:gd name="textAreaLeft" fmla="*/ 360 w 249120"/>
                  <a:gd name="textAreaRight" fmla="*/ 249840 w 249120"/>
                  <a:gd name="textAreaTop" fmla="*/ 0 h 286560"/>
                  <a:gd name="textAreaBottom" fmla="*/ 286560 h 286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052"/>
                  </a:gs>
                  <a:gs pos="100000">
                    <a:srgbClr val="005cd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457" name="组合 18"/>
          <p:cNvGrpSpPr/>
          <p:nvPr/>
        </p:nvGrpSpPr>
        <p:grpSpPr>
          <a:xfrm>
            <a:off x="2208240" y="1332000"/>
            <a:ext cx="6481440" cy="144360"/>
            <a:chOff x="2208240" y="1332000"/>
            <a:chExt cx="6481440" cy="144360"/>
          </a:xfrm>
        </p:grpSpPr>
        <p:sp>
          <p:nvSpPr>
            <p:cNvPr id="458" name="燕尾形 16"/>
            <p:cNvSpPr/>
            <p:nvPr/>
          </p:nvSpPr>
          <p:spPr>
            <a:xfrm flipH="1">
              <a:off x="8635680" y="1332000"/>
              <a:ext cx="53640" cy="144360"/>
            </a:xfrm>
            <a:custGeom>
              <a:avLst/>
              <a:gdLst>
                <a:gd name="textAreaLeft" fmla="*/ -360 w 53640"/>
                <a:gd name="textAreaRight" fmla="*/ 53640 w 53640"/>
                <a:gd name="textAreaTop" fmla="*/ 0 h 144360"/>
                <a:gd name="textAreaBottom" fmla="*/ 1443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6aed">
                    <a:alpha val="15294"/>
                  </a:srgbClr>
                </a:gs>
                <a:gs pos="100000">
                  <a:srgbClr val="006aed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2208240" y="1395360"/>
              <a:ext cx="6428160" cy="17280"/>
            </a:xfrm>
            <a:prstGeom prst="rect">
              <a:avLst/>
            </a:prstGeom>
            <a:gradFill rotWithShape="0">
              <a:gsLst>
                <a:gs pos="0">
                  <a:srgbClr val="006aed">
                    <a:alpha val="4313"/>
                  </a:srgbClr>
                </a:gs>
                <a:gs pos="100000">
                  <a:srgbClr val="006aed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272b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0" y="6570720"/>
            <a:ext cx="1643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1643040" y="6570720"/>
            <a:ext cx="42148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8572320" y="6570720"/>
            <a:ext cx="5713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293F-89E6-46B6-A92F-93B95219E40A}" type="slidenum">
              <a:rPr b="0" lang="zh-CN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hyperlink" Target="270,13,&#24187;&#28783;&#29255; 13" TargetMode="External"/><Relationship Id="rId5" Type="http://schemas.openxmlformats.org/officeDocument/2006/relationships/hyperlink" Target="270,13,&#24187;&#28783;&#29255; 13" TargetMode="External"/><Relationship Id="rId6" Type="http://schemas.openxmlformats.org/officeDocument/2006/relationships/hyperlink" Target="271,14,&#24187;&#28783;&#29255; 14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标题 1" descr=""/>
          <p:cNvPicPr/>
          <p:nvPr/>
        </p:nvPicPr>
        <p:blipFill>
          <a:blip r:embed="rId1"/>
          <a:stretch/>
        </p:blipFill>
        <p:spPr>
          <a:xfrm>
            <a:off x="176040" y="1133640"/>
            <a:ext cx="8759880" cy="27921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2052720" y="4221000"/>
            <a:ext cx="546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石横镇北高余小学   李玲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3"/>
          <p:cNvSpPr/>
          <p:nvPr/>
        </p:nvSpPr>
        <p:spPr>
          <a:xfrm>
            <a:off x="1187280" y="2852640"/>
            <a:ext cx="734724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怅望灰天”，惆怅地望着天空。由于作者长期在外求学，留在母亲身边的时候不多，必然对母亲的音容笑貌记忆不深，对母亲的怀念更多的是一个模糊的影子，因此尽管作者想努力回想母亲的容颜，但无奈模糊不清，只能尽力地怀念，不断地回想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1476360" y="155736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b"/>
                </a:solidFill>
                <a:latin typeface="黑体"/>
                <a:ea typeface="黑体"/>
              </a:rPr>
              <a:t>２、我怅望灰天，在泪光里，幻出母亲的面影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82" name="图片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2"/>
          <p:cNvSpPr/>
          <p:nvPr/>
        </p:nvSpPr>
        <p:spPr>
          <a:xfrm>
            <a:off x="1835280" y="692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再读课文，找出相应句子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84" name="组合 5"/>
          <p:cNvGrpSpPr/>
          <p:nvPr/>
        </p:nvGrpSpPr>
        <p:grpSpPr>
          <a:xfrm>
            <a:off x="179280" y="5965920"/>
            <a:ext cx="1152720" cy="776160"/>
            <a:chOff x="179280" y="5965920"/>
            <a:chExt cx="1152720" cy="776160"/>
          </a:xfrm>
        </p:grpSpPr>
        <p:grpSp>
          <p:nvGrpSpPr>
            <p:cNvPr id="585" name="右箭头 6"/>
            <p:cNvGrpSpPr/>
            <p:nvPr/>
          </p:nvGrpSpPr>
          <p:grpSpPr>
            <a:xfrm>
              <a:off x="336240" y="5965920"/>
              <a:ext cx="995760" cy="776160"/>
              <a:chOff x="336240" y="5965920"/>
              <a:chExt cx="995760" cy="776160"/>
            </a:xfrm>
          </p:grpSpPr>
          <p:pic>
            <p:nvPicPr>
              <p:cNvPr id="586" name="右箭头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" y="5965920"/>
                <a:ext cx="99576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>
                <a:off x="387720" y="6161040"/>
                <a:ext cx="709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pic>
          <p:nvPicPr>
            <p:cNvPr id="588" name="矩形 7" descr=""/>
            <p:cNvPicPr/>
            <p:nvPr/>
          </p:nvPicPr>
          <p:blipFill>
            <a:blip r:embed="rId3"/>
            <a:stretch/>
          </p:blipFill>
          <p:spPr>
            <a:xfrm>
              <a:off x="179280" y="6056640"/>
              <a:ext cx="1100520" cy="6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3"/>
          <p:cNvSpPr/>
          <p:nvPr/>
        </p:nvSpPr>
        <p:spPr>
          <a:xfrm>
            <a:off x="1187280" y="3502080"/>
            <a:ext cx="73533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频来入梦” 意思是祖国母亲经常到梦中来。作者身居异国他乡，心中无限思念祖国，心中不断涌现祖国的身影，不断回想起故国的生活、故国的亲人。句子中一个“也”字很巧妙地将祖国与母亲联系起来，可见在作者心目中两者的确有着同样重要的地位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1547640" y="184464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mbria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Cambria"/>
                <a:ea typeface="黑体"/>
              </a:rPr>
              <a:t>、我的祖国母亲，我是第一次离开  她。不知道为什么，我这个母亲也频来入梦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91" name="图片 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2"/>
          <p:cNvSpPr/>
          <p:nvPr/>
        </p:nvSpPr>
        <p:spPr>
          <a:xfrm>
            <a:off x="1835280" y="260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再读课文，找出相应句子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93" name="组合 10"/>
          <p:cNvGrpSpPr/>
          <p:nvPr/>
        </p:nvGrpSpPr>
        <p:grpSpPr>
          <a:xfrm>
            <a:off x="179280" y="5965920"/>
            <a:ext cx="1152720" cy="776160"/>
            <a:chOff x="179280" y="5965920"/>
            <a:chExt cx="1152720" cy="776160"/>
          </a:xfrm>
        </p:grpSpPr>
        <p:grpSp>
          <p:nvGrpSpPr>
            <p:cNvPr id="594" name="右箭头 11"/>
            <p:cNvGrpSpPr/>
            <p:nvPr/>
          </p:nvGrpSpPr>
          <p:grpSpPr>
            <a:xfrm>
              <a:off x="336240" y="5965920"/>
              <a:ext cx="995760" cy="776160"/>
              <a:chOff x="336240" y="5965920"/>
              <a:chExt cx="995760" cy="776160"/>
            </a:xfrm>
          </p:grpSpPr>
          <p:pic>
            <p:nvPicPr>
              <p:cNvPr id="595" name="右箭头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" y="5965920"/>
                <a:ext cx="99576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>
                <a:off x="387720" y="6161040"/>
                <a:ext cx="709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pic>
          <p:nvPicPr>
            <p:cNvPr id="597" name="矩形 12" descr=""/>
            <p:cNvPicPr/>
            <p:nvPr/>
          </p:nvPicPr>
          <p:blipFill>
            <a:blip r:embed="rId3"/>
            <a:stretch/>
          </p:blipFill>
          <p:spPr>
            <a:xfrm>
              <a:off x="179280" y="6056640"/>
              <a:ext cx="1100520" cy="65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"/>
          <p:cNvSpPr/>
          <p:nvPr/>
        </p:nvSpPr>
        <p:spPr>
          <a:xfrm>
            <a:off x="2036880" y="981000"/>
            <a:ext cx="41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对祖国母亲的感情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3"/>
          <p:cNvSpPr/>
          <p:nvPr/>
        </p:nvSpPr>
        <p:spPr>
          <a:xfrm>
            <a:off x="1187280" y="3414600"/>
            <a:ext cx="6921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凄凉”，寂寞冷落，凄惨。作者身在异国小城，心中十分忧愁；但是在远离家乡的日子里，能时常怀念起在故国的生活情景，不断回想起故国的亲朋好友，心中自然又多了一丝安慰、一些宽心、一点甜蜜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1550880" y="1628640"/>
            <a:ext cx="6477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b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b"/>
                </a:solidFill>
                <a:latin typeface="黑体"/>
                <a:ea typeface="黑体"/>
              </a:rPr>
              <a:t>、然而这凄凉并不同普通的凄凉一样，是甜蜜的，浓浓的，有说不出的味道，浓浓地糊在心头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Rectangle 2"/>
          <p:cNvSpPr/>
          <p:nvPr/>
        </p:nvSpPr>
        <p:spPr>
          <a:xfrm>
            <a:off x="1835280" y="692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再读课文，找出相应句子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02" name="图片 5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grpSp>
        <p:nvGrpSpPr>
          <p:cNvPr id="603" name="组合 9"/>
          <p:cNvGrpSpPr/>
          <p:nvPr/>
        </p:nvGrpSpPr>
        <p:grpSpPr>
          <a:xfrm>
            <a:off x="179280" y="5965920"/>
            <a:ext cx="1152720" cy="776160"/>
            <a:chOff x="179280" y="5965920"/>
            <a:chExt cx="1152720" cy="776160"/>
          </a:xfrm>
        </p:grpSpPr>
        <p:grpSp>
          <p:nvGrpSpPr>
            <p:cNvPr id="604" name="右箭头 10"/>
            <p:cNvGrpSpPr/>
            <p:nvPr/>
          </p:nvGrpSpPr>
          <p:grpSpPr>
            <a:xfrm>
              <a:off x="336240" y="5965920"/>
              <a:ext cx="995760" cy="776160"/>
              <a:chOff x="336240" y="5965920"/>
              <a:chExt cx="995760" cy="776160"/>
            </a:xfrm>
          </p:grpSpPr>
          <p:pic>
            <p:nvPicPr>
              <p:cNvPr id="605" name="右箭头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" y="5965920"/>
                <a:ext cx="99576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"/>
              <p:cNvSpPr/>
              <p:nvPr/>
            </p:nvSpPr>
            <p:spPr>
              <a:xfrm>
                <a:off x="387720" y="6161040"/>
                <a:ext cx="709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pic>
          <p:nvPicPr>
            <p:cNvPr id="607" name="矩形 11" descr=""/>
            <p:cNvPicPr/>
            <p:nvPr/>
          </p:nvPicPr>
          <p:blipFill>
            <a:blip r:embed="rId3"/>
            <a:stretch/>
          </p:blipFill>
          <p:spPr>
            <a:xfrm>
              <a:off x="179280" y="6056640"/>
              <a:ext cx="1100520" cy="6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矩形 1"/>
          <p:cNvSpPr/>
          <p:nvPr/>
        </p:nvSpPr>
        <p:spPr>
          <a:xfrm>
            <a:off x="1835280" y="16606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b"/>
                </a:solidFill>
                <a:latin typeface="Cambria"/>
              </a:rPr>
              <a:t>1</a:t>
            </a:r>
            <a:r>
              <a:rPr b="1" lang="en-US" sz="3200" spc="-1" strike="noStrike">
                <a:solidFill>
                  <a:srgbClr val="0000fb"/>
                </a:solidFill>
                <a:latin typeface="Cambria"/>
              </a:rPr>
              <a:t>、</a:t>
            </a:r>
            <a:r>
              <a:rPr b="1" lang="zh-CN" sz="3200" spc="-1" strike="noStrike">
                <a:solidFill>
                  <a:srgbClr val="0000fb"/>
                </a:solidFill>
                <a:latin typeface="Cambria"/>
              </a:rPr>
              <a:t>古今中外的母亲都是一样，你能想象母子的期盼的心情吗？走进母子心灵，自由分两组写以下情景画面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9" name="矩形 2"/>
          <p:cNvSpPr/>
          <p:nvPr/>
        </p:nvSpPr>
        <p:spPr>
          <a:xfrm>
            <a:off x="1403280" y="364500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mbria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</a:rPr>
              <a:t>一组：写一写季老先生的母亲焦急等待儿子回家的画面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mbria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</a:rPr>
              <a:t>一组：写一写季老此时心中的想法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10" name="图片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611" name="Rectangle 2"/>
          <p:cNvSpPr/>
          <p:nvPr/>
        </p:nvSpPr>
        <p:spPr>
          <a:xfrm>
            <a:off x="1835280" y="692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分组练习，动手写写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612" name="组合 5"/>
          <p:cNvGrpSpPr/>
          <p:nvPr/>
        </p:nvGrpSpPr>
        <p:grpSpPr>
          <a:xfrm>
            <a:off x="179280" y="5965920"/>
            <a:ext cx="1152720" cy="776160"/>
            <a:chOff x="179280" y="5965920"/>
            <a:chExt cx="1152720" cy="776160"/>
          </a:xfrm>
        </p:grpSpPr>
        <p:grpSp>
          <p:nvGrpSpPr>
            <p:cNvPr id="613" name="右箭头 6"/>
            <p:cNvGrpSpPr/>
            <p:nvPr/>
          </p:nvGrpSpPr>
          <p:grpSpPr>
            <a:xfrm>
              <a:off x="336240" y="5965920"/>
              <a:ext cx="995760" cy="776160"/>
              <a:chOff x="336240" y="5965920"/>
              <a:chExt cx="995760" cy="776160"/>
            </a:xfrm>
          </p:grpSpPr>
          <p:pic>
            <p:nvPicPr>
              <p:cNvPr id="614" name="右箭头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" y="5965920"/>
                <a:ext cx="99576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5" name=""/>
              <p:cNvSpPr/>
              <p:nvPr/>
            </p:nvSpPr>
            <p:spPr>
              <a:xfrm>
                <a:off x="387720" y="6161040"/>
                <a:ext cx="709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pic>
          <p:nvPicPr>
            <p:cNvPr id="616" name="矩形 7" descr=""/>
            <p:cNvPicPr/>
            <p:nvPr/>
          </p:nvPicPr>
          <p:blipFill>
            <a:blip r:embed="rId3"/>
            <a:stretch/>
          </p:blipFill>
          <p:spPr>
            <a:xfrm>
              <a:off x="179280" y="6056640"/>
              <a:ext cx="1100520" cy="6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矩形 1"/>
          <p:cNvSpPr/>
          <p:nvPr/>
        </p:nvSpPr>
        <p:spPr>
          <a:xfrm>
            <a:off x="3214080" y="3062160"/>
            <a:ext cx="35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2</a:t>
            </a: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、</a:t>
            </a:r>
            <a:r>
              <a:rPr b="1" lang="zh-CN" sz="2800" spc="-1" strike="noStrike">
                <a:solidFill>
                  <a:srgbClr val="0000fb"/>
                </a:solidFill>
                <a:latin typeface="Cambria"/>
              </a:rPr>
              <a:t>多次的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</a:rPr>
              <a:t>合分、分合</a:t>
            </a:r>
            <a:r>
              <a:rPr b="1" lang="zh-CN" sz="2800" spc="-1" strike="noStrike">
                <a:solidFill>
                  <a:srgbClr val="0000fb"/>
                </a:solidFill>
                <a:latin typeface="Cambria"/>
              </a:rPr>
              <a:t>中自然流露自己的情感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8" name="矩形 2"/>
          <p:cNvSpPr/>
          <p:nvPr/>
        </p:nvSpPr>
        <p:spPr>
          <a:xfrm>
            <a:off x="1386000" y="4110120"/>
            <a:ext cx="72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3</a:t>
            </a: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、</a:t>
            </a:r>
            <a:r>
              <a:rPr b="1" lang="zh-CN" sz="2800" spc="-1" strike="noStrike">
                <a:solidFill>
                  <a:srgbClr val="0000fb"/>
                </a:solidFill>
                <a:latin typeface="Cambria"/>
              </a:rPr>
              <a:t>文章开头与结尾对母亲的怀念却是永远不变的，从而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</a:rPr>
              <a:t>前呼后应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9" name="矩形 3"/>
          <p:cNvSpPr/>
          <p:nvPr/>
        </p:nvSpPr>
        <p:spPr>
          <a:xfrm>
            <a:off x="1386000" y="1865160"/>
            <a:ext cx="72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1</a:t>
            </a:r>
            <a:r>
              <a:rPr b="1" lang="en-US" sz="2800" spc="-1" strike="noStrike">
                <a:solidFill>
                  <a:srgbClr val="0000fb"/>
                </a:solidFill>
                <a:latin typeface="Cambria"/>
              </a:rPr>
              <a:t>、</a:t>
            </a:r>
            <a:r>
              <a:rPr b="1" lang="zh-CN" sz="2800" spc="-1" strike="noStrike">
                <a:solidFill>
                  <a:srgbClr val="0000fb"/>
                </a:solidFill>
                <a:latin typeface="Cambria"/>
              </a:rPr>
              <a:t>这篇课文结构分明，层次清晰，</a:t>
            </a:r>
            <a:r>
              <a:rPr b="1" lang="zh-CN" sz="2800" spc="-1" strike="noStrike">
                <a:solidFill>
                  <a:srgbClr val="ff0000"/>
                </a:solidFill>
                <a:latin typeface="Cambria"/>
              </a:rPr>
              <a:t>开门见山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20" name="图片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2"/>
          <p:cNvSpPr/>
          <p:nvPr/>
        </p:nvSpPr>
        <p:spPr>
          <a:xfrm>
            <a:off x="1835280" y="692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学习写作方法，灵活应用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622" name="组合 6"/>
          <p:cNvGrpSpPr/>
          <p:nvPr/>
        </p:nvGrpSpPr>
        <p:grpSpPr>
          <a:xfrm>
            <a:off x="179280" y="5965920"/>
            <a:ext cx="1152720" cy="776160"/>
            <a:chOff x="179280" y="5965920"/>
            <a:chExt cx="1152720" cy="776160"/>
          </a:xfrm>
        </p:grpSpPr>
        <p:grpSp>
          <p:nvGrpSpPr>
            <p:cNvPr id="623" name="右箭头 7"/>
            <p:cNvGrpSpPr/>
            <p:nvPr/>
          </p:nvGrpSpPr>
          <p:grpSpPr>
            <a:xfrm>
              <a:off x="336240" y="5965920"/>
              <a:ext cx="995760" cy="776160"/>
              <a:chOff x="336240" y="5965920"/>
              <a:chExt cx="995760" cy="776160"/>
            </a:xfrm>
          </p:grpSpPr>
          <p:pic>
            <p:nvPicPr>
              <p:cNvPr id="624" name="右箭头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" y="5965920"/>
                <a:ext cx="99576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>
                <a:off x="387720" y="6161040"/>
                <a:ext cx="709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pic>
          <p:nvPicPr>
            <p:cNvPr id="626" name="矩形 8" descr=""/>
            <p:cNvPicPr/>
            <p:nvPr/>
          </p:nvPicPr>
          <p:blipFill>
            <a:blip r:embed="rId3"/>
            <a:stretch/>
          </p:blipFill>
          <p:spPr>
            <a:xfrm>
              <a:off x="179280" y="6056640"/>
              <a:ext cx="1100520" cy="6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5" descr="04"/>
          <p:cNvPicPr/>
          <p:nvPr/>
        </p:nvPicPr>
        <p:blipFill>
          <a:blip r:embed="rId1"/>
          <a:stretch/>
        </p:blipFill>
        <p:spPr>
          <a:xfrm>
            <a:off x="2627280" y="170028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矩形 5"/>
          <p:cNvSpPr/>
          <p:nvPr/>
        </p:nvSpPr>
        <p:spPr>
          <a:xfrm>
            <a:off x="1187280" y="117360"/>
            <a:ext cx="4176720" cy="81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河山只在我梦里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祖国已多年未亲近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可是不管怎样也改变不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洋装虽然穿在身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我心依然是中国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我的祖先早已把我的一切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烙上中国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长江 长城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黄山 黄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在我心中重千斤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无论何时 无论何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心中一样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29" name="矩形 2" descr=""/>
          <p:cNvPicPr/>
          <p:nvPr/>
        </p:nvPicPr>
        <p:blipFill>
          <a:blip r:embed="rId2"/>
          <a:stretch/>
        </p:blipFill>
        <p:spPr>
          <a:xfrm>
            <a:off x="-249120" y="404640"/>
            <a:ext cx="1679400" cy="4894560"/>
          </a:xfrm>
          <a:prstGeom prst="rect">
            <a:avLst/>
          </a:prstGeom>
          <a:ln w="0">
            <a:noFill/>
          </a:ln>
        </p:spPr>
      </p:pic>
      <p:sp>
        <p:nvSpPr>
          <p:cNvPr id="630" name="矩形 5"/>
          <p:cNvSpPr/>
          <p:nvPr/>
        </p:nvSpPr>
        <p:spPr>
          <a:xfrm>
            <a:off x="5435640" y="-23760"/>
            <a:ext cx="3313080" cy="84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流在心里的血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澎湃着中华的声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就算生在他乡也改变不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长江 长城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黄山 黄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在我心中重千斤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无论何时 无论何地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心中一样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流在心里的血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澎湃着中华的声音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就算生在他乡也改变不了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mbria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631" name="张明敏-我的中国心" descr=""/>
          <p:cNvPicPr/>
          <p:nvPr/>
        </p:nvPicPr>
        <p:blipFill>
          <a:blip r:embed="rId3"/>
          <a:stretch/>
        </p:blipFill>
        <p:spPr>
          <a:xfrm>
            <a:off x="68436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32" name="张明敏-我的中国心" descr=""/>
          <p:cNvPicPr/>
          <p:nvPr/>
        </p:nvPicPr>
        <p:blipFill>
          <a:blip r:embed="rId4"/>
          <a:stretch/>
        </p:blipFill>
        <p:spPr>
          <a:xfrm>
            <a:off x="4716360" y="386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9" descr="279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4" name="WordArt 4"/>
          <p:cNvSpPr txBox="1"/>
          <p:nvPr/>
        </p:nvSpPr>
        <p:spPr>
          <a:xfrm>
            <a:off x="395280" y="1052640"/>
            <a:ext cx="5113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+mn-ea"/>
              </a:rPr>
              <a:t>再见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+mn-ea"/>
              <a:ea typeface="+mn-e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8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"/>
          <p:cNvGrpSpPr/>
          <p:nvPr/>
        </p:nvGrpSpPr>
        <p:grpSpPr>
          <a:xfrm>
            <a:off x="1981080" y="401760"/>
            <a:ext cx="6029280" cy="1311120"/>
            <a:chOff x="1981080" y="401760"/>
            <a:chExt cx="6029280" cy="1311120"/>
          </a:xfrm>
        </p:grpSpPr>
        <p:pic>
          <p:nvPicPr>
            <p:cNvPr id="504" name="Rectangle 4" descr=""/>
            <p:cNvPicPr/>
            <p:nvPr/>
          </p:nvPicPr>
          <p:blipFill>
            <a:blip r:embed="rId1"/>
            <a:stretch/>
          </p:blipFill>
          <p:spPr>
            <a:xfrm>
              <a:off x="1981080" y="401760"/>
              <a:ext cx="60292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"/>
            <p:cNvSpPr txBox="1"/>
            <p:nvPr/>
          </p:nvSpPr>
          <p:spPr>
            <a:xfrm>
              <a:off x="1981080" y="401760"/>
              <a:ext cx="6029280" cy="131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506" name=""/>
          <p:cNvSpPr txBox="1"/>
          <p:nvPr/>
        </p:nvSpPr>
        <p:spPr>
          <a:xfrm>
            <a:off x="1115640" y="155736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lang="zh-CN" sz="2400" spc="-1" strike="noStrike">
                <a:solidFill>
                  <a:srgbClr val="0000ff"/>
                </a:solidFill>
                <a:latin typeface="华文仿宋"/>
                <a:ea typeface="华文仿宋"/>
              </a:rPr>
              <a:t>季羡林，北京大学教授、中科院院士、中国语言学家、文学翻译家，梵文、巴利文专家。山东清平（今临清）县人。１９３０年考入北京清华大学西语系。１９３５年考取清华大学交换研究生，赴德国留学，在哥廷根大学学习梵文、巴利文、吐火罗文等古代语言。１９４１年获哲学博士学位。１９４６年回国，历任北京大学教授兼东方语言文学系教授、系主任。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2139840" y="5877000"/>
            <a:ext cx="43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隶书"/>
              </a:rPr>
              <a:t>学术交流演讲时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08" name="Picture 8" descr="图片1"/>
          <p:cNvPicPr/>
          <p:nvPr/>
        </p:nvPicPr>
        <p:blipFill>
          <a:blip r:embed="rId2"/>
          <a:stretch/>
        </p:blipFill>
        <p:spPr>
          <a:xfrm>
            <a:off x="388800" y="260280"/>
            <a:ext cx="84474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b9"/>
            </a:gs>
            <a:gs pos="100000">
              <a:srgbClr val="c2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06208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98989"/>
              </a:solidFill>
              <a:latin typeface="Cambria"/>
            </a:endParaRPr>
          </a:p>
        </p:txBody>
      </p:sp>
      <p:pic>
        <p:nvPicPr>
          <p:cNvPr id="511" name="Picture 7" descr="1afa62cce4e634d2cb2292753dc69ae9"/>
          <p:cNvPicPr/>
          <p:nvPr/>
        </p:nvPicPr>
        <p:blipFill>
          <a:blip r:embed="rId1"/>
          <a:stretch/>
        </p:blipFill>
        <p:spPr>
          <a:xfrm>
            <a:off x="468360" y="26028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512" name="TextBox 8"/>
          <p:cNvSpPr/>
          <p:nvPr/>
        </p:nvSpPr>
        <p:spPr>
          <a:xfrm>
            <a:off x="1835280" y="585000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Cambria"/>
                <a:ea typeface="隶书"/>
              </a:rPr>
              <a:t>季羡林与胡锦涛总书记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414360" y="274680"/>
            <a:ext cx="8339040" cy="1193760"/>
            <a:chOff x="414360" y="274680"/>
            <a:chExt cx="8339040" cy="1193760"/>
          </a:xfrm>
        </p:grpSpPr>
        <p:pic>
          <p:nvPicPr>
            <p:cNvPr id="514" name="标题 1" descr=""/>
            <p:cNvPicPr/>
            <p:nvPr/>
          </p:nvPicPr>
          <p:blipFill>
            <a:blip r:embed="rId1"/>
            <a:stretch/>
          </p:blipFill>
          <p:spPr>
            <a:xfrm>
              <a:off x="414360" y="274680"/>
              <a:ext cx="8339040" cy="11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 txBox="1"/>
            <p:nvPr/>
          </p:nvSpPr>
          <p:spPr>
            <a:xfrm>
              <a:off x="414360" y="274680"/>
              <a:ext cx="8339040" cy="119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516" name=""/>
          <p:cNvSpPr txBox="1"/>
          <p:nvPr/>
        </p:nvSpPr>
        <p:spPr>
          <a:xfrm>
            <a:off x="1116000" y="2060280"/>
            <a:ext cx="763272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自己的花是给别人看的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怀念母亲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mbria"/>
              </a:rPr>
              <a:t>其中写到季羡林的：小苗与大树的对话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2"/>
          <p:cNvSpPr/>
          <p:nvPr/>
        </p:nvSpPr>
        <p:spPr>
          <a:xfrm>
            <a:off x="749160" y="195588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楷体_GB2312"/>
                <a:ea typeface="楷体_GB2312"/>
              </a:rPr>
              <a:t>挚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8" name="TextBox 3"/>
          <p:cNvSpPr/>
          <p:nvPr/>
        </p:nvSpPr>
        <p:spPr>
          <a:xfrm>
            <a:off x="2795760" y="1955880"/>
            <a:ext cx="11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寝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TextBox 4"/>
          <p:cNvSpPr/>
          <p:nvPr/>
        </p:nvSpPr>
        <p:spPr>
          <a:xfrm>
            <a:off x="5172120" y="2000160"/>
            <a:ext cx="127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频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TextBox 5"/>
          <p:cNvSpPr/>
          <p:nvPr/>
        </p:nvSpPr>
        <p:spPr>
          <a:xfrm>
            <a:off x="655560" y="42339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朦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TextBox 6"/>
          <p:cNvSpPr/>
          <p:nvPr/>
        </p:nvSpPr>
        <p:spPr>
          <a:xfrm>
            <a:off x="2422440" y="4232160"/>
            <a:ext cx="8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胧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2" name="TextBox 9"/>
          <p:cNvSpPr/>
          <p:nvPr/>
        </p:nvSpPr>
        <p:spPr>
          <a:xfrm>
            <a:off x="7372440" y="1986120"/>
            <a:ext cx="101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凄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3" name="TextBox 10"/>
          <p:cNvSpPr/>
          <p:nvPr/>
        </p:nvSpPr>
        <p:spPr>
          <a:xfrm>
            <a:off x="5148360" y="43052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斑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TextBox 11"/>
          <p:cNvSpPr/>
          <p:nvPr/>
        </p:nvSpPr>
        <p:spPr>
          <a:xfrm>
            <a:off x="7056360" y="4305240"/>
            <a:ext cx="100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b"/>
                </a:solidFill>
                <a:latin typeface="Cambria"/>
              </a:rPr>
              <a:t>篇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TextBox 12"/>
          <p:cNvSpPr/>
          <p:nvPr/>
        </p:nvSpPr>
        <p:spPr>
          <a:xfrm>
            <a:off x="324000" y="1989000"/>
            <a:ext cx="73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真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TextBox 13"/>
          <p:cNvSpPr/>
          <p:nvPr/>
        </p:nvSpPr>
        <p:spPr>
          <a:xfrm>
            <a:off x="3303720" y="1989000"/>
            <a:ext cx="17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安席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1860480" y="254160"/>
            <a:ext cx="2743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字词正音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TextBox 14"/>
          <p:cNvSpPr/>
          <p:nvPr/>
        </p:nvSpPr>
        <p:spPr>
          <a:xfrm>
            <a:off x="5684760" y="1989000"/>
            <a:ext cx="18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来入梦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9" name="TextBox 15"/>
          <p:cNvSpPr/>
          <p:nvPr/>
        </p:nvSpPr>
        <p:spPr>
          <a:xfrm>
            <a:off x="7888320" y="2017800"/>
            <a:ext cx="93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凉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0" name="直接连接符 17"/>
          <p:cNvSpPr/>
          <p:nvPr/>
        </p:nvSpPr>
        <p:spPr>
          <a:xfrm>
            <a:off x="665280" y="4869000"/>
            <a:ext cx="2450880" cy="0"/>
          </a:xfrm>
          <a:prstGeom prst="line">
            <a:avLst/>
          </a:prstGeom>
          <a:ln w="38160">
            <a:solidFill>
              <a:srgbClr val="c77c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TextBox 18"/>
          <p:cNvSpPr/>
          <p:nvPr/>
        </p:nvSpPr>
        <p:spPr>
          <a:xfrm>
            <a:off x="3754440" y="4340160"/>
            <a:ext cx="16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可见一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2" name="TextBox 21"/>
          <p:cNvSpPr/>
          <p:nvPr/>
        </p:nvSpPr>
        <p:spPr>
          <a:xfrm>
            <a:off x="7694640" y="4340160"/>
            <a:ext cx="7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目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TextBox 22"/>
          <p:cNvSpPr/>
          <p:nvPr/>
        </p:nvSpPr>
        <p:spPr>
          <a:xfrm>
            <a:off x="617400" y="1387440"/>
            <a:ext cx="11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zhì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TextBox 23"/>
          <p:cNvSpPr/>
          <p:nvPr/>
        </p:nvSpPr>
        <p:spPr>
          <a:xfrm>
            <a:off x="2709720" y="1371600"/>
            <a:ext cx="10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qǐ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TextBox 24"/>
          <p:cNvSpPr/>
          <p:nvPr/>
        </p:nvSpPr>
        <p:spPr>
          <a:xfrm>
            <a:off x="5076720" y="1413000"/>
            <a:ext cx="14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pí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6" name="TextBox 25"/>
          <p:cNvSpPr/>
          <p:nvPr/>
        </p:nvSpPr>
        <p:spPr>
          <a:xfrm>
            <a:off x="7380360" y="1413000"/>
            <a:ext cx="72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qī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TextBox 26"/>
          <p:cNvSpPr/>
          <p:nvPr/>
        </p:nvSpPr>
        <p:spPr>
          <a:xfrm>
            <a:off x="446040" y="3619440"/>
            <a:ext cx="144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méng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TextBox 27"/>
          <p:cNvSpPr/>
          <p:nvPr/>
        </p:nvSpPr>
        <p:spPr>
          <a:xfrm>
            <a:off x="2195640" y="3619440"/>
            <a:ext cx="13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lóng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TextBox 28"/>
          <p:cNvSpPr/>
          <p:nvPr/>
        </p:nvSpPr>
        <p:spPr>
          <a:xfrm>
            <a:off x="5003640" y="36561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bā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TextBox 29"/>
          <p:cNvSpPr/>
          <p:nvPr/>
        </p:nvSpPr>
        <p:spPr>
          <a:xfrm>
            <a:off x="6875640" y="3665520"/>
            <a:ext cx="131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b"/>
                </a:solidFill>
                <a:latin typeface="宋体"/>
              </a:rPr>
              <a:t>piān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1" name="Picture 5" descr="62"/>
          <p:cNvPicPr/>
          <p:nvPr/>
        </p:nvPicPr>
        <p:blipFill>
          <a:blip r:embed="rId1"/>
          <a:stretch/>
        </p:blipFill>
        <p:spPr>
          <a:xfrm>
            <a:off x="7199280" y="5383080"/>
            <a:ext cx="1695600" cy="13287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4" descr="021u"/>
          <p:cNvPicPr/>
          <p:nvPr/>
        </p:nvPicPr>
        <p:blipFill>
          <a:blip r:embed="rId2"/>
          <a:stretch/>
        </p:blipFill>
        <p:spPr>
          <a:xfrm>
            <a:off x="379440" y="139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3"/>
          <p:cNvSpPr/>
          <p:nvPr/>
        </p:nvSpPr>
        <p:spPr>
          <a:xfrm>
            <a:off x="685800" y="1905120"/>
            <a:ext cx="3352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真挚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弃养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寝不安席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终天之恨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薄暗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沮丧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思潮起伏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272b"/>
              </a:buClr>
              <a:buSzPct val="50000"/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mbria"/>
                <a:ea typeface="华文中宋"/>
              </a:rPr>
              <a:t>心潮腾涌：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Rectangle 2"/>
          <p:cNvSpPr/>
          <p:nvPr/>
        </p:nvSpPr>
        <p:spPr>
          <a:xfrm>
            <a:off x="1522440" y="351000"/>
            <a:ext cx="324000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词语积累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3200400" y="43434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灰心失望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Text Box 11"/>
          <p:cNvSpPr/>
          <p:nvPr/>
        </p:nvSpPr>
        <p:spPr>
          <a:xfrm>
            <a:off x="3200400" y="48006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接二连三的思想活动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3200400" y="53341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心情跳跃、涌动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48" name="Picture 14" descr="021u"/>
          <p:cNvPicPr/>
          <p:nvPr/>
        </p:nvPicPr>
        <p:blipFill>
          <a:blip r:embed="rId1"/>
          <a:stretch/>
        </p:blipFill>
        <p:spPr>
          <a:xfrm>
            <a:off x="76320" y="20016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5"/>
          <p:cNvSpPr/>
          <p:nvPr/>
        </p:nvSpPr>
        <p:spPr>
          <a:xfrm>
            <a:off x="2982960" y="1890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（感情）真诚恳切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3211560" y="23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婉辞，指父母死亡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3211560" y="288144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无法安然入睡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3211560" y="34146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终身的遗恨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3211560" y="38718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mbria"/>
                <a:ea typeface="黑体"/>
              </a:rPr>
              <a:t>昏暗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4" name="Picture 5" descr="62"/>
          <p:cNvPicPr/>
          <p:nvPr/>
        </p:nvPicPr>
        <p:blipFill>
          <a:blip r:embed="rId2"/>
          <a:stretch/>
        </p:blipFill>
        <p:spPr>
          <a:xfrm>
            <a:off x="7199280" y="5383080"/>
            <a:ext cx="169560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5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6"/>
          <p:cNvSpPr/>
          <p:nvPr/>
        </p:nvSpPr>
        <p:spPr>
          <a:xfrm>
            <a:off x="1187280" y="2185920"/>
            <a:ext cx="662940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１、作者在文章中提到了哪两位母亲？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２、作者对这两位母亲怀着怎样的感情？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6" name="Rectangle 2"/>
          <p:cNvSpPr/>
          <p:nvPr/>
        </p:nvSpPr>
        <p:spPr>
          <a:xfrm>
            <a:off x="2254320" y="692280"/>
            <a:ext cx="556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朗读课文，思考问题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57" name="图片 3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558" name="WordArt 12"/>
          <p:cNvSpPr txBox="1"/>
          <p:nvPr/>
        </p:nvSpPr>
        <p:spPr>
          <a:xfrm>
            <a:off x="1908000" y="2997360"/>
            <a:ext cx="2210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+mn-ea"/>
              </a:rPr>
              <a:t>生身母亲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+mn-ea"/>
              <a:ea typeface="+mn-ea"/>
            </a:endParaRPr>
          </a:p>
        </p:txBody>
      </p:sp>
      <p:sp>
        <p:nvSpPr>
          <p:cNvPr id="559" name="WordArt 13"/>
          <p:cNvSpPr txBox="1"/>
          <p:nvPr/>
        </p:nvSpPr>
        <p:spPr>
          <a:xfrm>
            <a:off x="4859280" y="2997360"/>
            <a:ext cx="2209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+mn-ea"/>
              </a:rPr>
              <a:t>祖国母亲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+mn-ea"/>
              <a:ea typeface="+mn-ea"/>
            </a:endParaRPr>
          </a:p>
        </p:txBody>
      </p:sp>
      <p:sp>
        <p:nvSpPr>
          <p:cNvPr id="560" name="Rectangle 8"/>
          <p:cNvSpPr/>
          <p:nvPr/>
        </p:nvSpPr>
        <p:spPr>
          <a:xfrm>
            <a:off x="1295280" y="446400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mbria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Cambria"/>
              </a:rPr>
              <a:t>我对这两个母亲怀着同样崇高的敬意和同样真挚的爱慕。”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5"/>
          <p:cNvSpPr/>
          <p:nvPr/>
        </p:nvSpPr>
        <p:spPr>
          <a:xfrm>
            <a:off x="960480" y="1052640"/>
            <a:ext cx="79074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78707"/>
                </a:solidFill>
                <a:uFillTx/>
                <a:latin typeface="Cambria"/>
                <a:ea typeface="黑体"/>
              </a:rPr>
              <a:t>一</a:t>
            </a:r>
            <a:r>
              <a:rPr b="0" lang="en-US" sz="4000" spc="-1" strike="noStrike" u="sng">
                <a:solidFill>
                  <a:srgbClr val="e78707"/>
                </a:solidFill>
                <a:uFillTx/>
                <a:latin typeface="Cambria"/>
                <a:ea typeface="黑体"/>
              </a:rPr>
              <a:t>、</a:t>
            </a:r>
            <a:r>
              <a:rPr b="0" lang="zh-CN" sz="4000" spc="-1" strike="noStrike" u="sng">
                <a:solidFill>
                  <a:srgbClr val="e78707"/>
                </a:solidFill>
                <a:uFillTx/>
                <a:latin typeface="Cambria"/>
                <a:ea typeface="黑体"/>
              </a:rPr>
              <a:t>对</a:t>
            </a:r>
            <a:r>
              <a:rPr b="0" lang="zh-CN" sz="4000" spc="-1" strike="noStrike" u="sng">
                <a:solidFill>
                  <a:srgbClr val="e78707"/>
                </a:solidFill>
                <a:uFillTx/>
                <a:latin typeface="宋体"/>
                <a:ea typeface="黑体"/>
              </a:rPr>
              <a:t>“</a:t>
            </a:r>
            <a:r>
              <a:rPr b="0" lang="zh-CN" sz="4000" spc="-1" strike="noStrike" u="sng">
                <a:solidFill>
                  <a:srgbClr val="e78707"/>
                </a:solidFill>
                <a:uFillTx/>
                <a:latin typeface="宋体"/>
                <a:ea typeface="黑体"/>
              </a:rPr>
              <a:t>生身母亲</a:t>
            </a:r>
            <a:r>
              <a:rPr b="0" lang="zh-CN" sz="4000" spc="-1" strike="noStrike" u="sng">
                <a:solidFill>
                  <a:srgbClr val="e78707"/>
                </a:solidFill>
                <a:uFillTx/>
                <a:latin typeface="宋体"/>
                <a:ea typeface="黑体"/>
              </a:rPr>
              <a:t>”</a:t>
            </a:r>
            <a:r>
              <a:rPr b="0" lang="zh-CN" sz="4000" spc="-1" strike="noStrike" u="sng">
                <a:solidFill>
                  <a:srgbClr val="e78707"/>
                </a:solidFill>
                <a:uFillTx/>
                <a:latin typeface="宋体"/>
                <a:ea typeface="黑体"/>
              </a:rPr>
              <a:t>的感情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187280" y="2349360"/>
            <a:ext cx="7510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78707"/>
                </a:solidFill>
                <a:uFillTx/>
                <a:latin typeface="Book Antiqua"/>
                <a:ea typeface="黑体"/>
              </a:rPr>
              <a:t>二</a:t>
            </a:r>
            <a:r>
              <a:rPr b="0" lang="en-US" sz="4000" spc="-1" strike="noStrike" u="sng">
                <a:solidFill>
                  <a:srgbClr val="e78707"/>
                </a:solidFill>
                <a:uFillTx/>
                <a:latin typeface="Book Antiqua"/>
                <a:ea typeface="黑体"/>
              </a:rPr>
              <a:t>、</a:t>
            </a:r>
            <a:r>
              <a:rPr b="0" lang="zh-CN" sz="4000" spc="-1" strike="noStrike" u="sng">
                <a:solidFill>
                  <a:srgbClr val="e78707"/>
                </a:solidFill>
                <a:uFillTx/>
                <a:latin typeface="Book Antiqua"/>
                <a:ea typeface="黑体"/>
              </a:rPr>
              <a:t>对“祖国母亲”的感情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Rectangle 2"/>
          <p:cNvSpPr/>
          <p:nvPr/>
        </p:nvSpPr>
        <p:spPr>
          <a:xfrm>
            <a:off x="1835280" y="692280"/>
            <a:ext cx="656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再读课文，找出相应句子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564" name="图片 6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grpSp>
        <p:nvGrpSpPr>
          <p:cNvPr id="565" name="组合 21"/>
          <p:cNvGrpSpPr/>
          <p:nvPr/>
        </p:nvGrpSpPr>
        <p:grpSpPr>
          <a:xfrm>
            <a:off x="6894360" y="4869000"/>
            <a:ext cx="2184480" cy="1815840"/>
            <a:chOff x="6894360" y="4869000"/>
            <a:chExt cx="2184480" cy="1815840"/>
          </a:xfrm>
        </p:grpSpPr>
        <p:pic>
          <p:nvPicPr>
            <p:cNvPr id="566" name="图片 18" descr=""/>
            <p:cNvPicPr/>
            <p:nvPr/>
          </p:nvPicPr>
          <p:blipFill>
            <a:blip r:embed="rId2"/>
            <a:srcRect l="21609" t="42268" r="12905" b="10895"/>
            <a:stretch/>
          </p:blipFill>
          <p:spPr>
            <a:xfrm>
              <a:off x="6894360" y="5078160"/>
              <a:ext cx="2184480" cy="132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矩形 20" descr=""/>
            <p:cNvPicPr/>
            <p:nvPr/>
          </p:nvPicPr>
          <p:blipFill>
            <a:blip r:embed="rId3"/>
            <a:stretch/>
          </p:blipFill>
          <p:spPr>
            <a:xfrm>
              <a:off x="7436880" y="4869000"/>
              <a:ext cx="1024200" cy="181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矩形 1"/>
          <p:cNvSpPr/>
          <p:nvPr/>
        </p:nvSpPr>
        <p:spPr>
          <a:xfrm>
            <a:off x="4541400" y="3213000"/>
            <a:ext cx="921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78707"/>
                </a:solidFill>
                <a:uFillTx/>
                <a:latin typeface="Book Antiqua"/>
                <a:ea typeface="黑体"/>
                <a:hlinkClick r:id="rId4"/>
              </a:rPr>
              <a:t>三、</a:t>
            </a:r>
            <a:r>
              <a:rPr b="0" lang="zh-CN" sz="4000" spc="-1" strike="noStrike" u="sng">
                <a:solidFill>
                  <a:srgbClr val="e78707"/>
                </a:solidFill>
                <a:uFillTx/>
                <a:latin typeface="Book Antiqua"/>
                <a:ea typeface="黑体"/>
                <a:hlinkClick r:id="rId5"/>
              </a:rPr>
              <a:t>古今中外的母亲都一样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TextBox 2"/>
          <p:cNvSpPr/>
          <p:nvPr/>
        </p:nvSpPr>
        <p:spPr>
          <a:xfrm>
            <a:off x="1832040" y="4305240"/>
            <a:ext cx="6627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e78707"/>
                </a:solidFill>
                <a:uFillTx/>
                <a:latin typeface="Cambria"/>
                <a:ea typeface="黑体"/>
                <a:hlinkClick r:id="rId6"/>
              </a:rPr>
              <a:t>四、掌握写法，并灵活应用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图片 1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295640" cy="144000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2"/>
          <p:cNvSpPr/>
          <p:nvPr/>
        </p:nvSpPr>
        <p:spPr>
          <a:xfrm>
            <a:off x="1908000" y="117360"/>
            <a:ext cx="656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Book Antiqua"/>
                <a:ea typeface="华文中宋"/>
              </a:rPr>
              <a:t>再读课文，找出相应句子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1332000" y="1844640"/>
            <a:ext cx="768348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１、我痛哭了几天，食不下咽，寝不安席。我真想随母亲于地下。我的愿望没能实现，从此我就成了没有母亲的孤儿。一个缺少母爱的孩子，是灵魂不全的人。我怀着不全的灵魂，抱终天之恨。一想到母亲，就泪流不止，数十年如一日。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1332000" y="4726080"/>
            <a:ext cx="729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mbria"/>
                <a:ea typeface="黑体"/>
              </a:rPr>
              <a:t>这里写出了“我”失去母亲之后的伤心、痛苦和悔恨，文章通过这些描写写出了“我”对母亲的深情。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74" name="组合 11"/>
          <p:cNvGrpSpPr/>
          <p:nvPr/>
        </p:nvGrpSpPr>
        <p:grpSpPr>
          <a:xfrm>
            <a:off x="179280" y="5965920"/>
            <a:ext cx="1152720" cy="776160"/>
            <a:chOff x="179280" y="5965920"/>
            <a:chExt cx="1152720" cy="776160"/>
          </a:xfrm>
        </p:grpSpPr>
        <p:grpSp>
          <p:nvGrpSpPr>
            <p:cNvPr id="575" name="右箭头 8"/>
            <p:cNvGrpSpPr/>
            <p:nvPr/>
          </p:nvGrpSpPr>
          <p:grpSpPr>
            <a:xfrm>
              <a:off x="336240" y="5965920"/>
              <a:ext cx="995760" cy="776160"/>
              <a:chOff x="336240" y="5965920"/>
              <a:chExt cx="995760" cy="776160"/>
            </a:xfrm>
          </p:grpSpPr>
          <p:pic>
            <p:nvPicPr>
              <p:cNvPr id="576" name="右箭头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36240" y="5965920"/>
                <a:ext cx="995760" cy="77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7" name=""/>
              <p:cNvSpPr/>
              <p:nvPr/>
            </p:nvSpPr>
            <p:spPr>
              <a:xfrm>
                <a:off x="387720" y="6161040"/>
                <a:ext cx="709200" cy="34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pic>
          <p:nvPicPr>
            <p:cNvPr id="578" name="矩形 10" descr=""/>
            <p:cNvPicPr/>
            <p:nvPr/>
          </p:nvPicPr>
          <p:blipFill>
            <a:blip r:embed="rId3"/>
            <a:stretch/>
          </p:blipFill>
          <p:spPr>
            <a:xfrm>
              <a:off x="179280" y="6056640"/>
              <a:ext cx="1100520" cy="65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"/>
          <p:cNvSpPr/>
          <p:nvPr/>
        </p:nvSpPr>
        <p:spPr>
          <a:xfrm>
            <a:off x="2036880" y="981000"/>
            <a:ext cx="411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对生身母亲的感情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06:44:00Z</dcterms:created>
  <dc:creator>wangxp</dc:creator>
  <dc:description/>
  <dc:language>en-US</dc:language>
  <cp:lastModifiedBy>wangxp</cp:lastModifiedBy>
  <dcterms:modified xsi:type="dcterms:W3CDTF">2014-09-18T00:31:16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