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jpeg" ContentType="image/jpeg"/>
  <Override PartName="/ppt/media/image9.gif" ContentType="image/gif"/>
  <Override PartName="/ppt/media/image10.gif" ContentType="image/gi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281D-8340-496B-B57B-A36D5A3CD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1920" y="379044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7F26-23F4-4275-BCEE-85A3758A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2E0C7C-5A5D-4295-948C-E8DA0A5C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F49639-05A2-4A44-9FAD-53BA39CC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16292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516F60-499C-45D8-B1B8-12623056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BB3956-C0BE-473C-807B-3F4FDBC8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82248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3D0108-DDB4-4719-BC23-8D8F8691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363A63-6416-4CB9-B153-839C8899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151920" y="379044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5CA0E9-3EE9-46E9-B9E5-9DD0FB56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382248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DA488B-9C21-450E-AAD8-733B89A7B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257364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99572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15192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257364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499572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501B4-788C-49BB-A083-D3073273A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FF9105-B20C-4B64-876D-90CF81F05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2248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5DA2-DAEF-4153-BE42-3E9F3D838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CE25CE-ED5E-47EE-9AB8-50ADC990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E29266-584A-4681-AFDB-16DD150C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FDE0D0-EC41-492E-9E9A-9C82F49E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5F681C-B39B-40D5-AFB7-3407354B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16292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4B9F9C-8BC8-4F93-845C-A267C8B0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4F5512-4D86-4079-B59F-5E73B83A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382248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FF2BF5-BA66-45FB-AD08-D0ADDC6E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266A79-2C76-4DE4-A72E-EF2D3460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151920" y="379044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908A96-004B-41DC-90B1-2AD112DD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382248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B3747A-D645-4BDE-9E8C-4ADA3C772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7364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9572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192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7364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99572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AA46-B928-40A5-AC9F-028F0A5D7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257364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99572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15192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257364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499572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815F72-E2A8-4833-93EE-44F50A751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D11A1-381F-4B82-A0B9-DCA8C8944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4E020C-4CD3-49E7-9932-F6A24CD0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69461A-00D9-49D9-BCF4-4796A4C4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8B362-78BB-49A3-890F-1EC02D76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37018-BFF9-4D01-93D9-EC77AF60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16292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A73A6-1079-4DA5-88B2-83E120CD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4FFCD1-5385-4D67-BF32-1DDA2A69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82248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7BD97-2369-463F-ADBF-524856B6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4D6FDD-304C-48D1-9AB3-3F72480C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8F00E-9C8D-4670-81E1-695588134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51920" y="379044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4772D6-1CC8-4A98-90C4-8F506C14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382248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D25D40-F36A-421B-BDDD-BC01C1515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257364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99572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5192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257364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499572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69FD84-4BC4-458C-AEE0-8E6490759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86C31C-853B-496F-97AF-0186EF7BA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71E999-E055-455E-81DD-123026F3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91D4D2-503C-42A7-B3FC-53F6B4C3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13345F-EC50-4E4C-A3E6-844235F7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ADC30B-A0EE-4DBF-BE7A-7F364273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16292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ADCEC0-93EC-493B-B7D2-A2E3F235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0CB0D3-271F-44EF-9EA0-A77AFAFD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0EB36-FB69-4988-BA63-2F1F86E4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82248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6617A3-A7E6-4C7B-B49D-4E4F7022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8B5FD9-901E-4A98-A897-13E59973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151920" y="379044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66D2E3-370A-4973-B7AA-81E7BEC7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382248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64F668-F65F-4884-819E-33FCA0144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257364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99572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15192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257364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499572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33EEC6-CEBE-423E-82AE-AD05DCA77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B35079-3993-45C3-8770-A258C1056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666AD2-02B2-47AB-ABD8-DF003398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5F904E-E143-40B9-8A0A-FAEEF3AB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E5F38C-7EE2-4B5A-913E-02C15F52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AC0BAF-2B2D-440F-B46A-9CA78C1C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E3D30-51F8-4ACD-9B34-B24E1C33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16292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4E7C99-5DA8-4D5E-805D-CB039D31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E941D3-3323-4846-866B-37FB73B3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382248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3BD0B7-067E-4BAC-AFA9-CE99B4E1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BBFD76-B693-4949-BF47-650187AA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151920" y="379044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1507DA-6D79-4B10-A961-3853C0DF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382248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8EF612-70B7-4EC8-82E2-460D5010E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257364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99572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15192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257364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499572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E22CB6-DE16-4FBA-AD8D-ABD98DEB4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5DEA-C9C0-423C-A3F8-4F100974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5DE3B-9D6B-4F0D-972A-97A9E3F5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16292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5893B-CBAB-48F4-8B18-2B75E88A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FB67-8EF9-4077-BC11-AFA4CACE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DFA4-8E48-43EB-874C-8434A37F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2248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CEF1-C769-4CF1-A878-6CD6577F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CE59-D66A-406F-98A6-7C26B479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51920" y="379044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F25E-AA4B-497E-8068-4153390A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82248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543D-ABC7-4414-8861-D1FB6E388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57364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9572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5192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57364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99572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72F02-3F2F-446A-A820-92A2C8270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C0255-3CC2-42C3-B220-7F34BAABB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082AF-EE3E-4353-B5B0-BD4A3270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219C0-A1F9-4384-A798-85BC814C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81B4A-625F-4E47-8B00-A14D3FB6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C57FF-656F-4A4A-AED5-0796D714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6B73-E5C3-49D8-8C11-B9676B8F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16292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C39DE-F841-4A4B-A833-71AE7B79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1E4BC-F587-45E8-B080-A9C8BA83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2248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B7417-FB7A-4F60-A36F-14DF96E9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41430-5D14-47F2-B6E2-54112EDF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51920" y="379044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993FD-2F31-4B9F-9C3B-9CAFD046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82248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D0546-1AD4-4CF9-9354-405F9E70A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57364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9572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5192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57364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499572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4D71B-040F-49C3-800F-525EE4EE6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A44DC-259F-4650-A0E9-94CBC9318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11584-EC40-413B-A5E0-B4632CA0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BB7E9-1A84-4DF8-B89C-B1471757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FD1B-0A9A-4F10-862E-990009DC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3B561-B143-474A-AA2E-94BB4C18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88DEF-7D00-44DF-9A79-733DC7D8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16292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CFCD2-8559-4409-9A48-620A834F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B8D52-244E-4BDC-84B6-490A25CC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2248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571E1-5343-4D08-A95B-470BCD1D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42A83-1072-43C1-97C6-52D64634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51920" y="379044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F04BC-D90E-4EC1-94AD-3C2EA779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82248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75F6F-540D-4A52-926C-8DF75199F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57364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99572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5192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257364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499572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2FD4A-EB79-41C3-AE87-41270AC73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9178A-6B2D-4170-8517-E3F84968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2711-572F-433C-AA73-CA9A8F70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87D7C-2ED3-45F9-9100-FAF03E91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8A906-D54C-4AEC-B5F4-DACEC5E9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7E16B-5055-49DD-9C86-63CAEC7E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E6BF0-765B-4A78-8D1B-CF57D31D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16292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DE6B7-9EB8-4793-8053-36142453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13196-ED22-43E5-A86D-48747223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82248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D23DF-AEDF-4A2B-A45C-C6682695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FA574-75CB-45FA-A77D-235203D1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151920" y="379044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A4EB2-A063-4ED1-947E-8784C17E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82248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96767-9329-466E-84F1-87DFE2B20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16292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D1A5-1256-47F5-A4B5-3DBE504A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257364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99572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15192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257364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499572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E0A80-85D3-41EC-A2F2-6EB6D30A1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651B5-97D4-44ED-A4B0-E002F291A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12911-F232-452E-8B23-BE57C067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C3B12-672B-49C7-9366-86A92043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E43BA-AA59-460B-A822-B11EEEBC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C6FC7-86A6-44E1-AFB7-D4DEE5DF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16292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BDE4D-FBF5-4784-BCA4-88B7B3BB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6E126-55F7-406A-9553-8DAB3D87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82248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2692D-0B88-49B3-AB22-D6A916A6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383C4-8304-453C-BF74-304513F9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E1CE-738B-48EF-A3B0-14B84BF8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51920" y="379044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63D76-8404-4A76-8797-8C76CFBC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82248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9E45C-8FA0-46C6-BB3C-F44F82E12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257364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99572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5192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257364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499572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213C1-0DB0-4B9F-AF73-93B575916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134E0-3922-4CF8-A8E9-12D208A39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98174-D476-4411-B70F-699BFB8D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425EB-E259-441A-BF59-B8F3EE3C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0C799-5B8C-45E1-86C3-2AC41DA6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71A61-38D1-44A4-9FCF-9DC30FD0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16292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E0366-968F-41E9-A801-D2A1F1F7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14B70-C914-4FDC-9004-6BC6C43D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2248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06BC-1447-49C6-9A18-FC9389AA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82248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464B7-8494-47D5-ACFE-3353D1A7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A216E-01BC-4A1D-A246-ECCA174B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151920" y="379044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D2F35-EF75-4EE2-ACBF-5A68068D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382248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AF116-813D-4CB8-954C-577E9C401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257364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99572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15192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257364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499572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46215-3C3D-49AA-9C62-6FA3FA204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12DF2-842D-4869-8444-2039506C0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18BA9-5443-4DA5-B218-4FC9C4AC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D2628-60A9-4180-B30A-C503F7EC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7E147-2E5B-49B9-8892-21809261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1BCE0-1545-40CC-82B0-B03218EE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3D01-68FB-4A1C-8C17-7C42DF0A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16292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2DC75-5BDB-48FC-A755-A7936E24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98517-FE23-4C73-B7B2-213E3F82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82248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4A2F3-3161-424D-8410-A3BBBFD8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DCDFF-E917-4BB7-B4B5-3B694343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51920" y="379044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1DF1B-7A6C-4374-802B-8DA8FF91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382248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8B875-283F-429A-B60A-C60C91B5C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257364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99572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5192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257364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499572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0CA34-58B4-4A34-BDFB-9D5713B2E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70DD42-E0BA-46A8-ACBC-00D1F1B45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E3A934-D546-4B32-B111-D7DFD044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17B54E-A9C0-4899-A04D-697007F4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1629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Tahoma"/>
                <a:ea typeface="宋体"/>
              </a:rPr>
              <a:t>素彩网</a:t>
            </a:r>
            <a:r>
              <a:rPr b="1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-http://www.sc115.com--PPT</a:t>
            </a:r>
            <a:r>
              <a:rPr b="1" lang="zh-CN" sz="800" spc="-1" strike="noStrike">
                <a:solidFill>
                  <a:srgbClr val="ffffff"/>
                </a:solidFill>
                <a:latin typeface="Tahoma"/>
                <a:ea typeface="宋体"/>
              </a:rPr>
              <a:t>模板免费下载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C49E-AA28-4FA4-B704-51536A547E12}" type="slidenum">
              <a:rPr b="1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saxaphone_swaying_hg_clr"/>
          <p:cNvPicPr/>
          <p:nvPr/>
        </p:nvPicPr>
        <p:blipFill>
          <a:blip r:embed="rId3"/>
          <a:stretch/>
        </p:blipFill>
        <p:spPr>
          <a:xfrm>
            <a:off x="0" y="4343400"/>
            <a:ext cx="1601640" cy="251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7" descr="saxaphone_swaying_hg_clr"/>
          <p:cNvPicPr/>
          <p:nvPr/>
        </p:nvPicPr>
        <p:blipFill>
          <a:blip r:embed="rId3"/>
          <a:stretch/>
        </p:blipFill>
        <p:spPr>
          <a:xfrm>
            <a:off x="0" y="4343400"/>
            <a:ext cx="1601640" cy="25146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1629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2239-146D-42CC-9F02-4783110387AB}" type="slidenum">
              <a:rPr b="1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7" descr="saxaphone_swaying_hg_clr"/>
          <p:cNvPicPr/>
          <p:nvPr/>
        </p:nvPicPr>
        <p:blipFill>
          <a:blip r:embed="rId3"/>
          <a:stretch/>
        </p:blipFill>
        <p:spPr>
          <a:xfrm>
            <a:off x="0" y="4343400"/>
            <a:ext cx="1601640" cy="251460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1629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ED04-6D20-4E0B-B3EB-D9A29CAC58AB}" type="slidenum">
              <a:rPr b="1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7" descr="saxaphone_swaying_hg_clr"/>
          <p:cNvPicPr/>
          <p:nvPr/>
        </p:nvPicPr>
        <p:blipFill>
          <a:blip r:embed="rId3"/>
          <a:stretch/>
        </p:blipFill>
        <p:spPr>
          <a:xfrm>
            <a:off x="0" y="4343400"/>
            <a:ext cx="1601640" cy="251460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1629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18C4-EECA-4C9A-B2B3-2B3753066BF8}" type="slidenum">
              <a:rPr b="1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7" descr="saxaphone_swaying_hg_clr"/>
          <p:cNvPicPr/>
          <p:nvPr/>
        </p:nvPicPr>
        <p:blipFill>
          <a:blip r:embed="rId3"/>
          <a:stretch/>
        </p:blipFill>
        <p:spPr>
          <a:xfrm>
            <a:off x="0" y="4343400"/>
            <a:ext cx="1601640" cy="251460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1629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7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9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4ECA-958D-4DF7-B59C-02809BFBA6B0}" type="slidenum">
              <a:rPr b="1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1629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 Black"/>
                <a:ea typeface="宋体"/>
              </a:rPr>
              <a:t>素彩网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  <a:ea typeface="宋体"/>
              </a:rPr>
              <a:t>-http://www.sc115.com--PPT</a:t>
            </a:r>
            <a:r>
              <a:rPr b="0" lang="zh-CN" sz="800" spc="-1" strike="noStrike">
                <a:solidFill>
                  <a:srgbClr val="ffffff"/>
                </a:solidFill>
                <a:latin typeface="Arial Black"/>
                <a:ea typeface="宋体"/>
              </a:rPr>
              <a:t>模板免费下载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5846-E7DB-4444-8EB7-B8F07175F542}" type="slidenum">
              <a:rPr b="0" lang="en-US" sz="8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saxaphone_swaying_hg_clr"/>
          <p:cNvPicPr/>
          <p:nvPr/>
        </p:nvPicPr>
        <p:blipFill>
          <a:blip r:embed="rId3"/>
          <a:stretch/>
        </p:blipFill>
        <p:spPr>
          <a:xfrm>
            <a:off x="0" y="4343400"/>
            <a:ext cx="1601640" cy="2514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1629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6D3D-84CE-4EB7-B645-3EEA312A7351}" type="slidenum">
              <a:rPr b="1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saxaphone_swaying_hg_clr"/>
          <p:cNvPicPr/>
          <p:nvPr/>
        </p:nvPicPr>
        <p:blipFill>
          <a:blip r:embed="rId3"/>
          <a:stretch/>
        </p:blipFill>
        <p:spPr>
          <a:xfrm>
            <a:off x="0" y="4343400"/>
            <a:ext cx="1601640" cy="25146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1629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083D-ABB8-445E-8845-2C5801578476}" type="slidenum">
              <a:rPr b="1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7" descr="saxaphone_swaying_hg_clr"/>
          <p:cNvPicPr/>
          <p:nvPr/>
        </p:nvPicPr>
        <p:blipFill>
          <a:blip r:embed="rId3"/>
          <a:stretch/>
        </p:blipFill>
        <p:spPr>
          <a:xfrm>
            <a:off x="0" y="4343400"/>
            <a:ext cx="1601640" cy="25146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1629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89E5-357A-4C41-B50F-6F83BF96EF18}" type="slidenum">
              <a:rPr b="1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7" descr="saxaphone_swaying_hg_clr"/>
          <p:cNvPicPr/>
          <p:nvPr/>
        </p:nvPicPr>
        <p:blipFill>
          <a:blip r:embed="rId3"/>
          <a:stretch/>
        </p:blipFill>
        <p:spPr>
          <a:xfrm>
            <a:off x="0" y="4343400"/>
            <a:ext cx="1601640" cy="25146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1629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C595-DC72-478F-9D9B-1DF48C21A591}" type="slidenum">
              <a:rPr b="1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7" descr="saxaphone_swaying_hg_clr"/>
          <p:cNvPicPr/>
          <p:nvPr/>
        </p:nvPicPr>
        <p:blipFill>
          <a:blip r:embed="rId3"/>
          <a:stretch/>
        </p:blipFill>
        <p:spPr>
          <a:xfrm>
            <a:off x="0" y="4343400"/>
            <a:ext cx="1601640" cy="25146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1629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2588-D5AA-4602-B6E7-6EA2506BA6B5}" type="slidenum">
              <a:rPr b="1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saxaphone_swaying_hg_clr"/>
          <p:cNvPicPr/>
          <p:nvPr/>
        </p:nvPicPr>
        <p:blipFill>
          <a:blip r:embed="rId3"/>
          <a:stretch/>
        </p:blipFill>
        <p:spPr>
          <a:xfrm>
            <a:off x="0" y="4343400"/>
            <a:ext cx="1601640" cy="25146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1629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FA43-B937-428B-B5ED-F02A9E96C552}" type="slidenum">
              <a:rPr b="1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7" descr="saxaphone_swaying_hg_clr"/>
          <p:cNvPicPr/>
          <p:nvPr/>
        </p:nvPicPr>
        <p:blipFill>
          <a:blip r:embed="rId3"/>
          <a:stretch/>
        </p:blipFill>
        <p:spPr>
          <a:xfrm>
            <a:off x="0" y="4343400"/>
            <a:ext cx="1601640" cy="25146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1629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E49D-C620-4A30-9625-63056F018061}" type="slidenum">
              <a:rPr b="1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animationfactory.com/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gif"/><Relationship Id="rId8" Type="http://schemas.openxmlformats.org/officeDocument/2006/relationships/image" Target="../media/image10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3885840"/>
            <a:ext cx="70102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  <a:ea typeface="宋体"/>
              </a:rPr>
              <a:t>Little Too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685440" y="4495320"/>
            <a:ext cx="7010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Your Subtitle Goes Her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Rectangle 11"/>
          <p:cNvSpPr/>
          <p:nvPr/>
        </p:nvSpPr>
        <p:spPr>
          <a:xfrm>
            <a:off x="2835360" y="324648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页脚占位符 4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 Black"/>
                <a:ea typeface="宋体"/>
              </a:rPr>
              <a:t>素彩网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  <a:ea typeface="宋体"/>
              </a:rPr>
              <a:t>-http://www.sc115.com--PPT</a:t>
            </a:r>
            <a:r>
              <a:rPr b="0" lang="zh-CN" sz="800" spc="-1" strike="noStrike">
                <a:solidFill>
                  <a:srgbClr val="ffffff"/>
                </a:solidFill>
                <a:latin typeface="Arial Black"/>
                <a:ea typeface="宋体"/>
              </a:rPr>
              <a:t>模板免费下载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1629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页脚占位符 3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Tahoma"/>
                <a:ea typeface="宋体"/>
              </a:rPr>
              <a:t>素彩网</a:t>
            </a:r>
            <a:r>
              <a:rPr b="1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-http://www.sc115.com--PPT</a:t>
            </a:r>
            <a:r>
              <a:rPr b="1" lang="zh-CN" sz="800" spc="-1" strike="noStrike">
                <a:solidFill>
                  <a:srgbClr val="ffffff"/>
                </a:solidFill>
                <a:latin typeface="Tahoma"/>
                <a:ea typeface="宋体"/>
              </a:rPr>
              <a:t>模板免费下载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1629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ahoma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页脚占位符 3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Tahoma"/>
                <a:ea typeface="宋体"/>
              </a:rPr>
              <a:t>素彩网</a:t>
            </a:r>
            <a:r>
              <a:rPr b="1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-http://www.sc115.com--PPT</a:t>
            </a:r>
            <a:r>
              <a:rPr b="1" lang="zh-CN" sz="800" spc="-1" strike="noStrike">
                <a:solidFill>
                  <a:srgbClr val="ffffff"/>
                </a:solidFill>
                <a:latin typeface="Tahoma"/>
                <a:ea typeface="宋体"/>
              </a:rPr>
              <a:t>模板免费下载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2"/>
          <p:cNvSpPr/>
          <p:nvPr/>
        </p:nvSpPr>
        <p:spPr>
          <a:xfrm>
            <a:off x="152280" y="944640"/>
            <a:ext cx="243864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These are full sized backdrops, just scale them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Can be Copy-Pasted out of Templates for use an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3"/>
          <p:cNvSpPr/>
          <p:nvPr/>
        </p:nvSpPr>
        <p:spPr>
          <a:xfrm>
            <a:off x="2753280" y="93816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itl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4"/>
          <p:cNvSpPr/>
          <p:nvPr/>
        </p:nvSpPr>
        <p:spPr>
          <a:xfrm>
            <a:off x="4343760" y="93816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lid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5887080" y="93816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int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6" descr="animfactory_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14480"/>
            <a:ext cx="2286000" cy="57132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7">
            <a:hlinkClick r:id="rId3"/>
          </p:cNvPr>
          <p:cNvSpPr/>
          <p:nvPr/>
        </p:nvSpPr>
        <p:spPr>
          <a:xfrm>
            <a:off x="457920" y="700200"/>
            <a:ext cx="1508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www.animationfactory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8"/>
          <p:cNvSpPr/>
          <p:nvPr/>
        </p:nvSpPr>
        <p:spPr>
          <a:xfrm>
            <a:off x="457200" y="259092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9"/>
          <p:cNvSpPr/>
          <p:nvPr/>
        </p:nvSpPr>
        <p:spPr>
          <a:xfrm>
            <a:off x="228600" y="2637000"/>
            <a:ext cx="2362320" cy="21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Additional Graphic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cale them up or dow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GIF clipart is anim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JPG clipart can be scaled up and take up little file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PNG clipart can be scaled unusually large without distor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35" descr="little_toot_prt"/>
          <p:cNvPicPr/>
          <p:nvPr/>
        </p:nvPicPr>
        <p:blipFill>
          <a:blip r:embed="rId4"/>
          <a:stretch/>
        </p:blipFill>
        <p:spPr>
          <a:xfrm>
            <a:off x="58672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4" name="Picture 36" descr="little_toot_qx"/>
          <p:cNvPicPr/>
          <p:nvPr/>
        </p:nvPicPr>
        <p:blipFill>
          <a:blip r:embed="rId5"/>
          <a:stretch/>
        </p:blipFill>
        <p:spPr>
          <a:xfrm>
            <a:off x="26668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5" name="Picture 37" descr="little_toot_sld"/>
          <p:cNvPicPr/>
          <p:nvPr/>
        </p:nvPicPr>
        <p:blipFill>
          <a:blip r:embed="rId6"/>
          <a:stretch/>
        </p:blipFill>
        <p:spPr>
          <a:xfrm>
            <a:off x="42670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6" name="Picture 38" descr="saxaphone_blowing_beat_hg_clr"/>
          <p:cNvPicPr/>
          <p:nvPr/>
        </p:nvPicPr>
        <p:blipFill>
          <a:blip r:embed="rId7"/>
          <a:stretch/>
        </p:blipFill>
        <p:spPr>
          <a:xfrm>
            <a:off x="7315200" y="2895480"/>
            <a:ext cx="1666800" cy="333396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39" descr="saxaphone_blowing_hard_hg_clr"/>
          <p:cNvPicPr/>
          <p:nvPr/>
        </p:nvPicPr>
        <p:blipFill>
          <a:blip r:embed="rId8"/>
          <a:stretch/>
        </p:blipFill>
        <p:spPr>
          <a:xfrm>
            <a:off x="5181480" y="2895480"/>
            <a:ext cx="1943280" cy="33339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40" descr="saxaphone_swaying_hg_clr"/>
          <p:cNvPicPr/>
          <p:nvPr/>
        </p:nvPicPr>
        <p:blipFill>
          <a:blip r:embed="rId9"/>
          <a:stretch/>
        </p:blipFill>
        <p:spPr>
          <a:xfrm>
            <a:off x="2895480" y="2895480"/>
            <a:ext cx="2124360" cy="3333960"/>
          </a:xfrm>
          <a:prstGeom prst="rect">
            <a:avLst/>
          </a:prstGeom>
          <a:ln w="0">
            <a:noFill/>
          </a:ln>
        </p:spPr>
      </p:pic>
      <p:sp>
        <p:nvSpPr>
          <p:cNvPr id="569" name="页脚占位符 15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 Black"/>
                <a:ea typeface="宋体"/>
              </a:rPr>
              <a:t>素彩网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  <a:ea typeface="宋体"/>
              </a:rPr>
              <a:t>-http://www.sc115.com--PPT</a:t>
            </a:r>
            <a:r>
              <a:rPr b="0" lang="zh-CN" sz="800" spc="-1" strike="noStrike">
                <a:solidFill>
                  <a:srgbClr val="ffffff"/>
                </a:solidFill>
                <a:latin typeface="Arial Black"/>
                <a:ea typeface="宋体"/>
              </a:rPr>
              <a:t>模板免费下载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7:21:11Z</dcterms:created>
  <dc:creator>Administrator</dc:creator>
  <dc:description/>
  <dc:language>en-US</dc:language>
  <cp:lastModifiedBy>tukj</cp:lastModifiedBy>
  <dcterms:modified xsi:type="dcterms:W3CDTF">2015-07-30T03:51:50Z</dcterms:modified>
  <cp:revision>20</cp:revision>
  <dc:subject/>
  <dc:title>Skyli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