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39F2-368E-4C63-8117-08BF2FF52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B37A-A8B3-498B-9BFA-6F1E687D3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15EF4D-0339-4006-BE3C-3979190F2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A28822-57E4-4425-BB58-B66E658AE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D7BD01-1AF1-4827-84E9-8AAB674BE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34EA07-DA1D-4B1D-BED6-2AE028C34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228673-92FB-402F-B66B-5D01085F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84EC30-057E-430C-92E0-4E0E7A52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3124A1-227D-4D0C-BCDD-24111DD58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C497EF-549F-4CBF-B9C4-F305EB2B7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65D527-EE3F-4F88-9B46-5D87920B1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7B902E-764D-446C-90AA-57408D12F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B49A-02D2-49EF-B179-3D82D1934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B54282-E19D-4B4E-9F24-1A90635AD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DFEB8F-CF9B-469D-B31D-CC54CB9B7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F4EEB3-226C-4BCD-92CB-7A7B8D58B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CF5D7E-6D31-4A43-96B5-AD759B2CB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1C5DFA-CCAD-45C3-A242-396EE5BBB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E02260-ADC2-4F04-BC8B-06B3AACEF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8998E7-4640-4926-A036-DA1FDD6B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C61C54-BA8A-48A0-A939-3C5AE29A1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0202E9-05EF-46AD-9D60-ED958CB5F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C88C09-7E67-4238-AF0B-229DB6748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36F6-A081-4940-9889-7ACE3FA67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8AA8C6-D863-41B4-9B1F-34ECE8F55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06ACB4-1FD9-42A7-9168-4BECE4D9E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40C300-DC6C-403E-85B4-BC0F92EFF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7B394A-F185-4D15-B73A-FA9A82E6D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D1BC12-D867-40AD-B476-E8E27C7C1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625D9B-D8A2-4616-91F7-963FC1EE2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BCC51D-6A18-4604-811C-329586BE5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51108D-4FC9-47DC-9375-83594173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479131-41EF-45C2-BF51-5FA95B096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BB61FC-C2BE-4B79-B1DA-352E0589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6A2A1-75F0-45D1-80A2-9F8CBE52E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870170-D839-402B-B7E8-97DD87774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E56266-AE60-4561-8F64-6AEB12C62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3DF0FE-4424-40BA-8991-3457A584B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42F9BB-1823-4A8A-A35C-B4E590988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195AD6-EEF3-47FF-8F9F-B54793C4B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02B120-86AB-4344-BEE1-0B65D6C8F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94AB8F-0202-4B82-8DB7-87AAD91EF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EDE8A6-7A10-49F7-9F98-387C70EDC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FCA84B-5EE4-40E1-97D5-D825D4700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178043-E0FC-4D29-900C-83E354AEC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1C47B-E7ED-499F-8033-2165A0C93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12A271-9B72-45C0-9961-7DFCFCF59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F3D8BD-B3C5-407C-A1A8-B379CDF56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54EA02-7FB0-434B-BFF4-F5F538527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4D7874-D72C-4393-880A-4F5322CF7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272430-3C4B-4C80-A473-D1B144BD5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846A4-6C3D-4563-9FFA-D93B39BE6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D8E24-0DDB-41DA-B342-76998A94D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9282E-6768-4F14-B963-8DB63C3E5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EC0CE-09FA-4167-B310-1619E4EF1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D42E0-FF66-4DAD-A127-43E26C8A8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1DC7-631A-4606-9254-6DFBA08F5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48FAB-BF11-42AA-827A-58254704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F922C-C03B-4785-B0FB-06D0773DD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56ED1-8DBC-4142-B474-F6799FADA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7B687-BD38-45E3-99D5-256198DD7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00FE1-74A8-428E-B73A-AA73DFF8A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0D281-F12B-4987-8C9D-34B72DD46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3D7CB-80D2-46EB-9F1C-07DFB778E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3609A-E806-4BCB-9D89-E0A978EB3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F9CDC-CACA-4CCD-9F91-8F96F92A9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89120-75DB-41DC-B931-30D57B695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425F-B5D1-4A70-850E-D4163DF9A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ABCC7-8805-4509-BD2C-3481A4007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86400-6EFE-430E-BA3A-05350E61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B4555-4BC9-41A7-8B3F-82FFDF2D9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CCAB2-C9CD-4E41-8A42-07D792FA2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E3059-4F94-43CB-82AF-103ED261C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1624B-55B9-481D-9D62-BA65C47F5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83493-9E16-48AD-B3C1-3D0280F27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6AF08-FFF1-4B93-B314-97BACF0D8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1CF7B-2933-4A60-A2DB-A2BC22BE9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1C7B6-D1A9-4440-A1B1-B2BC7DFD0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2B8B-3161-426C-90B5-2F34A485B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B0684-3B06-4C59-B89F-5D1BD36EA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38DB3-4D95-42AF-AA4A-EFA37D242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54683-CF2E-47B4-A0BD-8C292CD41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52D14-DE9F-4811-A48B-3D73CB58E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65865-F773-4AD6-B2F5-5A673C818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81C7E-7191-4430-9FC2-8B0937D49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06B95-F7BC-4AB0-9A97-E40035F71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898C5-BC9D-483B-9093-A42CB494A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AB325-8460-4173-B2E7-F58242E77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59DB49-BD01-46A6-BC89-A05BCAF9A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C5AC-82F3-47E4-852B-79F118F1B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CA29D1-50D6-414D-9EEB-C1BCEF9F9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AD2A1-C613-4F67-8D29-2BC34D252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169EB-920F-457D-804A-CAFF5A893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9E407-3081-4B90-9C94-9D88F45FA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98382-0CC9-406A-88F7-72971EFDB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D35A80-55FC-42C3-A646-4C9E4B68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B38B48-BCFE-46CC-8466-DAC5C98A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38C66C-6760-4853-BBD6-4D04F1CCB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62436-00E3-4BA7-B2CE-DD626ABA5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FF23E-3260-430F-8C22-BE2086787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1E20-01B7-4F9C-B058-25451F6E8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02A482-D207-4D99-A917-EEEF6C73D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E060E2-904E-4C63-A4D4-90E3ACA42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1151F5-B502-498A-A815-60CB9540E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E963E4-4B66-4055-8BE6-C3F23CA5E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002496-B5B1-4495-96E8-E890A2E42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244DA6-8F74-4D62-B001-47C2B6965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CAE06F-7E34-4112-8B5F-BA493F7B8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E7878E-312E-4472-9995-8D26BB6A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61550A-5840-4204-8627-D1088498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D39836-FE64-471B-90CC-E8515C40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BE7F-4706-4ECA-841F-483655FB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548CD3-218D-48BE-9336-26DFF42E3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E88A69-9AB7-4553-BF5B-AE352A2A0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6B478-AFA4-43E3-B50C-EF883C0DB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C23DED-B209-47C6-B534-E593497A7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D15C21-1533-4E5A-8389-13E703E97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B5EA2D-7D29-44DC-AF24-55E4132A4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EA80E2-5AF4-4B41-A5BD-EB8ADCFEC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4D59DA-CE76-42CB-91DE-72252545B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785B6B-B34C-410C-BF51-EB4199315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43B331-D81D-48C0-B6E4-E4449584E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3A6B-AC45-4F2A-9198-1AB101620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FC48F3-C057-4B0B-BF81-AEB139CC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59B19F-AD73-4F2B-BFCD-FDA06D5ED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3D7D8A-7EB3-4CE2-BB97-CBA46663A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A495DA-FDA1-419D-A4BA-80AF1D960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4E273C-3843-43B1-B3FF-7A574C962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60C746-D2D7-41A8-96F1-94628DFCF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5E9599-C50C-467F-86BE-F3860B158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FBF55F-5138-46DD-80A6-E032C6BDA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C6B032-5CE4-4999-9B1E-2D8953E57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D6909D-254A-48FC-9077-68CB43E57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7FBF-3F37-447C-8392-61207E1A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FA6B98-F45A-44B4-B546-B309523EE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706AAC-4208-44C3-AE03-9A83C8F1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9A7CB0-E1E3-4832-B51C-13EC4B4E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DA8531-03D2-4E91-A74E-B61F0D8B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1ED5AE-E00D-431E-9389-0103D9729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862C9A-DF31-4B01-A8BB-27E826E3B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0C05B2-0C3E-40B1-8DE6-8E8AF5AC9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A8FB7B-9ABC-4DA2-9027-23D23BE70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D1DF23-ED1A-47D3-8C96-58B35D5AE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6DFB44-9A68-427A-9F2F-4A2E8FDF4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7A237-ADB8-4C5A-95CB-7D1FF9056C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2AA17-E681-45EF-AA87-4518A9E0BC5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C816B-B061-4072-8E53-F425BA5E038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75813-1805-4CB4-AE59-DEC1A16CACD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DFDA3-57A0-4F29-8DA1-8DEBA041E37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B9A55-115A-4DBD-AF4D-E811E6ACCD2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985EC-CA32-49DA-A7DB-5D42ACA3655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7F009-3A31-4FBD-A273-CD859F92C8D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DF93F-D9D4-4DD5-ACE0-4BA0090F799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0FA21-98C9-4095-8A79-06CA811D695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BC90D-7352-46A1-8917-CECAB731CD5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67538-0891-475A-8024-F5BFFE243F8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4.jpeg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508720" y="549000"/>
            <a:ext cx="3240000" cy="52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你是特别的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你是最好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者：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Todd  Parr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翻译：艾斯苔尔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修图：歪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5" descr="cover"/>
          <p:cNvPicPr/>
          <p:nvPr/>
        </p:nvPicPr>
        <p:blipFill>
          <a:blip r:embed="rId1"/>
          <a:stretch/>
        </p:blipFill>
        <p:spPr>
          <a:xfrm>
            <a:off x="108000" y="189000"/>
            <a:ext cx="452448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0" y="537372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子大甚至太大也没关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5" descr="okay09"/>
          <p:cNvPicPr/>
          <p:nvPr/>
        </p:nvPicPr>
        <p:blipFill>
          <a:blip r:embed="rId1"/>
          <a:stretch/>
        </p:blipFill>
        <p:spPr>
          <a:xfrm>
            <a:off x="1835280" y="0"/>
            <a:ext cx="521964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0" y="537372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戴眼镜没关系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5" descr="okay10"/>
          <p:cNvPicPr/>
          <p:nvPr/>
        </p:nvPicPr>
        <p:blipFill>
          <a:blip r:embed="rId1"/>
          <a:stretch/>
        </p:blipFill>
        <p:spPr>
          <a:xfrm>
            <a:off x="1908000" y="0"/>
            <a:ext cx="506736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914400" y="570672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和别人说说你的感受没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咕噜咕噜，吼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5" descr="okay11"/>
          <p:cNvPicPr/>
          <p:nvPr/>
        </p:nvPicPr>
        <p:blipFill>
          <a:blip r:embed="rId1"/>
          <a:stretch/>
        </p:blipFill>
        <p:spPr>
          <a:xfrm>
            <a:off x="1979640" y="0"/>
            <a:ext cx="521028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0" y="537372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澡盆里吃芝士和通心粉没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5" descr="okay12"/>
          <p:cNvPicPr/>
          <p:nvPr/>
        </p:nvPicPr>
        <p:blipFill>
          <a:blip r:embed="rId1"/>
          <a:stretch/>
        </p:blipFill>
        <p:spPr>
          <a:xfrm>
            <a:off x="2050920" y="0"/>
            <a:ext cx="501012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0" y="544500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对不好的事儿说不没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5" descr="okay13"/>
          <p:cNvPicPr/>
          <p:nvPr/>
        </p:nvPicPr>
        <p:blipFill>
          <a:blip r:embed="rId1"/>
          <a:stretch/>
        </p:blipFill>
        <p:spPr>
          <a:xfrm>
            <a:off x="1979640" y="0"/>
            <a:ext cx="515304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0" y="551628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偶尔尴尬发窘没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5" descr="okay15"/>
          <p:cNvPicPr/>
          <p:nvPr/>
        </p:nvPicPr>
        <p:blipFill>
          <a:blip r:embed="rId1"/>
          <a:stretch/>
        </p:blipFill>
        <p:spPr>
          <a:xfrm>
            <a:off x="1908000" y="0"/>
            <a:ext cx="519120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0" y="537372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最后一个抵达目的地没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5" descr="okay16"/>
          <p:cNvPicPr/>
          <p:nvPr/>
        </p:nvPicPr>
        <p:blipFill>
          <a:blip r:embed="rId1"/>
          <a:stretch/>
        </p:blipFill>
        <p:spPr>
          <a:xfrm>
            <a:off x="1979640" y="0"/>
            <a:ext cx="506736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0" y="544464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娱自乐地跳舞没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5" descr="okay17"/>
          <p:cNvPicPr/>
          <p:nvPr/>
        </p:nvPicPr>
        <p:blipFill>
          <a:blip r:embed="rId1"/>
          <a:stretch/>
        </p:blipFill>
        <p:spPr>
          <a:xfrm>
            <a:off x="1979640" y="0"/>
            <a:ext cx="511488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0" y="544464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有个蚯蚓宠物没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5" descr="okay18"/>
          <p:cNvPicPr/>
          <p:nvPr/>
        </p:nvPicPr>
        <p:blipFill>
          <a:blip r:embed="rId1"/>
          <a:stretch/>
        </p:blipFill>
        <p:spPr>
          <a:xfrm>
            <a:off x="1908000" y="0"/>
            <a:ext cx="513432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0" y="537336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为自己骄傲没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5" descr="okay19"/>
          <p:cNvPicPr/>
          <p:nvPr/>
        </p:nvPicPr>
        <p:blipFill>
          <a:blip r:embed="rId1"/>
          <a:stretch/>
        </p:blipFill>
        <p:spPr>
          <a:xfrm>
            <a:off x="1979640" y="0"/>
            <a:ext cx="521964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0" y="5516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掉了一颗牙没关系（两颗或三颗也一样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5" descr="okay01"/>
          <p:cNvPicPr/>
          <p:nvPr/>
        </p:nvPicPr>
        <p:blipFill>
          <a:blip r:embed="rId1"/>
          <a:stretch/>
        </p:blipFill>
        <p:spPr>
          <a:xfrm>
            <a:off x="1979640" y="0"/>
            <a:ext cx="505764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0" y="537372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有不同的爸爸妈妈没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5" descr="okay20"/>
          <p:cNvPicPr/>
          <p:nvPr/>
        </p:nvPicPr>
        <p:blipFill>
          <a:blip r:embed="rId1"/>
          <a:stretch/>
        </p:blipFill>
        <p:spPr>
          <a:xfrm>
            <a:off x="1908000" y="0"/>
            <a:ext cx="521028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0" y="54446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你是被收养的没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5" descr="okay21"/>
          <p:cNvPicPr/>
          <p:nvPr/>
        </p:nvPicPr>
        <p:blipFill>
          <a:blip r:embed="rId1"/>
          <a:stretch/>
        </p:blipFill>
        <p:spPr>
          <a:xfrm>
            <a:off x="1763640" y="0"/>
            <a:ext cx="535320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0" y="537372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有个隐形朋友没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5" descr="okay22"/>
          <p:cNvPicPr/>
          <p:nvPr/>
        </p:nvPicPr>
        <p:blipFill>
          <a:blip r:embed="rId1"/>
          <a:stretch/>
        </p:blipFill>
        <p:spPr>
          <a:xfrm>
            <a:off x="1908000" y="0"/>
            <a:ext cx="501048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0" y="551628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乐于助人更加没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5" descr="okay23"/>
          <p:cNvPicPr/>
          <p:nvPr/>
        </p:nvPicPr>
        <p:blipFill>
          <a:blip r:embed="rId1"/>
          <a:stretch/>
        </p:blipFill>
        <p:spPr>
          <a:xfrm>
            <a:off x="1908000" y="0"/>
            <a:ext cx="537228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0" y="54446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丢了手套没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5" descr="okay24"/>
          <p:cNvPicPr/>
          <p:nvPr/>
        </p:nvPicPr>
        <p:blipFill>
          <a:blip r:embed="rId1"/>
          <a:stretch/>
        </p:blipFill>
        <p:spPr>
          <a:xfrm>
            <a:off x="1979640" y="0"/>
            <a:ext cx="510552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0" y="5516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有时发发脾气没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5" descr="okay25"/>
          <p:cNvPicPr/>
          <p:nvPr/>
        </p:nvPicPr>
        <p:blipFill>
          <a:blip r:embed="rId1"/>
          <a:stretch/>
        </p:blipFill>
        <p:spPr>
          <a:xfrm>
            <a:off x="1908000" y="0"/>
            <a:ext cx="519120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0" y="544464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给自己做让自己开心的事儿没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Picture 5" descr="okay26"/>
          <p:cNvPicPr/>
          <p:nvPr/>
        </p:nvPicPr>
        <p:blipFill>
          <a:blip r:embed="rId1"/>
          <a:stretch/>
        </p:blipFill>
        <p:spPr>
          <a:xfrm>
            <a:off x="2050920" y="0"/>
            <a:ext cx="508644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0" y="544500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帮松鼠搜集坚果没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5" descr="okay27"/>
          <p:cNvPicPr/>
          <p:nvPr/>
        </p:nvPicPr>
        <p:blipFill>
          <a:blip r:embed="rId1"/>
          <a:stretch/>
        </p:blipFill>
        <p:spPr>
          <a:xfrm>
            <a:off x="1908000" y="0"/>
            <a:ext cx="522000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0" y="544500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有各种各样的朋友没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5" descr="okay28"/>
          <p:cNvPicPr/>
          <p:nvPr/>
        </p:nvPicPr>
        <p:blipFill>
          <a:blip r:embed="rId1"/>
          <a:stretch/>
        </p:blipFill>
        <p:spPr>
          <a:xfrm>
            <a:off x="1692360" y="0"/>
            <a:ext cx="559116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0" y="537372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偶尔许许愿没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5" descr="okay29"/>
          <p:cNvPicPr/>
          <p:nvPr/>
        </p:nvPicPr>
        <p:blipFill>
          <a:blip r:embed="rId1"/>
          <a:stretch/>
        </p:blipFill>
        <p:spPr>
          <a:xfrm>
            <a:off x="1835280" y="0"/>
            <a:ext cx="540072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0" y="5516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有时候需要别人帮忙没关系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5" descr="okay02"/>
          <p:cNvPicPr/>
          <p:nvPr/>
        </p:nvPicPr>
        <p:blipFill>
          <a:blip r:embed="rId1"/>
          <a:stretch/>
        </p:blipFill>
        <p:spPr>
          <a:xfrm>
            <a:off x="1979640" y="0"/>
            <a:ext cx="504828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0" y="53737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　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与众不同是没有什么关系的。你是特别的，你是重要的，只因为你就是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                                         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　　　　　</a:t>
            </a:r>
            <a:r>
              <a:rPr b="0" i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爱你的，</a:t>
            </a:r>
            <a:r>
              <a:rPr b="0" i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TO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5" descr="okay30"/>
          <p:cNvPicPr/>
          <p:nvPr/>
        </p:nvPicPr>
        <p:blipFill>
          <a:blip r:embed="rId1"/>
          <a:stretch/>
        </p:blipFill>
        <p:spPr>
          <a:xfrm>
            <a:off x="2124000" y="0"/>
            <a:ext cx="501984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矩形 6"/>
          <p:cNvSpPr/>
          <p:nvPr/>
        </p:nvSpPr>
        <p:spPr>
          <a:xfrm>
            <a:off x="3851280" y="2548080"/>
            <a:ext cx="649440" cy="1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0" y="558972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长了与众不同的鼻子没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5" descr="okay03"/>
          <p:cNvPicPr/>
          <p:nvPr/>
        </p:nvPicPr>
        <p:blipFill>
          <a:blip r:embed="rId16"/>
          <a:stretch/>
        </p:blipFill>
        <p:spPr>
          <a:xfrm>
            <a:off x="2050920" y="0"/>
            <a:ext cx="514368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0" y="537336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肤色和别人不一样没关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5" descr="okay04"/>
          <p:cNvPicPr/>
          <p:nvPr/>
        </p:nvPicPr>
        <p:blipFill>
          <a:blip r:embed="rId1"/>
          <a:stretch/>
        </p:blipFill>
        <p:spPr>
          <a:xfrm>
            <a:off x="1908000" y="0"/>
            <a:ext cx="530568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0" y="5516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头上没有头发没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5" descr="okay05"/>
          <p:cNvPicPr/>
          <p:nvPr/>
        </p:nvPicPr>
        <p:blipFill>
          <a:blip r:embed="rId1"/>
          <a:stretch/>
        </p:blipFill>
        <p:spPr>
          <a:xfrm>
            <a:off x="1908000" y="0"/>
            <a:ext cx="518184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0" y="55897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耳朵很大没关系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5" descr="okay06"/>
          <p:cNvPicPr/>
          <p:nvPr/>
        </p:nvPicPr>
        <p:blipFill>
          <a:blip r:embed="rId1"/>
          <a:stretch/>
        </p:blipFill>
        <p:spPr>
          <a:xfrm>
            <a:off x="2050920" y="0"/>
            <a:ext cx="498168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/>
          </p:nvPr>
        </p:nvSpPr>
        <p:spPr>
          <a:xfrm>
            <a:off x="0" y="544464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坐着轮椅没关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5" descr="okay07"/>
          <p:cNvPicPr/>
          <p:nvPr/>
        </p:nvPicPr>
        <p:blipFill>
          <a:blip r:embed="rId1"/>
          <a:stretch/>
        </p:blipFill>
        <p:spPr>
          <a:xfrm>
            <a:off x="1835280" y="0"/>
            <a:ext cx="526716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/>
          </p:nvPr>
        </p:nvSpPr>
        <p:spPr>
          <a:xfrm>
            <a:off x="0" y="5445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子矮小个子中等都没关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5" descr="okay08"/>
          <p:cNvPicPr/>
          <p:nvPr/>
        </p:nvPicPr>
        <p:blipFill>
          <a:blip r:embed="rId1"/>
          <a:stretch/>
        </p:blipFill>
        <p:spPr>
          <a:xfrm>
            <a:off x="1979640" y="0"/>
            <a:ext cx="511488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9T22:12:36Z</dcterms:created>
  <dc:creator>maling</dc:creator>
  <dc:description/>
  <dc:language>en-US</dc:language>
  <cp:lastModifiedBy>lenovo</cp:lastModifiedBy>
  <dcterms:modified xsi:type="dcterms:W3CDTF">2015-08-08T03:32:37Z</dcterms:modified>
  <cp:revision>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