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34563050" cy="25923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096-0F69-45A3-8EE3-07AB64B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2C4-74B3-475C-B41B-153AC5C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8137-0A8B-4F03-B2AD-A6263E15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ECDBD-3594-46C6-B3BC-334E4D3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5DE8-E8A9-49BF-BB71-11742770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63A5D-7C64-418A-B87F-983199A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5C432-6672-4675-90A6-3C34C31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20B95-987B-4105-87DA-B23E126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3E3C-47B1-4F06-BD57-71D0518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C0126-DC6F-4D6C-9010-7F7637F4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61F4E-32C4-488A-8BB0-B7185C11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CB13C-A49B-44C9-9BF5-BAAF7B49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AD1-E544-4823-BC4D-1672D323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0EE51-038A-46FF-8777-489C2A85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FDD0B-4DA7-4320-82B1-72B7141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C71D8-58B9-4230-8AAB-34C6238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165B8-B4B5-48AC-BD13-B801AF6B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F2CA-7566-4416-B930-9BA43CD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DF10F-0ADD-465D-8F56-C1F95AC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02414-6D5E-48BF-84D6-5B38503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63115-8F53-449D-BF59-647A292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8D0D5-8738-4C75-A3FB-2B9003B3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F3621-D955-4C3B-A97D-DF9F989B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8A1-E1FB-4A1A-80C8-13DE7ACD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DB1A1-3AF3-463D-8093-F003C53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9E8EC-6551-4AAC-9205-0AED808C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A9E49-6AA0-4EA6-B59A-6136278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8798D-B5C0-4515-987B-A7C5589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C68D-1FEE-4467-9DFC-A87E3473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803F-71AF-4BBD-994B-5F5C8C5B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D20B-0343-46E6-8C3A-B33A6239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4E4C-EEE5-478B-AEAA-5B67CCB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4CF4-C778-40F8-8594-452EBB9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F95F5-2FF9-40DC-98AB-C473758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075B-9486-4A36-8190-6548CA5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20AD5-6B7E-47F1-9084-7A506F5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8422F-A756-46DD-8EE6-DFF60F2D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BB05-EF98-4B80-B6F4-A6E2498F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5C67D-A2D1-4C61-9509-AC809F45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AB8CC-546C-4726-8C4D-E7B7529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470F3-C7E6-44B6-9588-B9061B2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D47EF-4CFF-40F0-9E34-68590AB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79575-5388-4634-8895-9CD68E1B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6BC66-8099-4CCD-A825-9F08078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A6D94-7A02-45CB-A9CE-943EB85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B37-4260-4B09-9B78-C405EBE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2D9EC-1983-463F-BA2B-B66BB2A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B143-0411-4EEA-B274-10A169E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5F892-A387-4578-BA32-DFC8516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47B7D-CDF9-4AF5-A466-B735DF9D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0BEB9-F693-4A9D-B6D5-6ED20FE5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A73-2006-4AE3-8442-DF11484C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4F5C-B7F9-48F2-9AA2-1BDADB7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962D-5749-4E2A-9149-A947F396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715B-02E1-42B5-B68D-894DBCF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1039-A0F8-495E-8224-CEB7A4D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88A-3FCD-4B1B-810A-5B574CF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779-055C-497B-BCEE-0A023E69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915-9411-46ED-B4B6-E94F97A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771-4FD0-4A24-9871-8771EB9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961-C697-4F68-A797-A3E5E2CC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59E-9B2D-40C1-9899-87B8649D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157B-5D83-443C-9BE9-E779138D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E092-5953-4B43-8EC0-38B00003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364A-C695-4DF7-A28A-62B96DA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A8E4-909B-4688-A62F-DC6131A2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787F-91E0-4674-94D8-4AA0398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FF8-A286-4FD2-8A8E-313A0329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2DE8-E226-4E64-BE2D-3E8DD0CA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3764-E898-4020-9A12-C832B1E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36C0-9AC2-4AB2-A1A5-902F65A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6D6E-1330-4B6C-AC84-3589D43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9611-C399-4321-AEBC-70D8AA1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EB5C-31FE-4079-A6B9-DAB0018C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E3A1-0C9C-4908-84D6-E7B6FE6B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EBDA-52B7-479B-93BF-E38F81F4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11BC-CC23-4221-8761-27B374B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77F2-BF44-4528-95F4-8C00C24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E48-A590-41DD-9571-A861E03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C47B-9F0C-41A1-A7E4-9A20C02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B6B7-033F-40AF-818D-8B13E868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1F72-DC51-443D-9B90-6A13A715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BC22-2B95-4B18-8F36-D59B017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1C96-CBBD-455A-82E8-413AC41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4D7D-92B2-4B6F-A597-461F62F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9B02-73F6-4BF8-B46B-273B05F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991C-7B98-449C-8492-5D718BE5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42CA-1B1C-47AB-8637-37CE1A68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9BCA-3C30-404B-851F-D4E1DAF0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292-0CCC-41FC-A93C-BEA8B94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B8DC-DDC1-4976-9C64-5BEDFA7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6B47-96FA-4A73-A31E-2B0D46D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C5A1-A60E-4727-AC6F-205A82EC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E6992-3EA4-43FC-AB9C-67B1362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0372-58BA-45A5-9445-A2C7C1F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15605-4B22-4929-B80E-A9E3BD9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9FA3-DD7A-447C-A481-FD8070B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ACF42-AF56-45B9-B14F-7271B4A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7BE8-362A-424A-A71C-D3A846A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DB72-5437-468D-B3FF-D0EBE3AA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D40-CFFB-4AD0-8E2F-AFAB75E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28E6-9ADB-4D4F-93B9-A06C11CC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B0F0-34E5-434B-AB44-D730BDC0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EB44-8907-47BA-BB53-299996B7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00DD-F306-46FC-AE7C-84C538D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15B2-618A-4DF8-9213-000C06A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380B-DF9F-4E87-983A-5163DBC5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E569-3270-4AF7-A94F-0EF1E85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836C-3549-47B7-88FB-BFFCAA9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51BE-C3F1-4E72-A6EF-7C23812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47AC-6D9B-4B0A-9919-404E3B6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519-9CE8-4AB7-B97A-FF130B9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C39B-582D-4699-8169-EC97CD40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DB3F-7FCA-4BF1-AB70-A9A583B2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5F39-3FD3-40B3-BC21-E21C8727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2A1B-9C59-49D5-98CB-2602D35E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72DAD-A4CC-46DB-AF02-B34E3D9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6252-E3B5-4C8D-A155-2C298CFC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6472-C6DE-49BD-83D7-99CEC50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09E4-5ABE-4F62-94E7-DFE0736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2F71-1A80-49EA-AA74-A506EBD5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451A-2E7A-4DB1-AB9E-9CE7336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7A4-21F1-429A-AE13-D2BE17B3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40CE-6F1C-4CCA-9809-E672BFB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37B3-BE7B-4F46-88F9-68DA117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6718-46EA-4A60-9D2A-EE6A67F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A52B-AA6A-416B-A7ED-0AAF6B0A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2F70-1B77-42C5-B287-4DB77845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53036-1087-4B4E-B28F-8E210AFA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F2A3-BFDC-4AAD-A6AC-12F2E95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4553-5A23-4809-918D-00D52AB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7FEB-3F59-498A-B663-64A5613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8352-670C-4E3D-9CC7-A775C8D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4B9-EFB7-4E06-9835-C059786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5D830-69D1-4B1B-9993-1C899EA8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F93B-6253-4336-A9D8-368458F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54A1-CBE8-40F2-977F-7447147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00A3-6605-47E2-9949-7DEE62E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6B46-8928-4AE9-BEAB-C65BC68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477DA-25BF-4A83-AB5A-04FEF58F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FE71C-9F38-4EE7-B65D-17185698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3CE62-E51E-48B7-A02D-8227B4B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CC0C4-10AB-400F-954A-4B160F7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838E5-60E0-4DD7-A732-84EE606E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2" marL="4321080" indent="-8650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4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5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6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30160" y="23607360"/>
            <a:ext cx="806292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09080" y="23607360"/>
            <a:ext cx="1094580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771240" y="23607360"/>
            <a:ext cx="806472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lstStyle>
            <a:lvl1pPr indent="0" algn="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fld id="{782725ED-8DB9-4A52-9D05-6C583D1C7E18}" type="slidenum">
              <a:rPr b="0" lang="en-US" sz="5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CFB8-4EBB-4122-8C3E-8C8D5E046198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838-92E5-46FB-82C4-DF061E78A590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D63-024C-4164-81D9-AFC2FC6960A2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zh-CN" sz="4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zh-CN" sz="4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fld id="{D6EA42A8-7FF9-4B3C-8B0B-74B66D56262F}" type="slidenum">
              <a:rPr b="0" lang="zh-CN" sz="4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77E-F77F-418D-88EC-C5A6374BD7D4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BC44-B909-431B-892D-D98EB57C2716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CF51-301D-4232-ADF3-C8948A868D21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7C6-F9D0-4AD3-B572-E1662DE5659C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AB53-A1D8-417A-8D94-D7F2341B527A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6581-F3DD-4AE8-92AE-18D28BD5808C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70C-5B0E-4455-A4C7-525EADF02FBE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会爬的豆子001"/>
          <p:cNvPicPr/>
          <p:nvPr/>
        </p:nvPicPr>
        <p:blipFill>
          <a:blip r:embed="rId1"/>
          <a:stretch/>
        </p:blipFill>
        <p:spPr>
          <a:xfrm>
            <a:off x="7993080" y="0"/>
            <a:ext cx="189514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会爬的豆子010"/>
          <p:cNvPicPr/>
          <p:nvPr/>
        </p:nvPicPr>
        <p:blipFill>
          <a:blip r:embed="rId1"/>
          <a:srcRect l="4536" t="0" r="3765" b="13867"/>
          <a:stretch/>
        </p:blipFill>
        <p:spPr>
          <a:xfrm>
            <a:off x="7345440" y="0"/>
            <a:ext cx="202644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会爬的豆子011"/>
          <p:cNvPicPr/>
          <p:nvPr/>
        </p:nvPicPr>
        <p:blipFill>
          <a:blip r:embed="rId1"/>
          <a:srcRect l="0" t="0" r="2254" b="13867"/>
          <a:stretch/>
        </p:blipFill>
        <p:spPr>
          <a:xfrm>
            <a:off x="5977080" y="0"/>
            <a:ext cx="219628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会爬的豆子012"/>
          <p:cNvPicPr/>
          <p:nvPr/>
        </p:nvPicPr>
        <p:blipFill>
          <a:blip r:embed="rId1"/>
          <a:srcRect l="514" t="3564" r="1984" b="11767"/>
          <a:stretch/>
        </p:blipFill>
        <p:spPr>
          <a:xfrm>
            <a:off x="6048360" y="0"/>
            <a:ext cx="217425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会爬的豆子013"/>
          <p:cNvPicPr/>
          <p:nvPr/>
        </p:nvPicPr>
        <p:blipFill>
          <a:blip r:embed="rId1"/>
          <a:srcRect l="0" t="0" r="0" b="14498"/>
          <a:stretch/>
        </p:blipFill>
        <p:spPr>
          <a:xfrm>
            <a:off x="6192720" y="0"/>
            <a:ext cx="224553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会爬的豆子014"/>
          <p:cNvPicPr/>
          <p:nvPr/>
        </p:nvPicPr>
        <p:blipFill>
          <a:blip r:embed="rId1"/>
          <a:srcRect l="0" t="0" r="2307" b="14735"/>
          <a:stretch/>
        </p:blipFill>
        <p:spPr>
          <a:xfrm>
            <a:off x="7324560" y="0"/>
            <a:ext cx="21280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会爬的豆子015"/>
          <p:cNvPicPr/>
          <p:nvPr/>
        </p:nvPicPr>
        <p:blipFill>
          <a:blip r:embed="rId1"/>
          <a:srcRect l="1850" t="0" r="3283" b="11683"/>
          <a:stretch/>
        </p:blipFill>
        <p:spPr>
          <a:xfrm>
            <a:off x="6146640" y="0"/>
            <a:ext cx="208915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会爬的豆子016"/>
          <p:cNvPicPr/>
          <p:nvPr/>
        </p:nvPicPr>
        <p:blipFill>
          <a:blip r:embed="rId1"/>
          <a:srcRect l="3275" t="0" r="2510" b="12142"/>
          <a:stretch/>
        </p:blipFill>
        <p:spPr>
          <a:xfrm>
            <a:off x="7273800" y="0"/>
            <a:ext cx="202345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会爬的豆子017"/>
          <p:cNvPicPr/>
          <p:nvPr/>
        </p:nvPicPr>
        <p:blipFill>
          <a:blip r:embed="rId1"/>
          <a:srcRect l="2437" t="0" r="2418" b="14576"/>
          <a:stretch/>
        </p:blipFill>
        <p:spPr>
          <a:xfrm>
            <a:off x="6624720" y="0"/>
            <a:ext cx="215024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会爬的豆子018"/>
          <p:cNvPicPr/>
          <p:nvPr/>
        </p:nvPicPr>
        <p:blipFill>
          <a:blip r:embed="rId1"/>
          <a:srcRect l="1779" t="0" r="3256" b="17704"/>
          <a:stretch/>
        </p:blipFill>
        <p:spPr>
          <a:xfrm>
            <a:off x="6915240" y="0"/>
            <a:ext cx="217263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会爬的豆子019"/>
          <p:cNvPicPr/>
          <p:nvPr/>
        </p:nvPicPr>
        <p:blipFill>
          <a:blip r:embed="rId1"/>
          <a:srcRect l="3948" t="0" r="3933" b="14703"/>
          <a:stretch/>
        </p:blipFill>
        <p:spPr>
          <a:xfrm>
            <a:off x="7561440" y="0"/>
            <a:ext cx="207961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会爬的豆子002"/>
          <p:cNvPicPr/>
          <p:nvPr/>
        </p:nvPicPr>
        <p:blipFill>
          <a:blip r:embed="rId1"/>
          <a:srcRect l="7669" t="5003" r="6511" b="19443"/>
          <a:stretch/>
        </p:blipFill>
        <p:spPr>
          <a:xfrm>
            <a:off x="9001080" y="3313080"/>
            <a:ext cx="16129080" cy="195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会爬的豆子020"/>
          <p:cNvPicPr/>
          <p:nvPr/>
        </p:nvPicPr>
        <p:blipFill>
          <a:blip r:embed="rId1"/>
          <a:srcRect l="1873" t="0" r="2602" b="14190"/>
          <a:stretch/>
        </p:blipFill>
        <p:spPr>
          <a:xfrm>
            <a:off x="7129440" y="0"/>
            <a:ext cx="211406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会爬的豆子021"/>
          <p:cNvPicPr/>
          <p:nvPr/>
        </p:nvPicPr>
        <p:blipFill>
          <a:blip r:embed="rId1"/>
          <a:srcRect l="2952" t="0" r="1460" b="15658"/>
          <a:stretch/>
        </p:blipFill>
        <p:spPr>
          <a:xfrm>
            <a:off x="7056360" y="0"/>
            <a:ext cx="21775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会爬的豆子022"/>
          <p:cNvPicPr/>
          <p:nvPr/>
        </p:nvPicPr>
        <p:blipFill>
          <a:blip r:embed="rId1"/>
          <a:srcRect l="2621" t="0" r="4114" b="14735"/>
          <a:stretch/>
        </p:blipFill>
        <p:spPr>
          <a:xfrm>
            <a:off x="6305400" y="0"/>
            <a:ext cx="207709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会爬的豆子023"/>
          <p:cNvPicPr/>
          <p:nvPr/>
        </p:nvPicPr>
        <p:blipFill>
          <a:blip r:embed="rId1"/>
          <a:srcRect l="2710" t="2063" r="513" b="14190"/>
          <a:stretch/>
        </p:blipFill>
        <p:spPr>
          <a:xfrm>
            <a:off x="6740640" y="0"/>
            <a:ext cx="226854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会爬的豆子024"/>
          <p:cNvPicPr/>
          <p:nvPr/>
        </p:nvPicPr>
        <p:blipFill>
          <a:blip r:embed="rId1"/>
          <a:srcRect l="5009" t="0" r="2745" b="13498"/>
          <a:stretch/>
        </p:blipFill>
        <p:spPr>
          <a:xfrm>
            <a:off x="7129440" y="0"/>
            <a:ext cx="203850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会爬的豆子025"/>
          <p:cNvPicPr/>
          <p:nvPr/>
        </p:nvPicPr>
        <p:blipFill>
          <a:blip r:embed="rId1"/>
          <a:srcRect l="3090" t="0" r="4527" b="14498"/>
          <a:stretch/>
        </p:blipFill>
        <p:spPr>
          <a:xfrm>
            <a:off x="7056360" y="0"/>
            <a:ext cx="208663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会爬的豆子003"/>
          <p:cNvPicPr/>
          <p:nvPr/>
        </p:nvPicPr>
        <p:blipFill>
          <a:blip r:embed="rId1"/>
          <a:srcRect l="0" t="10832" r="0" b="14445"/>
          <a:stretch/>
        </p:blipFill>
        <p:spPr>
          <a:xfrm>
            <a:off x="4141800" y="0"/>
            <a:ext cx="256395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会爬的豆子004"/>
          <p:cNvPicPr/>
          <p:nvPr/>
        </p:nvPicPr>
        <p:blipFill>
          <a:blip r:embed="rId1"/>
          <a:srcRect l="2540" t="0" r="1383" b="15003"/>
          <a:stretch/>
        </p:blipFill>
        <p:spPr>
          <a:xfrm>
            <a:off x="6192720" y="0"/>
            <a:ext cx="212648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会爬的豆子005"/>
          <p:cNvPicPr/>
          <p:nvPr/>
        </p:nvPicPr>
        <p:blipFill>
          <a:blip r:embed="rId1"/>
          <a:srcRect l="0" t="0" r="2966" b="13867"/>
          <a:stretch/>
        </p:blipFill>
        <p:spPr>
          <a:xfrm>
            <a:off x="6192720" y="0"/>
            <a:ext cx="22099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会爬的豆子006"/>
          <p:cNvPicPr/>
          <p:nvPr/>
        </p:nvPicPr>
        <p:blipFill>
          <a:blip r:embed="rId1"/>
          <a:srcRect l="1372" t="0" r="604" b="12780"/>
          <a:stretch/>
        </p:blipFill>
        <p:spPr>
          <a:xfrm>
            <a:off x="6624720" y="0"/>
            <a:ext cx="212994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会爬的豆子007"/>
          <p:cNvPicPr/>
          <p:nvPr/>
        </p:nvPicPr>
        <p:blipFill>
          <a:blip r:embed="rId1"/>
          <a:srcRect l="370" t="0" r="1782" b="12223"/>
          <a:stretch/>
        </p:blipFill>
        <p:spPr>
          <a:xfrm>
            <a:off x="6699240" y="0"/>
            <a:ext cx="215740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会爬的豆子008"/>
          <p:cNvPicPr/>
          <p:nvPr/>
        </p:nvPicPr>
        <p:blipFill>
          <a:blip r:embed="rId1"/>
          <a:srcRect l="2639" t="0" r="1100" b="11391"/>
          <a:stretch/>
        </p:blipFill>
        <p:spPr>
          <a:xfrm>
            <a:off x="6985080" y="0"/>
            <a:ext cx="207230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"/>
          <p:cNvSpPr/>
          <p:nvPr/>
        </p:nvSpPr>
        <p:spPr>
          <a:xfrm>
            <a:off x="18722880" y="15554160"/>
            <a:ext cx="6476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会爬的豆子009"/>
          <p:cNvPicPr/>
          <p:nvPr/>
        </p:nvPicPr>
        <p:blipFill>
          <a:blip r:embed="rId16"/>
          <a:srcRect l="1123" t="4171" r="1932" b="13614"/>
          <a:stretch/>
        </p:blipFill>
        <p:spPr>
          <a:xfrm>
            <a:off x="6408720" y="0"/>
            <a:ext cx="226839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4:40:52Z</dcterms:created>
  <dc:creator>新教育</dc:creator>
  <dc:description/>
  <dc:language>en-US</dc:language>
  <cp:lastModifiedBy>User</cp:lastModifiedBy>
  <dcterms:modified xsi:type="dcterms:W3CDTF">2015-08-01T03:28:2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