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8D2-8467-435D-9F76-7400F16D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D45-C926-4A9E-B82D-0D6D7108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7B7-F8EB-4EE4-8C5A-BC6F0A05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473-6922-4547-804F-36D29740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9DC6-28D6-4FF3-A742-DF69A61A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1BF2-9A42-4419-B4FE-028B1A4E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C1D4-CD8E-4505-B1AC-9AD59B01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E76A-081D-411A-9AC5-B1591BE0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1FCB-285A-49EA-AD29-E8785C21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D7CE-447D-4969-9BE0-503287DF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4A6C-9ADC-4F0F-825A-96F59711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7CA-90CA-46ED-8B89-9A0ADA2B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4F3E-1977-4DEE-84C1-81E0B6A6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6BF5-1067-4D57-9D81-C6D7CD2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E647-404B-4D70-B156-8946B612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B480-54B3-4FB7-A487-B1B12BD5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5BFF-30B1-45E8-A6B0-F6C143A0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F61-D032-491C-AEE3-E036E337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58F-CBAB-4B5C-B142-C57B9FC5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43C-8035-4070-932D-C9E65D46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DAE-C46F-4801-B3DD-71D150C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DB8-B6F6-438D-9851-C5E2F39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30E-6BCB-496C-B7B2-9C1A3E9A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3E5-B4CF-4230-B836-A18B12A5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C37F-721D-4E88-829E-0171F5FDC7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F113-D5A2-4FC6-93B8-683DE1C798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170160" y="2998800"/>
            <a:ext cx="30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845160" y="39988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信息咨询及相关企业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311000" y="2198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559400" y="3398760"/>
            <a:ext cx="1708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0" y="3809880"/>
            <a:ext cx="2016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0:44:18Z</dcterms:created>
  <dc:creator>锐普</dc:creator>
  <dc:description/>
  <dc:language>en-US</dc:language>
  <cp:lastModifiedBy>meina</cp:lastModifiedBy>
  <dcterms:modified xsi:type="dcterms:W3CDTF">2015-07-01T03:17:44Z</dcterms:modified>
  <cp:revision>27</cp:revision>
  <dc:subject/>
  <dc:title>信息咨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