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372-CD04-4810-87DD-45843F1E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816-52D1-428C-AF8D-BF1E4EF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2F127-87AA-4ACD-9C7F-93662644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2F9D1-F82C-468E-BD30-E8084773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27D35-7B16-4DA1-9A8A-B804704C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8773F-F782-4C5B-8B9C-453A84A0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BDE73-5412-46FB-89D5-127FE94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DF5BB-E09C-464B-82B6-E1486655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6D321-424D-4B32-A42A-5342EDED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62999-7DE7-4D9E-B8D3-34DFCF46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79299-CFC1-4E3A-82B5-E5AF752E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823EA-0583-4E56-BA92-F5C64392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94A-8464-4FAC-ACC0-C3DE11CA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BCE69-9E99-4B7F-839D-070D4E20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90564-4084-40A0-AAD1-B265018E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EC49E-98D5-4144-8CDB-42FAC9EF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67D8C-0FE8-4CC6-AE02-141E1C8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81EC9-A7DE-4C21-9FD7-2C1F1224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AD3AA-E16B-410F-B2C3-AA07AFCD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23FE9-722C-4044-9B4F-760ED693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E8896-7CAA-4FE3-ADC4-AB43A908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F1029-8EAB-479C-A242-1CBD4979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6E121-7901-4B56-8DC8-8E7C981C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976-3AEA-4C0A-A33C-43EC6058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70D3D-5F7F-400F-B1FF-3FBE56CE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3E5F5-69A7-4A28-8FDF-4A5971DF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BE882-348C-413A-AA9F-023DCC47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49F91-6ADC-4A28-9B96-D37996A7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9B2C9-4774-4396-92B6-5F7F65E1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39864-3918-40CB-A3F6-115267B6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221F5-C56A-4280-BA17-68D2193F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A863E-2299-478B-B36C-D30DC777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A9BC7-FDA3-418A-B11B-0DD07E8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C1C87-0BFF-46FF-9F84-2C39B91F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8C3E-9EE1-4DEF-92E6-FC11C9D7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251AF-2FAE-4FD1-AD24-53704DAB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D608E-9993-4A06-9A3F-F24F676D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2DE89-080A-47F0-93BD-F9D721D6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5EAF2-8DA7-4BDE-BD4F-AF05E525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FCECA-ECFB-44BD-B615-69EFA6F9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7213B-B454-4703-AFAF-01E4F663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82E4D-C723-4180-B513-DDEC8DFD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7EDA1-82C6-4FB6-BE15-ABAF3B9A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75EC4-E799-4866-8D25-46BC4E52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DC376-9EEB-47B2-A5B7-49A30CE6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0D44-8E46-46CC-84D7-D81AEDE6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C6F77-0233-4D52-B1A9-91D2DDA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69F0B-B30A-47B4-A891-3E2E9263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B5D9F-80A9-4D89-B91C-E52EE812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BA2A3-1EFA-4138-A3BB-26CA378C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0C0EF-E6E7-40C7-A1E0-5B5F19D7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0540-62E7-42ED-A7DC-E5787F13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0B7E-ADD5-402A-944D-863FEDE2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B567-AAA8-400D-91CB-80C0F35B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B1A0-2CE1-44C4-B9FC-357FA294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89C8-757F-46D4-B608-CD6C90A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C9A-A533-4D2B-B01D-ABE30202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5705-C7D3-49E1-AD9F-643C9C4F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637A-7592-4D3A-82F7-777436B8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A5A9-2AEE-438F-8B07-75C90E76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DC71-25B9-40E0-8795-1E3FE377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A0C4-6587-4F86-807B-E729A901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0302-AED9-45D2-9294-43552E86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E02E-E6F4-4D4E-9B24-2C59EB1A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2E5E-7F1F-4ED0-B3FD-F7418669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EE64C-204C-40FD-8C89-8BA55A93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5D98-61FB-46B5-819C-045A6D34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58C-8F57-4E12-A332-87472B74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64B5-8D9C-4757-AF62-B7EDE053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F814-3CFF-4E40-A950-03E9B913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7538-9EBE-4226-8CD3-569C6394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1AC1-C40D-482C-AFF5-067A81AC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7001-5F4D-4974-AB8E-806DAD39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7799B-0224-48F9-9CC5-E65038E3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3B8F-6EE6-4E89-873C-92390ABE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5ED2-84B9-46F2-9D6B-7EAB81F3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5DFA-8CD6-493B-A108-12A82C6D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68F9-65C7-40C5-A892-2C0592AE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4F4-7A95-4B06-BD44-3B84728E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90E8-3F14-4A68-B5E2-FDE046AB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F7D3-2251-4011-90A0-50C04167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9994-D3AE-45F2-A9BF-D2E78482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E498-2BED-440F-B863-4B632640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C637-88E5-421B-8FB1-6CA7755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D8D2-659C-4B72-88C0-A6CC653F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2AC7-EE7C-4D9F-A905-957169FB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006F-05F0-4A65-B030-5D5D0876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66F9F-0ED3-46D5-9AA1-8D39148F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03479-B323-49F4-912C-2F236CBE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4C1-F362-4E7B-8585-BCF43C34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DB154-56EC-46BE-88BA-3261C90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9FA5D-E5E1-425C-989F-6B64E725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6B7A8-5D5A-411D-873D-54B73C07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20EFB-162D-44D2-858E-B0C54DA7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AAB8-D84A-4DB2-AE01-0199A1D2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AF127-D52C-4023-B449-92C41DCA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BBB7D-A578-4DA6-907A-7CC469EB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B3EAB-FF56-4628-BF23-8C51B331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9C95-C155-4BE2-98A7-777C9F5E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C989-475D-4A07-A366-732CAC53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238-F6BB-442A-80B3-DD811E4D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75153-80A9-4FB5-ABC0-826B0305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95990-C701-4EC7-84F1-086B515B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69A5F-84DB-4E42-B6EB-B79DE001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83388-DE0D-4A34-BD97-58DCDADC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45BE8-0475-49B6-A2AB-F4ADB565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8F435-A702-4A10-82E2-2CB47664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7994-1887-4B0F-9F96-31023BA0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2410-1BD7-4A9B-9BA6-27C69C25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196F-D5A0-4E3F-89BF-61E9BA0D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6C8A-2DF8-4260-A4E7-F4B1BB71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F9A-4085-4CF5-AD09-F145147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4A2C5-24E1-49FD-9445-FBAC76AB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FBF04-3C61-478E-96FF-58F7CA68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342DA-2E9F-4CDC-8A49-941CEC6F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AE19-A5A1-4BA2-B51A-1AB2278B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2C85B-C43E-4DDE-8D2D-5DBE29BF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2978A-67E9-4FF0-B354-DB799E4F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C5A4-C4DB-4792-8411-65C01F72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834CA-25DC-4E4C-AE44-490C01D5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F51BF-0328-4224-B1E9-ED1794E5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5BEA5-8A2A-4F65-AFEC-543C4B1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6D6-55DB-4EFE-ADA7-C1D18AAD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B8CD0-14BE-42BF-85C5-62A792B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140AB-8E39-4B33-9AD7-F331AF18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CD0F-3D94-4FB6-8E21-F5EFFCF3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5B56-ADE2-416F-956B-086FEF52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928A3-8755-4FA3-ABB3-FADF2E21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3E7E6-3394-4C7B-A46C-9BA3B324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EE369-CDD9-4372-AAB9-04346EAF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4A163-4803-424C-A022-2B63BE14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3B073-EF58-49E0-85B5-EB2BC0B4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163D2-3EB1-4EFE-9046-082B36E8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8E5-0AC5-49A5-8E83-C8AD9EE4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D47A1-63CC-4843-94B4-7DAF37FC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B3968-2F43-40F8-AC74-4378C42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36F43-8272-4145-918B-A30561E7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414DE-803C-49C6-A767-23951ACA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1CD3D-1030-487C-A4BB-4EAA5477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C0281-627B-421E-A370-FCDD01B3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1ABAE-9B04-4CF4-9675-B7885505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D082D-CBDC-4F87-B967-93D2A755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D6CBC-C23A-4CEA-BA82-8CD320FD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C37DD-59A5-4889-BB29-23A5F08D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23314914-AF76-461D-AAFF-45F64E6881F4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06A7-ABB2-40BD-A7B6-0AAFFDAA00C8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06F0-6112-4151-9328-3D58C1CF2C72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0878-4199-4654-AEF8-5B378C2B9550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fld id="{DD7354A4-A5BB-4A43-B095-49EA3986737A}" type="slidenum">
              <a:rPr b="0" lang="zh-CN" sz="2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F8D5-74A8-465D-B62C-97CCB333A5EA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A9DD-5EC0-490F-AF99-586052904DE8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AE27-5182-40E9-83C3-825C3AE496CF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912A-D91E-4970-B5D9-8B97A30FC5AE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BB0E-A9FE-46F0-AE9C-22373B8B2E55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01E3-4F59-4929-8E29-5B7BD1E7F999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1B79-5B9C-4559-B189-BE44F40E28B1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3330720" y="-7920"/>
            <a:ext cx="10377360" cy="12246120"/>
          </a:xfrm>
          <a:prstGeom prst="rect">
            <a:avLst/>
          </a:prstGeom>
          <a:ln w="0">
            <a:noFill/>
          </a:ln>
        </p:spPr>
      </p:pic>
      <p:sp>
        <p:nvSpPr>
          <p:cNvPr id="493" name="矩形 4"/>
          <p:cNvSpPr/>
          <p:nvPr/>
        </p:nvSpPr>
        <p:spPr>
          <a:xfrm>
            <a:off x="4946760" y="12283920"/>
            <a:ext cx="30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0" y="1406520"/>
            <a:ext cx="17281440" cy="99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6" descr=""/>
          <p:cNvPicPr/>
          <p:nvPr/>
        </p:nvPicPr>
        <p:blipFill>
          <a:blip r:embed="rId1"/>
          <a:stretch/>
        </p:blipFill>
        <p:spPr>
          <a:xfrm>
            <a:off x="0" y="1655640"/>
            <a:ext cx="17281440" cy="972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6" descr=""/>
          <p:cNvPicPr/>
          <p:nvPr/>
        </p:nvPicPr>
        <p:blipFill>
          <a:blip r:embed="rId1"/>
          <a:stretch/>
        </p:blipFill>
        <p:spPr>
          <a:xfrm>
            <a:off x="0" y="1419120"/>
            <a:ext cx="17281440" cy="995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5"/>
          <p:cNvSpPr/>
          <p:nvPr/>
        </p:nvSpPr>
        <p:spPr>
          <a:xfrm>
            <a:off x="1871640" y="60483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6" descr=""/>
          <p:cNvPicPr/>
          <p:nvPr/>
        </p:nvPicPr>
        <p:blipFill>
          <a:blip r:embed="rId16"/>
          <a:stretch/>
        </p:blipFill>
        <p:spPr>
          <a:xfrm>
            <a:off x="0" y="1728720"/>
            <a:ext cx="17281440" cy="95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"/>
          <p:cNvPicPr/>
          <p:nvPr/>
        </p:nvPicPr>
        <p:blipFill>
          <a:blip r:embed="rId1"/>
          <a:stretch/>
        </p:blipFill>
        <p:spPr>
          <a:xfrm>
            <a:off x="0" y="1584360"/>
            <a:ext cx="17281440" cy="97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6" descr=""/>
          <p:cNvPicPr/>
          <p:nvPr/>
        </p:nvPicPr>
        <p:blipFill>
          <a:blip r:embed="rId1"/>
          <a:stretch/>
        </p:blipFill>
        <p:spPr>
          <a:xfrm>
            <a:off x="0" y="1584360"/>
            <a:ext cx="17281440" cy="96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5111640" y="2664000"/>
            <a:ext cx="7415280" cy="80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0" y="1655640"/>
            <a:ext cx="17281440" cy="965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8426520" y="1801800"/>
            <a:ext cx="7770600" cy="9171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>
            <a:off x="503280" y="1874880"/>
            <a:ext cx="7772400" cy="917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6" descr=""/>
          <p:cNvPicPr/>
          <p:nvPr/>
        </p:nvPicPr>
        <p:blipFill>
          <a:blip r:embed="rId1"/>
          <a:stretch/>
        </p:blipFill>
        <p:spPr>
          <a:xfrm>
            <a:off x="0" y="1584360"/>
            <a:ext cx="17281440" cy="97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6" descr=""/>
          <p:cNvPicPr/>
          <p:nvPr/>
        </p:nvPicPr>
        <p:blipFill>
          <a:blip r:embed="rId1"/>
          <a:stretch/>
        </p:blipFill>
        <p:spPr>
          <a:xfrm>
            <a:off x="604800" y="1584360"/>
            <a:ext cx="16081560" cy="97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"/>
          <p:cNvPicPr/>
          <p:nvPr/>
        </p:nvPicPr>
        <p:blipFill>
          <a:blip r:embed="rId1"/>
          <a:stretch/>
        </p:blipFill>
        <p:spPr>
          <a:xfrm>
            <a:off x="0" y="1655640"/>
            <a:ext cx="17281440" cy="965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"/>
          <p:cNvPicPr/>
          <p:nvPr/>
        </p:nvPicPr>
        <p:blipFill>
          <a:blip r:embed="rId1"/>
          <a:stretch/>
        </p:blipFill>
        <p:spPr>
          <a:xfrm>
            <a:off x="0" y="1800360"/>
            <a:ext cx="17281440" cy="93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"/>
          <p:cNvPicPr/>
          <p:nvPr/>
        </p:nvPicPr>
        <p:blipFill>
          <a:blip r:embed="rId1"/>
          <a:stretch/>
        </p:blipFill>
        <p:spPr>
          <a:xfrm>
            <a:off x="0" y="1450800"/>
            <a:ext cx="17281440" cy="985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7:12:27Z</dcterms:created>
  <dc:creator>新教育</dc:creator>
  <dc:description/>
  <dc:language>en-US</dc:language>
  <cp:lastModifiedBy>User</cp:lastModifiedBy>
  <dcterms:modified xsi:type="dcterms:W3CDTF">2015-08-01T01:55:25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