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7C4-C25F-41AE-BD1C-9AF9FFEE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0F2-AB6C-4D67-9A30-01C421F9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845-ECC7-4B5D-8B63-8F10C691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260-0EB6-44E3-9D91-D5F71D04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4C7D-4F88-4333-B4B1-DCFEF3A6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FA67-002B-49E0-970B-83F3D6A4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BC5A-E94C-4A92-B85C-833641D8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D6DB-1AFE-441F-9EEF-803ECCFD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4B7A-5F25-4EC1-B732-EA6DF60A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9642-9121-4D92-BA6B-D01F4CF8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D42C-FC11-4C8A-9992-4E15E259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6CB-FCA5-4315-B229-C749B44F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1589-AEFC-4995-8FBD-870BAE94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F78E-4565-4906-84B5-ADA4E947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8835-CA6C-454C-930E-24705A4D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D883-E81F-49C9-B312-E8DEA5B4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C3DE-E368-4931-8FC0-D7B22550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6BF5-2DA4-4B6D-AB15-E5ED6F2B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177A-3F58-48A4-8B1E-DF180341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A79F-077A-4D53-BE0B-2B16EBF8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64E7-C2EA-49A5-82B1-ECF03B40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975B-1330-4B3C-82E7-2B9621EE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C6D-E220-44B0-9F67-6D3A8F2C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874C1-4F0E-43FD-96BB-0A66391C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E7E7-B281-4B8E-AE73-E947AB86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65021-16B8-4AA5-891E-264430C9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0B73B-2814-4333-9A05-2AF8F474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0A2EC-BF04-4676-AC5B-73EFE7F1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E0BC-A49E-4D49-8F95-6EAFA636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4C69C-27D9-4DBE-ADFB-71E314A3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E7B-BF0F-4642-AB02-F117BF17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226-A5E2-4960-8B47-28910B19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710-64CA-4473-8354-5356DEE6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678-5EA0-4E4F-92F4-BA87DF4B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ABC-311B-4271-8F5E-F28787B8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3AF-96CE-47AF-8728-D7BC232E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7FA6-7454-4D90-993C-6BCA59B761E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2BF8-8BBE-470C-8CE4-D112C8FF6DE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10.png"/>
          <p:cNvPicPr/>
          <p:nvPr/>
        </p:nvPicPr>
        <p:blipFill>
          <a:blip r:embed="rId3"/>
          <a:stretch/>
        </p:blipFill>
        <p:spPr>
          <a:xfrm>
            <a:off x="108000" y="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3778-F1D8-4352-BD2B-EE64DFEB014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7068-94D1-43B6-B44C-D1C8E842992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CA32-D12F-4D54-B3B6-1F7ED59EEAEE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E751-C63C-4028-8DEB-FF3F58FDEF97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7" descr="10.png"/>
          <p:cNvPicPr/>
          <p:nvPr/>
        </p:nvPicPr>
        <p:blipFill>
          <a:blip r:embed="rId2"/>
          <a:stretch/>
        </p:blipFill>
        <p:spPr>
          <a:xfrm>
            <a:off x="108000" y="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5" descr=""/>
          <p:cNvPicPr/>
          <p:nvPr/>
        </p:nvPicPr>
        <p:blipFill>
          <a:blip r:embed="rId4"/>
          <a:stretch/>
        </p:blipFill>
        <p:spPr>
          <a:xfrm>
            <a:off x="2124000" y="2513160"/>
            <a:ext cx="4708440" cy="12762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6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4575240" cy="385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9"/>
          <p:cNvSpPr/>
          <p:nvPr/>
        </p:nvSpPr>
        <p:spPr>
          <a:xfrm>
            <a:off x="939240" y="1775880"/>
            <a:ext cx="3609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钩沉党史之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939240" y="1775880"/>
            <a:ext cx="3609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钩沉党史之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4301640" y="1775880"/>
            <a:ext cx="3609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追寻辉煌瞬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4301640" y="1775880"/>
            <a:ext cx="3609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追寻辉煌瞬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4479840" y="417528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75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0">
                                  <p:stCondLst>
                                    <p:cond delay="75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23" presetSubtype="16">
                                  <p:stCondLst>
                                    <p:cond delay="75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750"/>
                            </p:stCondLst>
                            <p:childTnLst>
                              <p:par>
                                <p:cTn id="33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">
                                  <p:stCondLst>
                                    <p:cond delay="75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0">
                                  <p:stCondLst>
                                    <p:cond delay="75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23" presetSubtype="16">
                                  <p:stCondLst>
                                    <p:cond delay="75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2:45:00Z</dcterms:created>
  <dc:creator>Administrator</dc:creator>
  <dc:description/>
  <dc:language>en-US</dc:language>
  <cp:lastModifiedBy>lenovo</cp:lastModifiedBy>
  <dcterms:modified xsi:type="dcterms:W3CDTF">2015-06-26T02:52:51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