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6E64-34E9-4C90-80A3-9A530DC20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360" y="399348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8DBF-B560-4CDF-A6D8-D477A3F85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85400" y="162828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6E8AD9-EA2C-45C8-814E-DE3F01FEB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84DAD6-64CF-47B6-AF64-48CF998EB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03B42C-9502-4F31-B2F4-918E57AC6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85400" y="162828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8360" y="39934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9A105E-F200-4C14-82DB-884643AC9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85400" y="16282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85400" y="39934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1F96F2-3B42-4872-9E9E-ED7E8DEE0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85400" y="16282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8360" y="399348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5C8826-BDFF-4C65-8D15-DCB05B956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8360" y="399348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E798CA-0B8B-4F55-B822-D29C41956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85400" y="16282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8360" y="39934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85400" y="39934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62A868-E904-4119-97D3-7693135AB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50800" y="162828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33240" y="162828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8360" y="399348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50800" y="399348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33240" y="399348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70BCAB-DCA2-47A0-8355-4053B5B38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23F5A1-81A6-4913-A40C-51238EDFF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5400" y="16282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8360" y="39934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5400" y="39934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93D1-004B-4ECD-8531-C15591E3D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68360" y="162828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0DA0DB-B36F-4326-BD6B-76BD8D53A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0F94F4-5F38-4438-8058-D24145B22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85400" y="162828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B7E6DB-954E-4A10-9534-2EBBDF410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A9F5DF-C8E8-4CF2-B36E-F6B0BF38E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A4DF67-C9A8-42F1-8325-753DCF7CE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85400" y="162828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8360" y="39934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708C36-D93F-49F2-AF33-2699E2E6B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85400" y="16282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85400" y="39934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DCF6CB-8F6A-436D-9FE7-0CF773C64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85400" y="16282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8360" y="399348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1C4BF9-78E0-410B-97A6-762DE2643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8360" y="399348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B4B616-3912-4E4C-9615-6E56620BC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85400" y="16282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8360" y="39934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85400" y="39934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A2DD5D-2892-44EF-9528-0F55AF345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50800" y="162828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3240" y="162828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8360" y="399348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50800" y="399348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3240" y="399348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A0C5-2E9A-4128-B7AF-81A943D74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50800" y="162828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33240" y="162828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8360" y="399348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50800" y="399348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33240" y="399348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FF9CC8-7198-4D5D-B6C8-B5045796B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EF67B3-8C1A-493D-B188-984BA4A51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468360" y="162828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934124-F042-4A3A-96E7-A7025F417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C2A58D-92AE-41CF-B954-1F3C50ECC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85400" y="162828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3552A0-B1FF-4157-8800-340DF7132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67893B-EAF5-4F96-9FE0-CCC8B5477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E0FC74-EEC4-4FEA-869F-AF07592C8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85400" y="162828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8360" y="39934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3B4E48-1704-42B4-860C-928BE88D6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85400" y="16282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85400" y="39934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61AADC-6897-49EE-A6F7-05466FAA7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85400" y="16282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8360" y="399348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931059-B46B-4833-97CB-400FADD3A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6C502-7D33-4F5B-B83C-03AF29969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8360" y="399348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9829BB-A911-4FAE-B9FA-A82538EC2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85400" y="16282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8360" y="39934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85400" y="39934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B6904F-EB0E-4AD8-A99F-8FDD032A1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250800" y="162828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33240" y="162828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8360" y="399348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250800" y="399348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33240" y="399348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605CAE-9F78-4DDB-99A5-8DED1F046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6BD92C-DAA1-49C8-BC48-6A39E81E1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68360" y="162828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DD7551-02C8-46F9-90FF-E6CBE3D8A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D98E99-EA12-4CFB-AEBB-EA97F4F5E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85400" y="162828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441224-CD3B-46FD-A5D4-D45B60DCC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133883-6ED6-4224-AD89-6489523DC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15D19F-EA41-4038-BBD8-5FC7D2E9A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85400" y="162828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8360" y="39934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1549E1-9C46-457E-9936-488766468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68360" y="162828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9C4B8-8FA8-4C52-A496-44F420DD2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85400" y="16282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85400" y="39934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E3BC4E-E0AF-49E9-80F0-69BB18A98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85400" y="16282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8360" y="399348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062BEF-7841-4977-B67F-20A10AD48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8360" y="399348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6F8A40-68C9-45B9-8B3F-FC6ACCBBA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85400" y="16282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8360" y="39934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85400" y="39934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A12554-25B4-427D-A35B-43D7C5155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50800" y="162828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33240" y="162828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8360" y="399348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50800" y="399348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33240" y="399348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2916B1-179B-455B-B38E-54A4088EE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6CB6A1-2736-4150-8D3A-12FD8E7FC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468360" y="162828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45253E-BA3F-4ABB-ABE4-A04B8F328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E96135-CD3E-413F-8AED-EF71BD144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85400" y="162828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33CAF3-07AD-48B6-8A24-43F3722DA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E71AFB-EAFE-4844-A933-0C88CD3EE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B26C6-80AA-4604-9EE6-F6C1E9742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826EF5-D729-4623-84A0-4F02E702C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85400" y="162828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8360" y="39934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13A9FE-AEBC-452B-893B-8E0C0034F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85400" y="16282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85400" y="39934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97A33A-1A1B-4750-93F2-4D34F4973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85400" y="16282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8360" y="399348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409245-C1E7-44B8-A451-BB303F55D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8360" y="399348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CF2C09-9245-4C44-BF1F-14306E6EE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85400" y="16282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8360" y="39934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85400" y="39934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D27ECA-8437-46C8-BC50-3A1B78BBC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250800" y="162828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33240" y="162828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8360" y="399348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250800" y="399348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33240" y="399348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A5E854-0C2D-4528-BF3F-AB9FB8E06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400" y="162828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D63C3-35D2-4C7D-9F6D-63E89082A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AA3EB-15B9-4B76-8992-6346E7FE3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A8C99-E51D-41AE-8329-E7B854562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400" y="162828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360" y="39934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F5A5D-9BC6-4561-AF05-C4318E871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68360" y="162828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16DB-81EF-447D-8FB8-EED0FF2F4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400" y="16282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5400" y="39934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DFFA5-4644-4B95-B475-4E7DD9355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400" y="16282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360" y="399348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5D207-5EFF-4584-8FD6-2357CCD9A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360" y="399348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85745-A270-42DE-94D5-41964AB90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5400" y="16282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8360" y="39934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85400" y="39934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27402-9111-412F-9FA1-D9756FF43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50800" y="162828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33240" y="162828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8360" y="399348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50800" y="399348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33240" y="399348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DD304-67A3-4A50-88BD-A4915C8ED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D68BE-59D4-4D01-AB9E-58A549F2C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8360" y="162828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4E036-AB9F-4531-A992-A2DE21BD3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08AFC-9185-41CA-A328-0C3D3F976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5400" y="162828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8BB60-3355-48C6-B53D-9F4603FE7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02495-1351-437F-B557-AB856FF02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F9DE-F40D-4E7F-B444-0BDC7460F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3C7B0-A9A3-4713-8442-F7434300C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5400" y="162828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8360" y="39934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4B39B-F7D3-463B-A0CE-447156313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5400" y="16282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85400" y="39934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4ED30-7A6E-4246-A718-9BA40016A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85400" y="16282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8360" y="399348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609ED-EBE7-48C4-9EEE-CB52585C0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8360" y="399348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1E905-D89E-4B72-B0CF-E1847ED30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85400" y="16282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8360" y="39934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85400" y="39934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8ED6E-BD48-4173-80B1-3E522870E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50800" y="162828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33240" y="162828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8360" y="399348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50800" y="399348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33240" y="399348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EDCF5-C643-4016-B3FB-939B0CFE3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11605-812B-4E5B-8D99-FC0198E33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68360" y="162828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A85A4-8135-4C9B-BB4C-C88C6EAA2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05B8A-4960-46AF-AB50-F1B3AF8F6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400" y="162828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91E9-9588-4669-9CAE-DEF5F9ABD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5400" y="162828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BAC73-88F7-4ADD-A5E5-5A252220A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E1522-41EB-4505-AD98-A55AA039C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0D758-6A9A-44D4-B812-7318CA644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85400" y="162828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8360" y="39934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F339C-4A5F-4E5D-8588-8C1552527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85400" y="16282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85400" y="39934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678FA-E00E-4E3D-903D-935196B86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85400" y="16282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8360" y="399348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29F79-3F62-4B83-825C-0928661FB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8360" y="399348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3F04B-A5EE-4A74-B61D-089E3651F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85400" y="16282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8360" y="39934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85400" y="39934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313D4-915A-4B27-B54D-1C8FDB836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50800" y="162828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33240" y="162828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8360" y="399348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50800" y="399348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33240" y="399348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81DB8-E840-4F30-A501-E17A6388E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9E6F3C-4EAD-41D9-AB62-3BAB8F297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FB17-E82B-4598-AE36-E2CCE7A8C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68360" y="162828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F6A02B-F6A0-4816-A95F-41E8F1E02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259E15-DA51-42C9-8355-C484C9BE1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85400" y="162828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3E6438-2271-4B43-82DC-FCF033570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D00698-8642-47A8-85A6-1A0CE0D84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5D2CD8-02C1-4285-AE63-811A59B3A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85400" y="162828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8360" y="39934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0350B8-2D2B-4009-A56F-B8BED950E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5400" y="16282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85400" y="39934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0B101B-1D8A-4B34-BA0D-CF02FBCB0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85400" y="16282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8360" y="399348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CAC83D-6FA6-493B-A0B4-7DE20279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8360" y="399348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329E40-38BF-4229-8A26-94A6DFEE0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85400" y="16282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8360" y="39934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85400" y="39934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9280AF-A247-4BE6-ABE8-A9A55E922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5795-E1A2-4A5C-82E0-593E2352D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0800" y="162828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33240" y="162828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8360" y="399348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0800" y="399348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33240" y="399348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E57C2D-46D8-4683-B952-F4BBA4454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F18444-4230-4229-B3A1-12323DF6F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68360" y="162828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E6012F-F52E-4B0A-A403-383CDFC42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6A8278-1F4C-4C37-934C-CE81D0D4D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85400" y="162828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038D29-02CD-4FA2-A2D5-D05EB1802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1F71FE-2A42-41DC-AF86-E8B10F682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79CD82-AA3A-42EF-96B4-7CC80D67E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85400" y="162828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8360" y="39934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319316-7F48-4877-BB09-E974868A4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5400" y="16282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85400" y="39934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30F78F-370B-4F29-99F9-1A0C49CE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85400" y="16282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8360" y="399348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68E35F-1E79-4CA9-8B6A-FADA1ECE8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62828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360" y="39934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5AEF-A6B7-4D3F-A55D-018A3B170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8360" y="399348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F5F145-490D-42DF-9C60-13FA314B5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85400" y="16282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8360" y="39934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85400" y="39934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AACD1F-4273-4723-B98E-F29F50F2C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50800" y="162828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33240" y="162828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8360" y="399348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50800" y="399348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33240" y="399348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A1A9DE-028B-41A3-ABEB-22B31C361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6E2BBA-B967-4AC6-8F3B-DA489AA6B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68360" y="162828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971FE8-1EFA-450A-B2B3-6449AEB38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667773-C3C4-4CC8-A9E4-27842105A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85400" y="162828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6D6F60-5A17-4FD7-A95B-339AD2992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0F0691-DCAF-4E95-9E16-74EA5848B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53A2D9-B2A7-4F34-B1C8-36B903D29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85400" y="162828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8360" y="39934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1899BE-A938-44AF-9A93-A252E9AF4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6282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5400" y="39934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1BC8-35A0-4277-B283-2BFCA8B3C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85400" y="16282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85400" y="39934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9D3966-F7F6-40BE-80A0-67A6B1102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85400" y="16282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8360" y="399348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2689E7-15FD-4ECB-97F3-3745DE0C2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8360" y="399348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5F57D6-E078-4C6C-A18A-131BE77B2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85400" y="16282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8360" y="39934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85400" y="39934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D524EB-ED4F-4F52-97E5-344FD3D2B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50800" y="162828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33240" y="162828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8360" y="399348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50800" y="399348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33240" y="399348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6BF24B-4D51-49FB-B5F4-C22860291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7E8157-E5B7-4A3D-BEB0-A5C9B1BCE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68360" y="162828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6B2EE7-A695-4846-82E6-BE7AB9CD3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E9F975-6651-4673-897C-E4C2FE261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85400" y="162828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B402EB-4B66-4D1E-AD9A-A2EFBCC53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BEC6DF-4370-4360-A272-7313ACB70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400" y="16282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360" y="399348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5397-F1C4-4B25-8643-0F51FD217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F3F486-651E-4885-882B-804C34526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85400" y="162828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8360" y="39934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E210D9-47A5-4F05-BFF3-AA01F0061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85400" y="16282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85400" y="39934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D1BB08-83F9-45BF-A8BA-9995A13BD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85400" y="16282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8360" y="399348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439F83-2B69-4598-8201-81159D2CF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8360" y="399348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42C16D-2E92-4D16-897C-0B6E19279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85400" y="16282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8360" y="39934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85400" y="39934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92D0F1-EF8A-4EC0-B72C-3DEE6D33C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50800" y="162828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33240" y="162828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8360" y="399348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50800" y="399348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33240" y="399348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555997-EB4F-4448-98CC-563D549EC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D8DD23-0D84-452C-AAF3-3F19D845C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68360" y="162828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B5AEB0-610E-4809-82C2-D7CE701E0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1F84E6-F777-45A0-ADEB-83D2F72CE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nordridesign.cn/index.php" TargetMode="External"/><Relationship Id="rId3" Type="http://schemas.openxmlformats.org/officeDocument/2006/relationships/hyperlink" Target="http://www.nordridesign.cn/index.php" TargetMode="External"/><Relationship Id="rId4" Type="http://schemas.openxmlformats.org/officeDocument/2006/relationships/hyperlink" Target="http://www.nordridesign.cn/index.php" TargetMode="External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9D481-8BAA-430B-A13E-D0C9DA2EBDC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8">
            <a:hlinkClick r:id="rId2"/>
          </p:cNvPr>
          <p:cNvSpPr/>
          <p:nvPr/>
        </p:nvSpPr>
        <p:spPr>
          <a:xfrm>
            <a:off x="2484360" y="2060640"/>
            <a:ext cx="398772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8">
            <a:hlinkClick r:id="rId3"/>
          </p:cNvPr>
          <p:cNvSpPr/>
          <p:nvPr/>
        </p:nvSpPr>
        <p:spPr>
          <a:xfrm>
            <a:off x="2484360" y="2060640"/>
            <a:ext cx="398772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8">
            <a:hlinkClick r:id="rId4"/>
          </p:cNvPr>
          <p:cNvSpPr/>
          <p:nvPr/>
        </p:nvSpPr>
        <p:spPr>
          <a:xfrm>
            <a:off x="2484360" y="2060640"/>
            <a:ext cx="398772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8" descr="pic13611"/>
          <p:cNvPicPr/>
          <p:nvPr/>
        </p:nvPicPr>
        <p:blipFill>
          <a:blip r:embed="rId5"/>
          <a:stretch/>
        </p:blipFill>
        <p:spPr>
          <a:xfrm>
            <a:off x="7667640" y="0"/>
            <a:ext cx="1512720" cy="1184400"/>
          </a:xfrm>
          <a:prstGeom prst="rect">
            <a:avLst/>
          </a:prstGeom>
          <a:ln w="0">
            <a:noFill/>
          </a:ln>
        </p:spPr>
      </p:pic>
      <p:sp>
        <p:nvSpPr>
          <p:cNvPr id="7" name="任意多边形 6"/>
          <p:cNvSpPr/>
          <p:nvPr/>
        </p:nvSpPr>
        <p:spPr>
          <a:xfrm>
            <a:off x="1440" y="-23760"/>
            <a:ext cx="8028000" cy="1220760"/>
          </a:xfrm>
          <a:custGeom>
            <a:avLst/>
            <a:gdLst>
              <a:gd name="textAreaLeft" fmla="*/ 0 w 8028000"/>
              <a:gd name="textAreaRight" fmla="*/ 8028360 w 8028000"/>
              <a:gd name="textAreaTop" fmla="*/ 0 h 1220760"/>
              <a:gd name="textAreaBottom" fmla="*/ 1221120 h 1220760"/>
            </a:gdLst>
            <a:ahLst/>
            <a:rect l="textAreaLeft" t="textAreaTop" r="textAreaRight" b="textAreaBottom"/>
            <a:pathLst>
              <a:path w="7500958" h="3429024">
                <a:moveTo>
                  <a:pt x="0" y="0"/>
                </a:moveTo>
                <a:lnTo>
                  <a:pt x="7500958" y="0"/>
                </a:lnTo>
                <a:cubicBezTo>
                  <a:pt x="7118923" y="833988"/>
                  <a:pt x="7081776" y="2775409"/>
                  <a:pt x="7500958" y="3429024"/>
                </a:cubicBezTo>
                <a:lnTo>
                  <a:pt x="0" y="3429024"/>
                </a:lnTo>
                <a:lnTo>
                  <a:pt x="0" y="0"/>
                </a:lnTo>
                <a:close/>
              </a:path>
            </a:pathLst>
          </a:custGeom>
          <a:solidFill>
            <a:srgbClr val="ff4416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D7C5E-4A2F-40C5-B0E5-6389850B188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2FD19-B3ED-412C-86A9-6C560663257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46D96-C9BA-4912-9D21-24AF3CA4D16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998FD-60A4-4467-B23B-81792A1E244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未标题-3"/>
          <p:cNvPicPr/>
          <p:nvPr/>
        </p:nvPicPr>
        <p:blipFill>
          <a:blip r:embed="rId2"/>
          <a:stretch/>
        </p:blipFill>
        <p:spPr>
          <a:xfrm>
            <a:off x="0" y="0"/>
            <a:ext cx="9144000" cy="3946680"/>
          </a:xfrm>
          <a:prstGeom prst="rect">
            <a:avLst/>
          </a:prstGeom>
          <a:ln w="0">
            <a:noFill/>
          </a:ln>
        </p:spPr>
      </p:pic>
      <p:sp>
        <p:nvSpPr>
          <p:cNvPr id="47" name="任意多边形 1"/>
          <p:cNvSpPr/>
          <p:nvPr/>
        </p:nvSpPr>
        <p:spPr>
          <a:xfrm>
            <a:off x="0" y="1557360"/>
            <a:ext cx="9144000" cy="500076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5000760"/>
              <a:gd name="textAreaBottom" fmla="*/ 5001120 h 5000760"/>
            </a:gdLst>
            <a:ahLst/>
            <a:rect l="textAreaLeft" t="textAreaTop" r="textAreaRight" b="textAreaBottom"/>
            <a:pathLst>
              <a:path w="9144000" h="5000684">
                <a:moveTo>
                  <a:pt x="0" y="1643098"/>
                </a:moveTo>
                <a:cubicBezTo>
                  <a:pt x="1221821" y="2027178"/>
                  <a:pt x="3128682" y="2529632"/>
                  <a:pt x="4652682" y="2255782"/>
                </a:cubicBezTo>
                <a:cubicBezTo>
                  <a:pt x="6176682" y="1981932"/>
                  <a:pt x="8410469" y="725338"/>
                  <a:pt x="9144000" y="0"/>
                </a:cubicBezTo>
                <a:lnTo>
                  <a:pt x="9144000" y="5000684"/>
                </a:lnTo>
                <a:lnTo>
                  <a:pt x="0" y="5000684"/>
                </a:lnTo>
                <a:lnTo>
                  <a:pt x="0" y="1643098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任意多边形 2"/>
          <p:cNvSpPr/>
          <p:nvPr/>
        </p:nvSpPr>
        <p:spPr>
          <a:xfrm>
            <a:off x="0" y="2133720"/>
            <a:ext cx="9144000" cy="44290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4429080"/>
              <a:gd name="textAreaBottom" fmla="*/ 4429440 h 4429080"/>
            </a:gdLst>
            <a:ahLst/>
            <a:rect l="textAreaLeft" t="textAreaTop" r="textAreaRight" b="textAreaBottom"/>
            <a:pathLst>
              <a:path w="9144000" h="4429228">
                <a:moveTo>
                  <a:pt x="0" y="1071642"/>
                </a:moveTo>
                <a:cubicBezTo>
                  <a:pt x="1221821" y="1455722"/>
                  <a:pt x="3128682" y="2077223"/>
                  <a:pt x="4652682" y="1898616"/>
                </a:cubicBezTo>
                <a:cubicBezTo>
                  <a:pt x="6176682" y="1720009"/>
                  <a:pt x="8410469" y="725338"/>
                  <a:pt x="9144000" y="0"/>
                </a:cubicBezTo>
                <a:lnTo>
                  <a:pt x="9144000" y="4429228"/>
                </a:lnTo>
                <a:lnTo>
                  <a:pt x="0" y="4429228"/>
                </a:lnTo>
                <a:lnTo>
                  <a:pt x="0" y="1071642"/>
                </a:lnTo>
                <a:close/>
              </a:path>
            </a:pathLst>
          </a:custGeom>
          <a:solidFill>
            <a:srgbClr val="fc4a1a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13B64-7E69-4724-93D6-7CB69E623E0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任意多边形 3"/>
          <p:cNvSpPr/>
          <p:nvPr/>
        </p:nvSpPr>
        <p:spPr>
          <a:xfrm>
            <a:off x="0" y="2854440"/>
            <a:ext cx="9144000" cy="4032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4032000"/>
              <a:gd name="textAreaBottom" fmla="*/ 4032360 h 4032000"/>
            </a:gdLst>
            <a:ahLst/>
            <a:rect l="textAreaLeft" t="textAreaTop" r="textAreaRight" b="textAreaBottom"/>
            <a:pathLst>
              <a:path w="9144000" h="3714872">
                <a:moveTo>
                  <a:pt x="0" y="357286"/>
                </a:moveTo>
                <a:cubicBezTo>
                  <a:pt x="1221821" y="741366"/>
                  <a:pt x="3128682" y="1458098"/>
                  <a:pt x="4652682" y="1398550"/>
                </a:cubicBezTo>
                <a:cubicBezTo>
                  <a:pt x="6176682" y="1339002"/>
                  <a:pt x="8410469" y="725338"/>
                  <a:pt x="9144000" y="0"/>
                </a:cubicBezTo>
                <a:lnTo>
                  <a:pt x="9144000" y="3714872"/>
                </a:lnTo>
                <a:lnTo>
                  <a:pt x="0" y="3714872"/>
                </a:lnTo>
                <a:lnTo>
                  <a:pt x="0" y="357286"/>
                </a:lnTo>
                <a:close/>
              </a:path>
            </a:pathLst>
          </a:custGeom>
          <a:solidFill>
            <a:srgbClr val="f3ca23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68360" y="162828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DCD3B-9184-4459-95DF-F7C6EF286E2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4BE31-C8F8-4D8B-AB33-9FAAB045040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01148-ECD9-499D-93A9-2B2D3D902C0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3B5F9-BA7C-45B0-BF33-A58AE0D0F94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15711-7A36-4832-AD42-7DD07A7E2BF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DDDBE-9B0A-4BD1-9F38-D7AC445D1F5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02D7B-1EB0-4FCF-8B44-B38DEEF7FDB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2"/>
          <p:cNvSpPr/>
          <p:nvPr/>
        </p:nvSpPr>
        <p:spPr>
          <a:xfrm>
            <a:off x="1763640" y="4508640"/>
            <a:ext cx="59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简洁建党节</a:t>
            </a:r>
            <a:r>
              <a:rPr b="0" lang="en-US" sz="44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PPT</a:t>
            </a:r>
            <a:r>
              <a:rPr b="0" lang="zh-CN" sz="44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模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矩形 4"/>
          <p:cNvSpPr/>
          <p:nvPr/>
        </p:nvSpPr>
        <p:spPr>
          <a:xfrm>
            <a:off x="2411280" y="5589720"/>
            <a:ext cx="309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内容占位符 3"/>
          <p:cNvSpPr/>
          <p:nvPr/>
        </p:nvSpPr>
        <p:spPr>
          <a:xfrm>
            <a:off x="428760" y="178596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括标题和文本格式的设置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5" name="Group 3"/>
          <p:cNvGrpSpPr/>
          <p:nvPr/>
        </p:nvGrpSpPr>
        <p:grpSpPr>
          <a:xfrm>
            <a:off x="1189080" y="1757520"/>
            <a:ext cx="6767280" cy="3816000"/>
            <a:chOff x="1189080" y="1757520"/>
            <a:chExt cx="6767280" cy="3816000"/>
          </a:xfrm>
        </p:grpSpPr>
        <p:sp>
          <p:nvSpPr>
            <p:cNvPr id="546" name="AutoShape 393"/>
            <p:cNvSpPr/>
            <p:nvPr/>
          </p:nvSpPr>
          <p:spPr>
            <a:xfrm>
              <a:off x="1189080" y="1757520"/>
              <a:ext cx="602280" cy="677520"/>
            </a:xfrm>
            <a:custGeom>
              <a:avLst/>
              <a:gdLst>
                <a:gd name="textAreaLeft" fmla="*/ 29160 w 602280"/>
                <a:gd name="textAreaRight" fmla="*/ 573120 w 602280"/>
                <a:gd name="textAreaTop" fmla="*/ 29160 h 677520"/>
                <a:gd name="textAreaBottom" fmla="*/ 648360 h 677520"/>
              </a:gdLst>
              <a:ahLst/>
              <a:rect l="textAreaLeft" t="textAreaTop" r="textAreaRight" b="textAreaBottom"/>
              <a:pathLst>
                <a:path w="21600" h="24297">
                  <a:moveTo>
                    <a:pt x="3600" y="0"/>
                  </a:moveTo>
                  <a:arcTo wR="3600" hR="3600" stAng="16200000" swAng="-5400000"/>
                  <a:lnTo>
                    <a:pt x="0" y="20697"/>
                  </a:lnTo>
                  <a:arcTo wR="3600" hR="3600" stAng="10800000" swAng="-5400000"/>
                  <a:lnTo>
                    <a:pt x="18000" y="2429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0101"/>
            </a:soli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AutoShape 394"/>
            <p:cNvSpPr/>
            <p:nvPr/>
          </p:nvSpPr>
          <p:spPr>
            <a:xfrm>
              <a:off x="1886040" y="1757520"/>
              <a:ext cx="6070320" cy="677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a6a6a6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AutoShape 395"/>
            <p:cNvSpPr/>
            <p:nvPr/>
          </p:nvSpPr>
          <p:spPr>
            <a:xfrm>
              <a:off x="1189080" y="2542320"/>
              <a:ext cx="602280" cy="673920"/>
            </a:xfrm>
            <a:custGeom>
              <a:avLst/>
              <a:gdLst>
                <a:gd name="textAreaLeft" fmla="*/ 29160 w 602280"/>
                <a:gd name="textAreaRight" fmla="*/ 573120 w 602280"/>
                <a:gd name="textAreaTop" fmla="*/ 29160 h 673920"/>
                <a:gd name="textAreaBottom" fmla="*/ 644760 h 673920"/>
              </a:gdLst>
              <a:ahLst/>
              <a:rect l="textAreaLeft" t="textAreaTop" r="textAreaRight" b="textAreaBottom"/>
              <a:pathLst>
                <a:path w="21600" h="24168">
                  <a:moveTo>
                    <a:pt x="3600" y="0"/>
                  </a:moveTo>
                  <a:arcTo wR="3600" hR="3600" stAng="16200000" swAng="-5400000"/>
                  <a:lnTo>
                    <a:pt x="0" y="20568"/>
                  </a:lnTo>
                  <a:arcTo wR="3600" hR="3600" stAng="10800000" swAng="-5400000"/>
                  <a:lnTo>
                    <a:pt x="18000" y="2416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0101"/>
            </a:soli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AutoShape 396"/>
            <p:cNvSpPr/>
            <p:nvPr/>
          </p:nvSpPr>
          <p:spPr>
            <a:xfrm>
              <a:off x="1886040" y="2542320"/>
              <a:ext cx="6070320" cy="673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a6a6a6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AutoShape 397"/>
            <p:cNvSpPr/>
            <p:nvPr/>
          </p:nvSpPr>
          <p:spPr>
            <a:xfrm>
              <a:off x="1189080" y="3327840"/>
              <a:ext cx="602280" cy="677520"/>
            </a:xfrm>
            <a:custGeom>
              <a:avLst/>
              <a:gdLst>
                <a:gd name="textAreaLeft" fmla="*/ 29160 w 602280"/>
                <a:gd name="textAreaRight" fmla="*/ 573120 w 602280"/>
                <a:gd name="textAreaTop" fmla="*/ 29160 h 677520"/>
                <a:gd name="textAreaBottom" fmla="*/ 648360 h 677520"/>
              </a:gdLst>
              <a:ahLst/>
              <a:rect l="textAreaLeft" t="textAreaTop" r="textAreaRight" b="textAreaBottom"/>
              <a:pathLst>
                <a:path w="21600" h="24297">
                  <a:moveTo>
                    <a:pt x="3600" y="0"/>
                  </a:moveTo>
                  <a:arcTo wR="3600" hR="3600" stAng="16200000" swAng="-5400000"/>
                  <a:lnTo>
                    <a:pt x="0" y="20697"/>
                  </a:lnTo>
                  <a:arcTo wR="3600" hR="3600" stAng="10800000" swAng="-5400000"/>
                  <a:lnTo>
                    <a:pt x="18000" y="2429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0101"/>
            </a:soli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AutoShape 398"/>
            <p:cNvSpPr/>
            <p:nvPr/>
          </p:nvSpPr>
          <p:spPr>
            <a:xfrm>
              <a:off x="1886040" y="3327840"/>
              <a:ext cx="6070320" cy="677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a6a6a6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AutoShape 399"/>
            <p:cNvSpPr/>
            <p:nvPr/>
          </p:nvSpPr>
          <p:spPr>
            <a:xfrm>
              <a:off x="1189080" y="4111200"/>
              <a:ext cx="602280" cy="673560"/>
            </a:xfrm>
            <a:custGeom>
              <a:avLst/>
              <a:gdLst>
                <a:gd name="textAreaLeft" fmla="*/ 29160 w 602280"/>
                <a:gd name="textAreaRight" fmla="*/ 573120 w 602280"/>
                <a:gd name="textAreaTop" fmla="*/ 29160 h 673560"/>
                <a:gd name="textAreaBottom" fmla="*/ 644400 h 673560"/>
              </a:gdLst>
              <a:ahLst/>
              <a:rect l="textAreaLeft" t="textAreaTop" r="textAreaRight" b="textAreaBottom"/>
              <a:pathLst>
                <a:path w="21600" h="24155">
                  <a:moveTo>
                    <a:pt x="3600" y="0"/>
                  </a:moveTo>
                  <a:arcTo wR="3600" hR="3600" stAng="16200000" swAng="-5400000"/>
                  <a:lnTo>
                    <a:pt x="0" y="20555"/>
                  </a:lnTo>
                  <a:arcTo wR="3600" hR="3600" stAng="10800000" swAng="-5400000"/>
                  <a:lnTo>
                    <a:pt x="18000" y="2415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0101"/>
            </a:soli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AutoShape 400"/>
            <p:cNvSpPr/>
            <p:nvPr/>
          </p:nvSpPr>
          <p:spPr>
            <a:xfrm>
              <a:off x="1886040" y="4111200"/>
              <a:ext cx="6070320" cy="673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a6a6a6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AutoShape 401"/>
            <p:cNvSpPr/>
            <p:nvPr/>
          </p:nvSpPr>
          <p:spPr>
            <a:xfrm>
              <a:off x="1189080" y="4896000"/>
              <a:ext cx="602280" cy="677520"/>
            </a:xfrm>
            <a:custGeom>
              <a:avLst/>
              <a:gdLst>
                <a:gd name="textAreaLeft" fmla="*/ 29160 w 602280"/>
                <a:gd name="textAreaRight" fmla="*/ 573120 w 602280"/>
                <a:gd name="textAreaTop" fmla="*/ 29160 h 677520"/>
                <a:gd name="textAreaBottom" fmla="*/ 648360 h 677520"/>
              </a:gdLst>
              <a:ahLst/>
              <a:rect l="textAreaLeft" t="textAreaTop" r="textAreaRight" b="textAreaBottom"/>
              <a:pathLst>
                <a:path w="21600" h="24297">
                  <a:moveTo>
                    <a:pt x="3600" y="0"/>
                  </a:moveTo>
                  <a:arcTo wR="3600" hR="3600" stAng="16200000" swAng="-5400000"/>
                  <a:lnTo>
                    <a:pt x="0" y="20697"/>
                  </a:lnTo>
                  <a:arcTo wR="3600" hR="3600" stAng="10800000" swAng="-5400000"/>
                  <a:lnTo>
                    <a:pt x="18000" y="2429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0101"/>
            </a:soli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AutoShape 402"/>
            <p:cNvSpPr/>
            <p:nvPr/>
          </p:nvSpPr>
          <p:spPr>
            <a:xfrm>
              <a:off x="1886040" y="4896000"/>
              <a:ext cx="6070320" cy="677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a6a6a6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AutoShape 403"/>
            <p:cNvSpPr/>
            <p:nvPr/>
          </p:nvSpPr>
          <p:spPr>
            <a:xfrm>
              <a:off x="1220760" y="1793160"/>
              <a:ext cx="538200" cy="3204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AutoShape 404"/>
            <p:cNvSpPr/>
            <p:nvPr/>
          </p:nvSpPr>
          <p:spPr>
            <a:xfrm>
              <a:off x="1220760" y="2578320"/>
              <a:ext cx="538200" cy="32076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AutoShape 405"/>
            <p:cNvSpPr/>
            <p:nvPr/>
          </p:nvSpPr>
          <p:spPr>
            <a:xfrm>
              <a:off x="1220760" y="3363840"/>
              <a:ext cx="538200" cy="3204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AutoShape 406"/>
            <p:cNvSpPr/>
            <p:nvPr/>
          </p:nvSpPr>
          <p:spPr>
            <a:xfrm>
              <a:off x="1220760" y="4146840"/>
              <a:ext cx="538200" cy="3204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AutoShape 407"/>
            <p:cNvSpPr/>
            <p:nvPr/>
          </p:nvSpPr>
          <p:spPr>
            <a:xfrm>
              <a:off x="1220760" y="4932000"/>
              <a:ext cx="538200" cy="32076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WordArt 408"/>
            <p:cNvSpPr txBox="1"/>
            <p:nvPr/>
          </p:nvSpPr>
          <p:spPr>
            <a:xfrm>
              <a:off x="1379880" y="1935000"/>
              <a:ext cx="187920" cy="320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1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62" name="WordArt 409"/>
            <p:cNvSpPr txBox="1"/>
            <p:nvPr/>
          </p:nvSpPr>
          <p:spPr>
            <a:xfrm>
              <a:off x="1379880" y="2719800"/>
              <a:ext cx="220320" cy="320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63" name="WordArt 410"/>
            <p:cNvSpPr txBox="1"/>
            <p:nvPr/>
          </p:nvSpPr>
          <p:spPr>
            <a:xfrm>
              <a:off x="1379880" y="3504960"/>
              <a:ext cx="220320" cy="320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3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64" name="WordArt 411"/>
            <p:cNvSpPr txBox="1"/>
            <p:nvPr/>
          </p:nvSpPr>
          <p:spPr>
            <a:xfrm>
              <a:off x="1379880" y="4288320"/>
              <a:ext cx="220320" cy="320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4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65" name="WordArt 412"/>
            <p:cNvSpPr txBox="1"/>
            <p:nvPr/>
          </p:nvSpPr>
          <p:spPr>
            <a:xfrm>
              <a:off x="1379880" y="5073840"/>
              <a:ext cx="220320" cy="320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5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66" name="AutoShape 413"/>
            <p:cNvSpPr/>
            <p:nvPr/>
          </p:nvSpPr>
          <p:spPr>
            <a:xfrm>
              <a:off x="1929240" y="1793160"/>
              <a:ext cx="5994720" cy="3204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AutoShape 414"/>
            <p:cNvSpPr/>
            <p:nvPr/>
          </p:nvSpPr>
          <p:spPr>
            <a:xfrm>
              <a:off x="1929240" y="2595240"/>
              <a:ext cx="5986440" cy="32076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AutoShape 415"/>
            <p:cNvSpPr/>
            <p:nvPr/>
          </p:nvSpPr>
          <p:spPr>
            <a:xfrm>
              <a:off x="1929240" y="3363840"/>
              <a:ext cx="5994720" cy="3204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AutoShape 416"/>
            <p:cNvSpPr/>
            <p:nvPr/>
          </p:nvSpPr>
          <p:spPr>
            <a:xfrm>
              <a:off x="1929240" y="4146840"/>
              <a:ext cx="5994720" cy="3204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AutoShape 417"/>
            <p:cNvSpPr/>
            <p:nvPr/>
          </p:nvSpPr>
          <p:spPr>
            <a:xfrm>
              <a:off x="1929240" y="4932000"/>
              <a:ext cx="5994720" cy="32076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Text Box 418"/>
            <p:cNvSpPr/>
            <p:nvPr/>
          </p:nvSpPr>
          <p:spPr>
            <a:xfrm>
              <a:off x="2485800" y="2755800"/>
              <a:ext cx="44316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Black"/>
                  <a:ea typeface="Gulim"/>
                </a:rPr>
                <a:t>Stylish templates can be a valuable aid to creative professional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Text Box 419"/>
            <p:cNvSpPr/>
            <p:nvPr/>
          </p:nvSpPr>
          <p:spPr>
            <a:xfrm>
              <a:off x="2485800" y="3540960"/>
              <a:ext cx="44316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Black"/>
                  <a:ea typeface="Gulim"/>
                </a:rPr>
                <a:t>Stylish templates can be a valuable aid to creative professional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Text Box 420"/>
            <p:cNvSpPr/>
            <p:nvPr/>
          </p:nvSpPr>
          <p:spPr>
            <a:xfrm>
              <a:off x="2485800" y="4326480"/>
              <a:ext cx="44316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Black"/>
                  <a:ea typeface="Gulim"/>
                </a:rPr>
                <a:t>Stylish templates can be a valuable aid to creative professional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421"/>
            <p:cNvSpPr/>
            <p:nvPr/>
          </p:nvSpPr>
          <p:spPr>
            <a:xfrm>
              <a:off x="2485800" y="5109480"/>
              <a:ext cx="44316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Black"/>
                  <a:ea typeface="Gulim"/>
                </a:rPr>
                <a:t>Stylish templates can be a valuable aid to creative professional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Text Box 422"/>
            <p:cNvSpPr/>
            <p:nvPr/>
          </p:nvSpPr>
          <p:spPr>
            <a:xfrm>
              <a:off x="2485800" y="1970640"/>
              <a:ext cx="44316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Black"/>
                  <a:ea typeface="Gulim"/>
                </a:rPr>
                <a:t>Stylish templates can be a valuable aid to creative professional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3"/>
          <p:cNvGrpSpPr/>
          <p:nvPr/>
        </p:nvGrpSpPr>
        <p:grpSpPr>
          <a:xfrm>
            <a:off x="430200" y="1522440"/>
            <a:ext cx="8173800" cy="5137200"/>
            <a:chOff x="430200" y="1522440"/>
            <a:chExt cx="8173800" cy="5137200"/>
          </a:xfrm>
        </p:grpSpPr>
        <p:sp>
          <p:nvSpPr>
            <p:cNvPr id="577" name="Oval 423"/>
            <p:cNvSpPr/>
            <p:nvPr/>
          </p:nvSpPr>
          <p:spPr>
            <a:xfrm>
              <a:off x="4988880" y="1522440"/>
              <a:ext cx="1767960" cy="1669320"/>
            </a:xfrm>
            <a:prstGeom prst="ellipse">
              <a:avLst/>
            </a:prstGeom>
            <a:gradFill rotWithShape="0">
              <a:gsLst>
                <a:gs pos="0">
                  <a:srgbClr val="c80000"/>
                </a:gs>
                <a:gs pos="100000">
                  <a:srgbClr val="ff0101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Oval 424"/>
            <p:cNvSpPr/>
            <p:nvPr/>
          </p:nvSpPr>
          <p:spPr>
            <a:xfrm>
              <a:off x="5337720" y="1731240"/>
              <a:ext cx="297720" cy="28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7abf5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Oval 425"/>
            <p:cNvSpPr/>
            <p:nvPr/>
          </p:nvSpPr>
          <p:spPr>
            <a:xfrm>
              <a:off x="3515040" y="4556160"/>
              <a:ext cx="4695840" cy="14644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0" name="Group 7"/>
            <p:cNvGrpSpPr/>
            <p:nvPr/>
          </p:nvGrpSpPr>
          <p:grpSpPr>
            <a:xfrm>
              <a:off x="4381200" y="3730320"/>
              <a:ext cx="2966040" cy="2929320"/>
              <a:chOff x="4381200" y="3730320"/>
              <a:chExt cx="2966040" cy="2929320"/>
            </a:xfrm>
          </p:grpSpPr>
          <p:grpSp>
            <p:nvGrpSpPr>
              <p:cNvPr id="581" name="Group 8"/>
              <p:cNvGrpSpPr/>
              <p:nvPr/>
            </p:nvGrpSpPr>
            <p:grpSpPr>
              <a:xfrm>
                <a:off x="4381200" y="4906440"/>
                <a:ext cx="2966040" cy="1753200"/>
                <a:chOff x="4381200" y="4906440"/>
                <a:chExt cx="2966040" cy="1753200"/>
              </a:xfrm>
            </p:grpSpPr>
            <p:sp>
              <p:nvSpPr>
                <p:cNvPr id="582" name="Freeform 428"/>
                <p:cNvSpPr/>
                <p:nvPr/>
              </p:nvSpPr>
              <p:spPr>
                <a:xfrm flipV="1">
                  <a:off x="4381200" y="4906440"/>
                  <a:ext cx="2966040" cy="1753200"/>
                </a:xfrm>
                <a:custGeom>
                  <a:avLst/>
                  <a:gdLst>
                    <a:gd name="textAreaLeft" fmla="*/ 0 w 2966040"/>
                    <a:gd name="textAreaRight" fmla="*/ 2966400 w 2966040"/>
                    <a:gd name="textAreaTop" fmla="*/ 360 h 1753200"/>
                    <a:gd name="textAreaBottom" fmla="*/ 1753920 h 1753200"/>
                  </a:gdLst>
                  <a:ahLst/>
                  <a:rect l="textAreaLeft" t="textAreaTop" r="textAreaRight" b="textAreaBottom"/>
                  <a:pathLst>
                    <a:path w="1862" h="1164">
                      <a:moveTo>
                        <a:pt x="1862" y="930"/>
                      </a:moveTo>
                      <a:lnTo>
                        <a:pt x="1862" y="930"/>
                      </a:lnTo>
                      <a:lnTo>
                        <a:pt x="1860" y="942"/>
                      </a:lnTo>
                      <a:lnTo>
                        <a:pt x="1856" y="954"/>
                      </a:lnTo>
                      <a:lnTo>
                        <a:pt x="1850" y="966"/>
                      </a:lnTo>
                      <a:lnTo>
                        <a:pt x="1842" y="978"/>
                      </a:lnTo>
                      <a:lnTo>
                        <a:pt x="1832" y="988"/>
                      </a:lnTo>
                      <a:lnTo>
                        <a:pt x="1820" y="1000"/>
                      </a:lnTo>
                      <a:lnTo>
                        <a:pt x="1806" y="1010"/>
                      </a:lnTo>
                      <a:lnTo>
                        <a:pt x="1788" y="1020"/>
                      </a:lnTo>
                      <a:lnTo>
                        <a:pt x="1750" y="1042"/>
                      </a:lnTo>
                      <a:lnTo>
                        <a:pt x="1702" y="1060"/>
                      </a:lnTo>
                      <a:lnTo>
                        <a:pt x="1650" y="1078"/>
                      </a:lnTo>
                      <a:lnTo>
                        <a:pt x="1588" y="1094"/>
                      </a:lnTo>
                      <a:lnTo>
                        <a:pt x="1522" y="1110"/>
                      </a:lnTo>
                      <a:lnTo>
                        <a:pt x="1452" y="1124"/>
                      </a:lnTo>
                      <a:lnTo>
                        <a:pt x="1374" y="1134"/>
                      </a:lnTo>
                      <a:lnTo>
                        <a:pt x="1294" y="1144"/>
                      </a:lnTo>
                      <a:lnTo>
                        <a:pt x="1208" y="1152"/>
                      </a:lnTo>
                      <a:lnTo>
                        <a:pt x="1118" y="1158"/>
                      </a:lnTo>
                      <a:lnTo>
                        <a:pt x="1026" y="1162"/>
                      </a:lnTo>
                      <a:lnTo>
                        <a:pt x="930" y="1164"/>
                      </a:lnTo>
                      <a:lnTo>
                        <a:pt x="836" y="1162"/>
                      </a:lnTo>
                      <a:lnTo>
                        <a:pt x="744" y="1158"/>
                      </a:lnTo>
                      <a:lnTo>
                        <a:pt x="654" y="1152"/>
                      </a:lnTo>
                      <a:lnTo>
                        <a:pt x="568" y="1144"/>
                      </a:lnTo>
                      <a:lnTo>
                        <a:pt x="488" y="1134"/>
                      </a:lnTo>
                      <a:lnTo>
                        <a:pt x="410" y="1124"/>
                      </a:lnTo>
                      <a:lnTo>
                        <a:pt x="338" y="1110"/>
                      </a:lnTo>
                      <a:lnTo>
                        <a:pt x="272" y="1094"/>
                      </a:lnTo>
                      <a:lnTo>
                        <a:pt x="212" y="1078"/>
                      </a:lnTo>
                      <a:lnTo>
                        <a:pt x="158" y="1060"/>
                      </a:lnTo>
                      <a:lnTo>
                        <a:pt x="112" y="1042"/>
                      </a:lnTo>
                      <a:lnTo>
                        <a:pt x="74" y="1020"/>
                      </a:lnTo>
                      <a:lnTo>
                        <a:pt x="56" y="1010"/>
                      </a:lnTo>
                      <a:lnTo>
                        <a:pt x="42" y="1000"/>
                      </a:lnTo>
                      <a:lnTo>
                        <a:pt x="30" y="988"/>
                      </a:lnTo>
                      <a:lnTo>
                        <a:pt x="18" y="978"/>
                      </a:lnTo>
                      <a:lnTo>
                        <a:pt x="10" y="966"/>
                      </a:lnTo>
                      <a:lnTo>
                        <a:pt x="4" y="954"/>
                      </a:lnTo>
                      <a:lnTo>
                        <a:pt x="2" y="942"/>
                      </a:lnTo>
                      <a:lnTo>
                        <a:pt x="0" y="930"/>
                      </a:lnTo>
                      <a:lnTo>
                        <a:pt x="2" y="882"/>
                      </a:lnTo>
                      <a:lnTo>
                        <a:pt x="4" y="836"/>
                      </a:lnTo>
                      <a:lnTo>
                        <a:pt x="10" y="788"/>
                      </a:lnTo>
                      <a:lnTo>
                        <a:pt x="18" y="742"/>
                      </a:lnTo>
                      <a:lnTo>
                        <a:pt x="30" y="698"/>
                      </a:lnTo>
                      <a:lnTo>
                        <a:pt x="42" y="654"/>
                      </a:lnTo>
                      <a:lnTo>
                        <a:pt x="56" y="610"/>
                      </a:lnTo>
                      <a:lnTo>
                        <a:pt x="74" y="568"/>
                      </a:lnTo>
                      <a:lnTo>
                        <a:pt x="92" y="526"/>
                      </a:lnTo>
                      <a:lnTo>
                        <a:pt x="112" y="486"/>
                      </a:lnTo>
                      <a:lnTo>
                        <a:pt x="134" y="448"/>
                      </a:lnTo>
                      <a:lnTo>
                        <a:pt x="158" y="410"/>
                      </a:lnTo>
                      <a:lnTo>
                        <a:pt x="184" y="374"/>
                      </a:lnTo>
                      <a:lnTo>
                        <a:pt x="212" y="338"/>
                      </a:lnTo>
                      <a:lnTo>
                        <a:pt x="242" y="304"/>
                      </a:lnTo>
                      <a:lnTo>
                        <a:pt x="272" y="272"/>
                      </a:lnTo>
                      <a:lnTo>
                        <a:pt x="304" y="242"/>
                      </a:lnTo>
                      <a:lnTo>
                        <a:pt x="338" y="212"/>
                      </a:lnTo>
                      <a:lnTo>
                        <a:pt x="374" y="184"/>
                      </a:lnTo>
                      <a:lnTo>
                        <a:pt x="410" y="158"/>
                      </a:lnTo>
                      <a:lnTo>
                        <a:pt x="448" y="134"/>
                      </a:lnTo>
                      <a:lnTo>
                        <a:pt x="488" y="112"/>
                      </a:lnTo>
                      <a:lnTo>
                        <a:pt x="528" y="92"/>
                      </a:lnTo>
                      <a:lnTo>
                        <a:pt x="568" y="72"/>
                      </a:lnTo>
                      <a:lnTo>
                        <a:pt x="610" y="56"/>
                      </a:lnTo>
                      <a:lnTo>
                        <a:pt x="654" y="42"/>
                      </a:lnTo>
                      <a:lnTo>
                        <a:pt x="698" y="28"/>
                      </a:lnTo>
                      <a:lnTo>
                        <a:pt x="744" y="18"/>
                      </a:lnTo>
                      <a:lnTo>
                        <a:pt x="790" y="10"/>
                      </a:lnTo>
                      <a:lnTo>
                        <a:pt x="836" y="4"/>
                      </a:lnTo>
                      <a:lnTo>
                        <a:pt x="882" y="0"/>
                      </a:lnTo>
                      <a:lnTo>
                        <a:pt x="930" y="0"/>
                      </a:lnTo>
                      <a:lnTo>
                        <a:pt x="978" y="0"/>
                      </a:lnTo>
                      <a:lnTo>
                        <a:pt x="1026" y="4"/>
                      </a:lnTo>
                      <a:lnTo>
                        <a:pt x="1072" y="10"/>
                      </a:lnTo>
                      <a:lnTo>
                        <a:pt x="1118" y="18"/>
                      </a:lnTo>
                      <a:lnTo>
                        <a:pt x="1164" y="28"/>
                      </a:lnTo>
                      <a:lnTo>
                        <a:pt x="1208" y="42"/>
                      </a:lnTo>
                      <a:lnTo>
                        <a:pt x="1250" y="56"/>
                      </a:lnTo>
                      <a:lnTo>
                        <a:pt x="1294" y="72"/>
                      </a:lnTo>
                      <a:lnTo>
                        <a:pt x="1334" y="92"/>
                      </a:lnTo>
                      <a:lnTo>
                        <a:pt x="1374" y="112"/>
                      </a:lnTo>
                      <a:lnTo>
                        <a:pt x="1414" y="134"/>
                      </a:lnTo>
                      <a:lnTo>
                        <a:pt x="1452" y="158"/>
                      </a:lnTo>
                      <a:lnTo>
                        <a:pt x="1488" y="184"/>
                      </a:lnTo>
                      <a:lnTo>
                        <a:pt x="1522" y="212"/>
                      </a:lnTo>
                      <a:lnTo>
                        <a:pt x="1556" y="242"/>
                      </a:lnTo>
                      <a:lnTo>
                        <a:pt x="1588" y="272"/>
                      </a:lnTo>
                      <a:lnTo>
                        <a:pt x="1620" y="304"/>
                      </a:lnTo>
                      <a:lnTo>
                        <a:pt x="1650" y="338"/>
                      </a:lnTo>
                      <a:lnTo>
                        <a:pt x="1676" y="374"/>
                      </a:lnTo>
                      <a:lnTo>
                        <a:pt x="1702" y="410"/>
                      </a:lnTo>
                      <a:lnTo>
                        <a:pt x="1726" y="448"/>
                      </a:lnTo>
                      <a:lnTo>
                        <a:pt x="1750" y="486"/>
                      </a:lnTo>
                      <a:lnTo>
                        <a:pt x="1770" y="526"/>
                      </a:lnTo>
                      <a:lnTo>
                        <a:pt x="1788" y="568"/>
                      </a:lnTo>
                      <a:lnTo>
                        <a:pt x="1806" y="610"/>
                      </a:lnTo>
                      <a:lnTo>
                        <a:pt x="1820" y="654"/>
                      </a:lnTo>
                      <a:lnTo>
                        <a:pt x="1832" y="698"/>
                      </a:lnTo>
                      <a:lnTo>
                        <a:pt x="1842" y="742"/>
                      </a:lnTo>
                      <a:lnTo>
                        <a:pt x="1850" y="788"/>
                      </a:lnTo>
                      <a:lnTo>
                        <a:pt x="1856" y="836"/>
                      </a:lnTo>
                      <a:lnTo>
                        <a:pt x="1860" y="882"/>
                      </a:lnTo>
                      <a:lnTo>
                        <a:pt x="1862" y="930"/>
                      </a:lnTo>
                      <a:close/>
                    </a:path>
                  </a:pathLst>
                </a:custGeom>
                <a:solidFill>
                  <a:srgbClr val="808080">
                    <a:alpha val="1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9360" rIns="99360" tIns="49680" bIns="49680" anchor="ctr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" name="Oval 429"/>
                <p:cNvSpPr/>
                <p:nvPr/>
              </p:nvSpPr>
              <p:spPr>
                <a:xfrm flipV="1">
                  <a:off x="4993920" y="5836320"/>
                  <a:ext cx="498240" cy="46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30196"/>
                      </a:srgbClr>
                    </a:gs>
                    <a:gs pos="100000">
                      <a:srgbClr val="67abf5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9360" rIns="99360" tIns="49680" bIns="49680" anchor="ctr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95400"/>
                      <a:tab algn="l" pos="1990800"/>
                      <a:tab algn="l" pos="2986200"/>
                      <a:tab algn="l" pos="3981600"/>
                      <a:tab algn="l" pos="4976640"/>
                      <a:tab algn="l" pos="5972040"/>
                      <a:tab algn="l" pos="6967440"/>
                      <a:tab algn="l" pos="7962840"/>
                      <a:tab algn="l" pos="8958240"/>
                      <a:tab algn="l" pos="9953640"/>
                      <a:tab algn="l" pos="109490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4" name="Group 11"/>
              <p:cNvGrpSpPr/>
              <p:nvPr/>
            </p:nvGrpSpPr>
            <p:grpSpPr>
              <a:xfrm>
                <a:off x="4381200" y="3730320"/>
                <a:ext cx="2966040" cy="1756080"/>
                <a:chOff x="4381200" y="3730320"/>
                <a:chExt cx="2966040" cy="1756080"/>
              </a:xfrm>
            </p:grpSpPr>
            <p:sp>
              <p:nvSpPr>
                <p:cNvPr id="585" name="Freeform 431"/>
                <p:cNvSpPr/>
                <p:nvPr/>
              </p:nvSpPr>
              <p:spPr>
                <a:xfrm>
                  <a:off x="4381200" y="3730320"/>
                  <a:ext cx="2966040" cy="1756080"/>
                </a:xfrm>
                <a:custGeom>
                  <a:avLst/>
                  <a:gdLst>
                    <a:gd name="textAreaLeft" fmla="*/ 0 w 2966040"/>
                    <a:gd name="textAreaRight" fmla="*/ 2966400 w 2966040"/>
                    <a:gd name="textAreaTop" fmla="*/ 0 h 1756080"/>
                    <a:gd name="textAreaBottom" fmla="*/ 1756440 h 1756080"/>
                  </a:gdLst>
                  <a:ahLst/>
                  <a:rect l="textAreaLeft" t="textAreaTop" r="textAreaRight" b="textAreaBottom"/>
                  <a:pathLst>
                    <a:path w="1862" h="1164">
                      <a:moveTo>
                        <a:pt x="1862" y="930"/>
                      </a:moveTo>
                      <a:lnTo>
                        <a:pt x="1862" y="930"/>
                      </a:lnTo>
                      <a:lnTo>
                        <a:pt x="1860" y="942"/>
                      </a:lnTo>
                      <a:lnTo>
                        <a:pt x="1856" y="954"/>
                      </a:lnTo>
                      <a:lnTo>
                        <a:pt x="1850" y="966"/>
                      </a:lnTo>
                      <a:lnTo>
                        <a:pt x="1842" y="978"/>
                      </a:lnTo>
                      <a:lnTo>
                        <a:pt x="1832" y="988"/>
                      </a:lnTo>
                      <a:lnTo>
                        <a:pt x="1820" y="1000"/>
                      </a:lnTo>
                      <a:lnTo>
                        <a:pt x="1806" y="1010"/>
                      </a:lnTo>
                      <a:lnTo>
                        <a:pt x="1788" y="1020"/>
                      </a:lnTo>
                      <a:lnTo>
                        <a:pt x="1750" y="1042"/>
                      </a:lnTo>
                      <a:lnTo>
                        <a:pt x="1702" y="1060"/>
                      </a:lnTo>
                      <a:lnTo>
                        <a:pt x="1650" y="1078"/>
                      </a:lnTo>
                      <a:lnTo>
                        <a:pt x="1588" y="1094"/>
                      </a:lnTo>
                      <a:lnTo>
                        <a:pt x="1522" y="1110"/>
                      </a:lnTo>
                      <a:lnTo>
                        <a:pt x="1452" y="1124"/>
                      </a:lnTo>
                      <a:lnTo>
                        <a:pt x="1374" y="1134"/>
                      </a:lnTo>
                      <a:lnTo>
                        <a:pt x="1294" y="1144"/>
                      </a:lnTo>
                      <a:lnTo>
                        <a:pt x="1208" y="1152"/>
                      </a:lnTo>
                      <a:lnTo>
                        <a:pt x="1118" y="1158"/>
                      </a:lnTo>
                      <a:lnTo>
                        <a:pt x="1026" y="1162"/>
                      </a:lnTo>
                      <a:lnTo>
                        <a:pt x="930" y="1164"/>
                      </a:lnTo>
                      <a:lnTo>
                        <a:pt x="836" y="1162"/>
                      </a:lnTo>
                      <a:lnTo>
                        <a:pt x="744" y="1158"/>
                      </a:lnTo>
                      <a:lnTo>
                        <a:pt x="654" y="1152"/>
                      </a:lnTo>
                      <a:lnTo>
                        <a:pt x="568" y="1144"/>
                      </a:lnTo>
                      <a:lnTo>
                        <a:pt x="488" y="1134"/>
                      </a:lnTo>
                      <a:lnTo>
                        <a:pt x="410" y="1124"/>
                      </a:lnTo>
                      <a:lnTo>
                        <a:pt x="338" y="1110"/>
                      </a:lnTo>
                      <a:lnTo>
                        <a:pt x="272" y="1094"/>
                      </a:lnTo>
                      <a:lnTo>
                        <a:pt x="212" y="1078"/>
                      </a:lnTo>
                      <a:lnTo>
                        <a:pt x="158" y="1060"/>
                      </a:lnTo>
                      <a:lnTo>
                        <a:pt x="112" y="1042"/>
                      </a:lnTo>
                      <a:lnTo>
                        <a:pt x="74" y="1020"/>
                      </a:lnTo>
                      <a:lnTo>
                        <a:pt x="56" y="1010"/>
                      </a:lnTo>
                      <a:lnTo>
                        <a:pt x="42" y="1000"/>
                      </a:lnTo>
                      <a:lnTo>
                        <a:pt x="30" y="988"/>
                      </a:lnTo>
                      <a:lnTo>
                        <a:pt x="18" y="978"/>
                      </a:lnTo>
                      <a:lnTo>
                        <a:pt x="10" y="966"/>
                      </a:lnTo>
                      <a:lnTo>
                        <a:pt x="4" y="954"/>
                      </a:lnTo>
                      <a:lnTo>
                        <a:pt x="2" y="942"/>
                      </a:lnTo>
                      <a:lnTo>
                        <a:pt x="0" y="930"/>
                      </a:lnTo>
                      <a:lnTo>
                        <a:pt x="2" y="882"/>
                      </a:lnTo>
                      <a:lnTo>
                        <a:pt x="4" y="836"/>
                      </a:lnTo>
                      <a:lnTo>
                        <a:pt x="10" y="788"/>
                      </a:lnTo>
                      <a:lnTo>
                        <a:pt x="18" y="742"/>
                      </a:lnTo>
                      <a:lnTo>
                        <a:pt x="30" y="698"/>
                      </a:lnTo>
                      <a:lnTo>
                        <a:pt x="42" y="654"/>
                      </a:lnTo>
                      <a:lnTo>
                        <a:pt x="56" y="610"/>
                      </a:lnTo>
                      <a:lnTo>
                        <a:pt x="74" y="568"/>
                      </a:lnTo>
                      <a:lnTo>
                        <a:pt x="92" y="526"/>
                      </a:lnTo>
                      <a:lnTo>
                        <a:pt x="112" y="486"/>
                      </a:lnTo>
                      <a:lnTo>
                        <a:pt x="134" y="448"/>
                      </a:lnTo>
                      <a:lnTo>
                        <a:pt x="158" y="410"/>
                      </a:lnTo>
                      <a:lnTo>
                        <a:pt x="184" y="374"/>
                      </a:lnTo>
                      <a:lnTo>
                        <a:pt x="212" y="338"/>
                      </a:lnTo>
                      <a:lnTo>
                        <a:pt x="242" y="304"/>
                      </a:lnTo>
                      <a:lnTo>
                        <a:pt x="272" y="272"/>
                      </a:lnTo>
                      <a:lnTo>
                        <a:pt x="304" y="242"/>
                      </a:lnTo>
                      <a:lnTo>
                        <a:pt x="338" y="212"/>
                      </a:lnTo>
                      <a:lnTo>
                        <a:pt x="374" y="184"/>
                      </a:lnTo>
                      <a:lnTo>
                        <a:pt x="410" y="158"/>
                      </a:lnTo>
                      <a:lnTo>
                        <a:pt x="448" y="134"/>
                      </a:lnTo>
                      <a:lnTo>
                        <a:pt x="488" y="112"/>
                      </a:lnTo>
                      <a:lnTo>
                        <a:pt x="528" y="92"/>
                      </a:lnTo>
                      <a:lnTo>
                        <a:pt x="568" y="72"/>
                      </a:lnTo>
                      <a:lnTo>
                        <a:pt x="610" y="56"/>
                      </a:lnTo>
                      <a:lnTo>
                        <a:pt x="654" y="42"/>
                      </a:lnTo>
                      <a:lnTo>
                        <a:pt x="698" y="28"/>
                      </a:lnTo>
                      <a:lnTo>
                        <a:pt x="744" y="18"/>
                      </a:lnTo>
                      <a:lnTo>
                        <a:pt x="790" y="10"/>
                      </a:lnTo>
                      <a:lnTo>
                        <a:pt x="836" y="4"/>
                      </a:lnTo>
                      <a:lnTo>
                        <a:pt x="882" y="0"/>
                      </a:lnTo>
                      <a:lnTo>
                        <a:pt x="930" y="0"/>
                      </a:lnTo>
                      <a:lnTo>
                        <a:pt x="978" y="0"/>
                      </a:lnTo>
                      <a:lnTo>
                        <a:pt x="1026" y="4"/>
                      </a:lnTo>
                      <a:lnTo>
                        <a:pt x="1072" y="10"/>
                      </a:lnTo>
                      <a:lnTo>
                        <a:pt x="1118" y="18"/>
                      </a:lnTo>
                      <a:lnTo>
                        <a:pt x="1164" y="28"/>
                      </a:lnTo>
                      <a:lnTo>
                        <a:pt x="1208" y="42"/>
                      </a:lnTo>
                      <a:lnTo>
                        <a:pt x="1250" y="56"/>
                      </a:lnTo>
                      <a:lnTo>
                        <a:pt x="1294" y="72"/>
                      </a:lnTo>
                      <a:lnTo>
                        <a:pt x="1334" y="92"/>
                      </a:lnTo>
                      <a:lnTo>
                        <a:pt x="1374" y="112"/>
                      </a:lnTo>
                      <a:lnTo>
                        <a:pt x="1414" y="134"/>
                      </a:lnTo>
                      <a:lnTo>
                        <a:pt x="1452" y="158"/>
                      </a:lnTo>
                      <a:lnTo>
                        <a:pt x="1488" y="184"/>
                      </a:lnTo>
                      <a:lnTo>
                        <a:pt x="1522" y="212"/>
                      </a:lnTo>
                      <a:lnTo>
                        <a:pt x="1556" y="242"/>
                      </a:lnTo>
                      <a:lnTo>
                        <a:pt x="1588" y="272"/>
                      </a:lnTo>
                      <a:lnTo>
                        <a:pt x="1620" y="304"/>
                      </a:lnTo>
                      <a:lnTo>
                        <a:pt x="1650" y="338"/>
                      </a:lnTo>
                      <a:lnTo>
                        <a:pt x="1676" y="374"/>
                      </a:lnTo>
                      <a:lnTo>
                        <a:pt x="1702" y="410"/>
                      </a:lnTo>
                      <a:lnTo>
                        <a:pt x="1726" y="448"/>
                      </a:lnTo>
                      <a:lnTo>
                        <a:pt x="1750" y="486"/>
                      </a:lnTo>
                      <a:lnTo>
                        <a:pt x="1770" y="526"/>
                      </a:lnTo>
                      <a:lnTo>
                        <a:pt x="1788" y="568"/>
                      </a:lnTo>
                      <a:lnTo>
                        <a:pt x="1806" y="610"/>
                      </a:lnTo>
                      <a:lnTo>
                        <a:pt x="1820" y="654"/>
                      </a:lnTo>
                      <a:lnTo>
                        <a:pt x="1832" y="698"/>
                      </a:lnTo>
                      <a:lnTo>
                        <a:pt x="1842" y="742"/>
                      </a:lnTo>
                      <a:lnTo>
                        <a:pt x="1850" y="788"/>
                      </a:lnTo>
                      <a:lnTo>
                        <a:pt x="1856" y="836"/>
                      </a:lnTo>
                      <a:lnTo>
                        <a:pt x="1860" y="882"/>
                      </a:lnTo>
                      <a:lnTo>
                        <a:pt x="1862" y="93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ababa"/>
                    </a:gs>
                    <a:gs pos="100000">
                      <a:srgbClr val="8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9360" rIns="99360" tIns="49680" bIns="49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Oval 432"/>
                <p:cNvSpPr/>
                <p:nvPr/>
              </p:nvSpPr>
              <p:spPr>
                <a:xfrm>
                  <a:off x="4993920" y="4086360"/>
                  <a:ext cx="498240" cy="468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50196"/>
                      </a:srgbClr>
                    </a:gs>
                    <a:gs pos="100000">
                      <a:srgbClr val="67abf5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9360" rIns="99360" tIns="49680" bIns="496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95400"/>
                      <a:tab algn="l" pos="1990800"/>
                      <a:tab algn="l" pos="2986200"/>
                      <a:tab algn="l" pos="3981600"/>
                      <a:tab algn="l" pos="4976640"/>
                      <a:tab algn="l" pos="5972040"/>
                      <a:tab algn="l" pos="6967440"/>
                      <a:tab algn="l" pos="7962840"/>
                      <a:tab algn="l" pos="8958240"/>
                      <a:tab algn="l" pos="9953640"/>
                      <a:tab algn="l" pos="109490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87" name="Text Box 433"/>
            <p:cNvSpPr/>
            <p:nvPr/>
          </p:nvSpPr>
          <p:spPr>
            <a:xfrm>
              <a:off x="4372200" y="4105080"/>
              <a:ext cx="2981880" cy="13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  <a:ea typeface="Gulim"/>
                </a:rPr>
                <a:t>Stylis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  <a:ea typeface="Gulim"/>
                </a:rPr>
                <a:t>templat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  <a:ea typeface="Gulim"/>
                </a:rPr>
                <a:t>can be a valuable aid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  <a:ea typeface="Gulim"/>
                </a:rPr>
                <a:t>Creative professiona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Text Box 434"/>
            <p:cNvSpPr/>
            <p:nvPr/>
          </p:nvSpPr>
          <p:spPr>
            <a:xfrm>
              <a:off x="5297400" y="2073600"/>
              <a:ext cx="111240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  <a:ea typeface="Gulim"/>
                </a:rPr>
                <a:t>Clarity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  <a:ea typeface="Gulim"/>
                </a:rPr>
                <a:t>Impa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AutoShape 435"/>
            <p:cNvSpPr/>
            <p:nvPr/>
          </p:nvSpPr>
          <p:spPr>
            <a:xfrm>
              <a:off x="5434560" y="3048840"/>
              <a:ext cx="870480" cy="677160"/>
            </a:xfrm>
            <a:prstGeom prst="upArrow">
              <a:avLst>
                <a:gd name="adj1" fmla="val 52833"/>
                <a:gd name="adj2" fmla="val 45940"/>
              </a:avLst>
            </a:prstGeom>
            <a:gradFill rotWithShape="0">
              <a:gsLst>
                <a:gs pos="0">
                  <a:srgbClr val="404040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436"/>
            <p:cNvSpPr/>
            <p:nvPr/>
          </p:nvSpPr>
          <p:spPr>
            <a:xfrm>
              <a:off x="5126040" y="1553760"/>
              <a:ext cx="1508400" cy="473760"/>
            </a:xfrm>
            <a:custGeom>
              <a:avLst/>
              <a:gdLst>
                <a:gd name="textAreaLeft" fmla="*/ 0 w 1508400"/>
                <a:gd name="textAreaRight" fmla="*/ 1508760 w 1508400"/>
                <a:gd name="textAreaTop" fmla="*/ 0 h 473760"/>
                <a:gd name="textAreaBottom" fmla="*/ 474120 h 473760"/>
              </a:gdLst>
              <a:ahLst/>
              <a:rect l="textAreaLeft" t="textAreaTop" r="textAreaRight" b="textAreaBottom"/>
              <a:pathLst>
                <a:path w="4756" h="1576">
                  <a:moveTo>
                    <a:pt x="0" y="1576"/>
                  </a:moveTo>
                  <a:lnTo>
                    <a:pt x="0" y="1576"/>
                  </a:lnTo>
                  <a:lnTo>
                    <a:pt x="24" y="1518"/>
                  </a:lnTo>
                  <a:lnTo>
                    <a:pt x="50" y="1462"/>
                  </a:lnTo>
                  <a:lnTo>
                    <a:pt x="78" y="1406"/>
                  </a:lnTo>
                  <a:lnTo>
                    <a:pt x="108" y="1350"/>
                  </a:lnTo>
                  <a:lnTo>
                    <a:pt x="138" y="1296"/>
                  </a:lnTo>
                  <a:lnTo>
                    <a:pt x="170" y="1242"/>
                  </a:lnTo>
                  <a:lnTo>
                    <a:pt x="204" y="1190"/>
                  </a:lnTo>
                  <a:lnTo>
                    <a:pt x="238" y="1138"/>
                  </a:lnTo>
                  <a:lnTo>
                    <a:pt x="272" y="1086"/>
                  </a:lnTo>
                  <a:lnTo>
                    <a:pt x="310" y="1036"/>
                  </a:lnTo>
                  <a:lnTo>
                    <a:pt x="348" y="988"/>
                  </a:lnTo>
                  <a:lnTo>
                    <a:pt x="386" y="940"/>
                  </a:lnTo>
                  <a:lnTo>
                    <a:pt x="426" y="892"/>
                  </a:lnTo>
                  <a:lnTo>
                    <a:pt x="468" y="846"/>
                  </a:lnTo>
                  <a:lnTo>
                    <a:pt x="510" y="800"/>
                  </a:lnTo>
                  <a:lnTo>
                    <a:pt x="552" y="756"/>
                  </a:lnTo>
                  <a:lnTo>
                    <a:pt x="596" y="712"/>
                  </a:lnTo>
                  <a:lnTo>
                    <a:pt x="642" y="670"/>
                  </a:lnTo>
                  <a:lnTo>
                    <a:pt x="688" y="630"/>
                  </a:lnTo>
                  <a:lnTo>
                    <a:pt x="736" y="590"/>
                  </a:lnTo>
                  <a:lnTo>
                    <a:pt x="784" y="550"/>
                  </a:lnTo>
                  <a:lnTo>
                    <a:pt x="834" y="512"/>
                  </a:lnTo>
                  <a:lnTo>
                    <a:pt x="884" y="476"/>
                  </a:lnTo>
                  <a:lnTo>
                    <a:pt x="934" y="440"/>
                  </a:lnTo>
                  <a:lnTo>
                    <a:pt x="986" y="406"/>
                  </a:lnTo>
                  <a:lnTo>
                    <a:pt x="1040" y="374"/>
                  </a:lnTo>
                  <a:lnTo>
                    <a:pt x="1092" y="342"/>
                  </a:lnTo>
                  <a:lnTo>
                    <a:pt x="1148" y="312"/>
                  </a:lnTo>
                  <a:lnTo>
                    <a:pt x="1202" y="282"/>
                  </a:lnTo>
                  <a:lnTo>
                    <a:pt x="1258" y="254"/>
                  </a:lnTo>
                  <a:lnTo>
                    <a:pt x="1316" y="228"/>
                  </a:lnTo>
                  <a:lnTo>
                    <a:pt x="1374" y="202"/>
                  </a:lnTo>
                  <a:lnTo>
                    <a:pt x="1432" y="178"/>
                  </a:lnTo>
                  <a:lnTo>
                    <a:pt x="1490" y="156"/>
                  </a:lnTo>
                  <a:lnTo>
                    <a:pt x="1550" y="136"/>
                  </a:lnTo>
                  <a:lnTo>
                    <a:pt x="1610" y="116"/>
                  </a:lnTo>
                  <a:lnTo>
                    <a:pt x="1672" y="98"/>
                  </a:lnTo>
                  <a:lnTo>
                    <a:pt x="1732" y="80"/>
                  </a:lnTo>
                  <a:lnTo>
                    <a:pt x="1794" y="66"/>
                  </a:lnTo>
                  <a:lnTo>
                    <a:pt x="1858" y="52"/>
                  </a:lnTo>
                  <a:lnTo>
                    <a:pt x="1922" y="40"/>
                  </a:lnTo>
                  <a:lnTo>
                    <a:pt x="1984" y="30"/>
                  </a:lnTo>
                  <a:lnTo>
                    <a:pt x="2050" y="20"/>
                  </a:lnTo>
                  <a:lnTo>
                    <a:pt x="2114" y="12"/>
                  </a:lnTo>
                  <a:lnTo>
                    <a:pt x="2180" y="8"/>
                  </a:lnTo>
                  <a:lnTo>
                    <a:pt x="2246" y="2"/>
                  </a:lnTo>
                  <a:lnTo>
                    <a:pt x="2312" y="0"/>
                  </a:lnTo>
                  <a:lnTo>
                    <a:pt x="2378" y="0"/>
                  </a:lnTo>
                  <a:lnTo>
                    <a:pt x="2444" y="0"/>
                  </a:lnTo>
                  <a:lnTo>
                    <a:pt x="2510" y="2"/>
                  </a:lnTo>
                  <a:lnTo>
                    <a:pt x="2576" y="8"/>
                  </a:lnTo>
                  <a:lnTo>
                    <a:pt x="2642" y="12"/>
                  </a:lnTo>
                  <a:lnTo>
                    <a:pt x="2706" y="20"/>
                  </a:lnTo>
                  <a:lnTo>
                    <a:pt x="2772" y="30"/>
                  </a:lnTo>
                  <a:lnTo>
                    <a:pt x="2834" y="40"/>
                  </a:lnTo>
                  <a:lnTo>
                    <a:pt x="2898" y="52"/>
                  </a:lnTo>
                  <a:lnTo>
                    <a:pt x="2962" y="66"/>
                  </a:lnTo>
                  <a:lnTo>
                    <a:pt x="3024" y="80"/>
                  </a:lnTo>
                  <a:lnTo>
                    <a:pt x="3084" y="98"/>
                  </a:lnTo>
                  <a:lnTo>
                    <a:pt x="3146" y="116"/>
                  </a:lnTo>
                  <a:lnTo>
                    <a:pt x="3206" y="136"/>
                  </a:lnTo>
                  <a:lnTo>
                    <a:pt x="3266" y="156"/>
                  </a:lnTo>
                  <a:lnTo>
                    <a:pt x="3324" y="178"/>
                  </a:lnTo>
                  <a:lnTo>
                    <a:pt x="3382" y="202"/>
                  </a:lnTo>
                  <a:lnTo>
                    <a:pt x="3440" y="228"/>
                  </a:lnTo>
                  <a:lnTo>
                    <a:pt x="3498" y="254"/>
                  </a:lnTo>
                  <a:lnTo>
                    <a:pt x="3554" y="282"/>
                  </a:lnTo>
                  <a:lnTo>
                    <a:pt x="3608" y="312"/>
                  </a:lnTo>
                  <a:lnTo>
                    <a:pt x="3664" y="342"/>
                  </a:lnTo>
                  <a:lnTo>
                    <a:pt x="3716" y="374"/>
                  </a:lnTo>
                  <a:lnTo>
                    <a:pt x="3770" y="406"/>
                  </a:lnTo>
                  <a:lnTo>
                    <a:pt x="3822" y="440"/>
                  </a:lnTo>
                  <a:lnTo>
                    <a:pt x="3872" y="476"/>
                  </a:lnTo>
                  <a:lnTo>
                    <a:pt x="3922" y="512"/>
                  </a:lnTo>
                  <a:lnTo>
                    <a:pt x="3972" y="550"/>
                  </a:lnTo>
                  <a:lnTo>
                    <a:pt x="4020" y="590"/>
                  </a:lnTo>
                  <a:lnTo>
                    <a:pt x="4068" y="630"/>
                  </a:lnTo>
                  <a:lnTo>
                    <a:pt x="4114" y="670"/>
                  </a:lnTo>
                  <a:lnTo>
                    <a:pt x="4160" y="712"/>
                  </a:lnTo>
                  <a:lnTo>
                    <a:pt x="4204" y="756"/>
                  </a:lnTo>
                  <a:lnTo>
                    <a:pt x="4246" y="800"/>
                  </a:lnTo>
                  <a:lnTo>
                    <a:pt x="4288" y="846"/>
                  </a:lnTo>
                  <a:lnTo>
                    <a:pt x="4330" y="892"/>
                  </a:lnTo>
                  <a:lnTo>
                    <a:pt x="4370" y="940"/>
                  </a:lnTo>
                  <a:lnTo>
                    <a:pt x="4410" y="988"/>
                  </a:lnTo>
                  <a:lnTo>
                    <a:pt x="4446" y="1036"/>
                  </a:lnTo>
                  <a:lnTo>
                    <a:pt x="4484" y="1086"/>
                  </a:lnTo>
                  <a:lnTo>
                    <a:pt x="4518" y="1138"/>
                  </a:lnTo>
                  <a:lnTo>
                    <a:pt x="4552" y="1190"/>
                  </a:lnTo>
                  <a:lnTo>
                    <a:pt x="4586" y="1242"/>
                  </a:lnTo>
                  <a:lnTo>
                    <a:pt x="4618" y="1296"/>
                  </a:lnTo>
                  <a:lnTo>
                    <a:pt x="4648" y="1350"/>
                  </a:lnTo>
                  <a:lnTo>
                    <a:pt x="4678" y="1406"/>
                  </a:lnTo>
                  <a:lnTo>
                    <a:pt x="4706" y="1462"/>
                  </a:lnTo>
                  <a:lnTo>
                    <a:pt x="4732" y="1518"/>
                  </a:lnTo>
                  <a:lnTo>
                    <a:pt x="4756" y="1576"/>
                  </a:lnTo>
                  <a:lnTo>
                    <a:pt x="0" y="157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Oval 439"/>
            <p:cNvSpPr/>
            <p:nvPr/>
          </p:nvSpPr>
          <p:spPr>
            <a:xfrm>
              <a:off x="3171600" y="3949200"/>
              <a:ext cx="1832040" cy="7185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Oval 441"/>
            <p:cNvSpPr/>
            <p:nvPr/>
          </p:nvSpPr>
          <p:spPr>
            <a:xfrm>
              <a:off x="3186720" y="2171160"/>
              <a:ext cx="1775880" cy="1668960"/>
            </a:xfrm>
            <a:prstGeom prst="ellipse">
              <a:avLst/>
            </a:prstGeom>
            <a:gradFill rotWithShape="0">
              <a:gsLst>
                <a:gs pos="0">
                  <a:srgbClr val="c80000"/>
                </a:gs>
                <a:gs pos="100000">
                  <a:srgbClr val="ff0101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Oval 442"/>
            <p:cNvSpPr/>
            <p:nvPr/>
          </p:nvSpPr>
          <p:spPr>
            <a:xfrm>
              <a:off x="3536280" y="2379960"/>
              <a:ext cx="297720" cy="28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7abf5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Text Box 443"/>
            <p:cNvSpPr/>
            <p:nvPr/>
          </p:nvSpPr>
          <p:spPr>
            <a:xfrm>
              <a:off x="3368520" y="2717640"/>
              <a:ext cx="137304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  <a:ea typeface="Gulim"/>
                </a:rPr>
                <a:t>Desig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  <a:ea typeface="Gulim"/>
                </a:rPr>
                <a:t>Inspir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444"/>
            <p:cNvSpPr/>
            <p:nvPr/>
          </p:nvSpPr>
          <p:spPr>
            <a:xfrm>
              <a:off x="3309480" y="2199600"/>
              <a:ext cx="1508040" cy="473400"/>
            </a:xfrm>
            <a:custGeom>
              <a:avLst/>
              <a:gdLst>
                <a:gd name="textAreaLeft" fmla="*/ 0 w 1508040"/>
                <a:gd name="textAreaRight" fmla="*/ 1508400 w 1508040"/>
                <a:gd name="textAreaTop" fmla="*/ 0 h 473400"/>
                <a:gd name="textAreaBottom" fmla="*/ 473760 h 473400"/>
              </a:gdLst>
              <a:ahLst/>
              <a:rect l="textAreaLeft" t="textAreaTop" r="textAreaRight" b="textAreaBottom"/>
              <a:pathLst>
                <a:path w="4756" h="1576">
                  <a:moveTo>
                    <a:pt x="0" y="1576"/>
                  </a:moveTo>
                  <a:lnTo>
                    <a:pt x="0" y="1576"/>
                  </a:lnTo>
                  <a:lnTo>
                    <a:pt x="24" y="1518"/>
                  </a:lnTo>
                  <a:lnTo>
                    <a:pt x="50" y="1462"/>
                  </a:lnTo>
                  <a:lnTo>
                    <a:pt x="78" y="1406"/>
                  </a:lnTo>
                  <a:lnTo>
                    <a:pt x="108" y="1350"/>
                  </a:lnTo>
                  <a:lnTo>
                    <a:pt x="138" y="1296"/>
                  </a:lnTo>
                  <a:lnTo>
                    <a:pt x="170" y="1242"/>
                  </a:lnTo>
                  <a:lnTo>
                    <a:pt x="204" y="1190"/>
                  </a:lnTo>
                  <a:lnTo>
                    <a:pt x="238" y="1138"/>
                  </a:lnTo>
                  <a:lnTo>
                    <a:pt x="272" y="1086"/>
                  </a:lnTo>
                  <a:lnTo>
                    <a:pt x="310" y="1036"/>
                  </a:lnTo>
                  <a:lnTo>
                    <a:pt x="348" y="988"/>
                  </a:lnTo>
                  <a:lnTo>
                    <a:pt x="386" y="940"/>
                  </a:lnTo>
                  <a:lnTo>
                    <a:pt x="426" y="892"/>
                  </a:lnTo>
                  <a:lnTo>
                    <a:pt x="468" y="846"/>
                  </a:lnTo>
                  <a:lnTo>
                    <a:pt x="510" y="800"/>
                  </a:lnTo>
                  <a:lnTo>
                    <a:pt x="552" y="756"/>
                  </a:lnTo>
                  <a:lnTo>
                    <a:pt x="596" y="712"/>
                  </a:lnTo>
                  <a:lnTo>
                    <a:pt x="642" y="670"/>
                  </a:lnTo>
                  <a:lnTo>
                    <a:pt x="688" y="630"/>
                  </a:lnTo>
                  <a:lnTo>
                    <a:pt x="736" y="590"/>
                  </a:lnTo>
                  <a:lnTo>
                    <a:pt x="784" y="550"/>
                  </a:lnTo>
                  <a:lnTo>
                    <a:pt x="834" y="512"/>
                  </a:lnTo>
                  <a:lnTo>
                    <a:pt x="884" y="476"/>
                  </a:lnTo>
                  <a:lnTo>
                    <a:pt x="934" y="440"/>
                  </a:lnTo>
                  <a:lnTo>
                    <a:pt x="986" y="406"/>
                  </a:lnTo>
                  <a:lnTo>
                    <a:pt x="1040" y="374"/>
                  </a:lnTo>
                  <a:lnTo>
                    <a:pt x="1092" y="342"/>
                  </a:lnTo>
                  <a:lnTo>
                    <a:pt x="1148" y="312"/>
                  </a:lnTo>
                  <a:lnTo>
                    <a:pt x="1202" y="282"/>
                  </a:lnTo>
                  <a:lnTo>
                    <a:pt x="1258" y="254"/>
                  </a:lnTo>
                  <a:lnTo>
                    <a:pt x="1316" y="228"/>
                  </a:lnTo>
                  <a:lnTo>
                    <a:pt x="1374" y="202"/>
                  </a:lnTo>
                  <a:lnTo>
                    <a:pt x="1432" y="178"/>
                  </a:lnTo>
                  <a:lnTo>
                    <a:pt x="1490" y="156"/>
                  </a:lnTo>
                  <a:lnTo>
                    <a:pt x="1550" y="136"/>
                  </a:lnTo>
                  <a:lnTo>
                    <a:pt x="1610" y="116"/>
                  </a:lnTo>
                  <a:lnTo>
                    <a:pt x="1672" y="98"/>
                  </a:lnTo>
                  <a:lnTo>
                    <a:pt x="1732" y="80"/>
                  </a:lnTo>
                  <a:lnTo>
                    <a:pt x="1794" y="66"/>
                  </a:lnTo>
                  <a:lnTo>
                    <a:pt x="1858" y="52"/>
                  </a:lnTo>
                  <a:lnTo>
                    <a:pt x="1922" y="40"/>
                  </a:lnTo>
                  <a:lnTo>
                    <a:pt x="1984" y="30"/>
                  </a:lnTo>
                  <a:lnTo>
                    <a:pt x="2050" y="20"/>
                  </a:lnTo>
                  <a:lnTo>
                    <a:pt x="2114" y="12"/>
                  </a:lnTo>
                  <a:lnTo>
                    <a:pt x="2180" y="8"/>
                  </a:lnTo>
                  <a:lnTo>
                    <a:pt x="2246" y="2"/>
                  </a:lnTo>
                  <a:lnTo>
                    <a:pt x="2312" y="0"/>
                  </a:lnTo>
                  <a:lnTo>
                    <a:pt x="2378" y="0"/>
                  </a:lnTo>
                  <a:lnTo>
                    <a:pt x="2444" y="0"/>
                  </a:lnTo>
                  <a:lnTo>
                    <a:pt x="2510" y="2"/>
                  </a:lnTo>
                  <a:lnTo>
                    <a:pt x="2576" y="8"/>
                  </a:lnTo>
                  <a:lnTo>
                    <a:pt x="2642" y="12"/>
                  </a:lnTo>
                  <a:lnTo>
                    <a:pt x="2706" y="20"/>
                  </a:lnTo>
                  <a:lnTo>
                    <a:pt x="2772" y="30"/>
                  </a:lnTo>
                  <a:lnTo>
                    <a:pt x="2834" y="40"/>
                  </a:lnTo>
                  <a:lnTo>
                    <a:pt x="2898" y="52"/>
                  </a:lnTo>
                  <a:lnTo>
                    <a:pt x="2962" y="66"/>
                  </a:lnTo>
                  <a:lnTo>
                    <a:pt x="3024" y="80"/>
                  </a:lnTo>
                  <a:lnTo>
                    <a:pt x="3084" y="98"/>
                  </a:lnTo>
                  <a:lnTo>
                    <a:pt x="3146" y="116"/>
                  </a:lnTo>
                  <a:lnTo>
                    <a:pt x="3206" y="136"/>
                  </a:lnTo>
                  <a:lnTo>
                    <a:pt x="3266" y="156"/>
                  </a:lnTo>
                  <a:lnTo>
                    <a:pt x="3324" y="178"/>
                  </a:lnTo>
                  <a:lnTo>
                    <a:pt x="3382" y="202"/>
                  </a:lnTo>
                  <a:lnTo>
                    <a:pt x="3440" y="228"/>
                  </a:lnTo>
                  <a:lnTo>
                    <a:pt x="3498" y="254"/>
                  </a:lnTo>
                  <a:lnTo>
                    <a:pt x="3554" y="282"/>
                  </a:lnTo>
                  <a:lnTo>
                    <a:pt x="3608" y="312"/>
                  </a:lnTo>
                  <a:lnTo>
                    <a:pt x="3664" y="342"/>
                  </a:lnTo>
                  <a:lnTo>
                    <a:pt x="3716" y="374"/>
                  </a:lnTo>
                  <a:lnTo>
                    <a:pt x="3770" y="406"/>
                  </a:lnTo>
                  <a:lnTo>
                    <a:pt x="3822" y="440"/>
                  </a:lnTo>
                  <a:lnTo>
                    <a:pt x="3872" y="476"/>
                  </a:lnTo>
                  <a:lnTo>
                    <a:pt x="3922" y="512"/>
                  </a:lnTo>
                  <a:lnTo>
                    <a:pt x="3972" y="550"/>
                  </a:lnTo>
                  <a:lnTo>
                    <a:pt x="4020" y="590"/>
                  </a:lnTo>
                  <a:lnTo>
                    <a:pt x="4068" y="630"/>
                  </a:lnTo>
                  <a:lnTo>
                    <a:pt x="4114" y="670"/>
                  </a:lnTo>
                  <a:lnTo>
                    <a:pt x="4160" y="712"/>
                  </a:lnTo>
                  <a:lnTo>
                    <a:pt x="4204" y="756"/>
                  </a:lnTo>
                  <a:lnTo>
                    <a:pt x="4246" y="800"/>
                  </a:lnTo>
                  <a:lnTo>
                    <a:pt x="4288" y="846"/>
                  </a:lnTo>
                  <a:lnTo>
                    <a:pt x="4330" y="892"/>
                  </a:lnTo>
                  <a:lnTo>
                    <a:pt x="4370" y="940"/>
                  </a:lnTo>
                  <a:lnTo>
                    <a:pt x="4410" y="988"/>
                  </a:lnTo>
                  <a:lnTo>
                    <a:pt x="4446" y="1036"/>
                  </a:lnTo>
                  <a:lnTo>
                    <a:pt x="4484" y="1086"/>
                  </a:lnTo>
                  <a:lnTo>
                    <a:pt x="4518" y="1138"/>
                  </a:lnTo>
                  <a:lnTo>
                    <a:pt x="4552" y="1190"/>
                  </a:lnTo>
                  <a:lnTo>
                    <a:pt x="4586" y="1242"/>
                  </a:lnTo>
                  <a:lnTo>
                    <a:pt x="4618" y="1296"/>
                  </a:lnTo>
                  <a:lnTo>
                    <a:pt x="4648" y="1350"/>
                  </a:lnTo>
                  <a:lnTo>
                    <a:pt x="4678" y="1406"/>
                  </a:lnTo>
                  <a:lnTo>
                    <a:pt x="4706" y="1462"/>
                  </a:lnTo>
                  <a:lnTo>
                    <a:pt x="4732" y="1518"/>
                  </a:lnTo>
                  <a:lnTo>
                    <a:pt x="4756" y="1576"/>
                  </a:lnTo>
                  <a:lnTo>
                    <a:pt x="0" y="157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Oval 447"/>
            <p:cNvSpPr/>
            <p:nvPr/>
          </p:nvSpPr>
          <p:spPr>
            <a:xfrm>
              <a:off x="6771960" y="3949200"/>
              <a:ext cx="1832040" cy="7185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Oval 449"/>
            <p:cNvSpPr/>
            <p:nvPr/>
          </p:nvSpPr>
          <p:spPr>
            <a:xfrm>
              <a:off x="6787080" y="2171160"/>
              <a:ext cx="1768320" cy="1668960"/>
            </a:xfrm>
            <a:prstGeom prst="ellipse">
              <a:avLst/>
            </a:prstGeom>
            <a:gradFill rotWithShape="0">
              <a:gsLst>
                <a:gs pos="0">
                  <a:srgbClr val="c80000"/>
                </a:gs>
                <a:gs pos="100000">
                  <a:srgbClr val="ff0101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Oval 450"/>
            <p:cNvSpPr/>
            <p:nvPr/>
          </p:nvSpPr>
          <p:spPr>
            <a:xfrm>
              <a:off x="7136640" y="2379960"/>
              <a:ext cx="297720" cy="28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7abf5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Text Box 451"/>
            <p:cNvSpPr/>
            <p:nvPr/>
          </p:nvSpPr>
          <p:spPr>
            <a:xfrm>
              <a:off x="7075440" y="2717640"/>
              <a:ext cx="119016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  <a:ea typeface="Gulim"/>
                </a:rPr>
                <a:t>Premi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  <a:ea typeface="Gulim"/>
                </a:rPr>
                <a:t>Desig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452"/>
            <p:cNvSpPr/>
            <p:nvPr/>
          </p:nvSpPr>
          <p:spPr>
            <a:xfrm>
              <a:off x="6908040" y="2199600"/>
              <a:ext cx="1508400" cy="473400"/>
            </a:xfrm>
            <a:custGeom>
              <a:avLst/>
              <a:gdLst>
                <a:gd name="textAreaLeft" fmla="*/ 0 w 1508400"/>
                <a:gd name="textAreaRight" fmla="*/ 1508760 w 1508400"/>
                <a:gd name="textAreaTop" fmla="*/ 0 h 473400"/>
                <a:gd name="textAreaBottom" fmla="*/ 473760 h 473400"/>
              </a:gdLst>
              <a:ahLst/>
              <a:rect l="textAreaLeft" t="textAreaTop" r="textAreaRight" b="textAreaBottom"/>
              <a:pathLst>
                <a:path w="4756" h="1576">
                  <a:moveTo>
                    <a:pt x="0" y="1576"/>
                  </a:moveTo>
                  <a:lnTo>
                    <a:pt x="0" y="1576"/>
                  </a:lnTo>
                  <a:lnTo>
                    <a:pt x="24" y="1518"/>
                  </a:lnTo>
                  <a:lnTo>
                    <a:pt x="50" y="1462"/>
                  </a:lnTo>
                  <a:lnTo>
                    <a:pt x="78" y="1406"/>
                  </a:lnTo>
                  <a:lnTo>
                    <a:pt x="108" y="1350"/>
                  </a:lnTo>
                  <a:lnTo>
                    <a:pt x="138" y="1296"/>
                  </a:lnTo>
                  <a:lnTo>
                    <a:pt x="170" y="1242"/>
                  </a:lnTo>
                  <a:lnTo>
                    <a:pt x="204" y="1190"/>
                  </a:lnTo>
                  <a:lnTo>
                    <a:pt x="238" y="1138"/>
                  </a:lnTo>
                  <a:lnTo>
                    <a:pt x="272" y="1086"/>
                  </a:lnTo>
                  <a:lnTo>
                    <a:pt x="310" y="1036"/>
                  </a:lnTo>
                  <a:lnTo>
                    <a:pt x="348" y="988"/>
                  </a:lnTo>
                  <a:lnTo>
                    <a:pt x="386" y="940"/>
                  </a:lnTo>
                  <a:lnTo>
                    <a:pt x="426" y="892"/>
                  </a:lnTo>
                  <a:lnTo>
                    <a:pt x="468" y="846"/>
                  </a:lnTo>
                  <a:lnTo>
                    <a:pt x="510" y="800"/>
                  </a:lnTo>
                  <a:lnTo>
                    <a:pt x="552" y="756"/>
                  </a:lnTo>
                  <a:lnTo>
                    <a:pt x="596" y="712"/>
                  </a:lnTo>
                  <a:lnTo>
                    <a:pt x="642" y="670"/>
                  </a:lnTo>
                  <a:lnTo>
                    <a:pt x="688" y="630"/>
                  </a:lnTo>
                  <a:lnTo>
                    <a:pt x="736" y="590"/>
                  </a:lnTo>
                  <a:lnTo>
                    <a:pt x="784" y="550"/>
                  </a:lnTo>
                  <a:lnTo>
                    <a:pt x="834" y="512"/>
                  </a:lnTo>
                  <a:lnTo>
                    <a:pt x="884" y="476"/>
                  </a:lnTo>
                  <a:lnTo>
                    <a:pt x="934" y="440"/>
                  </a:lnTo>
                  <a:lnTo>
                    <a:pt x="986" y="406"/>
                  </a:lnTo>
                  <a:lnTo>
                    <a:pt x="1040" y="374"/>
                  </a:lnTo>
                  <a:lnTo>
                    <a:pt x="1092" y="342"/>
                  </a:lnTo>
                  <a:lnTo>
                    <a:pt x="1148" y="312"/>
                  </a:lnTo>
                  <a:lnTo>
                    <a:pt x="1202" y="282"/>
                  </a:lnTo>
                  <a:lnTo>
                    <a:pt x="1258" y="254"/>
                  </a:lnTo>
                  <a:lnTo>
                    <a:pt x="1316" y="228"/>
                  </a:lnTo>
                  <a:lnTo>
                    <a:pt x="1374" y="202"/>
                  </a:lnTo>
                  <a:lnTo>
                    <a:pt x="1432" y="178"/>
                  </a:lnTo>
                  <a:lnTo>
                    <a:pt x="1490" y="156"/>
                  </a:lnTo>
                  <a:lnTo>
                    <a:pt x="1550" y="136"/>
                  </a:lnTo>
                  <a:lnTo>
                    <a:pt x="1610" y="116"/>
                  </a:lnTo>
                  <a:lnTo>
                    <a:pt x="1672" y="98"/>
                  </a:lnTo>
                  <a:lnTo>
                    <a:pt x="1732" y="80"/>
                  </a:lnTo>
                  <a:lnTo>
                    <a:pt x="1794" y="66"/>
                  </a:lnTo>
                  <a:lnTo>
                    <a:pt x="1858" y="52"/>
                  </a:lnTo>
                  <a:lnTo>
                    <a:pt x="1922" y="40"/>
                  </a:lnTo>
                  <a:lnTo>
                    <a:pt x="1984" y="30"/>
                  </a:lnTo>
                  <a:lnTo>
                    <a:pt x="2050" y="20"/>
                  </a:lnTo>
                  <a:lnTo>
                    <a:pt x="2114" y="12"/>
                  </a:lnTo>
                  <a:lnTo>
                    <a:pt x="2180" y="8"/>
                  </a:lnTo>
                  <a:lnTo>
                    <a:pt x="2246" y="2"/>
                  </a:lnTo>
                  <a:lnTo>
                    <a:pt x="2312" y="0"/>
                  </a:lnTo>
                  <a:lnTo>
                    <a:pt x="2378" y="0"/>
                  </a:lnTo>
                  <a:lnTo>
                    <a:pt x="2444" y="0"/>
                  </a:lnTo>
                  <a:lnTo>
                    <a:pt x="2510" y="2"/>
                  </a:lnTo>
                  <a:lnTo>
                    <a:pt x="2576" y="8"/>
                  </a:lnTo>
                  <a:lnTo>
                    <a:pt x="2642" y="12"/>
                  </a:lnTo>
                  <a:lnTo>
                    <a:pt x="2706" y="20"/>
                  </a:lnTo>
                  <a:lnTo>
                    <a:pt x="2772" y="30"/>
                  </a:lnTo>
                  <a:lnTo>
                    <a:pt x="2834" y="40"/>
                  </a:lnTo>
                  <a:lnTo>
                    <a:pt x="2898" y="52"/>
                  </a:lnTo>
                  <a:lnTo>
                    <a:pt x="2962" y="66"/>
                  </a:lnTo>
                  <a:lnTo>
                    <a:pt x="3024" y="80"/>
                  </a:lnTo>
                  <a:lnTo>
                    <a:pt x="3084" y="98"/>
                  </a:lnTo>
                  <a:lnTo>
                    <a:pt x="3146" y="116"/>
                  </a:lnTo>
                  <a:lnTo>
                    <a:pt x="3206" y="136"/>
                  </a:lnTo>
                  <a:lnTo>
                    <a:pt x="3266" y="156"/>
                  </a:lnTo>
                  <a:lnTo>
                    <a:pt x="3324" y="178"/>
                  </a:lnTo>
                  <a:lnTo>
                    <a:pt x="3382" y="202"/>
                  </a:lnTo>
                  <a:lnTo>
                    <a:pt x="3440" y="228"/>
                  </a:lnTo>
                  <a:lnTo>
                    <a:pt x="3498" y="254"/>
                  </a:lnTo>
                  <a:lnTo>
                    <a:pt x="3554" y="282"/>
                  </a:lnTo>
                  <a:lnTo>
                    <a:pt x="3608" y="312"/>
                  </a:lnTo>
                  <a:lnTo>
                    <a:pt x="3664" y="342"/>
                  </a:lnTo>
                  <a:lnTo>
                    <a:pt x="3716" y="374"/>
                  </a:lnTo>
                  <a:lnTo>
                    <a:pt x="3770" y="406"/>
                  </a:lnTo>
                  <a:lnTo>
                    <a:pt x="3822" y="440"/>
                  </a:lnTo>
                  <a:lnTo>
                    <a:pt x="3872" y="476"/>
                  </a:lnTo>
                  <a:lnTo>
                    <a:pt x="3922" y="512"/>
                  </a:lnTo>
                  <a:lnTo>
                    <a:pt x="3972" y="550"/>
                  </a:lnTo>
                  <a:lnTo>
                    <a:pt x="4020" y="590"/>
                  </a:lnTo>
                  <a:lnTo>
                    <a:pt x="4068" y="630"/>
                  </a:lnTo>
                  <a:lnTo>
                    <a:pt x="4114" y="670"/>
                  </a:lnTo>
                  <a:lnTo>
                    <a:pt x="4160" y="712"/>
                  </a:lnTo>
                  <a:lnTo>
                    <a:pt x="4204" y="756"/>
                  </a:lnTo>
                  <a:lnTo>
                    <a:pt x="4246" y="800"/>
                  </a:lnTo>
                  <a:lnTo>
                    <a:pt x="4288" y="846"/>
                  </a:lnTo>
                  <a:lnTo>
                    <a:pt x="4330" y="892"/>
                  </a:lnTo>
                  <a:lnTo>
                    <a:pt x="4370" y="940"/>
                  </a:lnTo>
                  <a:lnTo>
                    <a:pt x="4410" y="988"/>
                  </a:lnTo>
                  <a:lnTo>
                    <a:pt x="4446" y="1036"/>
                  </a:lnTo>
                  <a:lnTo>
                    <a:pt x="4484" y="1086"/>
                  </a:lnTo>
                  <a:lnTo>
                    <a:pt x="4518" y="1138"/>
                  </a:lnTo>
                  <a:lnTo>
                    <a:pt x="4552" y="1190"/>
                  </a:lnTo>
                  <a:lnTo>
                    <a:pt x="4586" y="1242"/>
                  </a:lnTo>
                  <a:lnTo>
                    <a:pt x="4618" y="1296"/>
                  </a:lnTo>
                  <a:lnTo>
                    <a:pt x="4648" y="1350"/>
                  </a:lnTo>
                  <a:lnTo>
                    <a:pt x="4678" y="1406"/>
                  </a:lnTo>
                  <a:lnTo>
                    <a:pt x="4706" y="1462"/>
                  </a:lnTo>
                  <a:lnTo>
                    <a:pt x="4732" y="1518"/>
                  </a:lnTo>
                  <a:lnTo>
                    <a:pt x="4756" y="1576"/>
                  </a:lnTo>
                  <a:lnTo>
                    <a:pt x="0" y="157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453"/>
            <p:cNvSpPr/>
            <p:nvPr/>
          </p:nvSpPr>
          <p:spPr>
            <a:xfrm>
              <a:off x="4473360" y="3771720"/>
              <a:ext cx="2777760" cy="950400"/>
            </a:xfrm>
            <a:custGeom>
              <a:avLst/>
              <a:gdLst>
                <a:gd name="textAreaLeft" fmla="*/ 0 w 2777760"/>
                <a:gd name="textAreaRight" fmla="*/ 2778120 w 2777760"/>
                <a:gd name="textAreaTop" fmla="*/ 0 h 950400"/>
                <a:gd name="textAreaBottom" fmla="*/ 950760 h 950400"/>
              </a:gdLst>
              <a:ahLst/>
              <a:rect l="textAreaLeft" t="textAreaTop" r="textAreaRight" b="textAreaBottom"/>
              <a:pathLst>
                <a:path w="4756" h="1576">
                  <a:moveTo>
                    <a:pt x="0" y="1576"/>
                  </a:moveTo>
                  <a:lnTo>
                    <a:pt x="0" y="1576"/>
                  </a:lnTo>
                  <a:lnTo>
                    <a:pt x="24" y="1518"/>
                  </a:lnTo>
                  <a:lnTo>
                    <a:pt x="50" y="1462"/>
                  </a:lnTo>
                  <a:lnTo>
                    <a:pt x="78" y="1406"/>
                  </a:lnTo>
                  <a:lnTo>
                    <a:pt x="108" y="1350"/>
                  </a:lnTo>
                  <a:lnTo>
                    <a:pt x="138" y="1296"/>
                  </a:lnTo>
                  <a:lnTo>
                    <a:pt x="170" y="1242"/>
                  </a:lnTo>
                  <a:lnTo>
                    <a:pt x="204" y="1190"/>
                  </a:lnTo>
                  <a:lnTo>
                    <a:pt x="238" y="1138"/>
                  </a:lnTo>
                  <a:lnTo>
                    <a:pt x="272" y="1086"/>
                  </a:lnTo>
                  <a:lnTo>
                    <a:pt x="310" y="1036"/>
                  </a:lnTo>
                  <a:lnTo>
                    <a:pt x="348" y="988"/>
                  </a:lnTo>
                  <a:lnTo>
                    <a:pt x="386" y="940"/>
                  </a:lnTo>
                  <a:lnTo>
                    <a:pt x="426" y="892"/>
                  </a:lnTo>
                  <a:lnTo>
                    <a:pt x="468" y="846"/>
                  </a:lnTo>
                  <a:lnTo>
                    <a:pt x="510" y="800"/>
                  </a:lnTo>
                  <a:lnTo>
                    <a:pt x="552" y="756"/>
                  </a:lnTo>
                  <a:lnTo>
                    <a:pt x="596" y="712"/>
                  </a:lnTo>
                  <a:lnTo>
                    <a:pt x="642" y="670"/>
                  </a:lnTo>
                  <a:lnTo>
                    <a:pt x="688" y="630"/>
                  </a:lnTo>
                  <a:lnTo>
                    <a:pt x="736" y="590"/>
                  </a:lnTo>
                  <a:lnTo>
                    <a:pt x="784" y="550"/>
                  </a:lnTo>
                  <a:lnTo>
                    <a:pt x="834" y="512"/>
                  </a:lnTo>
                  <a:lnTo>
                    <a:pt x="884" y="476"/>
                  </a:lnTo>
                  <a:lnTo>
                    <a:pt x="934" y="440"/>
                  </a:lnTo>
                  <a:lnTo>
                    <a:pt x="986" y="406"/>
                  </a:lnTo>
                  <a:lnTo>
                    <a:pt x="1040" y="374"/>
                  </a:lnTo>
                  <a:lnTo>
                    <a:pt x="1092" y="342"/>
                  </a:lnTo>
                  <a:lnTo>
                    <a:pt x="1148" y="312"/>
                  </a:lnTo>
                  <a:lnTo>
                    <a:pt x="1202" y="282"/>
                  </a:lnTo>
                  <a:lnTo>
                    <a:pt x="1258" y="254"/>
                  </a:lnTo>
                  <a:lnTo>
                    <a:pt x="1316" y="228"/>
                  </a:lnTo>
                  <a:lnTo>
                    <a:pt x="1374" y="202"/>
                  </a:lnTo>
                  <a:lnTo>
                    <a:pt x="1432" y="178"/>
                  </a:lnTo>
                  <a:lnTo>
                    <a:pt x="1490" y="156"/>
                  </a:lnTo>
                  <a:lnTo>
                    <a:pt x="1550" y="136"/>
                  </a:lnTo>
                  <a:lnTo>
                    <a:pt x="1610" y="116"/>
                  </a:lnTo>
                  <a:lnTo>
                    <a:pt x="1672" y="98"/>
                  </a:lnTo>
                  <a:lnTo>
                    <a:pt x="1732" y="80"/>
                  </a:lnTo>
                  <a:lnTo>
                    <a:pt x="1794" y="66"/>
                  </a:lnTo>
                  <a:lnTo>
                    <a:pt x="1858" y="52"/>
                  </a:lnTo>
                  <a:lnTo>
                    <a:pt x="1922" y="40"/>
                  </a:lnTo>
                  <a:lnTo>
                    <a:pt x="1984" y="30"/>
                  </a:lnTo>
                  <a:lnTo>
                    <a:pt x="2050" y="20"/>
                  </a:lnTo>
                  <a:lnTo>
                    <a:pt x="2114" y="12"/>
                  </a:lnTo>
                  <a:lnTo>
                    <a:pt x="2180" y="8"/>
                  </a:lnTo>
                  <a:lnTo>
                    <a:pt x="2246" y="2"/>
                  </a:lnTo>
                  <a:lnTo>
                    <a:pt x="2312" y="0"/>
                  </a:lnTo>
                  <a:lnTo>
                    <a:pt x="2378" y="0"/>
                  </a:lnTo>
                  <a:lnTo>
                    <a:pt x="2444" y="0"/>
                  </a:lnTo>
                  <a:lnTo>
                    <a:pt x="2510" y="2"/>
                  </a:lnTo>
                  <a:lnTo>
                    <a:pt x="2576" y="8"/>
                  </a:lnTo>
                  <a:lnTo>
                    <a:pt x="2642" y="12"/>
                  </a:lnTo>
                  <a:lnTo>
                    <a:pt x="2706" y="20"/>
                  </a:lnTo>
                  <a:lnTo>
                    <a:pt x="2772" y="30"/>
                  </a:lnTo>
                  <a:lnTo>
                    <a:pt x="2834" y="40"/>
                  </a:lnTo>
                  <a:lnTo>
                    <a:pt x="2898" y="52"/>
                  </a:lnTo>
                  <a:lnTo>
                    <a:pt x="2962" y="66"/>
                  </a:lnTo>
                  <a:lnTo>
                    <a:pt x="3024" y="80"/>
                  </a:lnTo>
                  <a:lnTo>
                    <a:pt x="3084" y="98"/>
                  </a:lnTo>
                  <a:lnTo>
                    <a:pt x="3146" y="116"/>
                  </a:lnTo>
                  <a:lnTo>
                    <a:pt x="3206" y="136"/>
                  </a:lnTo>
                  <a:lnTo>
                    <a:pt x="3266" y="156"/>
                  </a:lnTo>
                  <a:lnTo>
                    <a:pt x="3324" y="178"/>
                  </a:lnTo>
                  <a:lnTo>
                    <a:pt x="3382" y="202"/>
                  </a:lnTo>
                  <a:lnTo>
                    <a:pt x="3440" y="228"/>
                  </a:lnTo>
                  <a:lnTo>
                    <a:pt x="3498" y="254"/>
                  </a:lnTo>
                  <a:lnTo>
                    <a:pt x="3554" y="282"/>
                  </a:lnTo>
                  <a:lnTo>
                    <a:pt x="3608" y="312"/>
                  </a:lnTo>
                  <a:lnTo>
                    <a:pt x="3664" y="342"/>
                  </a:lnTo>
                  <a:lnTo>
                    <a:pt x="3716" y="374"/>
                  </a:lnTo>
                  <a:lnTo>
                    <a:pt x="3770" y="406"/>
                  </a:lnTo>
                  <a:lnTo>
                    <a:pt x="3822" y="440"/>
                  </a:lnTo>
                  <a:lnTo>
                    <a:pt x="3872" y="476"/>
                  </a:lnTo>
                  <a:lnTo>
                    <a:pt x="3922" y="512"/>
                  </a:lnTo>
                  <a:lnTo>
                    <a:pt x="3972" y="550"/>
                  </a:lnTo>
                  <a:lnTo>
                    <a:pt x="4020" y="590"/>
                  </a:lnTo>
                  <a:lnTo>
                    <a:pt x="4068" y="630"/>
                  </a:lnTo>
                  <a:lnTo>
                    <a:pt x="4114" y="670"/>
                  </a:lnTo>
                  <a:lnTo>
                    <a:pt x="4160" y="712"/>
                  </a:lnTo>
                  <a:lnTo>
                    <a:pt x="4204" y="756"/>
                  </a:lnTo>
                  <a:lnTo>
                    <a:pt x="4246" y="800"/>
                  </a:lnTo>
                  <a:lnTo>
                    <a:pt x="4288" y="846"/>
                  </a:lnTo>
                  <a:lnTo>
                    <a:pt x="4330" y="892"/>
                  </a:lnTo>
                  <a:lnTo>
                    <a:pt x="4370" y="940"/>
                  </a:lnTo>
                  <a:lnTo>
                    <a:pt x="4410" y="988"/>
                  </a:lnTo>
                  <a:lnTo>
                    <a:pt x="4446" y="1036"/>
                  </a:lnTo>
                  <a:lnTo>
                    <a:pt x="4484" y="1086"/>
                  </a:lnTo>
                  <a:lnTo>
                    <a:pt x="4518" y="1138"/>
                  </a:lnTo>
                  <a:lnTo>
                    <a:pt x="4552" y="1190"/>
                  </a:lnTo>
                  <a:lnTo>
                    <a:pt x="4586" y="1242"/>
                  </a:lnTo>
                  <a:lnTo>
                    <a:pt x="4618" y="1296"/>
                  </a:lnTo>
                  <a:lnTo>
                    <a:pt x="4648" y="1350"/>
                  </a:lnTo>
                  <a:lnTo>
                    <a:pt x="4678" y="1406"/>
                  </a:lnTo>
                  <a:lnTo>
                    <a:pt x="4706" y="1462"/>
                  </a:lnTo>
                  <a:lnTo>
                    <a:pt x="4732" y="1518"/>
                  </a:lnTo>
                  <a:lnTo>
                    <a:pt x="4756" y="1576"/>
                  </a:lnTo>
                  <a:lnTo>
                    <a:pt x="0" y="157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AutoShape 454"/>
            <p:cNvSpPr/>
            <p:nvPr/>
          </p:nvSpPr>
          <p:spPr>
            <a:xfrm rot="19232400">
              <a:off x="4303800" y="3405960"/>
              <a:ext cx="873360" cy="680040"/>
            </a:xfrm>
            <a:prstGeom prst="upArrow">
              <a:avLst>
                <a:gd name="adj1" fmla="val 52833"/>
                <a:gd name="adj2" fmla="val 45940"/>
              </a:avLst>
            </a:prstGeom>
            <a:gradFill rotWithShape="0">
              <a:gsLst>
                <a:gs pos="0">
                  <a:srgbClr val="404040"/>
                </a:gs>
                <a:gs pos="100000">
                  <a:srgbClr val="ffffff">
                    <a:alpha val="0"/>
                  </a:srgbClr>
                </a:gs>
              </a:gsLst>
              <a:lin ang="777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AutoShape 455"/>
            <p:cNvSpPr/>
            <p:nvPr/>
          </p:nvSpPr>
          <p:spPr>
            <a:xfrm rot="2479800">
              <a:off x="6531840" y="3405240"/>
              <a:ext cx="870480" cy="679680"/>
            </a:xfrm>
            <a:prstGeom prst="upArrow">
              <a:avLst>
                <a:gd name="adj1" fmla="val 52833"/>
                <a:gd name="adj2" fmla="val 45940"/>
              </a:avLst>
            </a:prstGeom>
            <a:gradFill rotWithShape="0">
              <a:gsLst>
                <a:gs pos="0">
                  <a:srgbClr val="404040"/>
                </a:gs>
                <a:gs pos="100000">
                  <a:srgbClr val="ffffff">
                    <a:alpha val="0"/>
                  </a:srgbClr>
                </a:gs>
              </a:gsLst>
              <a:lin ang="292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Text Box 456"/>
            <p:cNvSpPr/>
            <p:nvPr/>
          </p:nvSpPr>
          <p:spPr>
            <a:xfrm>
              <a:off x="430200" y="3794400"/>
              <a:ext cx="3154320" cy="183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  <a:ea typeface="Gulim"/>
                </a:rPr>
                <a:t>Pictures spea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  <a:ea typeface="Gulim"/>
                </a:rPr>
                <a:t>1,000 words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Gulim"/>
                </a:rPr>
                <a:t>Catch The feel of Design in contempora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Gulim"/>
                </a:rPr>
                <a:t>colors and sty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  <a:ea typeface="Gulim"/>
                </a:rPr>
                <a:t>Creative Visual Aids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Gulim"/>
                </a:rPr>
                <a:t>Feel the touch of Design on the cutting ed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5" name="Group 3"/>
          <p:cNvGrpSpPr/>
          <p:nvPr/>
        </p:nvGrpSpPr>
        <p:grpSpPr>
          <a:xfrm>
            <a:off x="714240" y="1393920"/>
            <a:ext cx="7891200" cy="4843080"/>
            <a:chOff x="714240" y="1393920"/>
            <a:chExt cx="7891200" cy="4843080"/>
          </a:xfrm>
        </p:grpSpPr>
        <p:sp>
          <p:nvSpPr>
            <p:cNvPr id="606" name="Freeform 485"/>
            <p:cNvSpPr/>
            <p:nvPr/>
          </p:nvSpPr>
          <p:spPr>
            <a:xfrm>
              <a:off x="5468400" y="3168720"/>
              <a:ext cx="2411640" cy="2037960"/>
            </a:xfrm>
            <a:custGeom>
              <a:avLst/>
              <a:gdLst>
                <a:gd name="textAreaLeft" fmla="*/ 0 w 2411640"/>
                <a:gd name="textAreaRight" fmla="*/ 2412000 w 2411640"/>
                <a:gd name="textAreaTop" fmla="*/ 0 h 2037960"/>
                <a:gd name="textAreaBottom" fmla="*/ 2038320 h 2037960"/>
              </a:gdLst>
              <a:ahLst/>
              <a:rect l="textAreaLeft" t="textAreaTop" r="textAreaRight" b="textAreaBottom"/>
              <a:pathLst>
                <a:path w="1082" h="938">
                  <a:moveTo>
                    <a:pt x="270" y="938"/>
                  </a:moveTo>
                  <a:lnTo>
                    <a:pt x="0" y="467"/>
                  </a:lnTo>
                  <a:lnTo>
                    <a:pt x="270" y="0"/>
                  </a:lnTo>
                  <a:lnTo>
                    <a:pt x="812" y="0"/>
                  </a:lnTo>
                  <a:lnTo>
                    <a:pt x="1082" y="467"/>
                  </a:lnTo>
                  <a:lnTo>
                    <a:pt x="812" y="938"/>
                  </a:lnTo>
                  <a:lnTo>
                    <a:pt x="270" y="938"/>
                  </a:lnTo>
                  <a:close/>
                </a:path>
              </a:pathLst>
            </a:custGeom>
            <a:gradFill rotWithShape="0">
              <a:gsLst>
                <a:gs pos="0">
                  <a:srgbClr val="ff6d6d"/>
                </a:gs>
                <a:gs pos="100000">
                  <a:srgbClr val="ff0101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486"/>
            <p:cNvSpPr/>
            <p:nvPr/>
          </p:nvSpPr>
          <p:spPr>
            <a:xfrm>
              <a:off x="5590440" y="3244680"/>
              <a:ext cx="2180160" cy="926640"/>
            </a:xfrm>
            <a:custGeom>
              <a:avLst/>
              <a:gdLst>
                <a:gd name="textAreaLeft" fmla="*/ 0 w 2180160"/>
                <a:gd name="textAreaRight" fmla="*/ 2180520 w 2180160"/>
                <a:gd name="textAreaTop" fmla="*/ 0 h 926640"/>
                <a:gd name="textAreaBottom" fmla="*/ 926640 h 926640"/>
              </a:gdLst>
              <a:ahLst/>
              <a:rect l="textAreaLeft" t="textAreaTop" r="textAreaRight" b="textAreaBottom"/>
              <a:pathLst>
                <a:path w="666" h="290">
                  <a:moveTo>
                    <a:pt x="0" y="290"/>
                  </a:moveTo>
                  <a:lnTo>
                    <a:pt x="166" y="0"/>
                  </a:lnTo>
                  <a:lnTo>
                    <a:pt x="500" y="0"/>
                  </a:lnTo>
                  <a:lnTo>
                    <a:pt x="666" y="290"/>
                  </a:lnTo>
                  <a:lnTo>
                    <a:pt x="0" y="29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487"/>
            <p:cNvSpPr/>
            <p:nvPr/>
          </p:nvSpPr>
          <p:spPr>
            <a:xfrm>
              <a:off x="5468400" y="5207040"/>
              <a:ext cx="2422800" cy="1029960"/>
            </a:xfrm>
            <a:custGeom>
              <a:avLst/>
              <a:gdLst>
                <a:gd name="textAreaLeft" fmla="*/ 0 w 2422800"/>
                <a:gd name="textAreaRight" fmla="*/ 2423160 w 2422800"/>
                <a:gd name="textAreaTop" fmla="*/ 0 h 1029960"/>
                <a:gd name="textAreaBottom" fmla="*/ 1030320 h 1029960"/>
              </a:gdLst>
              <a:ahLst/>
              <a:rect l="textAreaLeft" t="textAreaTop" r="textAreaRight" b="textAreaBottom"/>
              <a:pathLst>
                <a:path w="666" h="290">
                  <a:moveTo>
                    <a:pt x="0" y="290"/>
                  </a:moveTo>
                  <a:lnTo>
                    <a:pt x="166" y="0"/>
                  </a:lnTo>
                  <a:lnTo>
                    <a:pt x="500" y="0"/>
                  </a:lnTo>
                  <a:lnTo>
                    <a:pt x="666" y="290"/>
                  </a:lnTo>
                  <a:lnTo>
                    <a:pt x="0" y="290"/>
                  </a:ln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Text Box 489"/>
            <p:cNvSpPr/>
            <p:nvPr/>
          </p:nvSpPr>
          <p:spPr>
            <a:xfrm>
              <a:off x="4313880" y="1393920"/>
              <a:ext cx="4291560" cy="55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  <a:ea typeface="Gulim"/>
                </a:rPr>
                <a:t>Pictures speak 1,000 words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Gulim"/>
                </a:rPr>
                <a:t>Catch The feel of Design in contemporary colors and style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AutoShape 490"/>
            <p:cNvSpPr/>
            <p:nvPr/>
          </p:nvSpPr>
          <p:spPr>
            <a:xfrm>
              <a:off x="774720" y="1450800"/>
              <a:ext cx="3604320" cy="363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491"/>
            <p:cNvSpPr/>
            <p:nvPr/>
          </p:nvSpPr>
          <p:spPr>
            <a:xfrm>
              <a:off x="1858680" y="2671920"/>
              <a:ext cx="1433520" cy="1211400"/>
            </a:xfrm>
            <a:custGeom>
              <a:avLst/>
              <a:gdLst>
                <a:gd name="textAreaLeft" fmla="*/ 0 w 1433520"/>
                <a:gd name="textAreaRight" fmla="*/ 1433880 w 1433520"/>
                <a:gd name="textAreaTop" fmla="*/ 0 h 1211400"/>
                <a:gd name="textAreaBottom" fmla="*/ 1211760 h 1211400"/>
              </a:gdLst>
              <a:ahLst/>
              <a:rect l="textAreaLeft" t="textAreaTop" r="textAreaRight" b="textAreaBottom"/>
              <a:pathLst>
                <a:path w="1081" h="938">
                  <a:moveTo>
                    <a:pt x="269" y="938"/>
                  </a:moveTo>
                  <a:lnTo>
                    <a:pt x="0" y="468"/>
                  </a:lnTo>
                  <a:lnTo>
                    <a:pt x="269" y="0"/>
                  </a:lnTo>
                  <a:lnTo>
                    <a:pt x="812" y="0"/>
                  </a:lnTo>
                  <a:lnTo>
                    <a:pt x="1081" y="468"/>
                  </a:lnTo>
                  <a:lnTo>
                    <a:pt x="812" y="938"/>
                  </a:lnTo>
                  <a:lnTo>
                    <a:pt x="269" y="938"/>
                  </a:lnTo>
                  <a:close/>
                </a:path>
              </a:pathLst>
            </a:custGeom>
            <a:gradFill rotWithShape="0">
              <a:gsLst>
                <a:gs pos="0">
                  <a:srgbClr val="dcdcdc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492"/>
            <p:cNvSpPr/>
            <p:nvPr/>
          </p:nvSpPr>
          <p:spPr>
            <a:xfrm>
              <a:off x="1858680" y="1393920"/>
              <a:ext cx="1433520" cy="1212840"/>
            </a:xfrm>
            <a:custGeom>
              <a:avLst/>
              <a:gdLst>
                <a:gd name="textAreaLeft" fmla="*/ 0 w 1433520"/>
                <a:gd name="textAreaRight" fmla="*/ 1433880 w 1433520"/>
                <a:gd name="textAreaTop" fmla="*/ 0 h 1212840"/>
                <a:gd name="textAreaBottom" fmla="*/ 1213200 h 1212840"/>
              </a:gdLst>
              <a:ahLst/>
              <a:rect l="textAreaLeft" t="textAreaTop" r="textAreaRight" b="textAreaBottom"/>
              <a:pathLst>
                <a:path w="1081" h="939">
                  <a:moveTo>
                    <a:pt x="269" y="939"/>
                  </a:moveTo>
                  <a:lnTo>
                    <a:pt x="0" y="471"/>
                  </a:lnTo>
                  <a:lnTo>
                    <a:pt x="269" y="0"/>
                  </a:lnTo>
                  <a:lnTo>
                    <a:pt x="812" y="0"/>
                  </a:lnTo>
                  <a:lnTo>
                    <a:pt x="1081" y="471"/>
                  </a:lnTo>
                  <a:lnTo>
                    <a:pt x="812" y="939"/>
                  </a:lnTo>
                  <a:lnTo>
                    <a:pt x="269" y="939"/>
                  </a:lnTo>
                  <a:close/>
                </a:path>
              </a:pathLst>
            </a:custGeom>
            <a:gradFill rotWithShape="0">
              <a:gsLst>
                <a:gs pos="0">
                  <a:srgbClr val="dcdcdc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493"/>
            <p:cNvSpPr/>
            <p:nvPr/>
          </p:nvSpPr>
          <p:spPr>
            <a:xfrm>
              <a:off x="1858680" y="3959280"/>
              <a:ext cx="1433520" cy="1213200"/>
            </a:xfrm>
            <a:custGeom>
              <a:avLst/>
              <a:gdLst>
                <a:gd name="textAreaLeft" fmla="*/ 0 w 1433520"/>
                <a:gd name="textAreaRight" fmla="*/ 1433880 w 1433520"/>
                <a:gd name="textAreaTop" fmla="*/ 0 h 1213200"/>
                <a:gd name="textAreaBottom" fmla="*/ 1213560 h 1213200"/>
              </a:gdLst>
              <a:ahLst/>
              <a:rect l="textAreaLeft" t="textAreaTop" r="textAreaRight" b="textAreaBottom"/>
              <a:pathLst>
                <a:path w="1081" h="939">
                  <a:moveTo>
                    <a:pt x="269" y="939"/>
                  </a:moveTo>
                  <a:lnTo>
                    <a:pt x="0" y="468"/>
                  </a:lnTo>
                  <a:lnTo>
                    <a:pt x="269" y="0"/>
                  </a:lnTo>
                  <a:lnTo>
                    <a:pt x="812" y="0"/>
                  </a:lnTo>
                  <a:lnTo>
                    <a:pt x="1081" y="468"/>
                  </a:lnTo>
                  <a:lnTo>
                    <a:pt x="812" y="939"/>
                  </a:lnTo>
                  <a:lnTo>
                    <a:pt x="269" y="939"/>
                  </a:lnTo>
                  <a:close/>
                </a:path>
              </a:pathLst>
            </a:custGeom>
            <a:gradFill rotWithShape="0">
              <a:gsLst>
                <a:gs pos="0">
                  <a:srgbClr val="dcdcdc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494"/>
            <p:cNvSpPr/>
            <p:nvPr/>
          </p:nvSpPr>
          <p:spPr>
            <a:xfrm>
              <a:off x="3008520" y="2037240"/>
              <a:ext cx="1433520" cy="1213200"/>
            </a:xfrm>
            <a:custGeom>
              <a:avLst/>
              <a:gdLst>
                <a:gd name="textAreaLeft" fmla="*/ 0 w 1433520"/>
                <a:gd name="textAreaRight" fmla="*/ 1433880 w 1433520"/>
                <a:gd name="textAreaTop" fmla="*/ 0 h 1213200"/>
                <a:gd name="textAreaBottom" fmla="*/ 1213560 h 1213200"/>
              </a:gdLst>
              <a:ahLst/>
              <a:rect l="textAreaLeft" t="textAreaTop" r="textAreaRight" b="textAreaBottom"/>
              <a:pathLst>
                <a:path w="1082" h="939">
                  <a:moveTo>
                    <a:pt x="270" y="939"/>
                  </a:moveTo>
                  <a:lnTo>
                    <a:pt x="0" y="471"/>
                  </a:lnTo>
                  <a:lnTo>
                    <a:pt x="270" y="0"/>
                  </a:lnTo>
                  <a:lnTo>
                    <a:pt x="812" y="0"/>
                  </a:lnTo>
                  <a:lnTo>
                    <a:pt x="1082" y="471"/>
                  </a:lnTo>
                  <a:lnTo>
                    <a:pt x="812" y="939"/>
                  </a:lnTo>
                  <a:lnTo>
                    <a:pt x="270" y="939"/>
                  </a:lnTo>
                  <a:close/>
                </a:path>
              </a:pathLst>
            </a:custGeom>
            <a:gradFill rotWithShape="0">
              <a:gsLst>
                <a:gs pos="0">
                  <a:srgbClr val="dcdcdc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495"/>
            <p:cNvSpPr/>
            <p:nvPr/>
          </p:nvSpPr>
          <p:spPr>
            <a:xfrm>
              <a:off x="714240" y="2037240"/>
              <a:ext cx="1434960" cy="1213200"/>
            </a:xfrm>
            <a:custGeom>
              <a:avLst/>
              <a:gdLst>
                <a:gd name="textAreaLeft" fmla="*/ 0 w 1434960"/>
                <a:gd name="textAreaRight" fmla="*/ 1435320 w 1434960"/>
                <a:gd name="textAreaTop" fmla="*/ 0 h 1213200"/>
                <a:gd name="textAreaBottom" fmla="*/ 1213560 h 1213200"/>
              </a:gdLst>
              <a:ahLst/>
              <a:rect l="textAreaLeft" t="textAreaTop" r="textAreaRight" b="textAreaBottom"/>
              <a:pathLst>
                <a:path w="1082" h="939">
                  <a:moveTo>
                    <a:pt x="270" y="939"/>
                  </a:moveTo>
                  <a:lnTo>
                    <a:pt x="0" y="471"/>
                  </a:lnTo>
                  <a:lnTo>
                    <a:pt x="270" y="0"/>
                  </a:lnTo>
                  <a:lnTo>
                    <a:pt x="812" y="0"/>
                  </a:lnTo>
                  <a:lnTo>
                    <a:pt x="1082" y="471"/>
                  </a:lnTo>
                  <a:lnTo>
                    <a:pt x="812" y="939"/>
                  </a:lnTo>
                  <a:lnTo>
                    <a:pt x="270" y="939"/>
                  </a:lnTo>
                  <a:close/>
                </a:path>
              </a:pathLst>
            </a:custGeom>
            <a:gradFill rotWithShape="0">
              <a:gsLst>
                <a:gs pos="0">
                  <a:srgbClr val="dcdcdc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496"/>
            <p:cNvSpPr/>
            <p:nvPr/>
          </p:nvSpPr>
          <p:spPr>
            <a:xfrm>
              <a:off x="714240" y="3315600"/>
              <a:ext cx="1434960" cy="1211400"/>
            </a:xfrm>
            <a:custGeom>
              <a:avLst/>
              <a:gdLst>
                <a:gd name="textAreaLeft" fmla="*/ 0 w 1434960"/>
                <a:gd name="textAreaRight" fmla="*/ 1435320 w 1434960"/>
                <a:gd name="textAreaTop" fmla="*/ 0 h 1211400"/>
                <a:gd name="textAreaBottom" fmla="*/ 1211760 h 1211400"/>
              </a:gdLst>
              <a:ahLst/>
              <a:rect l="textAreaLeft" t="textAreaTop" r="textAreaRight" b="textAreaBottom"/>
              <a:pathLst>
                <a:path w="1082" h="938">
                  <a:moveTo>
                    <a:pt x="270" y="938"/>
                  </a:moveTo>
                  <a:lnTo>
                    <a:pt x="0" y="467"/>
                  </a:lnTo>
                  <a:lnTo>
                    <a:pt x="270" y="0"/>
                  </a:lnTo>
                  <a:lnTo>
                    <a:pt x="812" y="0"/>
                  </a:lnTo>
                  <a:lnTo>
                    <a:pt x="1082" y="467"/>
                  </a:lnTo>
                  <a:lnTo>
                    <a:pt x="812" y="938"/>
                  </a:lnTo>
                  <a:lnTo>
                    <a:pt x="270" y="938"/>
                  </a:lnTo>
                  <a:close/>
                </a:path>
              </a:pathLst>
            </a:custGeom>
            <a:gradFill rotWithShape="0">
              <a:gsLst>
                <a:gs pos="0">
                  <a:srgbClr val="dcdcdc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497"/>
            <p:cNvSpPr/>
            <p:nvPr/>
          </p:nvSpPr>
          <p:spPr>
            <a:xfrm>
              <a:off x="1939680" y="1440000"/>
              <a:ext cx="1295640" cy="550800"/>
            </a:xfrm>
            <a:custGeom>
              <a:avLst/>
              <a:gdLst>
                <a:gd name="textAreaLeft" fmla="*/ 0 w 1295640"/>
                <a:gd name="textAreaRight" fmla="*/ 1296000 w 1295640"/>
                <a:gd name="textAreaTop" fmla="*/ 0 h 550800"/>
                <a:gd name="textAreaBottom" fmla="*/ 550800 h 550800"/>
              </a:gdLst>
              <a:ahLst/>
              <a:rect l="textAreaLeft" t="textAreaTop" r="textAreaRight" b="textAreaBottom"/>
              <a:pathLst>
                <a:path w="666" h="290">
                  <a:moveTo>
                    <a:pt x="0" y="290"/>
                  </a:moveTo>
                  <a:lnTo>
                    <a:pt x="166" y="0"/>
                  </a:lnTo>
                  <a:lnTo>
                    <a:pt x="500" y="0"/>
                  </a:lnTo>
                  <a:lnTo>
                    <a:pt x="666" y="290"/>
                  </a:lnTo>
                  <a:lnTo>
                    <a:pt x="0" y="29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498"/>
            <p:cNvSpPr/>
            <p:nvPr/>
          </p:nvSpPr>
          <p:spPr>
            <a:xfrm>
              <a:off x="785520" y="2096280"/>
              <a:ext cx="1295640" cy="550800"/>
            </a:xfrm>
            <a:custGeom>
              <a:avLst/>
              <a:gdLst>
                <a:gd name="textAreaLeft" fmla="*/ 0 w 1295640"/>
                <a:gd name="textAreaRight" fmla="*/ 1296000 w 1295640"/>
                <a:gd name="textAreaTop" fmla="*/ 0 h 550800"/>
                <a:gd name="textAreaBottom" fmla="*/ 550800 h 550800"/>
              </a:gdLst>
              <a:ahLst/>
              <a:rect l="textAreaLeft" t="textAreaTop" r="textAreaRight" b="textAreaBottom"/>
              <a:pathLst>
                <a:path w="666" h="290">
                  <a:moveTo>
                    <a:pt x="0" y="290"/>
                  </a:moveTo>
                  <a:lnTo>
                    <a:pt x="166" y="0"/>
                  </a:lnTo>
                  <a:lnTo>
                    <a:pt x="500" y="0"/>
                  </a:lnTo>
                  <a:lnTo>
                    <a:pt x="666" y="290"/>
                  </a:lnTo>
                  <a:lnTo>
                    <a:pt x="0" y="29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499"/>
            <p:cNvSpPr/>
            <p:nvPr/>
          </p:nvSpPr>
          <p:spPr>
            <a:xfrm>
              <a:off x="3054600" y="2096280"/>
              <a:ext cx="1295280" cy="55080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550800"/>
                <a:gd name="textAreaBottom" fmla="*/ 550800 h 550800"/>
              </a:gdLst>
              <a:ahLst/>
              <a:rect l="textAreaLeft" t="textAreaTop" r="textAreaRight" b="textAreaBottom"/>
              <a:pathLst>
                <a:path w="666" h="290">
                  <a:moveTo>
                    <a:pt x="0" y="290"/>
                  </a:moveTo>
                  <a:lnTo>
                    <a:pt x="166" y="0"/>
                  </a:lnTo>
                  <a:lnTo>
                    <a:pt x="500" y="0"/>
                  </a:lnTo>
                  <a:lnTo>
                    <a:pt x="666" y="290"/>
                  </a:lnTo>
                  <a:lnTo>
                    <a:pt x="0" y="29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500"/>
            <p:cNvSpPr/>
            <p:nvPr/>
          </p:nvSpPr>
          <p:spPr>
            <a:xfrm>
              <a:off x="1939680" y="2727720"/>
              <a:ext cx="1295640" cy="550800"/>
            </a:xfrm>
            <a:custGeom>
              <a:avLst/>
              <a:gdLst>
                <a:gd name="textAreaLeft" fmla="*/ 0 w 1295640"/>
                <a:gd name="textAreaRight" fmla="*/ 1296000 w 1295640"/>
                <a:gd name="textAreaTop" fmla="*/ 0 h 550800"/>
                <a:gd name="textAreaBottom" fmla="*/ 550800 h 550800"/>
              </a:gdLst>
              <a:ahLst/>
              <a:rect l="textAreaLeft" t="textAreaTop" r="textAreaRight" b="textAreaBottom"/>
              <a:pathLst>
                <a:path w="666" h="290">
                  <a:moveTo>
                    <a:pt x="0" y="290"/>
                  </a:moveTo>
                  <a:lnTo>
                    <a:pt x="166" y="0"/>
                  </a:lnTo>
                  <a:lnTo>
                    <a:pt x="500" y="0"/>
                  </a:lnTo>
                  <a:lnTo>
                    <a:pt x="666" y="290"/>
                  </a:lnTo>
                  <a:lnTo>
                    <a:pt x="0" y="29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501"/>
            <p:cNvSpPr/>
            <p:nvPr/>
          </p:nvSpPr>
          <p:spPr>
            <a:xfrm>
              <a:off x="785520" y="3358800"/>
              <a:ext cx="1295640" cy="550800"/>
            </a:xfrm>
            <a:custGeom>
              <a:avLst/>
              <a:gdLst>
                <a:gd name="textAreaLeft" fmla="*/ 0 w 1295640"/>
                <a:gd name="textAreaRight" fmla="*/ 1296000 w 1295640"/>
                <a:gd name="textAreaTop" fmla="*/ 0 h 550800"/>
                <a:gd name="textAreaBottom" fmla="*/ 550800 h 550800"/>
              </a:gdLst>
              <a:ahLst/>
              <a:rect l="textAreaLeft" t="textAreaTop" r="textAreaRight" b="textAreaBottom"/>
              <a:pathLst>
                <a:path w="666" h="290">
                  <a:moveTo>
                    <a:pt x="0" y="290"/>
                  </a:moveTo>
                  <a:lnTo>
                    <a:pt x="166" y="0"/>
                  </a:lnTo>
                  <a:lnTo>
                    <a:pt x="500" y="0"/>
                  </a:lnTo>
                  <a:lnTo>
                    <a:pt x="666" y="290"/>
                  </a:lnTo>
                  <a:lnTo>
                    <a:pt x="0" y="29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502"/>
            <p:cNvSpPr/>
            <p:nvPr/>
          </p:nvSpPr>
          <p:spPr>
            <a:xfrm>
              <a:off x="1939680" y="4025880"/>
              <a:ext cx="1295640" cy="550800"/>
            </a:xfrm>
            <a:custGeom>
              <a:avLst/>
              <a:gdLst>
                <a:gd name="textAreaLeft" fmla="*/ 0 w 1295640"/>
                <a:gd name="textAreaRight" fmla="*/ 1296000 w 1295640"/>
                <a:gd name="textAreaTop" fmla="*/ 0 h 550800"/>
                <a:gd name="textAreaBottom" fmla="*/ 550800 h 550800"/>
              </a:gdLst>
              <a:ahLst/>
              <a:rect l="textAreaLeft" t="textAreaTop" r="textAreaRight" b="textAreaBottom"/>
              <a:pathLst>
                <a:path w="666" h="290">
                  <a:moveTo>
                    <a:pt x="0" y="290"/>
                  </a:moveTo>
                  <a:lnTo>
                    <a:pt x="166" y="0"/>
                  </a:lnTo>
                  <a:lnTo>
                    <a:pt x="500" y="0"/>
                  </a:lnTo>
                  <a:lnTo>
                    <a:pt x="666" y="290"/>
                  </a:lnTo>
                  <a:lnTo>
                    <a:pt x="0" y="29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503"/>
            <p:cNvSpPr/>
            <p:nvPr/>
          </p:nvSpPr>
          <p:spPr>
            <a:xfrm>
              <a:off x="2989440" y="3306240"/>
              <a:ext cx="1433520" cy="1211400"/>
            </a:xfrm>
            <a:custGeom>
              <a:avLst/>
              <a:gdLst>
                <a:gd name="textAreaLeft" fmla="*/ 0 w 1433520"/>
                <a:gd name="textAreaRight" fmla="*/ 1433880 w 1433520"/>
                <a:gd name="textAreaTop" fmla="*/ 0 h 1211400"/>
                <a:gd name="textAreaBottom" fmla="*/ 1211760 h 1211400"/>
              </a:gdLst>
              <a:ahLst/>
              <a:rect l="textAreaLeft" t="textAreaTop" r="textAreaRight" b="textAreaBottom"/>
              <a:pathLst>
                <a:path w="1082" h="938">
                  <a:moveTo>
                    <a:pt x="270" y="938"/>
                  </a:moveTo>
                  <a:lnTo>
                    <a:pt x="0" y="467"/>
                  </a:lnTo>
                  <a:lnTo>
                    <a:pt x="270" y="0"/>
                  </a:lnTo>
                  <a:lnTo>
                    <a:pt x="812" y="0"/>
                  </a:lnTo>
                  <a:lnTo>
                    <a:pt x="1082" y="467"/>
                  </a:lnTo>
                  <a:lnTo>
                    <a:pt x="812" y="938"/>
                  </a:lnTo>
                  <a:lnTo>
                    <a:pt x="270" y="938"/>
                  </a:lnTo>
                  <a:close/>
                </a:path>
              </a:pathLst>
            </a:custGeom>
            <a:solidFill>
              <a:srgbClr val="ff0101">
                <a:alpha val="42000"/>
              </a:srgbClr>
            </a:solidFill>
            <a:ln cap="rnd" w="22320">
              <a:solidFill>
                <a:srgbClr val="ffffff"/>
              </a:solidFill>
              <a:custDash>
                <a:ds d="100000" sp="1000"/>
              </a:custDash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504"/>
            <p:cNvSpPr/>
            <p:nvPr/>
          </p:nvSpPr>
          <p:spPr>
            <a:xfrm>
              <a:off x="3702240" y="3920760"/>
              <a:ext cx="1657800" cy="0"/>
            </a:xfrm>
            <a:prstGeom prst="line">
              <a:avLst/>
            </a:prstGeom>
            <a:ln w="63360">
              <a:solidFill>
                <a:srgbClr val="820000"/>
              </a:solidFill>
              <a:prstDash val="sysDot"/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Text Box 505"/>
            <p:cNvSpPr/>
            <p:nvPr/>
          </p:nvSpPr>
          <p:spPr>
            <a:xfrm>
              <a:off x="5960520" y="3640680"/>
              <a:ext cx="1520640" cy="110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  <a:ea typeface="Gulim"/>
                </a:rPr>
                <a:t>Design Inspir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  <a:ea typeface="Gulim"/>
                </a:rPr>
                <a:t>Clarity &amp; Impac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  <a:ea typeface="Gulim"/>
                </a:rPr>
                <a:t>Premium Desig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  <a:ea typeface="Gulim"/>
                </a:rPr>
                <a:t>Subtle Touc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  <a:ea typeface="Gulim"/>
                </a:rPr>
                <a:t>Visual Appeal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Text Box 506"/>
            <p:cNvSpPr/>
            <p:nvPr/>
          </p:nvSpPr>
          <p:spPr>
            <a:xfrm>
              <a:off x="3270600" y="4552200"/>
              <a:ext cx="227664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200" spc="-1" strike="noStrike">
                  <a:solidFill>
                    <a:srgbClr val="404040"/>
                  </a:solidFill>
                  <a:latin typeface="Arial Black"/>
                  <a:ea typeface="Gulim"/>
                </a:rPr>
                <a:t>Each work i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200" spc="-1" strike="noStrike">
                  <a:solidFill>
                    <a:srgbClr val="404040"/>
                  </a:solidFill>
                  <a:latin typeface="Arial Black"/>
                  <a:ea typeface="Gulim"/>
                </a:rPr>
                <a:t>featured with simplic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200" spc="-1" strike="noStrike">
                  <a:solidFill>
                    <a:srgbClr val="404040"/>
                  </a:solidFill>
                  <a:latin typeface="Arial Black"/>
                  <a:ea typeface="Gulim"/>
                </a:rPr>
                <a:t>but supreme beauty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Text Box 507"/>
            <p:cNvSpPr/>
            <p:nvPr/>
          </p:nvSpPr>
          <p:spPr>
            <a:xfrm>
              <a:off x="2009520" y="1777680"/>
              <a:ext cx="1117800" cy="46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  <a:ea typeface="Gulim"/>
                </a:rPr>
                <a:t>Desig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  <a:ea typeface="Gulim"/>
                </a:rPr>
                <a:t>Inspir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Text Box 508"/>
            <p:cNvSpPr/>
            <p:nvPr/>
          </p:nvSpPr>
          <p:spPr>
            <a:xfrm>
              <a:off x="2009520" y="3043440"/>
              <a:ext cx="1117800" cy="46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  <a:ea typeface="Gulim"/>
                </a:rPr>
                <a:t>Subtle Touc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Text Box 509"/>
            <p:cNvSpPr/>
            <p:nvPr/>
          </p:nvSpPr>
          <p:spPr>
            <a:xfrm>
              <a:off x="2009520" y="4341960"/>
              <a:ext cx="1117800" cy="46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  <a:ea typeface="Gulim"/>
                </a:rPr>
                <a:t>Stylish Desig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Text Box 510"/>
            <p:cNvSpPr/>
            <p:nvPr/>
          </p:nvSpPr>
          <p:spPr>
            <a:xfrm>
              <a:off x="858600" y="2412000"/>
              <a:ext cx="1117800" cy="46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  <a:ea typeface="Gulim"/>
                </a:rPr>
                <a:t>Clarity &amp; Impac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Text Box 511"/>
            <p:cNvSpPr/>
            <p:nvPr/>
          </p:nvSpPr>
          <p:spPr>
            <a:xfrm>
              <a:off x="858600" y="3710160"/>
              <a:ext cx="1117800" cy="46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  <a:ea typeface="Gulim"/>
                </a:rPr>
                <a:t>Visual Appeal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Text Box 512"/>
            <p:cNvSpPr/>
            <p:nvPr/>
          </p:nvSpPr>
          <p:spPr>
            <a:xfrm>
              <a:off x="3162600" y="2412000"/>
              <a:ext cx="1117440" cy="46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  <a:ea typeface="Gulim"/>
                </a:rPr>
                <a:t>Premium Desig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3" name="Group 3"/>
          <p:cNvGrpSpPr/>
          <p:nvPr/>
        </p:nvGrpSpPr>
        <p:grpSpPr>
          <a:xfrm>
            <a:off x="825120" y="1625760"/>
            <a:ext cx="7310520" cy="4250880"/>
            <a:chOff x="825120" y="1625760"/>
            <a:chExt cx="7310520" cy="4250880"/>
          </a:xfrm>
        </p:grpSpPr>
        <p:sp>
          <p:nvSpPr>
            <p:cNvPr id="634" name="Rectangle 57"/>
            <p:cNvSpPr/>
            <p:nvPr/>
          </p:nvSpPr>
          <p:spPr>
            <a:xfrm>
              <a:off x="1685880" y="4810320"/>
              <a:ext cx="6409080" cy="358560"/>
            </a:xfrm>
            <a:prstGeom prst="rect">
              <a:avLst/>
            </a:prstGeom>
            <a:solidFill>
              <a:srgbClr val="ffffff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Rectangle 58"/>
            <p:cNvSpPr/>
            <p:nvPr/>
          </p:nvSpPr>
          <p:spPr>
            <a:xfrm>
              <a:off x="1692000" y="4075200"/>
              <a:ext cx="6409080" cy="358560"/>
            </a:xfrm>
            <a:prstGeom prst="rect">
              <a:avLst/>
            </a:prstGeom>
            <a:solidFill>
              <a:srgbClr val="ffffff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Rectangle 59"/>
            <p:cNvSpPr/>
            <p:nvPr/>
          </p:nvSpPr>
          <p:spPr>
            <a:xfrm>
              <a:off x="1685880" y="3368880"/>
              <a:ext cx="6409080" cy="358560"/>
            </a:xfrm>
            <a:prstGeom prst="rect">
              <a:avLst/>
            </a:prstGeom>
            <a:solidFill>
              <a:srgbClr val="ffffff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Rectangle 60"/>
            <p:cNvSpPr/>
            <p:nvPr/>
          </p:nvSpPr>
          <p:spPr>
            <a:xfrm>
              <a:off x="1685880" y="2649600"/>
              <a:ext cx="6409080" cy="358560"/>
            </a:xfrm>
            <a:prstGeom prst="rect">
              <a:avLst/>
            </a:prstGeom>
            <a:solidFill>
              <a:srgbClr val="ffffff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Rectangle 61"/>
            <p:cNvSpPr/>
            <p:nvPr/>
          </p:nvSpPr>
          <p:spPr>
            <a:xfrm>
              <a:off x="1685880" y="1928880"/>
              <a:ext cx="6409080" cy="358560"/>
            </a:xfrm>
            <a:prstGeom prst="rect">
              <a:avLst/>
            </a:prstGeom>
            <a:solidFill>
              <a:srgbClr val="ffffff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9" name="Group 9"/>
            <p:cNvGrpSpPr/>
            <p:nvPr/>
          </p:nvGrpSpPr>
          <p:grpSpPr>
            <a:xfrm>
              <a:off x="2328480" y="4737240"/>
              <a:ext cx="1048320" cy="694800"/>
              <a:chOff x="2328480" y="4737240"/>
              <a:chExt cx="1048320" cy="694800"/>
            </a:xfrm>
          </p:grpSpPr>
          <p:pic>
            <p:nvPicPr>
              <p:cNvPr id="640" name="Rectangle 62" descr=""/>
              <p:cNvPicPr/>
              <p:nvPr/>
            </p:nvPicPr>
            <p:blipFill>
              <a:blip r:embed="rId1"/>
              <a:stretch/>
            </p:blipFill>
            <p:spPr>
              <a:xfrm>
                <a:off x="2328480" y="4737240"/>
                <a:ext cx="1048320" cy="694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1" name="Text Box 11"/>
              <p:cNvSpPr/>
              <p:nvPr/>
            </p:nvSpPr>
            <p:spPr>
              <a:xfrm>
                <a:off x="2406240" y="4809600"/>
                <a:ext cx="72036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2" name="Group 12"/>
            <p:cNvGrpSpPr/>
            <p:nvPr/>
          </p:nvGrpSpPr>
          <p:grpSpPr>
            <a:xfrm>
              <a:off x="3047760" y="4377600"/>
              <a:ext cx="1048320" cy="694800"/>
              <a:chOff x="3047760" y="4377600"/>
              <a:chExt cx="1048320" cy="694800"/>
            </a:xfrm>
          </p:grpSpPr>
          <p:pic>
            <p:nvPicPr>
              <p:cNvPr id="643" name="Rectangle 63" descr=""/>
              <p:cNvPicPr/>
              <p:nvPr/>
            </p:nvPicPr>
            <p:blipFill>
              <a:blip r:embed="rId2"/>
              <a:stretch/>
            </p:blipFill>
            <p:spPr>
              <a:xfrm>
                <a:off x="3047760" y="4377600"/>
                <a:ext cx="1048320" cy="694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4" name="Text Box 14"/>
              <p:cNvSpPr/>
              <p:nvPr/>
            </p:nvSpPr>
            <p:spPr>
              <a:xfrm>
                <a:off x="3125160" y="4449960"/>
                <a:ext cx="72036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5" name="Group 15"/>
            <p:cNvGrpSpPr/>
            <p:nvPr/>
          </p:nvGrpSpPr>
          <p:grpSpPr>
            <a:xfrm>
              <a:off x="3767400" y="4017960"/>
              <a:ext cx="1048320" cy="694800"/>
              <a:chOff x="3767400" y="4017960"/>
              <a:chExt cx="1048320" cy="694800"/>
            </a:xfrm>
          </p:grpSpPr>
          <p:pic>
            <p:nvPicPr>
              <p:cNvPr id="646" name="Rectangle 64" descr=""/>
              <p:cNvPicPr/>
              <p:nvPr/>
            </p:nvPicPr>
            <p:blipFill>
              <a:blip r:embed="rId3"/>
              <a:stretch/>
            </p:blipFill>
            <p:spPr>
              <a:xfrm>
                <a:off x="3767400" y="4017960"/>
                <a:ext cx="1048320" cy="694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7" name="Text Box 17"/>
              <p:cNvSpPr/>
              <p:nvPr/>
            </p:nvSpPr>
            <p:spPr>
              <a:xfrm>
                <a:off x="3845880" y="4088880"/>
                <a:ext cx="72144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8" name="Group 18"/>
            <p:cNvGrpSpPr/>
            <p:nvPr/>
          </p:nvGrpSpPr>
          <p:grpSpPr>
            <a:xfrm>
              <a:off x="4486680" y="3658320"/>
              <a:ext cx="1048320" cy="694800"/>
              <a:chOff x="4486680" y="3658320"/>
              <a:chExt cx="1048320" cy="694800"/>
            </a:xfrm>
          </p:grpSpPr>
          <p:pic>
            <p:nvPicPr>
              <p:cNvPr id="649" name="Rectangle 65" descr=""/>
              <p:cNvPicPr/>
              <p:nvPr/>
            </p:nvPicPr>
            <p:blipFill>
              <a:blip r:embed="rId4"/>
              <a:stretch/>
            </p:blipFill>
            <p:spPr>
              <a:xfrm>
                <a:off x="4486680" y="3658320"/>
                <a:ext cx="1048320" cy="694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0" name="Text Box 20"/>
              <p:cNvSpPr/>
              <p:nvPr/>
            </p:nvSpPr>
            <p:spPr>
              <a:xfrm>
                <a:off x="4566600" y="3729600"/>
                <a:ext cx="721440" cy="35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1" name="Group 21"/>
            <p:cNvGrpSpPr/>
            <p:nvPr/>
          </p:nvGrpSpPr>
          <p:grpSpPr>
            <a:xfrm>
              <a:off x="5205960" y="3298680"/>
              <a:ext cx="1048320" cy="694800"/>
              <a:chOff x="5205960" y="3298680"/>
              <a:chExt cx="1048320" cy="694800"/>
            </a:xfrm>
          </p:grpSpPr>
          <p:pic>
            <p:nvPicPr>
              <p:cNvPr id="652" name="Rectangle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5205960" y="3298680"/>
                <a:ext cx="1048320" cy="694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3" name="Text Box 23"/>
              <p:cNvSpPr/>
              <p:nvPr/>
            </p:nvSpPr>
            <p:spPr>
              <a:xfrm>
                <a:off x="5286960" y="3370320"/>
                <a:ext cx="72036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4" name="Group 24"/>
            <p:cNvGrpSpPr/>
            <p:nvPr/>
          </p:nvGrpSpPr>
          <p:grpSpPr>
            <a:xfrm>
              <a:off x="6291360" y="2579040"/>
              <a:ext cx="1048320" cy="688680"/>
              <a:chOff x="6291360" y="2579040"/>
              <a:chExt cx="1048320" cy="688680"/>
            </a:xfrm>
          </p:grpSpPr>
          <p:pic>
            <p:nvPicPr>
              <p:cNvPr id="655" name="Rectangle 67" descr=""/>
              <p:cNvPicPr/>
              <p:nvPr/>
            </p:nvPicPr>
            <p:blipFill>
              <a:blip r:embed="rId6"/>
              <a:stretch/>
            </p:blipFill>
            <p:spPr>
              <a:xfrm>
                <a:off x="6291360" y="2579040"/>
                <a:ext cx="1048320" cy="68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6" name="Text Box 26"/>
              <p:cNvSpPr/>
              <p:nvPr/>
            </p:nvSpPr>
            <p:spPr>
              <a:xfrm>
                <a:off x="6367320" y="2648880"/>
                <a:ext cx="72036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7" name="Group 27"/>
            <p:cNvGrpSpPr/>
            <p:nvPr/>
          </p:nvGrpSpPr>
          <p:grpSpPr>
            <a:xfrm>
              <a:off x="5925240" y="2938680"/>
              <a:ext cx="694800" cy="694800"/>
              <a:chOff x="5925240" y="2938680"/>
              <a:chExt cx="694800" cy="694800"/>
            </a:xfrm>
          </p:grpSpPr>
          <p:pic>
            <p:nvPicPr>
              <p:cNvPr id="658" name="Rectangle 68" descr=""/>
              <p:cNvPicPr/>
              <p:nvPr/>
            </p:nvPicPr>
            <p:blipFill>
              <a:blip r:embed="rId7"/>
              <a:stretch/>
            </p:blipFill>
            <p:spPr>
              <a:xfrm>
                <a:off x="5925240" y="2938680"/>
                <a:ext cx="694800" cy="694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9" name="Text Box 29"/>
              <p:cNvSpPr/>
              <p:nvPr/>
            </p:nvSpPr>
            <p:spPr>
              <a:xfrm>
                <a:off x="6007320" y="3010320"/>
                <a:ext cx="359640" cy="35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0" name="Group 30"/>
            <p:cNvGrpSpPr/>
            <p:nvPr/>
          </p:nvGrpSpPr>
          <p:grpSpPr>
            <a:xfrm>
              <a:off x="7004520" y="2219400"/>
              <a:ext cx="694800" cy="688680"/>
              <a:chOff x="7004520" y="2219400"/>
              <a:chExt cx="694800" cy="688680"/>
            </a:xfrm>
          </p:grpSpPr>
          <p:pic>
            <p:nvPicPr>
              <p:cNvPr id="661" name="Rectangle 69" descr=""/>
              <p:cNvPicPr/>
              <p:nvPr/>
            </p:nvPicPr>
            <p:blipFill>
              <a:blip r:embed="rId8"/>
              <a:stretch/>
            </p:blipFill>
            <p:spPr>
              <a:xfrm>
                <a:off x="7004520" y="2219400"/>
                <a:ext cx="694800" cy="68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2" name="Text Box 32"/>
              <p:cNvSpPr/>
              <p:nvPr/>
            </p:nvSpPr>
            <p:spPr>
              <a:xfrm>
                <a:off x="7086240" y="2289600"/>
                <a:ext cx="36072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3" name="Group 33"/>
            <p:cNvGrpSpPr/>
            <p:nvPr/>
          </p:nvGrpSpPr>
          <p:grpSpPr>
            <a:xfrm>
              <a:off x="7370280" y="1853640"/>
              <a:ext cx="688680" cy="694800"/>
              <a:chOff x="7370280" y="1853640"/>
              <a:chExt cx="688680" cy="694800"/>
            </a:xfrm>
          </p:grpSpPr>
          <p:pic>
            <p:nvPicPr>
              <p:cNvPr id="664" name="Rectangle 70" descr=""/>
              <p:cNvPicPr/>
              <p:nvPr/>
            </p:nvPicPr>
            <p:blipFill>
              <a:blip r:embed="rId9"/>
              <a:stretch/>
            </p:blipFill>
            <p:spPr>
              <a:xfrm>
                <a:off x="7370280" y="1853640"/>
                <a:ext cx="688680" cy="694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5" name="Text Box 35"/>
              <p:cNvSpPr/>
              <p:nvPr/>
            </p:nvSpPr>
            <p:spPr>
              <a:xfrm>
                <a:off x="7447320" y="1928520"/>
                <a:ext cx="35964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6" name="Group 36"/>
            <p:cNvGrpSpPr/>
            <p:nvPr/>
          </p:nvGrpSpPr>
          <p:grpSpPr>
            <a:xfrm>
              <a:off x="1609200" y="5096880"/>
              <a:ext cx="1048320" cy="694800"/>
              <a:chOff x="1609200" y="5096880"/>
              <a:chExt cx="1048320" cy="694800"/>
            </a:xfrm>
          </p:grpSpPr>
          <p:pic>
            <p:nvPicPr>
              <p:cNvPr id="667" name="Rectangle 71" descr=""/>
              <p:cNvPicPr/>
              <p:nvPr/>
            </p:nvPicPr>
            <p:blipFill>
              <a:blip r:embed="rId10"/>
              <a:stretch/>
            </p:blipFill>
            <p:spPr>
              <a:xfrm>
                <a:off x="1609200" y="5096880"/>
                <a:ext cx="1048320" cy="694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8" name="Text Box 38"/>
              <p:cNvSpPr/>
              <p:nvPr/>
            </p:nvSpPr>
            <p:spPr>
              <a:xfrm>
                <a:off x="1685520" y="5170680"/>
                <a:ext cx="72036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9" name="Group 39"/>
            <p:cNvGrpSpPr/>
            <p:nvPr/>
          </p:nvGrpSpPr>
          <p:grpSpPr>
            <a:xfrm>
              <a:off x="1692000" y="1625760"/>
              <a:ext cx="6443640" cy="3889080"/>
              <a:chOff x="1692000" y="1625760"/>
              <a:chExt cx="6443640" cy="3889080"/>
            </a:xfrm>
          </p:grpSpPr>
          <p:sp>
            <p:nvSpPr>
              <p:cNvPr id="670" name="Freeform 73"/>
              <p:cNvSpPr/>
              <p:nvPr/>
            </p:nvSpPr>
            <p:spPr>
              <a:xfrm>
                <a:off x="1692000" y="1625760"/>
                <a:ext cx="6443640" cy="3887640"/>
              </a:xfrm>
              <a:custGeom>
                <a:avLst/>
                <a:gdLst>
                  <a:gd name="textAreaLeft" fmla="*/ 0 w 6443640"/>
                  <a:gd name="textAreaRight" fmla="*/ 6444000 w 6443640"/>
                  <a:gd name="textAreaTop" fmla="*/ 0 h 3887640"/>
                  <a:gd name="textAreaBottom" fmla="*/ 3888000 h 3887640"/>
                </a:gdLst>
                <a:ahLst/>
                <a:rect l="textAreaLeft" t="textAreaTop" r="textAreaRight" b="textAreaBottom"/>
                <a:pathLst>
                  <a:path w="3016" h="2767">
                    <a:moveTo>
                      <a:pt x="0" y="0"/>
                    </a:moveTo>
                    <a:lnTo>
                      <a:pt x="0" y="2767"/>
                    </a:lnTo>
                    <a:lnTo>
                      <a:pt x="3016" y="2767"/>
                    </a:lnTo>
                  </a:path>
                </a:pathLst>
              </a:custGeom>
              <a:noFill/>
              <a:ln w="25560">
                <a:solidFill>
                  <a:srgbClr val="333333"/>
                </a:solidFill>
                <a:bevel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Line 74"/>
              <p:cNvSpPr/>
              <p:nvPr/>
            </p:nvSpPr>
            <p:spPr>
              <a:xfrm>
                <a:off x="1692000" y="5154840"/>
                <a:ext cx="6408720" cy="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Line 75"/>
              <p:cNvSpPr/>
              <p:nvPr/>
            </p:nvSpPr>
            <p:spPr>
              <a:xfrm>
                <a:off x="1692000" y="4794480"/>
                <a:ext cx="6408720" cy="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Line 76"/>
              <p:cNvSpPr/>
              <p:nvPr/>
            </p:nvSpPr>
            <p:spPr>
              <a:xfrm>
                <a:off x="1692000" y="4434120"/>
                <a:ext cx="6408720" cy="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Line 77"/>
              <p:cNvSpPr/>
              <p:nvPr/>
            </p:nvSpPr>
            <p:spPr>
              <a:xfrm>
                <a:off x="1692000" y="4073760"/>
                <a:ext cx="6408720" cy="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Line 78"/>
              <p:cNvSpPr/>
              <p:nvPr/>
            </p:nvSpPr>
            <p:spPr>
              <a:xfrm>
                <a:off x="1692000" y="3714840"/>
                <a:ext cx="6408720" cy="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Line 79"/>
              <p:cNvSpPr/>
              <p:nvPr/>
            </p:nvSpPr>
            <p:spPr>
              <a:xfrm>
                <a:off x="1692000" y="3354480"/>
                <a:ext cx="6408720" cy="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Line 80"/>
              <p:cNvSpPr/>
              <p:nvPr/>
            </p:nvSpPr>
            <p:spPr>
              <a:xfrm>
                <a:off x="1692000" y="2994120"/>
                <a:ext cx="6408720" cy="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Line 81"/>
              <p:cNvSpPr/>
              <p:nvPr/>
            </p:nvSpPr>
            <p:spPr>
              <a:xfrm>
                <a:off x="1692000" y="2633760"/>
                <a:ext cx="6408720" cy="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Line 82"/>
              <p:cNvSpPr/>
              <p:nvPr/>
            </p:nvSpPr>
            <p:spPr>
              <a:xfrm>
                <a:off x="1692000" y="2275200"/>
                <a:ext cx="6408720" cy="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Line 83"/>
              <p:cNvSpPr/>
              <p:nvPr/>
            </p:nvSpPr>
            <p:spPr>
              <a:xfrm>
                <a:off x="1692000" y="1914840"/>
                <a:ext cx="6408720" cy="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Line 84"/>
              <p:cNvSpPr/>
              <p:nvPr/>
            </p:nvSpPr>
            <p:spPr>
              <a:xfrm flipV="1">
                <a:off x="2050920" y="1661760"/>
                <a:ext cx="0" cy="385308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Line 85"/>
              <p:cNvSpPr/>
              <p:nvPr/>
            </p:nvSpPr>
            <p:spPr>
              <a:xfrm flipV="1">
                <a:off x="2411280" y="1661760"/>
                <a:ext cx="0" cy="385308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Line 86"/>
              <p:cNvSpPr/>
              <p:nvPr/>
            </p:nvSpPr>
            <p:spPr>
              <a:xfrm flipV="1">
                <a:off x="2771640" y="1661760"/>
                <a:ext cx="0" cy="385308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Line 87"/>
              <p:cNvSpPr/>
              <p:nvPr/>
            </p:nvSpPr>
            <p:spPr>
              <a:xfrm flipV="1">
                <a:off x="3132000" y="1661760"/>
                <a:ext cx="0" cy="385308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Line 88"/>
              <p:cNvSpPr/>
              <p:nvPr/>
            </p:nvSpPr>
            <p:spPr>
              <a:xfrm flipV="1">
                <a:off x="3490560" y="1661760"/>
                <a:ext cx="0" cy="385308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Line 89"/>
              <p:cNvSpPr/>
              <p:nvPr/>
            </p:nvSpPr>
            <p:spPr>
              <a:xfrm flipV="1">
                <a:off x="3850920" y="1661760"/>
                <a:ext cx="0" cy="385308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Line 90"/>
              <p:cNvSpPr/>
              <p:nvPr/>
            </p:nvSpPr>
            <p:spPr>
              <a:xfrm flipV="1">
                <a:off x="4211280" y="1661760"/>
                <a:ext cx="0" cy="385308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Line 91"/>
              <p:cNvSpPr/>
              <p:nvPr/>
            </p:nvSpPr>
            <p:spPr>
              <a:xfrm flipV="1">
                <a:off x="4571640" y="1661760"/>
                <a:ext cx="0" cy="385308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Line 92"/>
              <p:cNvSpPr/>
              <p:nvPr/>
            </p:nvSpPr>
            <p:spPr>
              <a:xfrm flipV="1">
                <a:off x="4930560" y="1661760"/>
                <a:ext cx="0" cy="385308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Line 93"/>
              <p:cNvSpPr/>
              <p:nvPr/>
            </p:nvSpPr>
            <p:spPr>
              <a:xfrm flipV="1">
                <a:off x="5290920" y="1661760"/>
                <a:ext cx="0" cy="385308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Line 94"/>
              <p:cNvSpPr/>
              <p:nvPr/>
            </p:nvSpPr>
            <p:spPr>
              <a:xfrm flipV="1">
                <a:off x="5651280" y="1661760"/>
                <a:ext cx="0" cy="385308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Line 95"/>
              <p:cNvSpPr/>
              <p:nvPr/>
            </p:nvSpPr>
            <p:spPr>
              <a:xfrm flipV="1">
                <a:off x="6011640" y="1661760"/>
                <a:ext cx="0" cy="385308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Line 96"/>
              <p:cNvSpPr/>
              <p:nvPr/>
            </p:nvSpPr>
            <p:spPr>
              <a:xfrm flipV="1">
                <a:off x="6370200" y="1661760"/>
                <a:ext cx="0" cy="385308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Line 97"/>
              <p:cNvSpPr/>
              <p:nvPr/>
            </p:nvSpPr>
            <p:spPr>
              <a:xfrm flipV="1">
                <a:off x="6730560" y="1661760"/>
                <a:ext cx="0" cy="385308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Line 98"/>
              <p:cNvSpPr/>
              <p:nvPr/>
            </p:nvSpPr>
            <p:spPr>
              <a:xfrm flipV="1">
                <a:off x="7090920" y="1661760"/>
                <a:ext cx="0" cy="385308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Line 99"/>
              <p:cNvSpPr/>
              <p:nvPr/>
            </p:nvSpPr>
            <p:spPr>
              <a:xfrm flipV="1">
                <a:off x="7451280" y="1661760"/>
                <a:ext cx="0" cy="385308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Line 100"/>
              <p:cNvSpPr/>
              <p:nvPr/>
            </p:nvSpPr>
            <p:spPr>
              <a:xfrm flipV="1">
                <a:off x="7811640" y="1661760"/>
                <a:ext cx="0" cy="385308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8" name="Group 68"/>
            <p:cNvGrpSpPr/>
            <p:nvPr/>
          </p:nvGrpSpPr>
          <p:grpSpPr>
            <a:xfrm>
              <a:off x="1861200" y="5615280"/>
              <a:ext cx="6129000" cy="261360"/>
              <a:chOff x="1861200" y="5615280"/>
              <a:chExt cx="6129000" cy="261360"/>
            </a:xfrm>
          </p:grpSpPr>
          <p:sp>
            <p:nvSpPr>
              <p:cNvPr id="699" name="Text Box 102"/>
              <p:cNvSpPr/>
              <p:nvPr/>
            </p:nvSpPr>
            <p:spPr>
              <a:xfrm>
                <a:off x="1861200" y="5615280"/>
                <a:ext cx="34236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 Black"/>
                    <a:ea typeface="Gulim"/>
                  </a:rPr>
                  <a:t>01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Text Box 103"/>
              <p:cNvSpPr/>
              <p:nvPr/>
            </p:nvSpPr>
            <p:spPr>
              <a:xfrm>
                <a:off x="2220120" y="5615280"/>
                <a:ext cx="34236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 Black"/>
                    <a:ea typeface="Gulim"/>
                  </a:rPr>
                  <a:t>02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Text Box 104"/>
              <p:cNvSpPr/>
              <p:nvPr/>
            </p:nvSpPr>
            <p:spPr>
              <a:xfrm>
                <a:off x="2572560" y="5615280"/>
                <a:ext cx="34236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 Black"/>
                    <a:ea typeface="Gulim"/>
                  </a:rPr>
                  <a:t>03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Text Box 105"/>
              <p:cNvSpPr/>
              <p:nvPr/>
            </p:nvSpPr>
            <p:spPr>
              <a:xfrm>
                <a:off x="2940840" y="5615280"/>
                <a:ext cx="34236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 Black"/>
                    <a:ea typeface="Gulim"/>
                  </a:rPr>
                  <a:t>04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Text Box 106"/>
              <p:cNvSpPr/>
              <p:nvPr/>
            </p:nvSpPr>
            <p:spPr>
              <a:xfrm>
                <a:off x="3301200" y="5615280"/>
                <a:ext cx="34236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 Black"/>
                    <a:ea typeface="Gulim"/>
                  </a:rPr>
                  <a:t>05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Text Box 107"/>
              <p:cNvSpPr/>
              <p:nvPr/>
            </p:nvSpPr>
            <p:spPr>
              <a:xfrm>
                <a:off x="3660120" y="5615280"/>
                <a:ext cx="34236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 Black"/>
                    <a:ea typeface="Gulim"/>
                  </a:rPr>
                  <a:t>06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Text Box 108"/>
              <p:cNvSpPr/>
              <p:nvPr/>
            </p:nvSpPr>
            <p:spPr>
              <a:xfrm>
                <a:off x="4012200" y="5615280"/>
                <a:ext cx="34236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 Black"/>
                    <a:ea typeface="Gulim"/>
                  </a:rPr>
                  <a:t>07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Text Box 109"/>
              <p:cNvSpPr/>
              <p:nvPr/>
            </p:nvSpPr>
            <p:spPr>
              <a:xfrm>
                <a:off x="4380840" y="5615280"/>
                <a:ext cx="34236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 Black"/>
                    <a:ea typeface="Gulim"/>
                  </a:rPr>
                  <a:t>08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Text Box 110"/>
              <p:cNvSpPr/>
              <p:nvPr/>
            </p:nvSpPr>
            <p:spPr>
              <a:xfrm>
                <a:off x="4741200" y="5615280"/>
                <a:ext cx="34236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 Black"/>
                    <a:ea typeface="Gulim"/>
                  </a:rPr>
                  <a:t>09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Text Box 111"/>
              <p:cNvSpPr/>
              <p:nvPr/>
            </p:nvSpPr>
            <p:spPr>
              <a:xfrm>
                <a:off x="5099760" y="5615280"/>
                <a:ext cx="34236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 Black"/>
                    <a:ea typeface="Gulim"/>
                  </a:rPr>
                  <a:t>1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Text Box 112"/>
              <p:cNvSpPr/>
              <p:nvPr/>
            </p:nvSpPr>
            <p:spPr>
              <a:xfrm>
                <a:off x="5452200" y="5615280"/>
                <a:ext cx="34236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 Black"/>
                    <a:ea typeface="Gulim"/>
                  </a:rPr>
                  <a:t>11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Text Box 113"/>
              <p:cNvSpPr/>
              <p:nvPr/>
            </p:nvSpPr>
            <p:spPr>
              <a:xfrm>
                <a:off x="5820480" y="5615280"/>
                <a:ext cx="34236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 Black"/>
                    <a:ea typeface="Gulim"/>
                  </a:rPr>
                  <a:t>12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Text Box 114"/>
              <p:cNvSpPr/>
              <p:nvPr/>
            </p:nvSpPr>
            <p:spPr>
              <a:xfrm>
                <a:off x="6180840" y="5615280"/>
                <a:ext cx="34236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 Black"/>
                    <a:ea typeface="Gulim"/>
                  </a:rPr>
                  <a:t>13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Text Box 115"/>
              <p:cNvSpPr/>
              <p:nvPr/>
            </p:nvSpPr>
            <p:spPr>
              <a:xfrm>
                <a:off x="6539760" y="5615280"/>
                <a:ext cx="34236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 Black"/>
                    <a:ea typeface="Gulim"/>
                  </a:rPr>
                  <a:t>14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Text Box 116"/>
              <p:cNvSpPr/>
              <p:nvPr/>
            </p:nvSpPr>
            <p:spPr>
              <a:xfrm>
                <a:off x="6892200" y="5615280"/>
                <a:ext cx="34236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 Black"/>
                    <a:ea typeface="Gulim"/>
                  </a:rPr>
                  <a:t>15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Text Box 117"/>
              <p:cNvSpPr/>
              <p:nvPr/>
            </p:nvSpPr>
            <p:spPr>
              <a:xfrm>
                <a:off x="7260480" y="5615280"/>
                <a:ext cx="34236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 Black"/>
                    <a:ea typeface="Gulim"/>
                  </a:rPr>
                  <a:t>16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Text Box 118"/>
              <p:cNvSpPr/>
              <p:nvPr/>
            </p:nvSpPr>
            <p:spPr>
              <a:xfrm>
                <a:off x="7647840" y="5615280"/>
                <a:ext cx="34236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 Black"/>
                    <a:ea typeface="Gulim"/>
                  </a:rPr>
                  <a:t>17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6" name="Group 86"/>
            <p:cNvGrpSpPr/>
            <p:nvPr/>
          </p:nvGrpSpPr>
          <p:grpSpPr>
            <a:xfrm>
              <a:off x="825120" y="1641600"/>
              <a:ext cx="744480" cy="3839760"/>
              <a:chOff x="825120" y="1641600"/>
              <a:chExt cx="744480" cy="3839760"/>
            </a:xfrm>
          </p:grpSpPr>
          <p:sp>
            <p:nvSpPr>
              <p:cNvPr id="717" name="Text Box 120"/>
              <p:cNvSpPr/>
              <p:nvPr/>
            </p:nvSpPr>
            <p:spPr>
              <a:xfrm>
                <a:off x="825120" y="5220000"/>
                <a:ext cx="7444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 Black"/>
                    <a:ea typeface="Gulim"/>
                  </a:rPr>
                  <a:t>Value 01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Text Box 121"/>
              <p:cNvSpPr/>
              <p:nvPr/>
            </p:nvSpPr>
            <p:spPr>
              <a:xfrm>
                <a:off x="825120" y="4861080"/>
                <a:ext cx="7444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 Black"/>
                    <a:ea typeface="Gulim"/>
                  </a:rPr>
                  <a:t>Value 02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Text Box 122"/>
              <p:cNvSpPr/>
              <p:nvPr/>
            </p:nvSpPr>
            <p:spPr>
              <a:xfrm>
                <a:off x="825120" y="4500720"/>
                <a:ext cx="7444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 Black"/>
                    <a:ea typeface="Gulim"/>
                  </a:rPr>
                  <a:t>Value 03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Text Box 123"/>
              <p:cNvSpPr/>
              <p:nvPr/>
            </p:nvSpPr>
            <p:spPr>
              <a:xfrm>
                <a:off x="825120" y="4138560"/>
                <a:ext cx="7444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 Black"/>
                    <a:ea typeface="Gulim"/>
                  </a:rPr>
                  <a:t>Value 04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Text Box 124"/>
              <p:cNvSpPr/>
              <p:nvPr/>
            </p:nvSpPr>
            <p:spPr>
              <a:xfrm>
                <a:off x="825120" y="3780000"/>
                <a:ext cx="7444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 Black"/>
                    <a:ea typeface="Gulim"/>
                  </a:rPr>
                  <a:t>Value 05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Text Box 125"/>
              <p:cNvSpPr/>
              <p:nvPr/>
            </p:nvSpPr>
            <p:spPr>
              <a:xfrm>
                <a:off x="825120" y="3419640"/>
                <a:ext cx="7444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 Black"/>
                    <a:ea typeface="Gulim"/>
                  </a:rPr>
                  <a:t>Value 06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Text Box 126"/>
              <p:cNvSpPr/>
              <p:nvPr/>
            </p:nvSpPr>
            <p:spPr>
              <a:xfrm>
                <a:off x="825120" y="3060720"/>
                <a:ext cx="7444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 Black"/>
                    <a:ea typeface="Gulim"/>
                  </a:rPr>
                  <a:t>Value 07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Text Box 127"/>
              <p:cNvSpPr/>
              <p:nvPr/>
            </p:nvSpPr>
            <p:spPr>
              <a:xfrm>
                <a:off x="825120" y="2702160"/>
                <a:ext cx="7444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 Black"/>
                    <a:ea typeface="Gulim"/>
                  </a:rPr>
                  <a:t>Value 08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Text Box 128"/>
              <p:cNvSpPr/>
              <p:nvPr/>
            </p:nvSpPr>
            <p:spPr>
              <a:xfrm>
                <a:off x="825120" y="2341800"/>
                <a:ext cx="7444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 Black"/>
                    <a:ea typeface="Gulim"/>
                  </a:rPr>
                  <a:t>Value 09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Text Box 129"/>
              <p:cNvSpPr/>
              <p:nvPr/>
            </p:nvSpPr>
            <p:spPr>
              <a:xfrm>
                <a:off x="825120" y="1979640"/>
                <a:ext cx="7444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 Black"/>
                    <a:ea typeface="Gulim"/>
                  </a:rPr>
                  <a:t>Value 1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Text Box 130"/>
              <p:cNvSpPr/>
              <p:nvPr/>
            </p:nvSpPr>
            <p:spPr>
              <a:xfrm>
                <a:off x="825120" y="1641600"/>
                <a:ext cx="7444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 Black"/>
                    <a:ea typeface="Gulim"/>
                  </a:rPr>
                  <a:t>Value 11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8" name="Rectangle 131"/>
            <p:cNvSpPr/>
            <p:nvPr/>
          </p:nvSpPr>
          <p:spPr>
            <a:xfrm>
              <a:off x="2046240" y="1928880"/>
              <a:ext cx="2881440" cy="1441440"/>
            </a:xfrm>
            <a:prstGeom prst="rect">
              <a:avLst/>
            </a:prstGeom>
            <a:solidFill>
              <a:srgbClr val="ffa7a7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Text Box 132"/>
            <p:cNvSpPr/>
            <p:nvPr/>
          </p:nvSpPr>
          <p:spPr>
            <a:xfrm>
              <a:off x="2153880" y="2038320"/>
              <a:ext cx="2704320" cy="103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20000"/>
                  </a:solidFill>
                  <a:latin typeface="Arial Black"/>
                  <a:ea typeface="Gulim"/>
                </a:rPr>
                <a:t>Visual Appeal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  <a:ea typeface="Gulim"/>
                </a:rPr>
                <a:t>Captivate your viewing audience - PowerPoint Templates &amp; Backgrounds, Sleek Diagram &amp; Charts For Your Presentati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Text Box 2"/>
          <p:cNvSpPr/>
          <p:nvPr/>
        </p:nvSpPr>
        <p:spPr>
          <a:xfrm>
            <a:off x="2484360" y="4941720"/>
            <a:ext cx="511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感谢您的关注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矩形 5"/>
          <p:cNvSpPr/>
          <p:nvPr/>
        </p:nvSpPr>
        <p:spPr>
          <a:xfrm>
            <a:off x="4788000" y="23493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0000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0000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0000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0000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0000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0000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0000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0000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0000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0000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0000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0000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0000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0000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0000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0000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0000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0000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0000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0000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0000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0000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0000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0000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0000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0000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0000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0000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0000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0000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6T13:27:46Z</dcterms:created>
  <dc:creator/>
  <dc:description/>
  <dc:language>en-US</dc:language>
  <cp:lastModifiedBy>微软用户</cp:lastModifiedBy>
  <dcterms:modified xsi:type="dcterms:W3CDTF">2015-06-26T02:51:28Z</dcterms:modified>
  <cp:revision>8</cp:revision>
  <dc:subject/>
  <dc:title>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