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800-6265-4576-A0D0-82332048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0C4-2849-4F05-89B1-AC024DBC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EDD98-89D9-451E-9F6C-A00FD71D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3DA87-5642-4F92-8F96-48FDBE2A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B08F4-BC8C-4D0C-80EF-E7A27285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417F4-6312-402B-B148-D6A42752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68F39-193F-4CA9-BD51-74722A29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61878-DF20-44B6-9B80-0060051E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312AC-3845-4205-8F32-50662EA7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5CE56-3E71-4A54-9ED8-EC1F3743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E40A7-0412-4C7E-A6C9-9419FF20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2A27D-24D8-4D08-80E7-7CF9C812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62C-0FD1-4A07-9395-DB1B0971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5B157-D5B9-4CE0-9DA5-6C8CF828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0D4DE-EC5F-4FCF-A80F-D1695290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AC2C5-B119-46E3-93FA-907F390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7D828-C3FA-4E6C-AB8C-A6CD5C6D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B6E13-F540-4DA4-AD1C-2742AFCF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BC079-D2D1-4917-B644-AA3EF14A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C5763-16BD-495C-9D42-51C251C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878C3-46E7-47F9-9228-1D026880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0A919-B30B-4BF9-86A0-C5AC41E0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C3E17-9954-49A4-98D8-178139AB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C13-196C-411E-A73D-B82F68A9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3A339-998A-4E8E-94D9-0FD887DA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55A6B-84D9-46F4-824F-E1310116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BB9D7-BA54-4AC0-8AC3-4A84E076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D9950-4BC0-459D-9C16-0FC69F5B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DF8F5-298B-45EB-84AE-3A5560C8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1FFF6-3791-4F07-A402-89D30141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90664-F9AD-427C-8401-64D11A6E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92409-A891-47DA-B45E-450C6520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BA25C-0F4C-41EE-8C4F-A6FBA5D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40AD4-F29D-47F9-920E-43191FC6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A70A-8464-4443-8F3D-E8993CCD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A029E-E42C-4928-A6DB-A91DA5B0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BE46E-A291-4AAE-8B03-836DCE48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3BA73-BE1E-498D-95EE-24080C4F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C0E3E-F1E0-4327-9FA5-FF3F8C2C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ECC78-DF41-463D-8427-04D6D87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1EB76-AB73-4936-8094-479A5681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35626-20ED-4212-A72B-8BF0EB43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D11B2-741A-4421-8612-1DBD0073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C6713-F475-406C-A299-0AF06D89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A04A6-E09F-4305-ADBA-6CB9FAC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C49D-7DD0-4902-9E20-57734375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3CBE3-88E3-4844-BF78-7299C88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541BE-B4EC-47AE-BCA4-7977046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32A3A-A286-4666-A35B-F86AEFB4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8A0A9-30EB-4DF0-A046-6004C8EB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BB216-0A9B-435A-A4CE-25D97CE9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24973-66BE-4323-B423-73B71F6E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48F71-1D15-41D0-AF82-AE8F1C76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8BBCC-718C-4373-BD9F-3CCD9B5A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F2CEE-AC02-4918-8BF0-710B3D25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4F230-46AE-409C-BB42-B33EE55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BA77-75A5-4E5D-A7E6-509B519B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AD787-51FC-422B-B238-4592852C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ED3C9-57FD-491C-883E-6D2F232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5428B-2656-4346-9FE4-DD063361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101EA-71B1-481D-8885-2BABF64B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42417-E28A-40E8-AF6A-33D3213C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BEF96-937C-4242-B211-87F2B811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C00A5-5C42-4B5A-9F1B-3705092F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BEC5-2AFE-4703-82C0-F82A79DF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8B48-238D-4D5A-82BA-8797B82C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A698-D705-46F6-A51E-E6AB0DA6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CC3F-B059-4F12-AAF7-7AA533F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C98-4EF6-4E18-A699-6FE38643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9826-FD50-4700-B0FE-745D5A5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196D-7D0C-4578-A5F8-7F5E9C13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B083-EB3D-4709-B623-8CEEBA87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2702-C1AD-440D-B5CE-09B67790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92D2-00C0-42F7-9ED0-BCB5E6E0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9CE-D085-4254-BBBC-CCA34FEB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8ACB-F7A1-4D7F-9635-FAC24809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36E8-C4A1-4D09-BAB7-DE85F36F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E931-4225-4600-9B65-E86ECBA2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1F3-501A-4E1C-BAD7-F7E1AABE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6BC2-77C6-40B8-91EB-CEFF5552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47EB-DC45-4A44-BA87-12430AEB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4D7C-E2BE-4E0F-9CA4-858511C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45AF-0162-48C2-B9F0-F3E26A7B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70BC9-CFCB-4B9D-9045-B3DFDA13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A299-1A15-4186-A650-7EE40D9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356DF-3270-45A0-BA9F-6D0AC78E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A26E-46CC-447B-B115-D468C29C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4ECC-4457-4585-8A7D-2A856F30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69F2-2F48-4054-BDA1-98389F3F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70A-880C-4C47-9D24-3C931DF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E253-3101-4E2A-B5B8-BBDD47F3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2A2C-3798-4817-BAFE-3C5687D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843D9-07E3-4515-B7D1-90F0A488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B6A74-24BA-43D0-ADF9-71CD6403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75C15-6A9A-455F-8B49-2155D818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0CD1-85F6-4C7D-ADF5-DCEDB8A6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C151-C449-456A-B572-58079D4D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DD50-9EF2-4EBA-BB0F-0DD4B0C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6028-BFC4-4D06-AF6C-42141A8E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9EBC-BEA5-4EEE-B74B-D9057943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803-8009-4B2C-8F36-C284F715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740B7-2418-4224-822F-6354D5BA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47D4C-E17A-493F-83CB-83F192EF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68C78-B1B9-4A27-9729-209F26FF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EB38E-AA10-4E05-8CE0-3F4E8BC5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4331E-B60D-4180-87A1-A1D03E28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4C768-4150-4950-B821-28FE5B6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CC47-1754-45D5-9D25-020AA483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F897-9E91-4BB7-B40F-D4464811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68F34-2816-45CC-8C30-7531F29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0F71-32DC-49B7-B7C5-FFD5310A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9DF-C8F4-4B79-9BC4-E0F85323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91CFB-5E4F-4967-AED7-FA58CD04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3EC34-6418-49FA-AF6B-D77BE72A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CB9DD-B42A-4461-AFA6-EFA34308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0A8E8-2C19-4C2F-8435-4460B035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4FA35-538E-4AB0-8CDC-0486AE48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61E7-359F-4652-93AC-A73B6229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865E8-A7F0-4041-A73A-962511E1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FCD4F-E879-473B-B995-9C446620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56E8A-1610-4DD8-8BF7-3C80D3DF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7D90B-8E49-4F09-802B-2A6F0E55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92F-B98D-4029-89A0-D8952B7B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5F29A-FC54-47E2-B311-377F0C90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F176B-E30E-49F1-B981-6CCE6EC8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7B83-ED41-4985-9C93-AE5B314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8296B-420B-48D1-BC99-7BB8E4CE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7B274-BF02-4A4E-8047-57C6FA52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FE11A-5707-4FEF-92EC-D1392823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D2D4-4BB1-4172-A0BB-1A6EBD45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342ED-8D4A-43DE-BBBC-7C6FD32A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A0C7D-D00E-4B65-B28E-EDF2E98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B32BD-9917-4717-B5E8-73C5D9C2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7F4-8676-4835-99A2-50A8B80D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85FF-F645-48FA-866F-4D9B203A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E7E70-8F69-40CF-B2D8-AD3902CF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8E322-FD45-472E-9701-E6058D5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319A-516D-409C-A56C-D71CFA7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8E24-4093-48F8-B299-C5B4F4A6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FE1D8-ABEE-4A70-9DF4-BC3F7936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885C4-C498-41A9-B20E-585CC487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9595D-0C88-4472-BB4E-9815A26E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4CA8D-DC22-442A-93EE-E4516E9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FB77-653F-416B-A439-68303103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F22A-0CFA-45C1-A97E-56713E3B18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F16D-5F01-4321-94F3-5FBA563C60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60F7-4B48-4F82-9A8E-7653F0FAB8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924C-30F6-4847-B4A3-22C516E6E5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A032-C6D4-4209-B67D-5B5338C695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431A-8B5D-4AF9-A8E3-AF01E104B5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31480" y="526896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E:\本地磁盘 (E)\工作\网站上传资料\免费推广\建党90周年\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E:\本地磁盘 (E)\工作\网站上传资料\免费推广\建党90周年\3.png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" descr="10.png"/>
          <p:cNvPicPr/>
          <p:nvPr/>
        </p:nvPicPr>
        <p:blipFill>
          <a:blip r:embed="rId4"/>
          <a:stretch/>
        </p:blipFill>
        <p:spPr>
          <a:xfrm>
            <a:off x="7721640" y="0"/>
            <a:ext cx="1479600" cy="1162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DECB-2F21-4B91-B0A0-5715F21767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4A08-FBC8-4251-AFB0-9D542F2AD7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EA6A-E69D-4B48-A15C-788B0618D3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477A-A251-4E60-B151-D0A9D6C71D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6AF9-1A22-4AFC-B0B2-8A5D909868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2DD2-4C81-4D9F-87F4-8F57036856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8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12"/>
          <p:cNvSpPr/>
          <p:nvPr/>
        </p:nvSpPr>
        <p:spPr>
          <a:xfrm>
            <a:off x="231480" y="526896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E:\本地磁盘 (E)\工作\网站上传资料\免费推广\建党90周年\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9" descr="6.png"/>
          <p:cNvPicPr/>
          <p:nvPr/>
        </p:nvPicPr>
        <p:blipFill>
          <a:blip r:embed="rId2"/>
          <a:stretch/>
        </p:blipFill>
        <p:spPr>
          <a:xfrm>
            <a:off x="857160" y="-14400"/>
            <a:ext cx="7691400" cy="572940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7" descr="10.png"/>
          <p:cNvPicPr/>
          <p:nvPr/>
        </p:nvPicPr>
        <p:blipFill>
          <a:blip r:embed="rId3"/>
          <a:stretch/>
        </p:blipFill>
        <p:spPr>
          <a:xfrm>
            <a:off x="2687760" y="614520"/>
            <a:ext cx="3787560" cy="2974680"/>
          </a:xfrm>
          <a:prstGeom prst="rect">
            <a:avLst/>
          </a:prstGeom>
          <a:ln w="0">
            <a:noFill/>
          </a:ln>
        </p:spPr>
      </p:pic>
      <p:sp>
        <p:nvSpPr>
          <p:cNvPr id="538" name="TextBox 3"/>
          <p:cNvSpPr/>
          <p:nvPr/>
        </p:nvSpPr>
        <p:spPr>
          <a:xfrm>
            <a:off x="928800" y="435780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让我们一起为党呐喊，为党祝福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6"/>
          <p:cNvSpPr/>
          <p:nvPr/>
        </p:nvSpPr>
        <p:spPr>
          <a:xfrm>
            <a:off x="7924680" y="6210360"/>
            <a:ext cx="6098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4214880" y="557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祝愿我们的国家和党永远强大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0"/>
          <p:cNvSpPr/>
          <p:nvPr/>
        </p:nvSpPr>
        <p:spPr>
          <a:xfrm>
            <a:off x="4214880" y="9381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高呼中国共产党万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:\本地磁盘 (E)\工作\网站上传资料\免费推广\建党90周年\3.png"/>
          <p:cNvPicPr/>
          <p:nvPr/>
        </p:nvPicPr>
        <p:blipFill>
          <a:blip r:embed="rId4"/>
          <a:stretch/>
        </p:blipFill>
        <p:spPr>
          <a:xfrm>
            <a:off x="857160" y="119160"/>
            <a:ext cx="6199200" cy="5595840"/>
          </a:xfrm>
          <a:prstGeom prst="rect">
            <a:avLst/>
          </a:prstGeom>
          <a:ln w="0">
            <a:noFill/>
          </a:ln>
        </p:spPr>
      </p:pic>
      <p:sp>
        <p:nvSpPr>
          <p:cNvPr id="543" name="矩形 11"/>
          <p:cNvSpPr/>
          <p:nvPr/>
        </p:nvSpPr>
        <p:spPr>
          <a:xfrm>
            <a:off x="6357960" y="6224760"/>
            <a:ext cx="6094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3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3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3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8.5739984512329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12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8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928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928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728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228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33"/>
          <p:cNvSpPr/>
          <p:nvPr/>
        </p:nvSpPr>
        <p:spPr>
          <a:xfrm>
            <a:off x="719280" y="47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组合 61"/>
          <p:cNvGrpSpPr/>
          <p:nvPr/>
        </p:nvGrpSpPr>
        <p:grpSpPr>
          <a:xfrm>
            <a:off x="5091120" y="1782720"/>
            <a:ext cx="3552840" cy="2366640"/>
            <a:chOff x="5091120" y="1782720"/>
            <a:chExt cx="3552840" cy="2366640"/>
          </a:xfrm>
        </p:grpSpPr>
        <p:sp>
          <p:nvSpPr>
            <p:cNvPr id="705" name="任意多边形 35"/>
            <p:cNvSpPr/>
            <p:nvPr/>
          </p:nvSpPr>
          <p:spPr>
            <a:xfrm flipH="1">
              <a:off x="5091120" y="178272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36"/>
            <p:cNvSpPr/>
            <p:nvPr/>
          </p:nvSpPr>
          <p:spPr>
            <a:xfrm flipH="1" flipV="1">
              <a:off x="5091120" y="38966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直接连接符 37"/>
            <p:cNvSpPr/>
            <p:nvPr/>
          </p:nvSpPr>
          <p:spPr>
            <a:xfrm>
              <a:off x="5633280" y="2586600"/>
              <a:ext cx="645480" cy="5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直接连接符 38"/>
            <p:cNvSpPr/>
            <p:nvPr/>
          </p:nvSpPr>
          <p:spPr>
            <a:xfrm flipV="1">
              <a:off x="5633280" y="3375720"/>
              <a:ext cx="645480" cy="5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Box 146"/>
            <p:cNvSpPr/>
            <p:nvPr/>
          </p:nvSpPr>
          <p:spPr>
            <a:xfrm>
              <a:off x="6262920" y="1864800"/>
              <a:ext cx="238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Box 146"/>
            <p:cNvSpPr/>
            <p:nvPr/>
          </p:nvSpPr>
          <p:spPr>
            <a:xfrm>
              <a:off x="6262560" y="24890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Box 146"/>
            <p:cNvSpPr/>
            <p:nvPr/>
          </p:nvSpPr>
          <p:spPr>
            <a:xfrm>
              <a:off x="6262560" y="322092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Box 146"/>
            <p:cNvSpPr/>
            <p:nvPr/>
          </p:nvSpPr>
          <p:spPr>
            <a:xfrm>
              <a:off x="6262560" y="3754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Box 146"/>
          <p:cNvSpPr/>
          <p:nvPr/>
        </p:nvSpPr>
        <p:spPr>
          <a:xfrm>
            <a:off x="2876400" y="81612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组合 60"/>
          <p:cNvGrpSpPr/>
          <p:nvPr/>
        </p:nvGrpSpPr>
        <p:grpSpPr>
          <a:xfrm>
            <a:off x="357120" y="1782720"/>
            <a:ext cx="3562200" cy="2206440"/>
            <a:chOff x="357120" y="1782720"/>
            <a:chExt cx="3562200" cy="2206440"/>
          </a:xfrm>
        </p:grpSpPr>
        <p:sp>
          <p:nvSpPr>
            <p:cNvPr id="715" name="任意多边形 23"/>
            <p:cNvSpPr/>
            <p:nvPr/>
          </p:nvSpPr>
          <p:spPr>
            <a:xfrm>
              <a:off x="2732040" y="178272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4"/>
            <p:cNvSpPr/>
            <p:nvPr/>
          </p:nvSpPr>
          <p:spPr>
            <a:xfrm flipV="1">
              <a:off x="2732040" y="37364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直接连接符 25"/>
            <p:cNvSpPr/>
            <p:nvPr/>
          </p:nvSpPr>
          <p:spPr>
            <a:xfrm>
              <a:off x="2732040" y="3038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146"/>
            <p:cNvSpPr/>
            <p:nvPr/>
          </p:nvSpPr>
          <p:spPr>
            <a:xfrm>
              <a:off x="357120" y="358020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Box 146"/>
            <p:cNvSpPr/>
            <p:nvPr/>
          </p:nvSpPr>
          <p:spPr>
            <a:xfrm>
              <a:off x="357120" y="28846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Box 146"/>
            <p:cNvSpPr/>
            <p:nvPr/>
          </p:nvSpPr>
          <p:spPr>
            <a:xfrm>
              <a:off x="357120" y="186660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49"/>
          <p:cNvGrpSpPr/>
          <p:nvPr/>
        </p:nvGrpSpPr>
        <p:grpSpPr>
          <a:xfrm>
            <a:off x="3006720" y="1459080"/>
            <a:ext cx="2987640" cy="2987640"/>
            <a:chOff x="3006720" y="1459080"/>
            <a:chExt cx="2987640" cy="2987640"/>
          </a:xfrm>
        </p:grpSpPr>
        <p:sp>
          <p:nvSpPr>
            <p:cNvPr id="722" name="饼形 44"/>
            <p:cNvSpPr/>
            <p:nvPr/>
          </p:nvSpPr>
          <p:spPr>
            <a:xfrm>
              <a:off x="3151080" y="160344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9044" h="2699044">
                  <a:moveTo>
                    <a:pt x="2527783" y="691562"/>
                  </a:moveTo>
                  <a:cubicBezTo>
                    <a:pt x="2639646" y="891884"/>
                    <a:pt x="2698589" y="1117418"/>
                    <a:pt x="2699042" y="1346857"/>
                  </a:cubicBezTo>
                  <a:lnTo>
                    <a:pt x="1349522" y="1349522"/>
                  </a:lnTo>
                  <a:lnTo>
                    <a:pt x="2527783" y="691562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饼形 45"/>
            <p:cNvSpPr/>
            <p:nvPr/>
          </p:nvSpPr>
          <p:spPr>
            <a:xfrm>
              <a:off x="3151080" y="160344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9044" h="2699044">
                  <a:moveTo>
                    <a:pt x="2379824" y="2221123"/>
                  </a:moveTo>
                  <a:cubicBezTo>
                    <a:pt x="2121297" y="2526723"/>
                    <a:pt x="1740445" y="2701786"/>
                    <a:pt x="1340171" y="2699012"/>
                  </a:cubicBezTo>
                  <a:lnTo>
                    <a:pt x="1349522" y="1349522"/>
                  </a:lnTo>
                  <a:lnTo>
                    <a:pt x="2379824" y="2221123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饼形 46"/>
            <p:cNvSpPr/>
            <p:nvPr/>
          </p:nvSpPr>
          <p:spPr>
            <a:xfrm>
              <a:off x="3151080" y="160344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9044" h="2699044">
                  <a:moveTo>
                    <a:pt x="1343308" y="2699030"/>
                  </a:moveTo>
                  <a:cubicBezTo>
                    <a:pt x="917998" y="2697072"/>
                    <a:pt x="518497" y="2494730"/>
                    <a:pt x="265268" y="2153017"/>
                  </a:cubicBezTo>
                  <a:lnTo>
                    <a:pt x="1349522" y="1349522"/>
                  </a:lnTo>
                  <a:cubicBezTo>
                    <a:pt x="1347451" y="1799358"/>
                    <a:pt x="1345379" y="2249194"/>
                    <a:pt x="1343308" y="2699030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饼形 47"/>
            <p:cNvSpPr/>
            <p:nvPr/>
          </p:nvSpPr>
          <p:spPr>
            <a:xfrm>
              <a:off x="3151080" y="160344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9044" h="2699044">
                  <a:moveTo>
                    <a:pt x="268985" y="2158008"/>
                  </a:moveTo>
                  <a:cubicBezTo>
                    <a:pt x="11570" y="1813974"/>
                    <a:pt x="-66633" y="1367921"/>
                    <a:pt x="58395" y="956837"/>
                  </a:cubicBezTo>
                  <a:lnTo>
                    <a:pt x="1349522" y="1349522"/>
                  </a:lnTo>
                  <a:lnTo>
                    <a:pt x="268985" y="2158008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饼形 48"/>
            <p:cNvSpPr/>
            <p:nvPr/>
          </p:nvSpPr>
          <p:spPr>
            <a:xfrm>
              <a:off x="3151080" y="160344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9044" h="2699044">
                  <a:moveTo>
                    <a:pt x="60010" y="951567"/>
                  </a:moveTo>
                  <a:cubicBezTo>
                    <a:pt x="234591" y="385864"/>
                    <a:pt x="757493" y="0"/>
                    <a:pt x="1349522" y="0"/>
                  </a:cubicBezTo>
                  <a:lnTo>
                    <a:pt x="1349522" y="1349522"/>
                  </a:lnTo>
                  <a:lnTo>
                    <a:pt x="60010" y="951567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饼形 49"/>
            <p:cNvSpPr/>
            <p:nvPr/>
          </p:nvSpPr>
          <p:spPr>
            <a:xfrm>
              <a:off x="3151080" y="160344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9044" h="2699044">
                  <a:moveTo>
                    <a:pt x="1348282" y="1"/>
                  </a:moveTo>
                  <a:cubicBezTo>
                    <a:pt x="1839184" y="-450"/>
                    <a:pt x="2291612" y="265705"/>
                    <a:pt x="2529699" y="695006"/>
                  </a:cubicBezTo>
                  <a:lnTo>
                    <a:pt x="1349522" y="1349522"/>
                  </a:lnTo>
                  <a:cubicBezTo>
                    <a:pt x="1349109" y="899682"/>
                    <a:pt x="1348695" y="449841"/>
                    <a:pt x="1348282" y="1"/>
                  </a:cubicBezTo>
                  <a:close/>
                </a:path>
              </a:pathLst>
            </a:custGeom>
            <a:solidFill>
              <a:srgbClr val="ffc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组合 48"/>
            <p:cNvGrpSpPr/>
            <p:nvPr/>
          </p:nvGrpSpPr>
          <p:grpSpPr>
            <a:xfrm>
              <a:off x="3006720" y="1459080"/>
              <a:ext cx="2987640" cy="2987640"/>
              <a:chOff x="3006720" y="1459080"/>
              <a:chExt cx="2987640" cy="2987640"/>
            </a:xfrm>
          </p:grpSpPr>
          <p:sp>
            <p:nvSpPr>
              <p:cNvPr id="729" name="饼形 51"/>
              <p:cNvSpPr/>
              <p:nvPr/>
            </p:nvSpPr>
            <p:spPr>
              <a:xfrm>
                <a:off x="3151080" y="1603440"/>
                <a:ext cx="2698920" cy="2698920"/>
              </a:xfrm>
              <a:custGeom>
                <a:avLst/>
                <a:gdLst/>
                <a:ahLst/>
                <a:rect l="l" t="t" r="r" b="b"/>
                <a:pathLst>
                  <a:path w="2699044" h="2699044">
                    <a:moveTo>
                      <a:pt x="2699042" y="1347119"/>
                    </a:moveTo>
                    <a:cubicBezTo>
                      <a:pt x="2699612" y="1667111"/>
                      <a:pt x="2586458" y="1976894"/>
                      <a:pt x="2379774" y="2221182"/>
                    </a:cubicBezTo>
                    <a:lnTo>
                      <a:pt x="1349522" y="1349522"/>
                    </a:lnTo>
                    <a:lnTo>
                      <a:pt x="2699042" y="1347119"/>
                    </a:lnTo>
                    <a:close/>
                  </a:path>
                </a:pathLst>
              </a:custGeom>
              <a:solidFill>
                <a:srgbClr val="d9d9d9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椭圆 46"/>
              <p:cNvSpPr/>
              <p:nvPr/>
            </p:nvSpPr>
            <p:spPr>
              <a:xfrm>
                <a:off x="3006720" y="1459080"/>
                <a:ext cx="2987640" cy="2987640"/>
              </a:xfrm>
              <a:prstGeom prst="ellipse">
                <a:avLst/>
              </a:prstGeom>
              <a:noFill/>
              <a:ln w="15840">
                <a:solidFill>
                  <a:srgbClr val="ffffff">
                    <a:alpha val="79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2"/>
          <p:cNvSpPr/>
          <p:nvPr/>
        </p:nvSpPr>
        <p:spPr>
          <a:xfrm>
            <a:off x="1395360" y="2043000"/>
            <a:ext cx="230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33"/>
          <p:cNvSpPr/>
          <p:nvPr/>
        </p:nvSpPr>
        <p:spPr>
          <a:xfrm>
            <a:off x="719280" y="47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2" descr=""/>
          <p:cNvPicPr/>
          <p:nvPr/>
        </p:nvPicPr>
        <p:blipFill>
          <a:blip r:embed="rId2"/>
          <a:stretch/>
        </p:blipFill>
        <p:spPr>
          <a:xfrm>
            <a:off x="1407960" y="1231920"/>
            <a:ext cx="2278080" cy="30621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734" name="Rectangle 13"/>
          <p:cNvSpPr/>
          <p:nvPr/>
        </p:nvSpPr>
        <p:spPr>
          <a:xfrm>
            <a:off x="4238640" y="2313000"/>
            <a:ext cx="435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，文字内容，文字内容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146"/>
          <p:cNvSpPr/>
          <p:nvPr/>
        </p:nvSpPr>
        <p:spPr>
          <a:xfrm>
            <a:off x="4241880" y="1812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矩形 11"/>
          <p:cNvSpPr/>
          <p:nvPr/>
        </p:nvSpPr>
        <p:spPr>
          <a:xfrm>
            <a:off x="231480" y="526896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3" descr="E:\工作\模板\建党90周年\8.png"/>
          <p:cNvPicPr/>
          <p:nvPr/>
        </p:nvPicPr>
        <p:blipFill>
          <a:blip r:embed="rId1"/>
          <a:stretch/>
        </p:blipFill>
        <p:spPr>
          <a:xfrm>
            <a:off x="-318960" y="0"/>
            <a:ext cx="10544040" cy="5715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4" descr="E:\工作\模板\建党90周年\2.png"/>
          <p:cNvPicPr/>
          <p:nvPr/>
        </p:nvPicPr>
        <p:blipFill>
          <a:blip r:embed="rId2"/>
          <a:stretch/>
        </p:blipFill>
        <p:spPr>
          <a:xfrm>
            <a:off x="52560" y="3336840"/>
            <a:ext cx="9034200" cy="23781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" descr="E:\工作\模板\建党90周年\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40" name="1974" descr=""/>
          <p:cNvPicPr/>
          <p:nvPr/>
        </p:nvPicPr>
        <p:blipFill>
          <a:blip r:embed="rId4"/>
          <a:stretch/>
        </p:blipFill>
        <p:spPr>
          <a:xfrm>
            <a:off x="3627360" y="3833640"/>
            <a:ext cx="1676520" cy="1073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5" descr="E:\工作\模板\建党90周年\7.png"/>
          <p:cNvPicPr/>
          <p:nvPr/>
        </p:nvPicPr>
        <p:blipFill>
          <a:blip r:embed="rId5"/>
          <a:stretch/>
        </p:blipFill>
        <p:spPr>
          <a:xfrm>
            <a:off x="3524400" y="584280"/>
            <a:ext cx="2095200" cy="2070000"/>
          </a:xfrm>
          <a:prstGeom prst="rect">
            <a:avLst/>
          </a:prstGeom>
          <a:ln w="0">
            <a:noFill/>
          </a:ln>
        </p:spPr>
      </p:pic>
      <p:pic>
        <p:nvPicPr>
          <p:cNvPr id="742" name="矩形 6" descr=""/>
          <p:cNvPicPr/>
          <p:nvPr/>
        </p:nvPicPr>
        <p:blipFill>
          <a:blip r:embed="rId6"/>
          <a:stretch/>
        </p:blipFill>
        <p:spPr>
          <a:xfrm>
            <a:off x="2736720" y="2517840"/>
            <a:ext cx="3382920" cy="1243080"/>
          </a:xfrm>
          <a:prstGeom prst="rect">
            <a:avLst/>
          </a:prstGeom>
          <a:ln w="0">
            <a:noFill/>
          </a:ln>
        </p:spPr>
      </p:pic>
      <p:pic>
        <p:nvPicPr>
          <p:cNvPr id="743" name="TextBox 7" descr=""/>
          <p:cNvPicPr/>
          <p:nvPr/>
        </p:nvPicPr>
        <p:blipFill>
          <a:blip r:embed="rId7"/>
          <a:stretch/>
        </p:blipFill>
        <p:spPr>
          <a:xfrm>
            <a:off x="3638520" y="3309840"/>
            <a:ext cx="1592280" cy="64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23"/>
          <p:cNvSpPr/>
          <p:nvPr/>
        </p:nvSpPr>
        <p:spPr>
          <a:xfrm>
            <a:off x="231480" y="526896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E:\本地磁盘 (E)\工作\网站上传资料\免费推广\建党90周年\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E:\工作\模板\建党90周年\5.png"/>
          <p:cNvPicPr/>
          <p:nvPr/>
        </p:nvPicPr>
        <p:blipFill>
          <a:blip r:embed="rId2"/>
          <a:stretch/>
        </p:blipFill>
        <p:spPr>
          <a:xfrm>
            <a:off x="0" y="-2130480"/>
            <a:ext cx="9280440" cy="9253440"/>
          </a:xfrm>
          <a:prstGeom prst="rect">
            <a:avLst/>
          </a:prstGeom>
          <a:ln w="0">
            <a:noFill/>
          </a:ln>
        </p:spPr>
      </p:pic>
      <p:sp>
        <p:nvSpPr>
          <p:cNvPr id="547" name="TextBox 4"/>
          <p:cNvSpPr/>
          <p:nvPr/>
        </p:nvSpPr>
        <p:spPr>
          <a:xfrm>
            <a:off x="4214880" y="557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祝愿我们的国家和党永远强大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6"/>
          <p:cNvSpPr/>
          <p:nvPr/>
        </p:nvSpPr>
        <p:spPr>
          <a:xfrm>
            <a:off x="4214880" y="9381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高呼中国共产党万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"/>
          <p:cNvSpPr/>
          <p:nvPr/>
        </p:nvSpPr>
        <p:spPr>
          <a:xfrm>
            <a:off x="285840" y="3571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TextBox 8" descr=""/>
          <p:cNvPicPr/>
          <p:nvPr/>
        </p:nvPicPr>
        <p:blipFill>
          <a:blip r:embed="rId3"/>
          <a:stretch/>
        </p:blipFill>
        <p:spPr>
          <a:xfrm>
            <a:off x="517680" y="1438200"/>
            <a:ext cx="1268280" cy="7509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9"/>
          <p:cNvSpPr/>
          <p:nvPr/>
        </p:nvSpPr>
        <p:spPr>
          <a:xfrm>
            <a:off x="1504800" y="19335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4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3014640" y="101448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5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TextBox 11" descr=""/>
          <p:cNvPicPr/>
          <p:nvPr/>
        </p:nvPicPr>
        <p:blipFill>
          <a:blip r:embed="rId4"/>
          <a:stretch/>
        </p:blipFill>
        <p:spPr>
          <a:xfrm>
            <a:off x="4724280" y="1590840"/>
            <a:ext cx="2328840" cy="145728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2"/>
          <p:cNvSpPr/>
          <p:nvPr/>
        </p:nvSpPr>
        <p:spPr>
          <a:xfrm>
            <a:off x="3071880" y="2457360"/>
            <a:ext cx="371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7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6324480" y="316692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方正粗宋简体"/>
                <a:ea typeface="方正粗宋简体"/>
              </a:rPr>
              <a:t>198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TextBox 14" descr=""/>
          <p:cNvPicPr/>
          <p:nvPr/>
        </p:nvPicPr>
        <p:blipFill>
          <a:blip r:embed="rId5"/>
          <a:stretch/>
        </p:blipFill>
        <p:spPr>
          <a:xfrm>
            <a:off x="1566720" y="3438360"/>
            <a:ext cx="2213280" cy="10731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15"/>
          <p:cNvSpPr/>
          <p:nvPr/>
        </p:nvSpPr>
        <p:spPr>
          <a:xfrm>
            <a:off x="252360" y="285768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20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6"/>
          <p:cNvSpPr/>
          <p:nvPr/>
        </p:nvSpPr>
        <p:spPr>
          <a:xfrm>
            <a:off x="4876920" y="57240"/>
            <a:ext cx="407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20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TextBox 17" descr=""/>
          <p:cNvPicPr/>
          <p:nvPr/>
        </p:nvPicPr>
        <p:blipFill>
          <a:blip r:embed="rId6"/>
          <a:stretch/>
        </p:blipFill>
        <p:spPr>
          <a:xfrm>
            <a:off x="7338960" y="4608360"/>
            <a:ext cx="1201680" cy="74952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8"/>
          <p:cNvSpPr/>
          <p:nvPr/>
        </p:nvSpPr>
        <p:spPr>
          <a:xfrm>
            <a:off x="5543640" y="43909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TextBox 19" descr=""/>
          <p:cNvPicPr/>
          <p:nvPr/>
        </p:nvPicPr>
        <p:blipFill>
          <a:blip r:embed="rId7"/>
          <a:stretch/>
        </p:blipFill>
        <p:spPr>
          <a:xfrm>
            <a:off x="6620040" y="2395440"/>
            <a:ext cx="2212920" cy="1073160"/>
          </a:xfrm>
          <a:prstGeom prst="rect">
            <a:avLst/>
          </a:prstGeom>
          <a:ln w="0">
            <a:noFill/>
          </a:ln>
        </p:spPr>
      </p:pic>
      <p:pic>
        <p:nvPicPr>
          <p:cNvPr id="562" name="TextBox 20" descr=""/>
          <p:cNvPicPr/>
          <p:nvPr/>
        </p:nvPicPr>
        <p:blipFill>
          <a:blip r:embed="rId8"/>
          <a:stretch/>
        </p:blipFill>
        <p:spPr>
          <a:xfrm>
            <a:off x="3627360" y="3833640"/>
            <a:ext cx="1676520" cy="10731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1"/>
          <p:cNvSpPr/>
          <p:nvPr/>
        </p:nvSpPr>
        <p:spPr>
          <a:xfrm>
            <a:off x="1790640" y="442908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TextBox 22" descr=""/>
          <p:cNvPicPr/>
          <p:nvPr/>
        </p:nvPicPr>
        <p:blipFill>
          <a:blip r:embed="rId9"/>
          <a:stretch/>
        </p:blipFill>
        <p:spPr>
          <a:xfrm>
            <a:off x="2139840" y="450720"/>
            <a:ext cx="1200240" cy="749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E:\本地磁盘 (E)\工作\网站上传资料\免费推广\建党90周年\3.png"/>
          <p:cNvPicPr/>
          <p:nvPr/>
        </p:nvPicPr>
        <p:blipFill>
          <a:blip r:embed="rId10"/>
          <a:stretch/>
        </p:blipFill>
        <p:spPr>
          <a:xfrm>
            <a:off x="857160" y="119160"/>
            <a:ext cx="6199200" cy="55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" fill="hold"/>
                                        <p:tgtEl>
                                          <p:spTgt spid="54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52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42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22"/>
          <p:cNvSpPr/>
          <p:nvPr/>
        </p:nvSpPr>
        <p:spPr>
          <a:xfrm>
            <a:off x="231480" y="526896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3" descr="E:\工作\模板\建党90周年\8.png"/>
          <p:cNvPicPr/>
          <p:nvPr/>
        </p:nvPicPr>
        <p:blipFill>
          <a:blip r:embed="rId1"/>
          <a:stretch/>
        </p:blipFill>
        <p:spPr>
          <a:xfrm>
            <a:off x="-1398600" y="0"/>
            <a:ext cx="10542600" cy="5715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E:\工作\模板\建党90周年\2.png"/>
          <p:cNvPicPr/>
          <p:nvPr/>
        </p:nvPicPr>
        <p:blipFill>
          <a:blip r:embed="rId2"/>
          <a:stretch/>
        </p:blipFill>
        <p:spPr>
          <a:xfrm>
            <a:off x="52560" y="3336840"/>
            <a:ext cx="9034200" cy="23781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E:\工作\模板\建党90周年\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E:\本地磁盘 (E)\工作\网站上传资料\免费推广\建党90周年\4.pn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71" name="1921"/>
          <p:cNvSpPr/>
          <p:nvPr/>
        </p:nvSpPr>
        <p:spPr>
          <a:xfrm>
            <a:off x="285840" y="3571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1931" descr=""/>
          <p:cNvPicPr/>
          <p:nvPr/>
        </p:nvPicPr>
        <p:blipFill>
          <a:blip r:embed="rId5"/>
          <a:stretch/>
        </p:blipFill>
        <p:spPr>
          <a:xfrm>
            <a:off x="517680" y="1438200"/>
            <a:ext cx="1268280" cy="750960"/>
          </a:xfrm>
          <a:prstGeom prst="rect">
            <a:avLst/>
          </a:prstGeom>
          <a:ln w="0">
            <a:noFill/>
          </a:ln>
        </p:spPr>
      </p:pic>
      <p:sp>
        <p:nvSpPr>
          <p:cNvPr id="573" name="1941"/>
          <p:cNvSpPr/>
          <p:nvPr/>
        </p:nvSpPr>
        <p:spPr>
          <a:xfrm>
            <a:off x="1504800" y="19335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4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1951"/>
          <p:cNvSpPr/>
          <p:nvPr/>
        </p:nvSpPr>
        <p:spPr>
          <a:xfrm>
            <a:off x="3014640" y="101448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5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1961" descr=""/>
          <p:cNvPicPr/>
          <p:nvPr/>
        </p:nvPicPr>
        <p:blipFill>
          <a:blip r:embed="rId6"/>
          <a:stretch/>
        </p:blipFill>
        <p:spPr>
          <a:xfrm>
            <a:off x="4724280" y="1590840"/>
            <a:ext cx="2328840" cy="1457280"/>
          </a:xfrm>
          <a:prstGeom prst="rect">
            <a:avLst/>
          </a:prstGeom>
          <a:ln w="0">
            <a:noFill/>
          </a:ln>
        </p:spPr>
      </p:pic>
      <p:sp>
        <p:nvSpPr>
          <p:cNvPr id="576" name="1971"/>
          <p:cNvSpPr/>
          <p:nvPr/>
        </p:nvSpPr>
        <p:spPr>
          <a:xfrm>
            <a:off x="3071880" y="2457360"/>
            <a:ext cx="371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7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1981"/>
          <p:cNvSpPr/>
          <p:nvPr/>
        </p:nvSpPr>
        <p:spPr>
          <a:xfrm>
            <a:off x="6324480" y="316692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方正粗宋简体"/>
                <a:ea typeface="方正粗宋简体"/>
              </a:rPr>
              <a:t>198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1991" descr=""/>
          <p:cNvPicPr/>
          <p:nvPr/>
        </p:nvPicPr>
        <p:blipFill>
          <a:blip r:embed="rId7"/>
          <a:stretch/>
        </p:blipFill>
        <p:spPr>
          <a:xfrm>
            <a:off x="1566720" y="3438360"/>
            <a:ext cx="2213280" cy="1073160"/>
          </a:xfrm>
          <a:prstGeom prst="rect">
            <a:avLst/>
          </a:prstGeom>
          <a:ln w="0">
            <a:noFill/>
          </a:ln>
        </p:spPr>
      </p:pic>
      <p:sp>
        <p:nvSpPr>
          <p:cNvPr id="579" name="2001"/>
          <p:cNvSpPr/>
          <p:nvPr/>
        </p:nvSpPr>
        <p:spPr>
          <a:xfrm>
            <a:off x="252360" y="285768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20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2011"/>
          <p:cNvSpPr/>
          <p:nvPr/>
        </p:nvSpPr>
        <p:spPr>
          <a:xfrm>
            <a:off x="4876920" y="57240"/>
            <a:ext cx="407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20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1926" descr=""/>
          <p:cNvPicPr/>
          <p:nvPr/>
        </p:nvPicPr>
        <p:blipFill>
          <a:blip r:embed="rId8"/>
          <a:stretch/>
        </p:blipFill>
        <p:spPr>
          <a:xfrm>
            <a:off x="7338960" y="4608360"/>
            <a:ext cx="1201680" cy="749520"/>
          </a:xfrm>
          <a:prstGeom prst="rect">
            <a:avLst/>
          </a:prstGeom>
          <a:ln w="0">
            <a:noFill/>
          </a:ln>
        </p:spPr>
      </p:pic>
      <p:sp>
        <p:nvSpPr>
          <p:cNvPr id="582" name="1936"/>
          <p:cNvSpPr/>
          <p:nvPr/>
        </p:nvSpPr>
        <p:spPr>
          <a:xfrm>
            <a:off x="5543640" y="43909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1986" descr=""/>
          <p:cNvPicPr/>
          <p:nvPr/>
        </p:nvPicPr>
        <p:blipFill>
          <a:blip r:embed="rId9"/>
          <a:stretch/>
        </p:blipFill>
        <p:spPr>
          <a:xfrm>
            <a:off x="6620040" y="2395440"/>
            <a:ext cx="2212920" cy="1073160"/>
          </a:xfrm>
          <a:prstGeom prst="rect">
            <a:avLst/>
          </a:prstGeom>
          <a:ln w="0">
            <a:noFill/>
          </a:ln>
        </p:spPr>
      </p:pic>
      <p:pic>
        <p:nvPicPr>
          <p:cNvPr id="584" name="1974" descr=""/>
          <p:cNvPicPr/>
          <p:nvPr/>
        </p:nvPicPr>
        <p:blipFill>
          <a:blip r:embed="rId10"/>
          <a:stretch/>
        </p:blipFill>
        <p:spPr>
          <a:xfrm>
            <a:off x="3627360" y="3833640"/>
            <a:ext cx="1676520" cy="1073160"/>
          </a:xfrm>
          <a:prstGeom prst="rect">
            <a:avLst/>
          </a:prstGeom>
          <a:ln w="0">
            <a:noFill/>
          </a:ln>
        </p:spPr>
      </p:pic>
      <p:sp>
        <p:nvSpPr>
          <p:cNvPr id="585" name="1956"/>
          <p:cNvSpPr/>
          <p:nvPr/>
        </p:nvSpPr>
        <p:spPr>
          <a:xfrm>
            <a:off x="1790640" y="442908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9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1946" descr=""/>
          <p:cNvPicPr/>
          <p:nvPr/>
        </p:nvPicPr>
        <p:blipFill>
          <a:blip r:embed="rId11"/>
          <a:stretch/>
        </p:blipFill>
        <p:spPr>
          <a:xfrm>
            <a:off x="2139840" y="450720"/>
            <a:ext cx="1200240" cy="749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E:\工作\模板\建党90周年\7.png"/>
          <p:cNvPicPr/>
          <p:nvPr/>
        </p:nvPicPr>
        <p:blipFill>
          <a:blip r:embed="rId12"/>
          <a:stretch/>
        </p:blipFill>
        <p:spPr>
          <a:xfrm>
            <a:off x="1714680" y="2400480"/>
            <a:ext cx="20937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11666 0 E">
                                      <p:cBhvr>
                                        <p:cTn id="192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8.33333E-007 -4.44444E-006 C 0.01945 0.00862 0.02969 0.0225 0.0441 0.04195 C 0.05556 0.05778 0.07205 0.06445 0.08142 0.08417 C 0.09288 0.1075 0.09861 0.13834 0.10365 0.16556 C 0.09983 0.24723 0.10087 0.24612 0.09236 0.30389 C 0.09184 0.30834 0.08924 0.31167 0.08802 0.31612 C 0.08368 0.33195 0.07761 0.34528 0.07257 0.36112 C 0.06945 0.37084 0.07118 0.37223 0.06615 0.38223 C 0.06424 0.38584 0.06129 0.38778 0.05938 0.39139 C 0.05538 0.39917 0.05399 0.40945 0.04844 0.41528 C 0.04549 0.41834 0.04219 0.42084 0.03958 0.42445 C 0.02778 0.44056 0.01667 0.46528 0.00226 0.47862 C -0.00608 0.48612 -0.03125 0.51389 -0.03958 0.51778 C -0.05035 0.52278 -0.05937 0.52667 -0.07049 0.52973 C -0.08403 0.54223 -0.06944 0.53084 -0.09462 0.53889 C -0.11267 0.54445 -0.09844 0.54639 -0.11875 0.55084 C -0.13472 0.55473 -0.14844 0.55778 -0.16493 0.56 C -0.20833 0.55889 -0.25156 0.55862 -0.29479 0.55695 C -0.31667 0.55584 -0.29201 0.55362 -0.31024 0.54778 C -0.31736 0.54556 -0.32483 0.54584 -0.33212 0.54473 C -0.33976 0.53806 -0.34549 0.53584 -0.35434 0.53278 C -0.35729 0.52973 -0.35989 0.52612 -0.36302 0.52362 C -0.3651 0.52223 -0.36753 0.5225 -0.36962 0.52084 C -0.38542 0.50639 -0.36632 0.515 -0.38507 0.50862 C -0.39045 0.50362 -0.39722 0.50195 -0.4026 0.49667 C -0.40486 0.49473 -0.40503 0.49 -0.40712 0.4875 C -0.41111 0.48278 -0.4158 0.47945 -0.42014 0.47556 C -0.42239 0.47362 -0.42691 0.46945 -0.42691 0.46973 C -0.43403 0.455 -0.44427 0.45473 -0.44427 0.43639 E">
                                      <p:cBhvr>
                                        <p:cTn id="199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0.015 C -0.00329 0.02306 -0.00781 0.02973 -0.01042 0.03834 C -0.01233 0.04473 -0.01216 0.0525 -0.01459 0.05834 C -0.02257 0.0775 -0.02882 0.1 -0.03334 0.12167 C -0.03507 0.12973 -0.03785 0.13695 -0.03959 0.145 C -0.04132 0.15361 -0.04375 0.17167 -0.04375 0.17195 C -0.04792 0.26417 -0.04723 0.22806 -0.04375 0.37834 C -0.04323 0.40056 -0.03907 0.43056 -0.03334 0.45167 C -0.02987 0.465 -0.02292 0.49167 -0.02292 0.49195 C -0.02223 0.49945 -0.02257 0.50778 -0.02084 0.515 C -0.0191 0.5225 -0.01407 0.5275 -0.0125 0.535 C -0.01181 0.53834 -0.01181 0.54223 -0.01042 0.545 C -0.00886 0.54806 -0.00625 0.54945 -0.00416 0.55167 C -0.00017 0.57084 0.00157 0.58 0.01251 0.59167 C 0.01702 0.60584 0.01962 0.61334 0.02917 0.61834 C 0.05105 0.64473 0.07501 0.66639 0.10209 0.675 C 0.11771 0.69167 0.13785 0.68973 0.15626 0.69167 C 0.19671 0.69611 0.19584 0.69528 0.24376 0.69834 C 0.24792 0.69611 0.25313 0.69667 0.25626 0.69167 C 0.26042 0.685 0.26876 0.67167 0.26876 0.67195 C 0.26806 0.645 0.26789 0.61834 0.26667 0.59167 C 0.26615 0.58139 0.25209 0.55723 0.24792 0.54834 C 0.24549 0.53639 0.24445 0.52361 0.24167 0.51167 C 0.24028 0.50556 0.23716 0.50084 0.23542 0.495 E">
                                      <p:cBhvr>
                                        <p:cTn id="205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C -0.00261 0.01611 -0.00712 0.03056 -0.01042 0.04667 C -0.01302 0.05889 -0.01407 0.07111 -0.01667 0.08333 C -0.01598 0.09444 -0.0165 0.10583 -0.01459 0.11667 C -0.01042 0.14028 0.00382 0.17611 0.01458 0.19333 C 0.01788 0.21444 0.01423 0.20417 0.02916 0.22 C 0.04548 0.23722 0.0526 0.24528 0.07291 0.25 C 0.11041 0.24889 0.14809 0.25167 0.18541 0.24667 C 0.19045 0.24611 0.19791 0.23333 0.19791 0.23333 C 0.1993 0.23 0.20034 0.22611 0.20208 0.22333 C 0.20382 0.22056 0.20677 0.21972 0.20833 0.21667 C 0.22534 0.18556 0.20885 0.205 0.22291 0.19 C 0.22517 0.17917 0.22673 0.17194 0.23333 0.16667 E">
                                      <p:cBhvr>
                                        <p:cTn id="211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6.94444E-006 6.66667E-006 C -0.01562 0.00834 0.00313 -0.00388 -0.01041 0.01334 C -0.01215 0.01556 -0.01475 0.01501 -0.01666 0.01667 C -0.02169 0.02056 -0.02638 0.02556 -0.03124 0.03001 C -0.03923 0.03723 -0.04322 0.04862 -0.05208 0.05334 C -0.05815 0.06306 -0.06527 0.06973 -0.07083 0.08001 C -0.07673 0.09084 -0.08246 0.10473 -0.08749 0.11667 C -0.09114 0.12528 -0.09444 0.13445 -0.09791 0.14334 C -0.10607 0.16445 -0.09965 0.16612 -0.11041 0.18334 C -0.11388 0.20001 -0.11892 0.21195 -0.12499 0.22667 C -0.12621 0.22973 -0.12603 0.23362 -0.12708 0.23667 C -0.13194 0.25223 -0.13506 0.26612 -0.14166 0.28001 C -0.14878 0.31445 -0.1486 0.35167 -0.15416 0.38667 C -0.15347 0.43001 -0.15711 0.50528 -0.14791 0.55667 C -0.14374 0.58028 -0.1302 0.60751 -0.12083 0.62667 C -0.11579 0.63695 -0.11353 0.65001 -0.10833 0.66001 C -0.10676 0.66306 -0.10399 0.66417 -0.10208 0.66667 C -0.08906 0.68417 -0.0809 0.69056 -0.06666 0.70334 C -0.04982 0.71834 -0.03263 0.74362 -0.01249 0.74667 C -0.00069 0.74834 0.01112 0.7489 0.02292 0.75001 C 0.03681 0.7489 0.05053 0.74917 0.06459 0.74667 C 0.06893 0.74584 0.07709 0.74001 0.07709 0.74001 C 0.08126 0.73334 0.08542 0.72667 0.08959 0.72001 C 0.09167 0.71667 0.09584 0.71001 0.09584 0.71001 C 0.09653 0.70667 0.09688 0.70306 0.09792 0.70001 C 0.09897 0.6964 0.10192 0.6939 0.10209 0.69001 C 0.10261 0.67834 0.10035 0.64445 0.09584 0.63001 C 0.09358 0.62278 0.08907 0.61751 0.08751 0.61001 C 0.08212 0.58417 0.07587 0.56695 0.05834 0.56001 C 0.05765 0.55112 0.05626 0.53334 0.05626 0.53334 E">
                                      <p:cBhvr>
                                        <p:cTn id="217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8.33333E-007 3.46945E-018 C -0.00416 0.00223 -0.00955 0.00417 -0.0125 0.01 C -0.01389 0.01278 -0.01336 0.01695 -0.01458 0.02 C -0.01614 0.02389 -0.01875 0.02667 -0.02083 0.03 C -0.02639 0.06528 -0.01892 0.02361 -0.02708 0.05334 C -0.03698 0.08917 -0.02604 0.06084 -0.03541 0.08334 C -0.03836 0.11139 -0.04097 0.13945 -0.04583 0.16667 C -0.04496 0.20361 -0.04444 0.29334 -0.03541 0.33667 C -0.03472 0.3475 -0.03368 0.40223 -0.02708 0.42334 C -0.02448 0.43195 -0.01961 0.43834 -0.01666 0.44667 C -0.0151 0.45111 -0.01458 0.45611 -0.0125 0.46 C -0.01024 0.46417 -0.00677 0.46639 -0.00416 0.47 C -0.00191 0.47306 0.00018 0.47639 0.00209 0.48 C 0.00365 0.48306 0.00434 0.4875 0.00625 0.49 C 0.00868 0.49306 0.01198 0.49389 0.01459 0.49667 C 0.0224 0.505 0.02969 0.515 0.0375 0.52334 C 0.0467 0.54556 0.07795 0.555 0.09375 0.55667 C 0.11181 0.55861 0.12986 0.55889 0.14792 0.56 C 0.1757 0.55806 0.21424 0.57167 0.225 0.52 C 0.22639 0.4675 0.23889 0.44389 0.21667 0.42 C 0.21598 0.41667 0.21563 0.41306 0.21459 0.41 C 0.21355 0.40639 0.21146 0.40361 0.21042 0.4 C 0.20452 0.37889 0.21094 0.38 0.20417 0.38 E">
                                      <p:cBhvr>
                                        <p:cTn id="223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8.33333E-007 -6.66667E-006 C 0.00538 0.01277 0.00851 0.02472 0.01667 0.03333 C 0.02257 0.05194 0.03056 0.06888 0.0375 0.08666 C 0.04358 0.10222 0.04722 0.1186 0.05417 0.13333 C 0.0592 0.15749 0.05191 0.12638 0.0625 0.15666 C 0.06684 0.16916 0.07083 0.1836 0.075 0.19666 C 0.07986 0.2661 0.07917 0.32999 0.04792 0.37999 C 0.04392 0.39944 0.04896 0.38166 0.03958 0.39666 C 0.03785 0.39944 0.03715 0.40388 0.03542 0.40666 C 0.03368 0.40944 0.0309 0.41055 0.02917 0.41333 C 0.02674 0.41722 0.02535 0.42277 0.02292 0.42666 C 0.01684 0.43638 0.00938 0.43833 0.00208 0.44999 C -8.33332999999967E-007 0.44888 -0.00191 0.44638 -0.00417 0.44666 C -0.00851 0.44749 -0.01667 0.45333 -0.01667 0.45333 C -0.02917 0.45222 -0.04184 0.45277 -0.05417 0.44999 C -0.05729 0.44944 -0.05955 0.44499 -0.0625 0.44333 C -0.06927 0.43916 -0.07622 0.43527 -0.08333 0.43333 C -0.09462 0.43027 -0.1059 0.42583 -0.11667 0.41999 C -0.13108 0.41222 -0.14323 0.39944 -0.15833 0.39333 C -0.16927 0.38166 -0.15972 0.38999 -0.175 0.38333 C -0.17917 0.38138 -0.18333 0.37888 -0.1875 0.37666 C -0.18958 0.37555 -0.19375 0.37333 -0.19375 0.37333 C -0.20469 0.36027 -0.21979 0.3511 -0.23333 0.34666 C -0.24653 0.33249 -0.26163 0.31944 -0.27708 0.31333 C -0.29115 0.29083 -0.27483 0.31333 -0.29167 0.29999 C -0.29757 0.29527 -0.30243 0.28805 -0.30833 0.28333 E">
                                      <p:cBhvr>
                                        <p:cTn id="229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66667E-006 3.46945E-018 C 0.01493 0.02389 0.00903 0.0125 0.01875 0.03333 C 0.02344 0.05611 0.02413 0.05472 0.01875 0.09333 C 0.01753 0.10167 0.00747 0.10667 0.00417 0.11 C -0.00312 0.11722 -0.01215 0.12444 -0.01875 0.13333 C -0.02101 0.13639 -0.0224 0.14111 -0.025 0.14333 C -0.02934 0.14722 -0.03507 0.14639 -0.03958 0.15 C -0.04184 0.15167 -0.0434 0.15611 -0.04583 0.15667 C -0.06233 0.16056 -0.07917 0.16194 -0.09583 0.16333 C -0.11667 0.16528 -0.1375 0.16556 -0.15833 0.16667 C -0.29809 0.16333 -0.2526 0.17583 -0.3125 0.15667 C -0.32431 0.14722 -0.33472 0.14611 -0.34792 0.14333 C -0.3559 0.13917 -0.36424 0.13528 -0.37083 0.12667 C -0.37431 0.12222 -0.37743 0.11667 -0.38125 0.11333 C -0.38767 0.10778 -0.40347 0.10194 -0.41042 0.1 C -0.42361 0.08611 -0.43785 0.07278 -0.45 0.05667 C -0.46111 0.04194 -0.4625 0.03778 -0.47708 0.03 C -0.4842 0.02611 -0.49149 0.02306 -0.49792 0.01667 C -0.50087 0.01361 -0.50365 0.01028 -0.50625 0.00667 C -0.50851 0.00361 -0.5125 -0.00333 -0.5125 -0.00333 E">
                                      <p:cBhvr>
                                        <p:cTn id="235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3.46945E-018 C -0.00399 0.01944 -0.00191 0.000560000000000002 0.00208 0.02 C 0.00573 0.03778 0.00538 0.05833 0.00833 0.07667 C 0.00677 0.12889 0.01354 0.18444 0.00208 0.23333 C -0.00243 0.25278 -0.01267 0.26472 -0.02083 0.28 C -0.02552 0.28889 -0.02448 0.29306 -0.03125 0.3 C -0.06337 0.33278 -0.10052 0.35361 -0.1375 0.36667 C -0.1684 0.35667 -0.13333 0.36722 -0.20417 0.35667 C -0.21372 0.35528 -0.22378 0.34917 -0.23333 0.34667 C -0.24323 0.33611 -0.26562 0.32722 -0.27708 0.32 C -0.29687 0.3075 -0.31198 0.29167 -0.33333 0.28667 C -0.35243 0.27444 -0.36927 0.26306 -0.38958 0.25667 C -0.40208 0.23667 -0.38889 0.25361 -0.41458 0.24333 C -0.41701 0.2425 -0.41858 0.23833 -0.42083 0.23667 C -0.42483 0.23389 -0.43889 0.23083 -0.44167 0.23 C -0.46892 0.20806 -0.43854 0.22972 -0.46875 0.21667 C -0.4717 0.21528 -0.47413 0.21167 -0.47708 0.21 C -0.48247 0.20722 -0.49375 0.20333 -0.49375 0.20333 C -0.49583 0.20111 -0.49774 0.19833 -0.5 0.19667 C -0.5026 0.195 -0.5059 0.19556 -0.50833 0.19333 C -0.51441 0.18778 -0.51944 0.18 -0.525 0.17333 C -0.52778 0.17 -0.53125 0.16778 -0.53333 0.16333 C -0.53698 0.15556 -0.53958 0.14667 -0.54375 0.14 C -0.54757 0.13389 -0.55833 0.12722 -0.55833 0.11667 E">
                                      <p:cBhvr>
                                        <p:cTn id="241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5.83333E-006 6.66667E-006 C 0.00938 0.01001 0.01824 0.01556 0.02917 0.02001 C 0.03785 0.02945 0.0481 0.03251 0.05834 0.03667 C 0.0856 0.06945 0.05244 0.03195 0.07292 0.05001 C 0.08421 0.06001 0.09202 0.0689 0.10417 0.07667 C 0.11563 0.09501 0.10452 0.08028 0.12292 0.09334 C 0.1382 0.10417 0.15383 0.11723 0.16876 0.13001 C 0.17431 0.13473 0.18108 0.1364 0.18542 0.14334 C 0.19237 0.15445 0.19879 0.15778 0.20626 0.16667 C 0.21424 0.1764 0.22153 0.18945 0.22917 0.20001 C 0.23716 0.21084 0.24515 0.21695 0.25209 0.23001 C 0.26268 0.24973 0.27327 0.26695 0.28126 0.29001 C 0.2856 0.30251 0.28664 0.31473 0.29167 0.32667 C 0.29081 0.35362 0.29931 0.46445 0.27501 0.50334 C 0.26997 0.52723 0.25886 0.5414 0.24584 0.55334 C 0.23647 0.56195 0.22865 0.57334 0.21876 0.58001 C 0.21615 0.58167 0.2132 0.58195 0.21042 0.58334 C 0.20626 0.58528 0.20192 0.58723 0.19792 0.59001 C 0.19567 0.59167 0.1941 0.59556 0.19167 0.59667 C 0.18212 0.60084 0.17223 0.60084 0.16251 0.60334 C 0.02466 0.59028 0.09272 0.60473 0.03126 0.58001 C 0.02535 0.56751 0.02188 0.55834 0.01251 0.55334 C 0.00799 0.54612 0.00244 0.54056 -0.00208 0.53334 C -0.00381 0.53056 -0.00433 0.52584 -0.00624 0.52334 C -0.01215 0.51528 -0.02308 0.50778 -0.02916 0.50001 C -0.04114 0.48445 -0.04965 0.4639 -0.06249 0.45001 C -0.0736 0.42334 -0.05902 0.45556 -0.07291 0.43334 C -0.0868 0.41112 -0.06666 0.43445 -0.08333 0.41667 C -0.09305 0.39334 -0.08749 0.40112 -0.09791 0.39001 C -0.09947 0.38251 -0.10416 0.37306 -0.10416 0.36667 E">
                                      <p:cBhvr>
                                        <p:cTn id="247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8.33333E-007 -3.33333E-006 C -0.00121 0.06223 -0.00104 0.08084 -0.00781 0.13334 C -0.01042 0.15389 -0.00955 0.17889 -0.01424 0.19667 C -0.01476 0.21 -0.01389 0.22556 -0.01684 0.23667 C -0.01927 0.24667 -0.02378 0.25806 -0.02708 0.26667 C -0.04201 0.26389 -0.04583 0.26556 -0.0566 0.24667 C -0.05955 0.235 -0.06163 0.23111 -0.06684 0.22667 C -0.06979 0.21556 -0.07413 0.20778 -0.07708 0.19667 C -0.07795 0.19334 -0.07847 0.18917 -0.07969 0.18667 C -0.08073 0.18445 -0.08229 0.18445 -0.08351 0.18334 C -0.09062 0.16973 -0.09757 0.15667 -0.10538 0.14667 C -0.10989 0.14056 -0.1118 0.13111 -0.11684 0.12667 C -0.12118 0.11556 -0.12222 0.11639 -0.12708 0.11 E">
                                      <p:cBhvr>
                                        <p:cTn id="253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E-006 -6.66667E-006 C -0.04428 0.0236 -0.04254 0.09638 -0.06042 0.15333 C -0.06285 0.1886 -0.06858 0.22194 -0.07292 0.25666 C -0.0724 0.27305 -0.07344 0.32166 -0.06667 0.34333 C -0.06511 0.34833 -0.06233 0.35222 -0.06042 0.35666 C -0.06042 0.35666 -0.05001 0.38166 -0.04792 0.38666 C -0.04341 0.39749 -0.0257 0.41055 -0.01876 0.41666 C -0.00765 0.42666 -0.00331 0.43527 0.00834 0.43999 C 0.00973 0.44333 0.01042 0.44777 0.0125 0.44999 C 0.0217 0.45916 0.03768 0.4611 0.04792 0.46666 C 0.08056 0.46555 0.1132 0.46555 0.14584 0.46333 C 0.15295 0.46277 0.16459 0.44666 0.16459 0.44666 C 0.17118 0.41527 0.16858 0.43638 0.16667 0.39666 C 0.16563 0.37555 0.17084 0.34999 0.1625 0.33333 C 0.16094 0.33027 0.15799 0.32944 0.15625 0.32666 C 0.14653 0.3111 0.14167 0.28999 0.1375 0.26999 C 0.13264 0.24694 0.13334 0.26499 0.13334 0.24999 E">
                                      <p:cBhvr>
                                        <p:cTn id="259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E-006 -6.66667E-006 L -0.30001 -0.08667 E">
                                      <p:cBhvr>
                                        <p:cTn id="265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33681E-019 L -0.44374 -0.11 E">
                                      <p:cBhvr>
                                        <p:cTn id="27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2.60209E-018 L 0.1375 -0.1 E">
                                      <p:cBhvr>
                                        <p:cTn id="27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6.66667E-006 1.11111E-006 C 0.00069 0.01222 0.00104 0.02444 0.00208 0.03666 C 0.00381 0.05666 0.0177 0.07166 0.02499 0.08666 C 0.03159 0.10027 0.03697 0.11361 0.04374 0.12666 C 0.04531 0.12972 0.046 0.13416 0.04791 0.13666 C 0.06128 0.15527 0.07482 0.15694 0.09166 0.16 C 0.11388 0.1575 0.12274 0.16722 0.13124 0.14 C 0.13055 0.12444 0.13038 0.10889 0.12916 0.09333 C 0.12829 0.08055 0.12586 0.08361 0.12083 0.07333 C 0.11284 0.05666 0.10885 0.03833 0.09791 0.02666 C 0.09652 0.02333 0.09531 0.01972 0.09374 0.01666 C 0.09183 0.01305 0.08749 0.00666 0.08749 0.00666 E">
                                      <p:cBhvr>
                                        <p:cTn id="28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3" presetSubtype="3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3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2.77778E-007 -1.11111E-006 L 0.19809 -0.31444 E">
                                      <p:cBhvr>
                                        <p:cTn id="293" dur="12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11"/>
          <p:cNvSpPr/>
          <p:nvPr/>
        </p:nvSpPr>
        <p:spPr>
          <a:xfrm>
            <a:off x="231480" y="526896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E:\工作\模板\建党90周年\8.png"/>
          <p:cNvPicPr/>
          <p:nvPr/>
        </p:nvPicPr>
        <p:blipFill>
          <a:blip r:embed="rId1"/>
          <a:stretch/>
        </p:blipFill>
        <p:spPr>
          <a:xfrm>
            <a:off x="-318960" y="0"/>
            <a:ext cx="10544040" cy="5715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E:\工作\模板\建党90周年\2.png"/>
          <p:cNvPicPr/>
          <p:nvPr/>
        </p:nvPicPr>
        <p:blipFill>
          <a:blip r:embed="rId2"/>
          <a:stretch/>
        </p:blipFill>
        <p:spPr>
          <a:xfrm>
            <a:off x="52560" y="3336840"/>
            <a:ext cx="9034200" cy="2378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E:\工作\模板\建党90周年\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92" name="1974" descr=""/>
          <p:cNvPicPr/>
          <p:nvPr/>
        </p:nvPicPr>
        <p:blipFill>
          <a:blip r:embed="rId4"/>
          <a:stretch/>
        </p:blipFill>
        <p:spPr>
          <a:xfrm>
            <a:off x="3627360" y="3833640"/>
            <a:ext cx="1676520" cy="1073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E:\工作\模板\建党90周年\7.png"/>
          <p:cNvPicPr/>
          <p:nvPr/>
        </p:nvPicPr>
        <p:blipFill>
          <a:blip r:embed="rId5"/>
          <a:stretch/>
        </p:blipFill>
        <p:spPr>
          <a:xfrm>
            <a:off x="3524400" y="584280"/>
            <a:ext cx="2095200" cy="2070000"/>
          </a:xfrm>
          <a:prstGeom prst="rect">
            <a:avLst/>
          </a:prstGeom>
          <a:ln w="0">
            <a:noFill/>
          </a:ln>
        </p:spPr>
      </p:pic>
      <p:pic>
        <p:nvPicPr>
          <p:cNvPr id="594" name="矩形 6" descr=""/>
          <p:cNvPicPr/>
          <p:nvPr/>
        </p:nvPicPr>
        <p:blipFill>
          <a:blip r:embed="rId6"/>
          <a:stretch/>
        </p:blipFill>
        <p:spPr>
          <a:xfrm>
            <a:off x="1378080" y="2517840"/>
            <a:ext cx="6351480" cy="1243080"/>
          </a:xfrm>
          <a:prstGeom prst="rect">
            <a:avLst/>
          </a:prstGeom>
          <a:ln w="0">
            <a:noFill/>
          </a:ln>
        </p:spPr>
      </p:pic>
      <p:pic>
        <p:nvPicPr>
          <p:cNvPr id="595" name="TextBox 7" descr=""/>
          <p:cNvPicPr/>
          <p:nvPr/>
        </p:nvPicPr>
        <p:blipFill>
          <a:blip r:embed="rId7"/>
          <a:stretch/>
        </p:blipFill>
        <p:spPr>
          <a:xfrm>
            <a:off x="2998800" y="3309840"/>
            <a:ext cx="311616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25"/>
          <p:cNvSpPr/>
          <p:nvPr/>
        </p:nvSpPr>
        <p:spPr>
          <a:xfrm>
            <a:off x="1001880" y="159552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预祝中国共产党</a:t>
            </a: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90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周年华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26"/>
          <p:cNvSpPr/>
          <p:nvPr/>
        </p:nvSpPr>
        <p:spPr>
          <a:xfrm>
            <a:off x="1001880" y="22766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，一个用生命搭起的国家；中国，一个智慧与理想构造的国家。中国共产党始终秉承着这一使命为我们打下了一片美好的江山。我们伟大的中国共产党是中国人民的领导核心，中国共产党是带领全国人民从一个胜利走向另一个胜利的掌舵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组合 16"/>
          <p:cNvGrpSpPr/>
          <p:nvPr/>
        </p:nvGrpSpPr>
        <p:grpSpPr>
          <a:xfrm>
            <a:off x="1290600" y="1214280"/>
            <a:ext cx="6562800" cy="500400"/>
            <a:chOff x="1290600" y="1214280"/>
            <a:chExt cx="6562800" cy="500400"/>
          </a:xfrm>
        </p:grpSpPr>
        <p:sp>
          <p:nvSpPr>
            <p:cNvPr id="599" name="AutoShape 3"/>
            <p:cNvSpPr/>
            <p:nvPr/>
          </p:nvSpPr>
          <p:spPr>
            <a:xfrm>
              <a:off x="1290600" y="1317600"/>
              <a:ext cx="6562800" cy="397080"/>
            </a:xfrm>
            <a:prstGeom prst="rect">
              <a:avLst/>
            </a:prstGeom>
            <a:solidFill>
              <a:srgbClr val="bfbfbf">
                <a:alpha val="8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3"/>
            <p:cNvSpPr/>
            <p:nvPr/>
          </p:nvSpPr>
          <p:spPr>
            <a:xfrm>
              <a:off x="1354680" y="1214280"/>
              <a:ext cx="6434280" cy="433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3"/>
            <p:cNvSpPr/>
            <p:nvPr/>
          </p:nvSpPr>
          <p:spPr>
            <a:xfrm>
              <a:off x="3151440" y="12654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17"/>
          <p:cNvGrpSpPr/>
          <p:nvPr/>
        </p:nvGrpSpPr>
        <p:grpSpPr>
          <a:xfrm>
            <a:off x="1290600" y="1952640"/>
            <a:ext cx="6562800" cy="498600"/>
            <a:chOff x="1290600" y="1952640"/>
            <a:chExt cx="6562800" cy="498600"/>
          </a:xfrm>
        </p:grpSpPr>
        <p:grpSp>
          <p:nvGrpSpPr>
            <p:cNvPr id="603" name="组合 65"/>
            <p:cNvGrpSpPr/>
            <p:nvPr/>
          </p:nvGrpSpPr>
          <p:grpSpPr>
            <a:xfrm>
              <a:off x="1290600" y="1952640"/>
              <a:ext cx="6562800" cy="498600"/>
              <a:chOff x="1290600" y="1952640"/>
              <a:chExt cx="6562800" cy="498600"/>
            </a:xfrm>
          </p:grpSpPr>
          <p:sp>
            <p:nvSpPr>
              <p:cNvPr id="604" name="AutoShape 3"/>
              <p:cNvSpPr/>
              <p:nvPr/>
            </p:nvSpPr>
            <p:spPr>
              <a:xfrm>
                <a:off x="1290600" y="2055600"/>
                <a:ext cx="6562800" cy="395640"/>
              </a:xfrm>
              <a:prstGeom prst="rect">
                <a:avLst/>
              </a:prstGeom>
              <a:solidFill>
                <a:srgbClr val="bfbfbf">
                  <a:alpha val="80000"/>
                </a:srgbClr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utoShape 3"/>
              <p:cNvSpPr/>
              <p:nvPr/>
            </p:nvSpPr>
            <p:spPr>
              <a:xfrm>
                <a:off x="1355400" y="1952640"/>
                <a:ext cx="6432840" cy="43128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Rectangle 13"/>
            <p:cNvSpPr/>
            <p:nvPr/>
          </p:nvSpPr>
          <p:spPr>
            <a:xfrm>
              <a:off x="3151440" y="199332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19"/>
          <p:cNvGrpSpPr/>
          <p:nvPr/>
        </p:nvGrpSpPr>
        <p:grpSpPr>
          <a:xfrm>
            <a:off x="1290600" y="2689200"/>
            <a:ext cx="6562800" cy="501840"/>
            <a:chOff x="1290600" y="2689200"/>
            <a:chExt cx="6562800" cy="501840"/>
          </a:xfrm>
        </p:grpSpPr>
        <p:sp>
          <p:nvSpPr>
            <p:cNvPr id="608" name="AutoShape 3"/>
            <p:cNvSpPr/>
            <p:nvPr/>
          </p:nvSpPr>
          <p:spPr>
            <a:xfrm>
              <a:off x="1290600" y="2793960"/>
              <a:ext cx="6562800" cy="397080"/>
            </a:xfrm>
            <a:prstGeom prst="rect">
              <a:avLst/>
            </a:prstGeom>
            <a:solidFill>
              <a:srgbClr val="bfbfbf">
                <a:alpha val="8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3"/>
            <p:cNvSpPr/>
            <p:nvPr/>
          </p:nvSpPr>
          <p:spPr>
            <a:xfrm>
              <a:off x="1354680" y="2689200"/>
              <a:ext cx="6434280" cy="433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3"/>
            <p:cNvSpPr/>
            <p:nvPr/>
          </p:nvSpPr>
          <p:spPr>
            <a:xfrm>
              <a:off x="3151440" y="273744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组合 18"/>
          <p:cNvGrpSpPr/>
          <p:nvPr/>
        </p:nvGrpSpPr>
        <p:grpSpPr>
          <a:xfrm>
            <a:off x="1290600" y="3429000"/>
            <a:ext cx="6562800" cy="500040"/>
            <a:chOff x="1290600" y="3429000"/>
            <a:chExt cx="6562800" cy="500040"/>
          </a:xfrm>
        </p:grpSpPr>
        <p:grpSp>
          <p:nvGrpSpPr>
            <p:cNvPr id="612" name="组合 60"/>
            <p:cNvGrpSpPr/>
            <p:nvPr/>
          </p:nvGrpSpPr>
          <p:grpSpPr>
            <a:xfrm>
              <a:off x="1290600" y="3429000"/>
              <a:ext cx="6562800" cy="500040"/>
              <a:chOff x="1290600" y="3429000"/>
              <a:chExt cx="6562800" cy="500040"/>
            </a:xfrm>
          </p:grpSpPr>
          <p:sp>
            <p:nvSpPr>
              <p:cNvPr id="613" name="AutoShape 3"/>
              <p:cNvSpPr/>
              <p:nvPr/>
            </p:nvSpPr>
            <p:spPr>
              <a:xfrm>
                <a:off x="1290600" y="3533760"/>
                <a:ext cx="6562800" cy="395280"/>
              </a:xfrm>
              <a:prstGeom prst="rect">
                <a:avLst/>
              </a:prstGeom>
              <a:solidFill>
                <a:srgbClr val="bfbfbf">
                  <a:alpha val="80000"/>
                </a:srgbClr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utoShape 3"/>
              <p:cNvSpPr/>
              <p:nvPr/>
            </p:nvSpPr>
            <p:spPr>
              <a:xfrm>
                <a:off x="1355400" y="3429000"/>
                <a:ext cx="6432840" cy="43200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Rectangle 13"/>
            <p:cNvSpPr/>
            <p:nvPr/>
          </p:nvSpPr>
          <p:spPr>
            <a:xfrm>
              <a:off x="3151440" y="346032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矩形 21"/>
          <p:cNvSpPr/>
          <p:nvPr/>
        </p:nvSpPr>
        <p:spPr>
          <a:xfrm>
            <a:off x="288720" y="475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组合 5"/>
          <p:cNvGrpSpPr/>
          <p:nvPr/>
        </p:nvGrpSpPr>
        <p:grpSpPr>
          <a:xfrm>
            <a:off x="1290600" y="2428920"/>
            <a:ext cx="6562800" cy="503280"/>
            <a:chOff x="1290600" y="2428920"/>
            <a:chExt cx="6562800" cy="503280"/>
          </a:xfrm>
        </p:grpSpPr>
        <p:sp>
          <p:nvSpPr>
            <p:cNvPr id="618" name="AutoShape 3"/>
            <p:cNvSpPr/>
            <p:nvPr/>
          </p:nvSpPr>
          <p:spPr>
            <a:xfrm>
              <a:off x="1290600" y="2536920"/>
              <a:ext cx="6562800" cy="395280"/>
            </a:xfrm>
            <a:prstGeom prst="rect">
              <a:avLst/>
            </a:prstGeom>
            <a:solidFill>
              <a:srgbClr val="bfbfbf">
                <a:alpha val="8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3"/>
            <p:cNvSpPr/>
            <p:nvPr/>
          </p:nvSpPr>
          <p:spPr>
            <a:xfrm>
              <a:off x="1354680" y="2428920"/>
              <a:ext cx="6434280" cy="4316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3"/>
            <p:cNvSpPr/>
            <p:nvPr/>
          </p:nvSpPr>
          <p:spPr>
            <a:xfrm>
              <a:off x="3151440" y="24598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26"/>
          <p:cNvSpPr/>
          <p:nvPr/>
        </p:nvSpPr>
        <p:spPr>
          <a:xfrm>
            <a:off x="355680" y="47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8" dur="7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组合 81"/>
          <p:cNvGrpSpPr/>
          <p:nvPr/>
        </p:nvGrpSpPr>
        <p:grpSpPr>
          <a:xfrm>
            <a:off x="1357200" y="923760"/>
            <a:ext cx="1036800" cy="1036800"/>
            <a:chOff x="1357200" y="923760"/>
            <a:chExt cx="1036800" cy="1036800"/>
          </a:xfrm>
        </p:grpSpPr>
        <p:sp>
          <p:nvSpPr>
            <p:cNvPr id="623" name="空心弧 7"/>
            <p:cNvSpPr/>
            <p:nvPr/>
          </p:nvSpPr>
          <p:spPr>
            <a:xfrm>
              <a:off x="1357200" y="923760"/>
              <a:ext cx="1036800" cy="1036800"/>
            </a:xfrm>
            <a:custGeom>
              <a:avLst/>
              <a:gdLst/>
              <a:ahLst/>
              <a:rect l="l" t="t" r="r" b="b"/>
              <a:pathLst>
                <a:path w="1036800" h="1036800">
                  <a:moveTo>
                    <a:pt x="1036799" y="519147"/>
                  </a:moveTo>
                  <a:cubicBezTo>
                    <a:pt x="1036387" y="805329"/>
                    <a:pt x="804148" y="1037039"/>
                    <a:pt x="517966" y="1036800"/>
                  </a:cubicBezTo>
                  <a:cubicBezTo>
                    <a:pt x="231784" y="1036561"/>
                    <a:pt x="-67" y="804462"/>
                    <a:pt x="-1" y="518280"/>
                  </a:cubicBezTo>
                  <a:cubicBezTo>
                    <a:pt x="65" y="232098"/>
                    <a:pt x="232024" y="107"/>
                    <a:pt x="518206" y="0"/>
                  </a:cubicBezTo>
                  <a:cubicBezTo>
                    <a:pt x="518239" y="87022"/>
                    <a:pt x="518271" y="174044"/>
                    <a:pt x="518304" y="261066"/>
                  </a:cubicBezTo>
                  <a:cubicBezTo>
                    <a:pt x="376243" y="261119"/>
                    <a:pt x="261099" y="376279"/>
                    <a:pt x="261066" y="518340"/>
                  </a:cubicBezTo>
                  <a:cubicBezTo>
                    <a:pt x="261033" y="660401"/>
                    <a:pt x="376124" y="775615"/>
                    <a:pt x="518185" y="775733"/>
                  </a:cubicBezTo>
                  <a:cubicBezTo>
                    <a:pt x="660246" y="775852"/>
                    <a:pt x="775529" y="660831"/>
                    <a:pt x="775734" y="518770"/>
                  </a:cubicBezTo>
                  <a:lnTo>
                    <a:pt x="1036799" y="519147"/>
                  </a:lnTo>
                  <a:close/>
                </a:path>
              </a:pathLst>
            </a:custGeom>
            <a:solidFill>
              <a:srgbClr val="bfbfbf">
                <a:alpha val="80000"/>
              </a:srgbClr>
            </a:solidFill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空心弧 8"/>
            <p:cNvSpPr/>
            <p:nvPr/>
          </p:nvSpPr>
          <p:spPr>
            <a:xfrm>
              <a:off x="1357200" y="923760"/>
              <a:ext cx="1036800" cy="1036800"/>
            </a:xfrm>
            <a:custGeom>
              <a:avLst/>
              <a:gdLst/>
              <a:ahLst/>
              <a:rect l="l" t="t" r="r" b="b"/>
              <a:pathLst>
                <a:path w="1036800" h="1036800">
                  <a:moveTo>
                    <a:pt x="519636" y="1"/>
                  </a:moveTo>
                  <a:cubicBezTo>
                    <a:pt x="805457" y="683"/>
                    <a:pt x="1036800" y="232578"/>
                    <a:pt x="1036800" y="518400"/>
                  </a:cubicBezTo>
                  <a:lnTo>
                    <a:pt x="777600" y="518400"/>
                  </a:lnTo>
                  <a:cubicBezTo>
                    <a:pt x="777600" y="375489"/>
                    <a:pt x="661929" y="259542"/>
                    <a:pt x="519018" y="259201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ffc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3"/>
            <p:cNvSpPr/>
            <p:nvPr/>
          </p:nvSpPr>
          <p:spPr>
            <a:xfrm>
              <a:off x="1589040" y="12747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82"/>
          <p:cNvGrpSpPr/>
          <p:nvPr/>
        </p:nvGrpSpPr>
        <p:grpSpPr>
          <a:xfrm>
            <a:off x="3154320" y="923760"/>
            <a:ext cx="1036800" cy="1036800"/>
            <a:chOff x="3154320" y="923760"/>
            <a:chExt cx="1036800" cy="1036800"/>
          </a:xfrm>
        </p:grpSpPr>
        <p:sp>
          <p:nvSpPr>
            <p:cNvPr id="627" name="空心弧 11"/>
            <p:cNvSpPr/>
            <p:nvPr/>
          </p:nvSpPr>
          <p:spPr>
            <a:xfrm>
              <a:off x="3154320" y="923760"/>
              <a:ext cx="1036800" cy="1036800"/>
            </a:xfrm>
            <a:custGeom>
              <a:avLst/>
              <a:gdLst/>
              <a:ahLst/>
              <a:rect l="l" t="t" r="r" b="b"/>
              <a:pathLst>
                <a:path w="1036800" h="1036800">
                  <a:moveTo>
                    <a:pt x="517906" y="1036800"/>
                  </a:moveTo>
                  <a:cubicBezTo>
                    <a:pt x="231736" y="1036527"/>
                    <a:pt x="-83" y="804420"/>
                    <a:pt x="0" y="518250"/>
                  </a:cubicBezTo>
                  <a:cubicBezTo>
                    <a:pt x="83" y="232080"/>
                    <a:pt x="232036" y="107"/>
                    <a:pt x="518207" y="0"/>
                  </a:cubicBezTo>
                  <a:cubicBezTo>
                    <a:pt x="518239" y="87022"/>
                    <a:pt x="518272" y="174044"/>
                    <a:pt x="518304" y="261066"/>
                  </a:cubicBezTo>
                  <a:cubicBezTo>
                    <a:pt x="376249" y="261119"/>
                    <a:pt x="261107" y="376270"/>
                    <a:pt x="261066" y="518325"/>
                  </a:cubicBezTo>
                  <a:cubicBezTo>
                    <a:pt x="261025" y="660380"/>
                    <a:pt x="376100" y="775598"/>
                    <a:pt x="518155" y="775733"/>
                  </a:cubicBezTo>
                  <a:lnTo>
                    <a:pt x="517906" y="1036800"/>
                  </a:lnTo>
                  <a:close/>
                </a:path>
              </a:pathLst>
            </a:custGeom>
            <a:solidFill>
              <a:srgbClr val="bfbfbf">
                <a:alpha val="80000"/>
              </a:srgbClr>
            </a:solidFill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空心弧 12"/>
            <p:cNvSpPr/>
            <p:nvPr/>
          </p:nvSpPr>
          <p:spPr>
            <a:xfrm>
              <a:off x="3154320" y="923760"/>
              <a:ext cx="1036800" cy="1036800"/>
            </a:xfrm>
            <a:custGeom>
              <a:avLst/>
              <a:gdLst/>
              <a:ahLst/>
              <a:rect l="l" t="t" r="r" b="b"/>
              <a:pathLst>
                <a:path w="1036800" h="1036800">
                  <a:moveTo>
                    <a:pt x="519636" y="1"/>
                  </a:moveTo>
                  <a:cubicBezTo>
                    <a:pt x="805350" y="682"/>
                    <a:pt x="1036648" y="232410"/>
                    <a:pt x="1036800" y="518124"/>
                  </a:cubicBezTo>
                  <a:cubicBezTo>
                    <a:pt x="1036952" y="803838"/>
                    <a:pt x="805899" y="1035811"/>
                    <a:pt x="520186" y="1036796"/>
                  </a:cubicBezTo>
                  <a:cubicBezTo>
                    <a:pt x="519885" y="949343"/>
                    <a:pt x="519583" y="861889"/>
                    <a:pt x="519282" y="774436"/>
                  </a:cubicBezTo>
                  <a:cubicBezTo>
                    <a:pt x="660396" y="773950"/>
                    <a:pt x="774513" y="659378"/>
                    <a:pt x="774438" y="518264"/>
                  </a:cubicBezTo>
                  <a:cubicBezTo>
                    <a:pt x="774363" y="377150"/>
                    <a:pt x="660125" y="262699"/>
                    <a:pt x="519011" y="262363"/>
                  </a:cubicBezTo>
                  <a:cubicBezTo>
                    <a:pt x="519219" y="174909"/>
                    <a:pt x="519428" y="87455"/>
                    <a:pt x="519636" y="1"/>
                  </a:cubicBezTo>
                  <a:close/>
                </a:path>
              </a:pathLst>
            </a:custGeom>
            <a:solidFill>
              <a:srgbClr val="ffc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3386160" y="12747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组合 83"/>
          <p:cNvGrpSpPr/>
          <p:nvPr/>
        </p:nvGrpSpPr>
        <p:grpSpPr>
          <a:xfrm>
            <a:off x="4952880" y="923760"/>
            <a:ext cx="1036800" cy="1036800"/>
            <a:chOff x="4952880" y="923760"/>
            <a:chExt cx="1036800" cy="1036800"/>
          </a:xfrm>
        </p:grpSpPr>
        <p:sp>
          <p:nvSpPr>
            <p:cNvPr id="631" name="空心弧 15"/>
            <p:cNvSpPr/>
            <p:nvPr/>
          </p:nvSpPr>
          <p:spPr>
            <a:xfrm>
              <a:off x="4952880" y="923760"/>
              <a:ext cx="1036800" cy="1036800"/>
            </a:xfrm>
            <a:custGeom>
              <a:avLst/>
              <a:gdLst/>
              <a:ahLst/>
              <a:rect l="l" t="t" r="r" b="b"/>
              <a:pathLst>
                <a:path w="1036800" h="1036800">
                  <a:moveTo>
                    <a:pt x="1" y="519499"/>
                  </a:moveTo>
                  <a:cubicBezTo>
                    <a:pt x="-291" y="381854"/>
                    <a:pt x="54171" y="249744"/>
                    <a:pt x="151379" y="152293"/>
                  </a:cubicBezTo>
                  <a:cubicBezTo>
                    <a:pt x="248587" y="54842"/>
                    <a:pt x="380561" y="51"/>
                    <a:pt x="518207" y="0"/>
                  </a:cubicBezTo>
                  <a:cubicBezTo>
                    <a:pt x="518239" y="87022"/>
                    <a:pt x="518272" y="174044"/>
                    <a:pt x="518304" y="261066"/>
                  </a:cubicBezTo>
                  <a:cubicBezTo>
                    <a:pt x="449977" y="261091"/>
                    <a:pt x="384465" y="288290"/>
                    <a:pt x="336211" y="336664"/>
                  </a:cubicBezTo>
                  <a:cubicBezTo>
                    <a:pt x="287957" y="385039"/>
                    <a:pt x="260922" y="450618"/>
                    <a:pt x="261067" y="518945"/>
                  </a:cubicBezTo>
                  <a:lnTo>
                    <a:pt x="1" y="519499"/>
                  </a:lnTo>
                  <a:close/>
                </a:path>
              </a:pathLst>
            </a:custGeom>
            <a:solidFill>
              <a:srgbClr val="bfbfbf">
                <a:alpha val="80000"/>
              </a:srgbClr>
            </a:solidFill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空心弧 16"/>
            <p:cNvSpPr/>
            <p:nvPr/>
          </p:nvSpPr>
          <p:spPr>
            <a:xfrm>
              <a:off x="4952880" y="923760"/>
              <a:ext cx="1036800" cy="1036800"/>
            </a:xfrm>
            <a:custGeom>
              <a:avLst/>
              <a:gdLst/>
              <a:ahLst/>
              <a:rect l="l" t="t" r="r" b="b"/>
              <a:pathLst>
                <a:path w="1036800" h="1036800">
                  <a:moveTo>
                    <a:pt x="519636" y="1"/>
                  </a:moveTo>
                  <a:cubicBezTo>
                    <a:pt x="805779" y="683"/>
                    <a:pt x="1037254" y="233081"/>
                    <a:pt x="1036799" y="519224"/>
                  </a:cubicBezTo>
                  <a:cubicBezTo>
                    <a:pt x="1036344" y="805367"/>
                    <a:pt x="804131" y="1037027"/>
                    <a:pt x="517988" y="1036800"/>
                  </a:cubicBezTo>
                  <a:cubicBezTo>
                    <a:pt x="231845" y="1036573"/>
                    <a:pt x="0" y="804544"/>
                    <a:pt x="0" y="518400"/>
                  </a:cubicBezTo>
                  <a:lnTo>
                    <a:pt x="260963" y="518400"/>
                  </a:lnTo>
                  <a:cubicBezTo>
                    <a:pt x="260963" y="660499"/>
                    <a:pt x="376097" y="775724"/>
                    <a:pt x="518195" y="775837"/>
                  </a:cubicBezTo>
                  <a:cubicBezTo>
                    <a:pt x="660294" y="775950"/>
                    <a:pt x="775610" y="660908"/>
                    <a:pt x="775836" y="518809"/>
                  </a:cubicBezTo>
                  <a:cubicBezTo>
                    <a:pt x="776062" y="376711"/>
                    <a:pt x="661111" y="261302"/>
                    <a:pt x="519013" y="260963"/>
                  </a:cubicBezTo>
                  <a:cubicBezTo>
                    <a:pt x="519221" y="173976"/>
                    <a:pt x="519428" y="86988"/>
                    <a:pt x="519636" y="1"/>
                  </a:cubicBezTo>
                  <a:close/>
                </a:path>
              </a:pathLst>
            </a:custGeom>
            <a:solidFill>
              <a:srgbClr val="ffc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3"/>
            <p:cNvSpPr/>
            <p:nvPr/>
          </p:nvSpPr>
          <p:spPr>
            <a:xfrm>
              <a:off x="5184720" y="12747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84"/>
          <p:cNvGrpSpPr/>
          <p:nvPr/>
        </p:nvGrpSpPr>
        <p:grpSpPr>
          <a:xfrm>
            <a:off x="6750000" y="923760"/>
            <a:ext cx="1036800" cy="1036800"/>
            <a:chOff x="6750000" y="923760"/>
            <a:chExt cx="1036800" cy="1036800"/>
          </a:xfrm>
        </p:grpSpPr>
        <p:sp>
          <p:nvSpPr>
            <p:cNvPr id="635" name="同心圆 19"/>
            <p:cNvSpPr/>
            <p:nvPr/>
          </p:nvSpPr>
          <p:spPr>
            <a:xfrm>
              <a:off x="6750000" y="923760"/>
              <a:ext cx="1036800" cy="1036800"/>
            </a:xfrm>
            <a:custGeom>
              <a:avLst/>
              <a:gdLst/>
              <a:ahLst/>
              <a:rect l="l" t="t" r="r" b="b"/>
              <a:pathLst>
                <a:path w="1036800" h="1036800">
                  <a:moveTo>
                    <a:pt x="0" y="518400"/>
                  </a:moveTo>
                  <a:cubicBezTo>
                    <a:pt x="0" y="232096"/>
                    <a:pt x="232096" y="0"/>
                    <a:pt x="518400" y="0"/>
                  </a:cubicBezTo>
                  <a:cubicBezTo>
                    <a:pt x="804704" y="0"/>
                    <a:pt x="1036800" y="232096"/>
                    <a:pt x="1036800" y="518400"/>
                  </a:cubicBezTo>
                  <a:cubicBezTo>
                    <a:pt x="1036800" y="804704"/>
                    <a:pt x="804704" y="1036800"/>
                    <a:pt x="518400" y="1036800"/>
                  </a:cubicBezTo>
                  <a:cubicBezTo>
                    <a:pt x="232096" y="1036800"/>
                    <a:pt x="0" y="804704"/>
                    <a:pt x="0" y="518400"/>
                  </a:cubicBezTo>
                  <a:close/>
                  <a:moveTo>
                    <a:pt x="259200" y="518400"/>
                  </a:moveTo>
                  <a:cubicBezTo>
                    <a:pt x="259200" y="661552"/>
                    <a:pt x="375248" y="777600"/>
                    <a:pt x="518400" y="777600"/>
                  </a:cubicBezTo>
                  <a:cubicBezTo>
                    <a:pt x="661552" y="777600"/>
                    <a:pt x="777600" y="661552"/>
                    <a:pt x="777600" y="518400"/>
                  </a:cubicBezTo>
                  <a:cubicBezTo>
                    <a:pt x="777600" y="375248"/>
                    <a:pt x="661552" y="259200"/>
                    <a:pt x="518400" y="259200"/>
                  </a:cubicBezTo>
                  <a:cubicBezTo>
                    <a:pt x="375248" y="259200"/>
                    <a:pt x="259200" y="375248"/>
                    <a:pt x="259200" y="518400"/>
                  </a:cubicBezTo>
                  <a:close/>
                </a:path>
              </a:pathLst>
            </a:custGeom>
            <a:solidFill>
              <a:srgbClr val="ffc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3"/>
            <p:cNvSpPr/>
            <p:nvPr/>
          </p:nvSpPr>
          <p:spPr>
            <a:xfrm>
              <a:off x="6981840" y="12747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组合 54"/>
          <p:cNvGrpSpPr/>
          <p:nvPr/>
        </p:nvGrpSpPr>
        <p:grpSpPr>
          <a:xfrm>
            <a:off x="1616040" y="2006640"/>
            <a:ext cx="519120" cy="345960"/>
            <a:chOff x="1616040" y="2006640"/>
            <a:chExt cx="519120" cy="345960"/>
          </a:xfrm>
        </p:grpSpPr>
        <p:sp>
          <p:nvSpPr>
            <p:cNvPr id="638" name="燕尾形 22"/>
            <p:cNvSpPr/>
            <p:nvPr/>
          </p:nvSpPr>
          <p:spPr>
            <a:xfrm rot="5400000">
              <a:off x="1778760" y="18439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燕尾形 27"/>
            <p:cNvSpPr/>
            <p:nvPr/>
          </p:nvSpPr>
          <p:spPr>
            <a:xfrm rot="5400000">
              <a:off x="1778760" y="199620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8"/>
          <p:cNvGrpSpPr/>
          <p:nvPr/>
        </p:nvGrpSpPr>
        <p:grpSpPr>
          <a:xfrm>
            <a:off x="3414600" y="2006640"/>
            <a:ext cx="517680" cy="345960"/>
            <a:chOff x="3414600" y="2006640"/>
            <a:chExt cx="517680" cy="345960"/>
          </a:xfrm>
        </p:grpSpPr>
        <p:sp>
          <p:nvSpPr>
            <p:cNvPr id="641" name="燕尾形 29"/>
            <p:cNvSpPr/>
            <p:nvPr/>
          </p:nvSpPr>
          <p:spPr>
            <a:xfrm rot="5400000">
              <a:off x="3576600" y="18446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燕尾形 30"/>
            <p:cNvSpPr/>
            <p:nvPr/>
          </p:nvSpPr>
          <p:spPr>
            <a:xfrm rot="5400000">
              <a:off x="3576600" y="199692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62"/>
          <p:cNvGrpSpPr/>
          <p:nvPr/>
        </p:nvGrpSpPr>
        <p:grpSpPr>
          <a:xfrm>
            <a:off x="5211720" y="2006640"/>
            <a:ext cx="517680" cy="345960"/>
            <a:chOff x="5211720" y="2006640"/>
            <a:chExt cx="517680" cy="345960"/>
          </a:xfrm>
        </p:grpSpPr>
        <p:sp>
          <p:nvSpPr>
            <p:cNvPr id="644" name="燕尾形 32"/>
            <p:cNvSpPr/>
            <p:nvPr/>
          </p:nvSpPr>
          <p:spPr>
            <a:xfrm rot="5400000">
              <a:off x="5373720" y="18446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燕尾形 33"/>
            <p:cNvSpPr/>
            <p:nvPr/>
          </p:nvSpPr>
          <p:spPr>
            <a:xfrm rot="5400000">
              <a:off x="5373720" y="199692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66"/>
          <p:cNvGrpSpPr/>
          <p:nvPr/>
        </p:nvGrpSpPr>
        <p:grpSpPr>
          <a:xfrm>
            <a:off x="7008840" y="2006640"/>
            <a:ext cx="519120" cy="345960"/>
            <a:chOff x="7008840" y="2006640"/>
            <a:chExt cx="519120" cy="345960"/>
          </a:xfrm>
        </p:grpSpPr>
        <p:sp>
          <p:nvSpPr>
            <p:cNvPr id="647" name="燕尾形 35"/>
            <p:cNvSpPr/>
            <p:nvPr/>
          </p:nvSpPr>
          <p:spPr>
            <a:xfrm rot="5400000">
              <a:off x="7171560" y="18439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燕尾形 36"/>
            <p:cNvSpPr/>
            <p:nvPr/>
          </p:nvSpPr>
          <p:spPr>
            <a:xfrm rot="5400000">
              <a:off x="7171560" y="199620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组合 85"/>
          <p:cNvGrpSpPr/>
          <p:nvPr/>
        </p:nvGrpSpPr>
        <p:grpSpPr>
          <a:xfrm>
            <a:off x="1033560" y="2446200"/>
            <a:ext cx="1684080" cy="1936800"/>
            <a:chOff x="1033560" y="2446200"/>
            <a:chExt cx="1684080" cy="1936800"/>
          </a:xfrm>
        </p:grpSpPr>
        <p:sp>
          <p:nvSpPr>
            <p:cNvPr id="650" name="矩形 38"/>
            <p:cNvSpPr/>
            <p:nvPr/>
          </p:nvSpPr>
          <p:spPr>
            <a:xfrm>
              <a:off x="1033560" y="2446200"/>
              <a:ext cx="1684080" cy="1936800"/>
            </a:xfrm>
            <a:prstGeom prst="rect">
              <a:avLst/>
            </a:pr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146"/>
            <p:cNvSpPr/>
            <p:nvPr/>
          </p:nvSpPr>
          <p:spPr>
            <a:xfrm>
              <a:off x="1055520" y="29790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直接连接符 40"/>
            <p:cNvSpPr/>
            <p:nvPr/>
          </p:nvSpPr>
          <p:spPr>
            <a:xfrm>
              <a:off x="1098360" y="2876400"/>
              <a:ext cx="1554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146"/>
            <p:cNvSpPr/>
            <p:nvPr/>
          </p:nvSpPr>
          <p:spPr>
            <a:xfrm>
              <a:off x="1065240" y="2548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86"/>
          <p:cNvGrpSpPr/>
          <p:nvPr/>
        </p:nvGrpSpPr>
        <p:grpSpPr>
          <a:xfrm>
            <a:off x="2830680" y="2446200"/>
            <a:ext cx="1684080" cy="1936800"/>
            <a:chOff x="2830680" y="2446200"/>
            <a:chExt cx="1684080" cy="1936800"/>
          </a:xfrm>
        </p:grpSpPr>
        <p:sp>
          <p:nvSpPr>
            <p:cNvPr id="655" name="矩形 43"/>
            <p:cNvSpPr/>
            <p:nvPr/>
          </p:nvSpPr>
          <p:spPr>
            <a:xfrm>
              <a:off x="2830680" y="2446200"/>
              <a:ext cx="1684080" cy="1936800"/>
            </a:xfrm>
            <a:prstGeom prst="rect">
              <a:avLst/>
            </a:pr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146"/>
            <p:cNvSpPr/>
            <p:nvPr/>
          </p:nvSpPr>
          <p:spPr>
            <a:xfrm>
              <a:off x="2852640" y="29790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直接连接符 45"/>
            <p:cNvSpPr/>
            <p:nvPr/>
          </p:nvSpPr>
          <p:spPr>
            <a:xfrm>
              <a:off x="2895480" y="2876400"/>
              <a:ext cx="1554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146"/>
            <p:cNvSpPr/>
            <p:nvPr/>
          </p:nvSpPr>
          <p:spPr>
            <a:xfrm>
              <a:off x="2862360" y="2548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组合 87"/>
          <p:cNvGrpSpPr/>
          <p:nvPr/>
        </p:nvGrpSpPr>
        <p:grpSpPr>
          <a:xfrm>
            <a:off x="4629240" y="2446200"/>
            <a:ext cx="1684080" cy="1936800"/>
            <a:chOff x="4629240" y="2446200"/>
            <a:chExt cx="1684080" cy="1936800"/>
          </a:xfrm>
        </p:grpSpPr>
        <p:sp>
          <p:nvSpPr>
            <p:cNvPr id="660" name="矩形 48"/>
            <p:cNvSpPr/>
            <p:nvPr/>
          </p:nvSpPr>
          <p:spPr>
            <a:xfrm>
              <a:off x="4629240" y="2446200"/>
              <a:ext cx="1684080" cy="1936800"/>
            </a:xfrm>
            <a:prstGeom prst="rect">
              <a:avLst/>
            </a:pr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146"/>
            <p:cNvSpPr/>
            <p:nvPr/>
          </p:nvSpPr>
          <p:spPr>
            <a:xfrm>
              <a:off x="4651200" y="29790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直接连接符 50"/>
            <p:cNvSpPr/>
            <p:nvPr/>
          </p:nvSpPr>
          <p:spPr>
            <a:xfrm>
              <a:off x="4694040" y="2876400"/>
              <a:ext cx="1554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Box 146"/>
            <p:cNvSpPr/>
            <p:nvPr/>
          </p:nvSpPr>
          <p:spPr>
            <a:xfrm>
              <a:off x="4660920" y="2548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88"/>
          <p:cNvGrpSpPr/>
          <p:nvPr/>
        </p:nvGrpSpPr>
        <p:grpSpPr>
          <a:xfrm>
            <a:off x="6426360" y="2446200"/>
            <a:ext cx="1684080" cy="1936800"/>
            <a:chOff x="6426360" y="2446200"/>
            <a:chExt cx="1684080" cy="1936800"/>
          </a:xfrm>
        </p:grpSpPr>
        <p:sp>
          <p:nvSpPr>
            <p:cNvPr id="665" name="矩形 53"/>
            <p:cNvSpPr/>
            <p:nvPr/>
          </p:nvSpPr>
          <p:spPr>
            <a:xfrm>
              <a:off x="6426360" y="2446200"/>
              <a:ext cx="1684080" cy="1936800"/>
            </a:xfrm>
            <a:prstGeom prst="rect">
              <a:avLst/>
            </a:pr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146"/>
            <p:cNvSpPr/>
            <p:nvPr/>
          </p:nvSpPr>
          <p:spPr>
            <a:xfrm>
              <a:off x="6448320" y="29790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直接连接符 55"/>
            <p:cNvSpPr/>
            <p:nvPr/>
          </p:nvSpPr>
          <p:spPr>
            <a:xfrm>
              <a:off x="6491160" y="2876400"/>
              <a:ext cx="1554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Box 146"/>
            <p:cNvSpPr/>
            <p:nvPr/>
          </p:nvSpPr>
          <p:spPr>
            <a:xfrm>
              <a:off x="6458040" y="2548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矩形 57"/>
          <p:cNvSpPr/>
          <p:nvPr/>
        </p:nvSpPr>
        <p:spPr>
          <a:xfrm>
            <a:off x="719280" y="47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 repeatCount="2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8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8" repeatCount="2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8" repeatCount="2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9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100"/>
                            </p:stCondLst>
                            <p:childTnLst>
                              <p:par>
                                <p:cTn id="4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6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组合 56"/>
          <p:cNvGrpSpPr/>
          <p:nvPr/>
        </p:nvGrpSpPr>
        <p:grpSpPr>
          <a:xfrm>
            <a:off x="1087560" y="1285920"/>
            <a:ext cx="2754360" cy="2754360"/>
            <a:chOff x="1087560" y="1285920"/>
            <a:chExt cx="2754360" cy="2754360"/>
          </a:xfrm>
        </p:grpSpPr>
        <p:grpSp>
          <p:nvGrpSpPr>
            <p:cNvPr id="671" name="组合 28"/>
            <p:cNvGrpSpPr/>
            <p:nvPr/>
          </p:nvGrpSpPr>
          <p:grpSpPr>
            <a:xfrm>
              <a:off x="1087560" y="1285920"/>
              <a:ext cx="2754360" cy="2754360"/>
              <a:chOff x="1087560" y="1285920"/>
              <a:chExt cx="2754360" cy="2754360"/>
            </a:xfrm>
          </p:grpSpPr>
          <p:sp>
            <p:nvSpPr>
              <p:cNvPr id="672" name="椭圆 30"/>
              <p:cNvSpPr/>
              <p:nvPr/>
            </p:nvSpPr>
            <p:spPr>
              <a:xfrm>
                <a:off x="1298520" y="1496880"/>
                <a:ext cx="2332080" cy="23320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椭圆 5"/>
              <p:cNvSpPr/>
              <p:nvPr/>
            </p:nvSpPr>
            <p:spPr>
              <a:xfrm>
                <a:off x="1087560" y="128592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Rectangle 13"/>
            <p:cNvSpPr/>
            <p:nvPr/>
          </p:nvSpPr>
          <p:spPr>
            <a:xfrm>
              <a:off x="1778040" y="230976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7"/>
          <p:cNvGrpSpPr/>
          <p:nvPr/>
        </p:nvGrpSpPr>
        <p:grpSpPr>
          <a:xfrm>
            <a:off x="3414600" y="1303200"/>
            <a:ext cx="4372200" cy="753480"/>
            <a:chOff x="3414600" y="1303200"/>
            <a:chExt cx="4372200" cy="753480"/>
          </a:xfrm>
        </p:grpSpPr>
        <p:sp>
          <p:nvSpPr>
            <p:cNvPr id="676" name="矩形 33"/>
            <p:cNvSpPr/>
            <p:nvPr/>
          </p:nvSpPr>
          <p:spPr>
            <a:xfrm>
              <a:off x="3414600" y="1303200"/>
              <a:ext cx="4372200" cy="388800"/>
            </a:xfrm>
            <a:prstGeom prst="rect">
              <a:avLst/>
            </a:prstGeom>
            <a:solidFill>
              <a:srgbClr val="ffc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146"/>
            <p:cNvSpPr/>
            <p:nvPr/>
          </p:nvSpPr>
          <p:spPr>
            <a:xfrm>
              <a:off x="3607200" y="135900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146"/>
            <p:cNvSpPr/>
            <p:nvPr/>
          </p:nvSpPr>
          <p:spPr>
            <a:xfrm>
              <a:off x="3754080" y="1749600"/>
              <a:ext cx="40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58"/>
          <p:cNvGrpSpPr/>
          <p:nvPr/>
        </p:nvGrpSpPr>
        <p:grpSpPr>
          <a:xfrm>
            <a:off x="4057560" y="2468520"/>
            <a:ext cx="3729240" cy="748800"/>
            <a:chOff x="4057560" y="2468520"/>
            <a:chExt cx="3729240" cy="748800"/>
          </a:xfrm>
        </p:grpSpPr>
        <p:sp>
          <p:nvSpPr>
            <p:cNvPr id="680" name="矩形 11"/>
            <p:cNvSpPr/>
            <p:nvPr/>
          </p:nvSpPr>
          <p:spPr>
            <a:xfrm>
              <a:off x="4057560" y="2468520"/>
              <a:ext cx="3729240" cy="389160"/>
            </a:xfrm>
            <a:prstGeom prst="rect">
              <a:avLst/>
            </a:prstGeom>
            <a:solidFill>
              <a:srgbClr val="bfbfbf">
                <a:alpha val="8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Box 146"/>
            <p:cNvSpPr/>
            <p:nvPr/>
          </p:nvSpPr>
          <p:spPr>
            <a:xfrm>
              <a:off x="4313160" y="25088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Box 146"/>
            <p:cNvSpPr/>
            <p:nvPr/>
          </p:nvSpPr>
          <p:spPr>
            <a:xfrm>
              <a:off x="4120920" y="2910240"/>
              <a:ext cx="366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59"/>
          <p:cNvGrpSpPr/>
          <p:nvPr/>
        </p:nvGrpSpPr>
        <p:grpSpPr>
          <a:xfrm>
            <a:off x="3414600" y="3643200"/>
            <a:ext cx="4372200" cy="753480"/>
            <a:chOff x="3414600" y="3643200"/>
            <a:chExt cx="4372200" cy="753480"/>
          </a:xfrm>
        </p:grpSpPr>
        <p:sp>
          <p:nvSpPr>
            <p:cNvPr id="684" name="矩形 15"/>
            <p:cNvSpPr/>
            <p:nvPr/>
          </p:nvSpPr>
          <p:spPr>
            <a:xfrm>
              <a:off x="3414600" y="3643200"/>
              <a:ext cx="4372200" cy="389160"/>
            </a:xfrm>
            <a:prstGeom prst="rect">
              <a:avLst/>
            </a:prstGeom>
            <a:solidFill>
              <a:srgbClr val="bfbfbf">
                <a:alpha val="8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Box 146"/>
            <p:cNvSpPr/>
            <p:nvPr/>
          </p:nvSpPr>
          <p:spPr>
            <a:xfrm>
              <a:off x="3607200" y="368352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Box 146"/>
            <p:cNvSpPr/>
            <p:nvPr/>
          </p:nvSpPr>
          <p:spPr>
            <a:xfrm>
              <a:off x="3606480" y="4089600"/>
              <a:ext cx="40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53"/>
          <p:cNvGrpSpPr/>
          <p:nvPr/>
        </p:nvGrpSpPr>
        <p:grpSpPr>
          <a:xfrm>
            <a:off x="2741760" y="1127160"/>
            <a:ext cx="741240" cy="741240"/>
            <a:chOff x="2741760" y="1127160"/>
            <a:chExt cx="741240" cy="741240"/>
          </a:xfrm>
        </p:grpSpPr>
        <p:grpSp>
          <p:nvGrpSpPr>
            <p:cNvPr id="688" name="组合 37"/>
            <p:cNvGrpSpPr/>
            <p:nvPr/>
          </p:nvGrpSpPr>
          <p:grpSpPr>
            <a:xfrm>
              <a:off x="2741760" y="1127160"/>
              <a:ext cx="741240" cy="741240"/>
              <a:chOff x="2741760" y="1127160"/>
              <a:chExt cx="741240" cy="741240"/>
            </a:xfrm>
          </p:grpSpPr>
          <p:sp>
            <p:nvSpPr>
              <p:cNvPr id="689" name="椭圆 38"/>
              <p:cNvSpPr/>
              <p:nvPr/>
            </p:nvSpPr>
            <p:spPr>
              <a:xfrm>
                <a:off x="2741760" y="112716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39"/>
              <p:cNvSpPr/>
              <p:nvPr/>
            </p:nvSpPr>
            <p:spPr>
              <a:xfrm>
                <a:off x="2788200" y="1173600"/>
                <a:ext cx="648360" cy="648360"/>
              </a:xfrm>
              <a:prstGeom prst="ellipse">
                <a:avLst/>
              </a:prstGeom>
              <a:solidFill>
                <a:srgbClr val="ffc000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Rectangle 13"/>
            <p:cNvSpPr/>
            <p:nvPr/>
          </p:nvSpPr>
          <p:spPr>
            <a:xfrm>
              <a:off x="2859120" y="1297440"/>
              <a:ext cx="50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54"/>
          <p:cNvGrpSpPr/>
          <p:nvPr/>
        </p:nvGrpSpPr>
        <p:grpSpPr>
          <a:xfrm>
            <a:off x="3449520" y="2293920"/>
            <a:ext cx="741600" cy="739800"/>
            <a:chOff x="3449520" y="2293920"/>
            <a:chExt cx="741600" cy="739800"/>
          </a:xfrm>
        </p:grpSpPr>
        <p:grpSp>
          <p:nvGrpSpPr>
            <p:cNvPr id="693" name="组合 34"/>
            <p:cNvGrpSpPr/>
            <p:nvPr/>
          </p:nvGrpSpPr>
          <p:grpSpPr>
            <a:xfrm>
              <a:off x="3449520" y="2293920"/>
              <a:ext cx="741600" cy="739800"/>
              <a:chOff x="3449520" y="2293920"/>
              <a:chExt cx="741600" cy="739800"/>
            </a:xfrm>
          </p:grpSpPr>
          <p:sp>
            <p:nvSpPr>
              <p:cNvPr id="694" name="椭圆 35"/>
              <p:cNvSpPr/>
              <p:nvPr/>
            </p:nvSpPr>
            <p:spPr>
              <a:xfrm>
                <a:off x="3449520" y="2293920"/>
                <a:ext cx="7416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椭圆 27"/>
              <p:cNvSpPr/>
              <p:nvPr/>
            </p:nvSpPr>
            <p:spPr>
              <a:xfrm>
                <a:off x="3495240" y="2339640"/>
                <a:ext cx="649800" cy="648000"/>
              </a:xfrm>
              <a:prstGeom prst="ellipse">
                <a:avLst/>
              </a:prstGeom>
              <a:solidFill>
                <a:srgbClr val="bfbfb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Rectangle 13"/>
            <p:cNvSpPr/>
            <p:nvPr/>
          </p:nvSpPr>
          <p:spPr>
            <a:xfrm>
              <a:off x="3560400" y="2463840"/>
              <a:ext cx="51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组合 55"/>
          <p:cNvGrpSpPr/>
          <p:nvPr/>
        </p:nvGrpSpPr>
        <p:grpSpPr>
          <a:xfrm>
            <a:off x="2741760" y="3468600"/>
            <a:ext cx="741240" cy="739800"/>
            <a:chOff x="2741760" y="3468600"/>
            <a:chExt cx="741240" cy="739800"/>
          </a:xfrm>
        </p:grpSpPr>
        <p:grpSp>
          <p:nvGrpSpPr>
            <p:cNvPr id="698" name="组合 40"/>
            <p:cNvGrpSpPr/>
            <p:nvPr/>
          </p:nvGrpSpPr>
          <p:grpSpPr>
            <a:xfrm>
              <a:off x="2741760" y="3468600"/>
              <a:ext cx="741240" cy="739800"/>
              <a:chOff x="2741760" y="3468600"/>
              <a:chExt cx="741240" cy="739800"/>
            </a:xfrm>
          </p:grpSpPr>
          <p:sp>
            <p:nvSpPr>
              <p:cNvPr id="699" name="椭圆 41"/>
              <p:cNvSpPr/>
              <p:nvPr/>
            </p:nvSpPr>
            <p:spPr>
              <a:xfrm>
                <a:off x="2741760" y="3468600"/>
                <a:ext cx="74124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椭圆 32"/>
              <p:cNvSpPr/>
              <p:nvPr/>
            </p:nvSpPr>
            <p:spPr>
              <a:xfrm>
                <a:off x="2787480" y="3514320"/>
                <a:ext cx="649440" cy="648000"/>
              </a:xfrm>
              <a:prstGeom prst="ellipse">
                <a:avLst/>
              </a:prstGeom>
              <a:solidFill>
                <a:srgbClr val="bfbfb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Rectangle 13"/>
            <p:cNvSpPr/>
            <p:nvPr/>
          </p:nvSpPr>
          <p:spPr>
            <a:xfrm>
              <a:off x="2859120" y="3638520"/>
              <a:ext cx="50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矩形 33"/>
          <p:cNvSpPr/>
          <p:nvPr/>
        </p:nvSpPr>
        <p:spPr>
          <a:xfrm>
            <a:off x="719280" y="47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0:20:55Z</dcterms:created>
  <dc:creator>DADI</dc:creator>
  <dc:description/>
  <dc:language>en-US</dc:language>
  <cp:lastModifiedBy>jccook</cp:lastModifiedBy>
  <dcterms:modified xsi:type="dcterms:W3CDTF">2015-06-26T02:52:24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