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099-0E2C-422E-8CF2-F5F913B8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A9A-7C31-49EC-B019-0309C0DE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3C7-0F8D-4051-AB0D-05EEF3B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987-402C-4D87-9839-909B4C3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7A6-0D87-4BF6-B241-60BA0087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342-E354-456D-8763-26BAB0A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0FC-F301-443F-A809-F74376A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B7A-A09D-4462-9BDF-A882DE2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CD5-1E45-4630-9245-24B61DAB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FEB-EE78-4167-A3BA-A831A34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267-0333-4FC6-B0BD-1C13C625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6AF-ECAC-4A23-A511-E86C3DEE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3D31-4917-4E96-9FA7-FF54A00C4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-1440" y="5248440"/>
            <a:ext cx="916308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-20520" y="4305240"/>
            <a:ext cx="916308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-20520" y="2665440"/>
            <a:ext cx="916452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-20520" y="1701720"/>
            <a:ext cx="916920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-7920" y="227160"/>
            <a:ext cx="915660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-3240" y="-25560"/>
            <a:ext cx="9155160" cy="129096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 rot="21435600">
            <a:off x="-2181240" y="201312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单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72200" cy="56293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-36360" y="0"/>
            <a:ext cx="97128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 rot="19526400">
            <a:off x="-183960" y="-360720"/>
            <a:ext cx="158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8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82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9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94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69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7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2"/>
          <p:cNvSpPr/>
          <p:nvPr/>
        </p:nvSpPr>
        <p:spPr>
          <a:xfrm>
            <a:off x="-396720" y="5516640"/>
            <a:ext cx="143964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-360720" y="-704880"/>
            <a:ext cx="1977840" cy="1877040"/>
            <a:chOff x="-360720" y="-704880"/>
            <a:chExt cx="1977840" cy="1877040"/>
          </a:xfrm>
        </p:grpSpPr>
        <p:sp>
          <p:nvSpPr>
            <p:cNvPr id="101" name="Rectangle 4"/>
            <p:cNvSpPr/>
            <p:nvPr/>
          </p:nvSpPr>
          <p:spPr>
            <a:xfrm>
              <a:off x="-15480" y="0"/>
              <a:ext cx="971640" cy="833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 rot="19526400">
              <a:off x="-163080" y="-360720"/>
              <a:ext cx="1582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105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-360720" y="-704880"/>
            <a:ext cx="1977840" cy="1877040"/>
            <a:chOff x="-360720" y="-704880"/>
            <a:chExt cx="1977840" cy="1877040"/>
          </a:xfrm>
        </p:grpSpPr>
        <p:sp>
          <p:nvSpPr>
            <p:cNvPr id="116" name="Rectangle 2"/>
            <p:cNvSpPr/>
            <p:nvPr/>
          </p:nvSpPr>
          <p:spPr>
            <a:xfrm>
              <a:off x="-15480" y="0"/>
              <a:ext cx="971640" cy="8330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"/>
            <p:cNvSpPr/>
            <p:nvPr/>
          </p:nvSpPr>
          <p:spPr>
            <a:xfrm rot="19526400">
              <a:off x="-163080" y="-360720"/>
              <a:ext cx="1582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1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11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1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1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2141640"/>
            <a:ext cx="9142560" cy="3448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C:\Documents and Settings\Administrator\桌面\6655 (1) [转换].png"/>
          <p:cNvPicPr/>
          <p:nvPr/>
        </p:nvPicPr>
        <p:blipFill>
          <a:blip r:embed="rId2"/>
          <a:stretch/>
        </p:blipFill>
        <p:spPr>
          <a:xfrm>
            <a:off x="324000" y="2924280"/>
            <a:ext cx="8297640" cy="327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"/>
          <p:cNvPicPr/>
          <p:nvPr/>
        </p:nvPicPr>
        <p:blipFill>
          <a:blip r:embed="rId3"/>
          <a:stretch/>
        </p:blipFill>
        <p:spPr>
          <a:xfrm>
            <a:off x="-19080" y="4916520"/>
            <a:ext cx="9161640" cy="17683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"/>
          <p:cNvGrpSpPr/>
          <p:nvPr/>
        </p:nvGrpSpPr>
        <p:grpSpPr>
          <a:xfrm>
            <a:off x="-360720" y="-704880"/>
            <a:ext cx="1977840" cy="1877040"/>
            <a:chOff x="-360720" y="-704880"/>
            <a:chExt cx="1977840" cy="1877040"/>
          </a:xfrm>
        </p:grpSpPr>
        <p:sp>
          <p:nvSpPr>
            <p:cNvPr id="132" name="Rectangle 2"/>
            <p:cNvSpPr/>
            <p:nvPr/>
          </p:nvSpPr>
          <p:spPr>
            <a:xfrm>
              <a:off x="-15480" y="0"/>
              <a:ext cx="971640" cy="83340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"/>
            <p:cNvSpPr/>
            <p:nvPr/>
          </p:nvSpPr>
          <p:spPr>
            <a:xfrm rot="19526400">
              <a:off x="-163080" y="-360720"/>
              <a:ext cx="1582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29" descr="C:\Documents and Settings\Administrator\桌面\6655 (1) [转换].png"/>
          <p:cNvPicPr/>
          <p:nvPr/>
        </p:nvPicPr>
        <p:blipFill>
          <a:blip r:embed="rId4"/>
          <a:stretch/>
        </p:blipFill>
        <p:spPr>
          <a:xfrm>
            <a:off x="3367080" y="4390920"/>
            <a:ext cx="1657440" cy="181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C:\Documents and Settings\Administrator\桌面\6655 (1) [转换].png"/>
          <p:cNvPicPr/>
          <p:nvPr/>
        </p:nvPicPr>
        <p:blipFill>
          <a:blip r:embed="rId5"/>
          <a:stretch/>
        </p:blipFill>
        <p:spPr>
          <a:xfrm>
            <a:off x="4897440" y="4573440"/>
            <a:ext cx="1619280" cy="163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C:\Documents and Settings\Administrator\桌面\6655 (1) [转换].png"/>
          <p:cNvPicPr/>
          <p:nvPr/>
        </p:nvPicPr>
        <p:blipFill>
          <a:blip r:embed="rId6"/>
          <a:stretch/>
        </p:blipFill>
        <p:spPr>
          <a:xfrm>
            <a:off x="6415200" y="4573440"/>
            <a:ext cx="1181160" cy="163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9" descr="C:\Documents and Settings\Administrator\桌面\6655 (1) [转换].png"/>
          <p:cNvPicPr/>
          <p:nvPr/>
        </p:nvPicPr>
        <p:blipFill>
          <a:blip r:embed="rId7"/>
          <a:stretch/>
        </p:blipFill>
        <p:spPr>
          <a:xfrm>
            <a:off x="2071800" y="4194000"/>
            <a:ext cx="1365120" cy="201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C:\Documents and Settings\Administrator\桌面\6655 (1) [转换].png"/>
          <p:cNvPicPr/>
          <p:nvPr/>
        </p:nvPicPr>
        <p:blipFill>
          <a:blip r:embed="rId8"/>
          <a:stretch/>
        </p:blipFill>
        <p:spPr>
          <a:xfrm>
            <a:off x="7505640" y="4938840"/>
            <a:ext cx="1116000" cy="126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9" descr="C:\Documents and Settings\Administrator\桌面\6655 (1) [转换].png"/>
          <p:cNvPicPr/>
          <p:nvPr/>
        </p:nvPicPr>
        <p:blipFill>
          <a:blip r:embed="rId9"/>
          <a:stretch/>
        </p:blipFill>
        <p:spPr>
          <a:xfrm>
            <a:off x="469800" y="4059360"/>
            <a:ext cx="1551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1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52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3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54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5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256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981000"/>
            <a:ext cx="851364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2"/>
          <a:stretch/>
        </p:blipFill>
        <p:spPr>
          <a:xfrm>
            <a:off x="73080" y="2419200"/>
            <a:ext cx="9180360" cy="179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3"/>
          <a:stretch/>
        </p:blipFill>
        <p:spPr>
          <a:xfrm>
            <a:off x="0" y="3213000"/>
            <a:ext cx="9253440" cy="201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-214200" y="3860640"/>
            <a:ext cx="9645480" cy="23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Documents and Settings\Administrator\桌面\6655 (3) [转换].png"/>
          <p:cNvPicPr/>
          <p:nvPr/>
        </p:nvPicPr>
        <p:blipFill>
          <a:blip r:embed="rId5"/>
          <a:stretch/>
        </p:blipFill>
        <p:spPr>
          <a:xfrm>
            <a:off x="0" y="5300640"/>
            <a:ext cx="9142560" cy="1376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-36360" y="0"/>
            <a:ext cx="971280" cy="83340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 rot="19526400">
            <a:off x="-183960" y="-360720"/>
            <a:ext cx="158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  <a:ea typeface="Cube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"/>
          <p:cNvSpPr/>
          <p:nvPr/>
        </p:nvSpPr>
        <p:spPr>
          <a:xfrm>
            <a:off x="-1440" y="5248440"/>
            <a:ext cx="916308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-20520" y="4305240"/>
            <a:ext cx="916308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-20520" y="2665440"/>
            <a:ext cx="916452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-20520" y="1701720"/>
            <a:ext cx="916920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-7920" y="227160"/>
            <a:ext cx="915660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-3240" y="-25560"/>
            <a:ext cx="9155160" cy="129096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 rot="21435600">
            <a:off x="-2249640" y="1796760"/>
            <a:ext cx="7721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谢谢观赏</a:t>
            </a: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21420000">
            <a:off x="-9972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7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8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60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1771560" y="692280"/>
            <a:ext cx="6040440" cy="6553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-36360" y="0"/>
            <a:ext cx="97128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 rot="19526400">
            <a:off x="-183960" y="-360720"/>
            <a:ext cx="158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64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-1434960" y="3024360"/>
            <a:ext cx="12053880" cy="386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"/>
          <p:cNvPicPr/>
          <p:nvPr/>
        </p:nvPicPr>
        <p:blipFill>
          <a:blip r:embed="rId2"/>
          <a:stretch/>
        </p:blipFill>
        <p:spPr>
          <a:xfrm>
            <a:off x="-252360" y="0"/>
            <a:ext cx="9688320" cy="74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Documents and Settings\Administrator\桌面\6655 (2) [转换].png"/>
          <p:cNvPicPr/>
          <p:nvPr/>
        </p:nvPicPr>
        <p:blipFill>
          <a:blip r:embed="rId3"/>
          <a:stretch/>
        </p:blipFill>
        <p:spPr>
          <a:xfrm>
            <a:off x="674640" y="4076640"/>
            <a:ext cx="8145360" cy="2322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-36360" y="0"/>
            <a:ext cx="97128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 rot="19526400">
            <a:off x="-183960" y="-360720"/>
            <a:ext cx="1582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6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74" name="Picture 2" descr=""/>
            <p:cNvPicPr/>
            <p:nvPr/>
          </p:nvPicPr>
          <p:blipFill>
            <a:blip r:embed="rId4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" descr=""/>
            <p:cNvPicPr/>
            <p:nvPr/>
          </p:nvPicPr>
          <p:blipFill>
            <a:blip r:embed="rId6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" descr=""/>
            <p:cNvPicPr/>
            <p:nvPr/>
          </p:nvPicPr>
          <p:blipFill>
            <a:blip r:embed="rId7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8:43:37Z</dcterms:created>
  <dc:creator>USER</dc:creator>
  <dc:description/>
  <dc:language>en-US</dc:language>
  <cp:lastModifiedBy>Windows 用户</cp:lastModifiedBy>
  <dcterms:modified xsi:type="dcterms:W3CDTF">2015-08-21T04:20:02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