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162F-9732-4336-9F60-9720186AC2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3D2-068E-4086-B059-676A779409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925-6BCF-4A6D-9DE8-A2BAF0C8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923-BAA8-422E-9E54-6DBDD921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139-9BDC-4328-AAB5-14BB0D33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EBD-D512-47B3-9A1C-B971A072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B56-AA3D-43B2-816B-F7F3471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DD5-79D4-4FF1-AF56-ABE96F25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19-52BF-4936-8F32-A1FED7AC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B70-DEEC-4D3B-ABC1-1A0B9907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FFB-4CDE-4BB4-BB5E-95FCD8C6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102-4DC1-45A4-8E22-28AA023D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4D9-9B58-4248-9FE2-262E943E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489-C7E0-4BC7-8AE4-DEE6B20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D1C1-383A-46F1-8059-FB627A3A70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FAA2-AB4F-4D1B-AC4D-9F7B449FC2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50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54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20" descr="E:\2013.3.28\教师节\教师节07 [转换]-01.png"/>
          <p:cNvPicPr/>
          <p:nvPr/>
        </p:nvPicPr>
        <p:blipFill>
          <a:blip r:embed="rId11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0" descr="E:\2013.3.28\教师节\教师节07 [转换]-01.png"/>
          <p:cNvPicPr/>
          <p:nvPr/>
        </p:nvPicPr>
        <p:blipFill>
          <a:blip r:embed="rId12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60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62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93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106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24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31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74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12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7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35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9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42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54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60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64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72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8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85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91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8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301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11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9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31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9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53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56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70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73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23" descr="E:\2013.3.28\教师节\教师节04[转换]-01-01-01-01.png"/>
          <p:cNvPicPr/>
          <p:nvPr/>
        </p:nvPicPr>
        <p:blipFill>
          <a:blip r:embed="rId13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E:\2013.3.28\教师节\教师节01 [转换]-01.png"/>
          <p:cNvPicPr/>
          <p:nvPr/>
        </p:nvPicPr>
        <p:blipFill>
          <a:blip r:embed="rId14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8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1" descr="E:\2013.3.28\教师节\教师节02 [转换]-01-01.png"/>
          <p:cNvPicPr/>
          <p:nvPr/>
        </p:nvPicPr>
        <p:blipFill>
          <a:blip r:embed="rId15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2" descr="E:\2013.3.28\教师节\教师节03 [转换]-01-01-01.png"/>
          <p:cNvPicPr/>
          <p:nvPr/>
        </p:nvPicPr>
        <p:blipFill>
          <a:blip r:embed="rId16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3" descr="E:\2013.3.28\教师节\教师节04[转换]-01-01-01-01.png"/>
          <p:cNvPicPr/>
          <p:nvPr/>
        </p:nvPicPr>
        <p:blipFill>
          <a:blip r:embed="rId17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82" name="NULL" descr=""/>
          <p:cNvPicPr/>
          <p:nvPr/>
        </p:nvPicPr>
        <p:blipFill>
          <a:blip r:embed="rId18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84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85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7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8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91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94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7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400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403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406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9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1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412" name="直接连接符 875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76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77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78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79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0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81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接连接符 882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883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接连接符 884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接连接符 885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25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44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50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53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56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59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63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64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68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76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>
                <a:gd name="textAreaLeft" fmla="*/ 0 w 178560"/>
                <a:gd name="textAreaRight" fmla="*/ 178560 w 178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07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21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39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46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689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27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42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50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54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57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69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75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79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787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793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800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06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13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16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26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34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46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54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68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71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885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888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1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4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899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900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902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903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06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09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12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15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18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21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24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6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927" name="直接连接符 6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7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8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9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0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1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2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直接连接符 13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直接连接符 14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直接连接符 15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直接连接符 16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40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6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49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52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55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7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8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9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11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12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3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14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15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18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21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24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27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30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33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36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8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1039" name="直接连接符 123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24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0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1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2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3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3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4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直接连接符 135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直接连接符 136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直接连接符 137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138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53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056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059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1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62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063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8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166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0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169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170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172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173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176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179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182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185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188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91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194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6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sp>
            <p:nvSpPr>
              <p:cNvPr id="1197" name="直接连接符 6"/>
              <p:cNvSpPr/>
              <p:nvPr/>
            </p:nvSpPr>
            <p:spPr>
              <a:xfrm>
                <a:off x="2065320" y="1175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7"/>
              <p:cNvSpPr/>
              <p:nvPr/>
            </p:nvSpPr>
            <p:spPr>
              <a:xfrm>
                <a:off x="2065320" y="159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8"/>
              <p:cNvSpPr/>
              <p:nvPr/>
            </p:nvSpPr>
            <p:spPr>
              <a:xfrm>
                <a:off x="2065320" y="1982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9"/>
              <p:cNvSpPr/>
              <p:nvPr/>
            </p:nvSpPr>
            <p:spPr>
              <a:xfrm>
                <a:off x="2065320" y="2406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0"/>
              <p:cNvSpPr/>
              <p:nvPr/>
            </p:nvSpPr>
            <p:spPr>
              <a:xfrm>
                <a:off x="2058840" y="2796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1"/>
              <p:cNvSpPr/>
              <p:nvPr/>
            </p:nvSpPr>
            <p:spPr>
              <a:xfrm>
                <a:off x="2058840" y="3191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2"/>
              <p:cNvSpPr/>
              <p:nvPr/>
            </p:nvSpPr>
            <p:spPr>
              <a:xfrm>
                <a:off x="2058840" y="36007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3"/>
              <p:cNvSpPr/>
              <p:nvPr/>
            </p:nvSpPr>
            <p:spPr>
              <a:xfrm>
                <a:off x="2049480" y="402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14"/>
              <p:cNvSpPr/>
              <p:nvPr/>
            </p:nvSpPr>
            <p:spPr>
              <a:xfrm>
                <a:off x="2049480" y="4451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15"/>
              <p:cNvSpPr/>
              <p:nvPr/>
            </p:nvSpPr>
            <p:spPr>
              <a:xfrm>
                <a:off x="2065320" y="73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16"/>
              <p:cNvSpPr/>
              <p:nvPr/>
            </p:nvSpPr>
            <p:spPr>
              <a:xfrm>
                <a:off x="2081520" y="310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直接连接符 17"/>
              <p:cNvSpPr/>
              <p:nvPr/>
            </p:nvSpPr>
            <p:spPr>
              <a:xfrm>
                <a:off x="2036160" y="4887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10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213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216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19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1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22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223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8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ww.51pptmoban.com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日期占位符 2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951-4521-4753-8AF2-6859AF8D81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杨光</cp:lastModifiedBy>
  <dcterms:modified xsi:type="dcterms:W3CDTF">2014-06-29T13:53:59Z</dcterms:modified>
  <cp:revision>6</cp:revision>
  <dc:subject/>
  <dc:title>PowerPoint 演示文稿</dc:title>
</cp:coreProperties>
</file>