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BDA-D823-4D94-A21D-F6CB1214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37A-7B53-411A-AE9F-3B208A2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C9E-6C48-4DBF-9B10-937A85EC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85E3-4D07-412A-8E51-2342B643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9C0-32A5-4590-B3E6-EDC0DBED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21F-287A-4059-B821-BAA60B1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7AA-B658-40D5-A0A5-B49889DC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E79-72D6-4452-8053-3064AF21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128-FF5C-4300-960A-80638125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6D4-0F71-4A47-9D50-FBCCBBE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695-C97C-4585-A502-1DA11DD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7BA-1D10-44A4-9CBF-C2837F7C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5F1A-56BF-4EDC-A360-7C329D96FE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19280" y="2636640"/>
            <a:ext cx="2305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时尚中黑简体"/>
              </a:rPr>
              <a:t>印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60720" y="3500280"/>
            <a:ext cx="27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orbel"/>
                <a:ea typeface="时尚中黑简体"/>
              </a:rPr>
              <a:t>TRAVEL AL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989080" y="3573360"/>
            <a:ext cx="36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Imp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8"/>
          <p:cNvPicPr/>
          <p:nvPr/>
        </p:nvPicPr>
        <p:blipFill>
          <a:blip r:embed="rId2"/>
          <a:stretch/>
        </p:blipFill>
        <p:spPr>
          <a:xfrm>
            <a:off x="36360" y="593640"/>
            <a:ext cx="91314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5940360" y="34369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安徽之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878080" y="36590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ANHUI ZHI 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10"/>
          <p:cNvPicPr/>
          <p:nvPr/>
        </p:nvPicPr>
        <p:blipFill>
          <a:blip r:embed="rId3"/>
          <a:stretch/>
        </p:blipFill>
        <p:spPr>
          <a:xfrm>
            <a:off x="5508720" y="3427560"/>
            <a:ext cx="565200" cy="433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651640" y="342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940360" y="400536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周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来过未曾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0"/>
          <p:cNvPicPr/>
          <p:nvPr/>
        </p:nvPicPr>
        <p:blipFill>
          <a:blip r:embed="rId4"/>
          <a:stretch/>
        </p:blipFill>
        <p:spPr>
          <a:xfrm>
            <a:off x="5508720" y="400356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5651640" y="39988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940360" y="42354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ZHOU ZHUANG,LAI GUO WEI CENG LI K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10"/>
          <p:cNvPicPr/>
          <p:nvPr/>
        </p:nvPicPr>
        <p:blipFill>
          <a:blip r:embed="rId5"/>
          <a:stretch/>
        </p:blipFill>
        <p:spPr>
          <a:xfrm>
            <a:off x="5508720" y="457992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5651640" y="4575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788000" y="2421000"/>
            <a:ext cx="99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  <a:ea typeface="时尚中黑简体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5940360" y="457524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CityWalk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寻梦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940360" y="48099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CITYWALKS XUN MENG QING 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10"/>
          <p:cNvPicPr/>
          <p:nvPr/>
        </p:nvPicPr>
        <p:blipFill>
          <a:blip r:embed="rId6"/>
          <a:stretch/>
        </p:blipFill>
        <p:spPr>
          <a:xfrm>
            <a:off x="5508720" y="5156280"/>
            <a:ext cx="565200" cy="433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653080" y="51516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940360" y="5151600"/>
            <a:ext cx="28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读湘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940360" y="538632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ndara"/>
              </a:rPr>
              <a:t>JIE DU XIANG 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5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7"/>
          <p:cNvPicPr/>
          <p:nvPr/>
        </p:nvPicPr>
        <p:blipFill>
          <a:blip r:embed="rId3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1"/>
          <p:cNvPicPr/>
          <p:nvPr/>
        </p:nvPicPr>
        <p:blipFill>
          <a:blip r:embed="rId2"/>
          <a:stretch/>
        </p:blipFill>
        <p:spPr>
          <a:xfrm>
            <a:off x="-30240" y="571680"/>
            <a:ext cx="91360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57360" y="1268280"/>
            <a:ext cx="7444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  <a:ea typeface="时尚中黑简体"/>
              </a:rPr>
              <a:t>青岛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12"/>
          <p:cNvPicPr/>
          <p:nvPr/>
        </p:nvPicPr>
        <p:blipFill>
          <a:blip r:embed="rId3"/>
          <a:stretch/>
        </p:blipFill>
        <p:spPr>
          <a:xfrm>
            <a:off x="0" y="30636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13"/>
          <p:cNvPicPr/>
          <p:nvPr/>
        </p:nvPicPr>
        <p:blipFill>
          <a:blip r:embed="rId4"/>
          <a:stretch/>
        </p:blipFill>
        <p:spPr>
          <a:xfrm>
            <a:off x="0" y="52236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46760" y="1557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faed8"/>
                </a:solidFill>
                <a:latin typeface="微软雅黑"/>
                <a:ea typeface="微软雅黑"/>
              </a:rPr>
              <a:t>岛域旧志 海岛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762200" y="18860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94949"/>
                </a:solidFill>
                <a:latin typeface="Candara"/>
              </a:rPr>
              <a:t>MY TRAVEL MY CITYWAL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835280" y="203508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4949"/>
                </a:solidFill>
                <a:latin typeface="Candara"/>
              </a:rPr>
              <a:t>DAO YU JIU ZHI HAI DAO FENG Q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476360" y="2781360"/>
            <a:ext cx="7210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晚上，各位暴走团的朋友都背着厚厚的旅行包在鼓楼公园门口集合。旅行车还没到之前，各位同志都被暴站在路边，又热又闷，但是还是抵挡不了大家激动的心情呀。直到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，大家总算坐上了车出发了，一路上，领头的在前面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K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歌，各个座位上的小情侣们有说有唱的，我和我们家的马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sir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两人也是各种吃，从果冻到薯片，从薯片到糖果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没少折腾，抵达青岛要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个小时左右，中途在南京六合停（为了等后面的鲨鱼队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队），在某服务站停靠了一下（主要是很多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GG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和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MM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要尿尿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            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一路上真的没法睡，坐七八个小时的车程真的受不了，屁股难受，想睡也没法睡，压根就没一个好的姿势让自己能入睡。于是拿着导航仪在那与大巴做同步，一路北上，经过宿迁、日照等等</a:t>
            </a:r>
            <a:r>
              <a:rPr b="0" lang="zh-CN" sz="1200" spc="-1" strike="noStrike">
                <a:solidFill>
                  <a:srgbClr val="494949"/>
                </a:solidFill>
                <a:latin typeface="微软雅黑"/>
                <a:ea typeface="微软雅黑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4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24880" y="3141720"/>
            <a:ext cx="88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kzidenz-Grotesk BQ Light with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sus</dc:creator>
  <dc:description/>
  <cp:keywords/>
  <dc:language>en-US</dc:language>
  <cp:lastModifiedBy>Administrator</cp:lastModifiedBy>
  <dcterms:modified xsi:type="dcterms:W3CDTF">2015-07-24T02:06:23Z</dcterms:modified>
  <cp:revision>2</cp:revision>
  <dc:subject/>
  <dc:title>印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