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D14-20F1-4B44-AACF-A7D09DF2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032-D029-4E2E-90D3-21F1C53B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8F44D-DC3D-436B-87B8-3C4D85C5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6E572-5869-426C-A5A9-C645C9A7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0AFC2-137F-4B22-B7C3-70921800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B526C-3FC0-437C-ACCA-60FF8F4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88C6D-BA36-4541-919B-F42C6F2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504BB-BA7D-4FC7-BED1-F1BEC176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38958-BF9A-4052-ADA6-C5BA0E88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EF8CE-BDA3-4EE6-B3B6-71AB2DF1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58C60-44B0-4489-9F57-6C9EEF7C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25592-0D7F-4DB9-83BE-A7FC17F6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9F7-A849-4D0E-A988-21FA2EB9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E07F8-9F5C-4BBB-B7B2-44941F73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2A388-09D3-4DF8-9D72-9C2CDFEB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9CEB5-F5C6-4100-82B2-3EF42078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FD2C4-7112-4463-8B0D-AE5220EB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B9875-DDF5-4E40-AE21-7357D4A7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0EECC-2F99-4D30-A639-6C83F7EB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2C967-64F8-449E-BEBF-6A494F40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FC718-490A-48B8-80CE-CA6C8AA3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37D30-36E4-4064-AC9D-140F7046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7DF4A-6223-49FB-B192-E8500527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D44-A858-4CC8-92C9-310B86D5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63786-D992-4A2A-838C-F06BAA60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C1A7E-BFB1-488D-B317-49DE89D6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BCDD3-9711-47A6-AFD2-4691EEFE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9F08B-AB9F-483F-BC67-18D35D5D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7F667-8A30-4712-A508-6B4E827E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A9879-0C77-4AB5-80B6-65C346AB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30607-8B1B-49F6-9B84-67897348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9A626-CBCE-43C9-A316-75D35F4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97C6D-96E8-41AB-8C16-8FAE8650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1DEE0-A660-47CD-B5F2-BD404F05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A15A-844F-43B7-A23F-DC078FBC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314C8-8553-463A-90C4-EE024D3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4C62F-2477-4EAD-9456-B537E4E7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120B9-71BA-4C18-9615-CB375432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19053-04CB-498B-8C10-B4A0FD0F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9C9CF-FCDB-4938-B623-ACB3884E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44906-AB9B-4673-8D46-6B9A8F92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46243-2198-4102-9C71-3E8983B4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0A5A2-A236-45FA-B992-DBB5CC1B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2A9A9-94F2-4D1D-A35A-52B40750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7F196-79B2-4CA1-A2EE-41DF8FC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3D75-A101-46EE-AE53-500C5F8D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5A0D1-9B3B-42AF-8A5C-67A535A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1952F-1746-4CBF-8992-2AE0A632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17B7D-D870-4E55-8025-FDCDB876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8FCA4-4BEE-481C-BD15-839CFBCF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24863-64A5-456A-942C-BA5C92EF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AAFF-49BE-48DF-9886-7CFD498F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67D0-BEC1-404E-B2BF-6A5213D3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A75A-9078-43D7-9D2D-29944B30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CF43-8BAC-49F8-B077-CC4CC0DD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A1EC-8FD8-444D-85DE-99622AEB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518-DAD8-4563-9051-5A99ED91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D9CB-F46A-45CC-8583-CE2D7F9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70F4-EEAD-4D37-BCCF-18E24C4B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AE76-FD08-4207-B298-A4DFA72B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E145-012F-4428-822B-EF9D5C5F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EF39-D4B5-4989-AE67-0095E997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5E4C5-F9FF-4B91-BFE8-BB73335C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2CA8-D3EE-4851-8323-255547F9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3A8D-D036-4584-8549-C077533D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9F29-4897-4697-B742-2C48E502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E506-212E-46CB-B861-8F2048C6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672-B95F-429D-BFA6-CC3EF42F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E6FB-6061-40A7-B0B2-E470020A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24D76-4BE3-43B8-88DF-3F0E2429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C395-17DA-4B7B-8868-EF960F1D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455A9-1754-4263-B390-647C7B9A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0681-A8DB-434D-92C7-826D732C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9CCC-8217-458B-88FE-AB797769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CC6C-F512-46BD-BC82-A79F26EE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39EA-5449-41E0-8D7A-1BBB0D6B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29F7-6138-427C-9D3E-29840646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A0BDB-3C84-45E0-A105-2AA5A4E6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48B-4663-45AB-978E-C49F676C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931B-58AC-4D11-9E0A-8DE4EBCA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D9A7-1AAC-4667-9B36-7CE6D8E3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3B461-3276-41F4-B85B-0EE41CB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B4EA-9832-4FDA-B988-05DB6DD6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E031-00EC-4133-B61D-7952FB0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86D2-97F3-4EA4-8B14-1F95AD7C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9385-409A-4C47-9DA6-DE44A3D1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DE04C-6A16-4F9C-8D88-67A79E46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021B-9EF5-4AD3-8E48-11327355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7E074-4F64-41F7-9DEB-614221E4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03D-11A4-480B-A5D1-7D3E3DC8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AF045-C340-41C4-9C74-9649942F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04E1-926D-44FB-BF7D-7B7CCAAD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0307C-BC16-466C-A5DD-6A9D824B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5CFBC-ECAF-42BA-B96D-63930BF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3E3D2-4534-4413-AFC0-C15D739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B48E9-5555-4243-8A72-E0BB5AC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1D33-B44E-482C-BEB6-E07C1D67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B6767-27C3-49E8-8C31-3ADE4258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88FCC-AB79-4AB4-A1E4-2052BF24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3DB0D-AA2D-46D3-90BB-4942EFDA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C06-657C-4AD8-A65A-87721E82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1EE9B-F442-4AD0-99B6-670BCCB8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B0D9F-F203-4B1F-B358-4CB0FA1D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93C9C-6528-475C-AD94-90E4CD58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067E3-C955-4139-8F7C-390E051D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A624E-F743-47FB-8159-F4C84C04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CB051-0EBC-43C6-BDA2-BE64C469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3DCA0-5E6B-4ACF-86A4-E15E8088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FEB31-C745-4794-A303-15AFB08D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95F85-9149-426B-B2AE-C38AF319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050E6-9DC1-4BBE-AA6C-1386DAD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2BB-5472-400F-86AF-BB00E809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2D7FB-DCD4-444F-A8DA-988BDBC1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75EA-B394-4FD3-BF32-4A885376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A1C20-AA79-4194-B96C-C692B619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9A64-6A22-47BA-8874-CBC1CAF0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3950D-1682-4571-BCAB-BB8ABA7D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FE7ED-9793-41D0-91F4-62938C34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81744-DDB7-4871-9AD7-DD3CC5B1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C2382-C0BC-43C9-84BA-BABE34E7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7865C-150F-4558-BB7D-BB4837F1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1CA28-C293-4BD3-A043-9095E61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12F-4F29-4C30-BA5C-E31008B9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2740-26FD-4D03-9051-4D7FC0EF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C69C8-0D5E-41F9-9D4F-2DE2860E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7511B-13D3-4A99-883F-5A704AA0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D3BE6-61A6-407C-8759-9B1B09D4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B7022-747E-4A0E-9FCB-825C8245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6CF43-2FE1-440D-95B7-5AAA5B10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430D7-EA8C-4C46-A662-264BCC6F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97942-6EE3-4DF2-968A-9A7274D6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D9A6C-0610-4584-A707-BC42F9C8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D6722-187B-453C-B116-4DF482FC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D78-7D47-4E37-932C-296D9288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31640" y="258480"/>
            <a:ext cx="7777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3D893-EC99-4A0C-B4B5-A96DE8E5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7098C-804D-40D4-A449-ACECD92D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37B4C-5F0F-41CF-ADB6-5B85AC7A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25231-7294-45D4-A1DC-3B64C75A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31640" y="3746160"/>
            <a:ext cx="777744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E3C49-7C5E-4B6A-901E-836EAC90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416840" y="151128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316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416840" y="3746160"/>
            <a:ext cx="379512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38C0E-234C-4EEE-AF5B-81FC12D4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614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91240" y="151128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316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614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91240" y="3746160"/>
            <a:ext cx="2504160" cy="20404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CA475-8CB8-4C32-8831-B27F2118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467F5-352A-4725-9366-A7F0B2DA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A5DDD-4D7A-4E07-853D-BAA068E6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F7365-A182-4548-AB4C-2A38AC0A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82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9436CB0-BF4B-47B1-8FEC-5D7BCFE2B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4430-B533-48F4-B89C-BC27F747D732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B86C-DD33-4383-A83B-01272EE8585D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4889-90D3-43B8-B31A-2BDB34F48F45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5B5C3B8-3177-4C9E-8A5F-7D09716D95FB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7E54-2E33-40C8-82E2-F8D4C18FB96B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5C91-7E49-422C-8E81-AD1DE254BFD2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3717-7024-4ECC-BEB7-82D55938D459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C14A-3A1F-4AF0-AC50-A2445778B6A2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C778-08C7-44BE-A985-5B8FA1CF5BB6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3580-C4E0-4C06-B1A2-10EABAAEE31A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1640" y="258480"/>
            <a:ext cx="7777440" cy="1081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31640" y="151128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3128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952720" y="6005160"/>
            <a:ext cx="273528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192360" y="6005160"/>
            <a:ext cx="2016360" cy="34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2E33-C3FE-485B-99C3-A771A804F612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image" Target="../media/image29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6.jpeg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2408400" y="108000"/>
            <a:ext cx="3892320" cy="63370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5"/>
          <p:cNvSpPr/>
          <p:nvPr/>
        </p:nvSpPr>
        <p:spPr>
          <a:xfrm>
            <a:off x="6337440" y="539640"/>
            <a:ext cx="1942920" cy="380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方正粗宋简体"/>
              </a:rPr>
              <a:t>一只候鸟慢慢地飞过来，它飞到湖的上空时，吓了一大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" descr=""/>
          <p:cNvPicPr/>
          <p:nvPr/>
        </p:nvPicPr>
        <p:blipFill>
          <a:blip r:embed="rId2"/>
          <a:stretch/>
        </p:blipFill>
        <p:spPr>
          <a:xfrm>
            <a:off x="73080" y="108000"/>
            <a:ext cx="24750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640720" cy="6480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0" y="2627280"/>
            <a:ext cx="1476360" cy="385272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6"/>
          <p:cNvSpPr/>
          <p:nvPr/>
        </p:nvSpPr>
        <p:spPr>
          <a:xfrm>
            <a:off x="1728720" y="4824360"/>
            <a:ext cx="2916360" cy="1440000"/>
          </a:xfrm>
          <a:prstGeom prst="wedgeRoundRectCallout">
            <a:avLst>
              <a:gd name="adj1" fmla="val -53972"/>
              <a:gd name="adj2" fmla="val -69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方正少儿简体"/>
              </a:rPr>
              <a:t>那可不是喷泉，那是鲸鱼呼吸喷出的水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561960" y="934920"/>
            <a:ext cx="4564080" cy="52578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5722920" y="216000"/>
            <a:ext cx="2738520" cy="411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大家急急忙忙冲向码头。全村的人都跑过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"/>
          <p:cNvPicPr/>
          <p:nvPr/>
        </p:nvPicPr>
        <p:blipFill>
          <a:blip r:embed="rId1"/>
          <a:stretch/>
        </p:blipFill>
        <p:spPr>
          <a:xfrm>
            <a:off x="144360" y="320760"/>
            <a:ext cx="8244000" cy="37828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7"/>
          <p:cNvSpPr/>
          <p:nvPr/>
        </p:nvSpPr>
        <p:spPr>
          <a:xfrm>
            <a:off x="181080" y="4537080"/>
            <a:ext cx="828036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抓鲸鱼去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”“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怎么可以让你抢先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大家争先恐后地跳上自己的船去捕鲸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181080" y="5472000"/>
            <a:ext cx="828036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不管怎样，鲸鱼是可以吃的鱼呀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什么？鲸鱼不是鱼！谁管那么多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4678200" y="503280"/>
            <a:ext cx="3641760" cy="39243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"/>
          <p:cNvPicPr/>
          <p:nvPr/>
        </p:nvPicPr>
        <p:blipFill>
          <a:blip r:embed="rId2"/>
          <a:stretch/>
        </p:blipFill>
        <p:spPr>
          <a:xfrm>
            <a:off x="430200" y="539640"/>
            <a:ext cx="3641760" cy="392436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6"/>
          <p:cNvSpPr/>
          <p:nvPr/>
        </p:nvSpPr>
        <p:spPr>
          <a:xfrm>
            <a:off x="252360" y="4896000"/>
            <a:ext cx="3888000" cy="350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但是，大家辛辛苦苦地找了很久很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却一点儿也看不见鲸鱼的踪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4537080" y="4896000"/>
            <a:ext cx="388764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这里没有，那里没有，另外一边也没有。到处都没有鲸鱼的踪影，真是奇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4605480" y="357120"/>
            <a:ext cx="3643200" cy="39988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2"/>
          <a:stretch/>
        </p:blipFill>
        <p:spPr>
          <a:xfrm>
            <a:off x="326880" y="360360"/>
            <a:ext cx="3630600" cy="40226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6"/>
          <p:cNvSpPr/>
          <p:nvPr/>
        </p:nvSpPr>
        <p:spPr>
          <a:xfrm>
            <a:off x="252360" y="4896000"/>
            <a:ext cx="3888000" cy="350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就连爬上湖中唯一的小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四周望一圈，还是看不见鲸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4537080" y="4896000"/>
            <a:ext cx="3887640" cy="350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这次把船划进湖湾里找了又找，仍然没发现。“我们才不怕鲸鱼，跳进湖里找找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6516720" y="411120"/>
            <a:ext cx="2060640" cy="4181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"/>
          <p:cNvPicPr/>
          <p:nvPr/>
        </p:nvPicPr>
        <p:blipFill>
          <a:blip r:embed="rId2"/>
          <a:stretch/>
        </p:blipFill>
        <p:spPr>
          <a:xfrm>
            <a:off x="2197080" y="376200"/>
            <a:ext cx="2104920" cy="41799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252360" y="5076720"/>
            <a:ext cx="388800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往这边扑通一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没看见鲸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4464000" y="5076720"/>
            <a:ext cx="388944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往那边扑通一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没看见鲸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0" descr=""/>
          <p:cNvPicPr/>
          <p:nvPr/>
        </p:nvPicPr>
        <p:blipFill>
          <a:blip r:embed="rId3"/>
          <a:stretch/>
        </p:blipFill>
        <p:spPr>
          <a:xfrm>
            <a:off x="52560" y="366840"/>
            <a:ext cx="2108160" cy="4198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1" descr=""/>
          <p:cNvPicPr/>
          <p:nvPr/>
        </p:nvPicPr>
        <p:blipFill>
          <a:blip r:embed="rId4"/>
          <a:stretch/>
        </p:blipFill>
        <p:spPr>
          <a:xfrm>
            <a:off x="4429080" y="414360"/>
            <a:ext cx="20574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5"/>
          <p:cNvSpPr/>
          <p:nvPr/>
        </p:nvSpPr>
        <p:spPr>
          <a:xfrm>
            <a:off x="5722920" y="216000"/>
            <a:ext cx="2738520" cy="411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鲸鱼出现了，这次绝对错不了！”一群人匆匆忙忙地往对面划过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"/>
          <p:cNvPicPr/>
          <p:nvPr/>
        </p:nvPicPr>
        <p:blipFill>
          <a:blip r:embed="rId1"/>
          <a:stretch/>
        </p:blipFill>
        <p:spPr>
          <a:xfrm>
            <a:off x="360360" y="1263600"/>
            <a:ext cx="48960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463680" y="1403280"/>
            <a:ext cx="4240080" cy="48610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5724360" y="216000"/>
            <a:ext cx="2738520" cy="777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在这里还是看不见鲸鱼的踪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唉，真可惜，没看见鲸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4626000" y="1042920"/>
            <a:ext cx="3638520" cy="3660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2"/>
          <a:stretch/>
        </p:blipFill>
        <p:spPr>
          <a:xfrm>
            <a:off x="447840" y="684360"/>
            <a:ext cx="3641400" cy="40147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252360" y="5076720"/>
            <a:ext cx="388800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我们不可以就这样放弃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大家决定轮流看守，从早晨到夜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4464000" y="5076720"/>
            <a:ext cx="388944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从夜晚到早晨，一点儿也不放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无论如何非抓到鲸鱼不可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"/>
          <p:cNvSpPr/>
          <p:nvPr/>
        </p:nvSpPr>
        <p:spPr>
          <a:xfrm>
            <a:off x="0" y="3203640"/>
            <a:ext cx="8640720" cy="32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184320" y="3456000"/>
            <a:ext cx="2695320" cy="2643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2"/>
          <a:stretch/>
        </p:blipFill>
        <p:spPr>
          <a:xfrm>
            <a:off x="401760" y="539640"/>
            <a:ext cx="2363760" cy="2605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"/>
          <p:cNvPicPr/>
          <p:nvPr/>
        </p:nvPicPr>
        <p:blipFill>
          <a:blip r:embed="rId3"/>
          <a:stretch/>
        </p:blipFill>
        <p:spPr>
          <a:xfrm>
            <a:off x="2992320" y="3456000"/>
            <a:ext cx="2695680" cy="26431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"/>
          <p:cNvPicPr/>
          <p:nvPr/>
        </p:nvPicPr>
        <p:blipFill>
          <a:blip r:embed="rId4"/>
          <a:stretch/>
        </p:blipFill>
        <p:spPr>
          <a:xfrm>
            <a:off x="3209760" y="503280"/>
            <a:ext cx="2364120" cy="26049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5"/>
          <a:stretch/>
        </p:blipFill>
        <p:spPr>
          <a:xfrm>
            <a:off x="5799240" y="3456000"/>
            <a:ext cx="2697120" cy="2643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"/>
          <p:cNvPicPr/>
          <p:nvPr/>
        </p:nvPicPr>
        <p:blipFill>
          <a:blip r:embed="rId6"/>
          <a:stretch/>
        </p:blipFill>
        <p:spPr>
          <a:xfrm>
            <a:off x="5983200" y="492120"/>
            <a:ext cx="23637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5"/>
          <p:cNvSpPr/>
          <p:nvPr/>
        </p:nvSpPr>
        <p:spPr>
          <a:xfrm>
            <a:off x="6229440" y="4645080"/>
            <a:ext cx="2158920" cy="777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它停在村子里最高的屋顶上，尖声大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"/>
          <p:cNvPicPr/>
          <p:nvPr/>
        </p:nvPicPr>
        <p:blipFill>
          <a:blip r:embed="rId1"/>
          <a:stretch/>
        </p:blipFill>
        <p:spPr>
          <a:xfrm>
            <a:off x="216000" y="325440"/>
            <a:ext cx="5538600" cy="568944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1"/>
          <p:cNvSpPr/>
          <p:nvPr/>
        </p:nvSpPr>
        <p:spPr>
          <a:xfrm rot="20894400">
            <a:off x="4029840" y="1763280"/>
            <a:ext cx="838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Arial"/>
                <a:ea typeface="方正少儿简体"/>
              </a:rPr>
              <a:t>鲸鱼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5"/>
          <p:cNvSpPr/>
          <p:nvPr/>
        </p:nvSpPr>
        <p:spPr>
          <a:xfrm>
            <a:off x="5616720" y="3311640"/>
            <a:ext cx="2736720" cy="411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但是，日子久了，大家渐渐不耐烦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9" descr=""/>
          <p:cNvPicPr/>
          <p:nvPr/>
        </p:nvPicPr>
        <p:blipFill>
          <a:blip r:embed="rId1"/>
          <a:stretch/>
        </p:blipFill>
        <p:spPr>
          <a:xfrm>
            <a:off x="0" y="1698480"/>
            <a:ext cx="4753080" cy="47815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3963960" y="360360"/>
            <a:ext cx="2297160" cy="15397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0"/>
          <p:cNvSpPr/>
          <p:nvPr/>
        </p:nvSpPr>
        <p:spPr>
          <a:xfrm>
            <a:off x="5616720" y="4716360"/>
            <a:ext cx="2736720" cy="777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那只笨鸟，会不会骗我们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" descr=""/>
          <p:cNvPicPr/>
          <p:nvPr/>
        </p:nvPicPr>
        <p:blipFill>
          <a:blip r:embed="rId1"/>
          <a:stretch/>
        </p:blipFill>
        <p:spPr>
          <a:xfrm>
            <a:off x="573120" y="1727280"/>
            <a:ext cx="3967200" cy="45781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5545080" y="934920"/>
            <a:ext cx="2735280" cy="1143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没错，它一定是乱说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我们真的是被这只鸟骗了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4522680" y="324000"/>
            <a:ext cx="3627720" cy="38876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2"/>
          <a:stretch/>
        </p:blipFill>
        <p:spPr>
          <a:xfrm>
            <a:off x="409680" y="252360"/>
            <a:ext cx="3646440" cy="39592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6"/>
          <p:cNvSpPr/>
          <p:nvPr/>
        </p:nvSpPr>
        <p:spPr>
          <a:xfrm>
            <a:off x="252360" y="4537080"/>
            <a:ext cx="388800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不找了，哪有什么鲸鱼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大家生气地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4429080" y="4500720"/>
            <a:ext cx="3888000" cy="1265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方正粗宋简体"/>
              </a:rPr>
              <a:t>“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  <a:ea typeface="方正粗宋简体"/>
              </a:rPr>
              <a:t>你有没有说谎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  <a:ea typeface="方正粗宋简体"/>
              </a:rPr>
              <a:t>“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  <a:ea typeface="方正粗宋简体"/>
              </a:rPr>
              <a:t>我才没有说谎呢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  <a:ea typeface="方正粗宋简体"/>
              </a:rPr>
              <a:t>“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  <a:ea typeface="方正粗宋简体"/>
              </a:rPr>
              <a:t>带我去，看看鲸鱼在哪里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  <a:ea typeface="方正粗宋简体"/>
              </a:rPr>
              <a:t>“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  <a:ea typeface="方正粗宋简体"/>
              </a:rPr>
              <a:t>来吧，上来抓紧我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6" descr=""/>
          <p:cNvPicPr/>
          <p:nvPr/>
        </p:nvPicPr>
        <p:blipFill>
          <a:blip r:embed="rId1"/>
          <a:stretch/>
        </p:blipFill>
        <p:spPr>
          <a:xfrm>
            <a:off x="1440" y="360360"/>
            <a:ext cx="8637840" cy="38577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7"/>
          <p:cNvSpPr/>
          <p:nvPr/>
        </p:nvSpPr>
        <p:spPr>
          <a:xfrm>
            <a:off x="181080" y="4535640"/>
            <a:ext cx="3887640" cy="350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候鸟带着小孩冲上天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4537080" y="4540320"/>
            <a:ext cx="3887640" cy="350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真的，真的呢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8"/>
          <p:cNvSpPr/>
          <p:nvPr/>
        </p:nvSpPr>
        <p:spPr>
          <a:xfrm>
            <a:off x="900000" y="230652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6" descr=""/>
          <p:cNvPicPr/>
          <p:nvPr/>
        </p:nvPicPr>
        <p:blipFill>
          <a:blip r:embed="rId16"/>
          <a:stretch/>
        </p:blipFill>
        <p:spPr>
          <a:xfrm>
            <a:off x="0" y="1440"/>
            <a:ext cx="8640720" cy="46087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1577880" y="5400720"/>
            <a:ext cx="6048360" cy="502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方正粗宋简体"/>
              </a:rPr>
              <a:t>真的有一只好大好大的鲸鱼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方正粗宋简体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396720" y="1908000"/>
            <a:ext cx="7740720" cy="126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小女孩告诉了村里人，真的有一条鲸鱼呢。村里人会相信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他们又会怎么说，怎么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8640720" cy="46087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4"/>
          <p:cNvSpPr/>
          <p:nvPr/>
        </p:nvSpPr>
        <p:spPr>
          <a:xfrm>
            <a:off x="4060800" y="5003640"/>
            <a:ext cx="473040" cy="50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方正粗宋简体"/>
              </a:rPr>
              <a:t>这个湖就有了一个好听的名字：鲸鱼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6013440" y="0"/>
            <a:ext cx="2592360" cy="11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09600" y="5688000"/>
            <a:ext cx="844920" cy="50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方正粗宋简体"/>
              </a:rPr>
              <a:t>这个村子就有了一处令村民都喜爱与自豪的风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4257720" y="2514600"/>
            <a:ext cx="4383000" cy="28875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2"/>
          <a:stretch/>
        </p:blipFill>
        <p:spPr>
          <a:xfrm>
            <a:off x="0" y="1069920"/>
            <a:ext cx="4248000" cy="28908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5173560" y="252360"/>
            <a:ext cx="14637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粗倩简体"/>
              </a:rPr>
              <a:t>这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5447880" y="936720"/>
            <a:ext cx="228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粗倩简体"/>
              </a:rPr>
              <a:t>把头往右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粗倩简体"/>
              </a:rPr>
              <a:t>你又看见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2203560" y="179280"/>
            <a:ext cx="490860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3375000" y="2577960"/>
            <a:ext cx="222588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粗倩简体"/>
              </a:rPr>
              <a:t>你看见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6" descr=""/>
          <p:cNvPicPr/>
          <p:nvPr/>
        </p:nvPicPr>
        <p:blipFill>
          <a:blip r:embed="rId1"/>
          <a:stretch/>
        </p:blipFill>
        <p:spPr>
          <a:xfrm>
            <a:off x="0" y="142920"/>
            <a:ext cx="8640720" cy="40338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7"/>
          <p:cNvSpPr/>
          <p:nvPr/>
        </p:nvSpPr>
        <p:spPr>
          <a:xfrm>
            <a:off x="3409920" y="5803920"/>
            <a:ext cx="9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181080" y="4500720"/>
            <a:ext cx="820872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但是没有人理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这也难怪，这里靠湖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而不是海边），谁知道鲸鱼是什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44360" y="5316480"/>
            <a:ext cx="828036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不过，有一位老先生知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因为他有一本关于鲸鱼的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4824360" cy="3762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2"/>
          <a:stretch/>
        </p:blipFill>
        <p:spPr>
          <a:xfrm>
            <a:off x="3751200" y="2654280"/>
            <a:ext cx="48830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7"/>
          <p:cNvSpPr/>
          <p:nvPr/>
        </p:nvSpPr>
        <p:spPr>
          <a:xfrm>
            <a:off x="5015880" y="2052720"/>
            <a:ext cx="2286720" cy="38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2680" bIns="22680" anchor="t">
            <a:sp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方正粗宋简体"/>
              </a:rPr>
              <a:t>题西林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方正粗宋简体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方正粗宋简体"/>
              </a:rPr>
              <a:t>横看成岭侧成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方正粗宋简体"/>
              </a:rPr>
              <a:t>远近高低各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方正粗宋简体"/>
              </a:rPr>
              <a:t>不识庐山真面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方正粗宋简体"/>
              </a:rPr>
              <a:t>只缘身在此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612720" y="179280"/>
            <a:ext cx="7669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作业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把这首诗工工整整抄写在本子上</a:t>
            </a:r>
            <a:r>
              <a:rPr b="0" lang="en-US" sz="3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并且为它配上一幅合适的插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9" descr=""/>
          <p:cNvPicPr/>
          <p:nvPr/>
        </p:nvPicPr>
        <p:blipFill>
          <a:blip r:embed="rId1"/>
          <a:stretch/>
        </p:blipFill>
        <p:spPr>
          <a:xfrm>
            <a:off x="74520" y="4049640"/>
            <a:ext cx="1419480" cy="24130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" descr="zy-01308"/>
          <p:cNvPicPr/>
          <p:nvPr/>
        </p:nvPicPr>
        <p:blipFill>
          <a:blip r:embed="rId2"/>
          <a:srcRect l="0" t="0" r="72993" b="0"/>
          <a:stretch/>
        </p:blipFill>
        <p:spPr>
          <a:xfrm rot="13417200">
            <a:off x="7524360" y="1583640"/>
            <a:ext cx="3999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60360" y="216000"/>
            <a:ext cx="4680000" cy="489564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5545080" y="4056120"/>
            <a:ext cx="2735280" cy="1508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是鲸鱼呢！大家快去抓鲸鱼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大伙儿都一愣一愣的：“鲸鱼是什么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2556000" y="1494000"/>
            <a:ext cx="2192040" cy="41767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5581800" y="611280"/>
            <a:ext cx="2736720" cy="411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老先生急忙跑回家，又带着书跑回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545080" y="2916360"/>
            <a:ext cx="2735280" cy="411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身为渔夫不知道鲸鱼，太丢脸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7" descr=""/>
          <p:cNvPicPr/>
          <p:nvPr/>
        </p:nvPicPr>
        <p:blipFill>
          <a:blip r:embed="rId2"/>
          <a:stretch/>
        </p:blipFill>
        <p:spPr>
          <a:xfrm>
            <a:off x="289080" y="184320"/>
            <a:ext cx="182376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"/>
          <p:cNvPicPr/>
          <p:nvPr/>
        </p:nvPicPr>
        <p:blipFill>
          <a:blip r:embed="rId1"/>
          <a:stretch/>
        </p:blipFill>
        <p:spPr>
          <a:xfrm>
            <a:off x="0" y="216000"/>
            <a:ext cx="8640720" cy="40320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7"/>
          <p:cNvSpPr/>
          <p:nvPr/>
        </p:nvSpPr>
        <p:spPr>
          <a:xfrm>
            <a:off x="181080" y="4535640"/>
            <a:ext cx="8280360" cy="65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大家看了，都吓得两脚发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哇，好可怕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好凶恶的脸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还会喷水呢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181080" y="5472000"/>
            <a:ext cx="8280360" cy="350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大家一听鲸鱼是可以吃的，个个又鼓起了勇气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既然是可以吃的鱼，当然要抓了。再怎么说，我们是渔夫啊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粗宋简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5" descr=""/>
          <p:cNvPicPr/>
          <p:nvPr/>
        </p:nvPicPr>
        <p:blipFill>
          <a:blip r:embed="rId1"/>
          <a:stretch/>
        </p:blipFill>
        <p:spPr>
          <a:xfrm>
            <a:off x="641520" y="1123920"/>
            <a:ext cx="4478040" cy="51404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6"/>
          <p:cNvSpPr/>
          <p:nvPr/>
        </p:nvSpPr>
        <p:spPr>
          <a:xfrm>
            <a:off x="5722920" y="216000"/>
            <a:ext cx="2738520" cy="777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鲸鱼不是鱼，是哺乳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……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宋简体"/>
              </a:rPr>
              <a:t>不过，老先生的话，谁也没听进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8640720" cy="6470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"/>
          <p:cNvPicPr/>
          <p:nvPr/>
        </p:nvPicPr>
        <p:blipFill>
          <a:blip r:embed="rId2"/>
          <a:stretch/>
        </p:blipFill>
        <p:spPr>
          <a:xfrm>
            <a:off x="0" y="2627280"/>
            <a:ext cx="1476360" cy="38527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9"/>
          <p:cNvSpPr/>
          <p:nvPr/>
        </p:nvSpPr>
        <p:spPr>
          <a:xfrm>
            <a:off x="2556000" y="4824360"/>
            <a:ext cx="1765080" cy="1187640"/>
          </a:xfrm>
          <a:prstGeom prst="wedgeRoundRectCallout">
            <a:avLst>
              <a:gd name="adj1" fmla="val -85671"/>
              <a:gd name="adj2" fmla="val -715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200" spc="-1" strike="noStrike">
                <a:solidFill>
                  <a:srgbClr val="3333ff"/>
                </a:solidFill>
                <a:latin typeface="Arial"/>
                <a:ea typeface="方正少儿简体"/>
              </a:rPr>
              <a:t>鲸鱼是世界上最大的哺乳动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8640720" cy="6470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"/>
          <p:cNvPicPr/>
          <p:nvPr/>
        </p:nvPicPr>
        <p:blipFill>
          <a:blip r:embed="rId2"/>
          <a:stretch/>
        </p:blipFill>
        <p:spPr>
          <a:xfrm>
            <a:off x="0" y="2627280"/>
            <a:ext cx="1476360" cy="385272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6"/>
          <p:cNvSpPr/>
          <p:nvPr/>
        </p:nvSpPr>
        <p:spPr>
          <a:xfrm>
            <a:off x="1728720" y="5472000"/>
            <a:ext cx="2411640" cy="720720"/>
          </a:xfrm>
          <a:prstGeom prst="wedgeRoundRectCallout">
            <a:avLst>
              <a:gd name="adj1" fmla="val -47004"/>
              <a:gd name="adj2" fmla="val -1245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pPr algn="ct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方正少儿简体"/>
              </a:rPr>
              <a:t>鲸鱼不是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8:36:07Z</dcterms:created>
  <dc:creator>新教育</dc:creator>
  <dc:description/>
  <dc:language>en-US</dc:language>
  <cp:lastModifiedBy>User</cp:lastModifiedBy>
  <dcterms:modified xsi:type="dcterms:W3CDTF">2015-07-18T03:17:27Z</dcterms:modified>
  <cp:revision>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