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25.jpeg" ContentType="image/jpeg"/>
  <Override PartName="/ppt/media/image30.jpeg" ContentType="image/jpeg"/>
  <Override PartName="/ppt/media/image31.png" ContentType="image/png"/>
  <Override PartName="/ppt/media/image5.png" ContentType="image/png"/>
  <Override PartName="/ppt/media/image29.jpeg" ContentType="image/jpeg"/>
  <Override PartName="/ppt/media/image28.png" ContentType="image/png"/>
  <Override PartName="/ppt/media/image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EEB-17AB-4EB6-8FEF-95978CD9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1A4-1AD1-4162-8F31-4876C6B1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80C-DB2C-4AD9-8F14-D3145131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032-71F0-4CFE-8916-9C0C976C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2A0-ED13-4B08-9727-A0C20515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5DD-3306-4260-801B-A8950CB7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158-6F97-4F77-874E-556F0DAE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ED0-624A-431E-8057-E5800168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C42-DFBC-4FDF-888B-386D3A1A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642-2FB8-4AE7-960E-25EB82B7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00C-A411-4FBA-BE4C-1B741739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7B2-93AD-4F69-A987-5540FB12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7DF2-64EF-4D0C-BE1E-176B0FC5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291D-06E9-4049-A9B3-326BA2B5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65C5-C6D0-4898-BEE8-360A8E65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AB4F-4765-42A0-BA26-13B01045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FC35-E561-40D0-B159-E8E1BE06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5D43-4833-4C78-9162-F8DDD3F0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0CCF-5755-4111-A414-368C990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C8AA-194B-42BE-B556-51C8F32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644A-DD80-429A-B239-77AA0B6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CF22-BBC1-4FAC-B064-AABDEA96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C127-D77E-4E78-9188-3BA0B235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84E-602B-4B12-A61F-CE0900A1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1396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1600" y="114264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6632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1396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1600" y="337140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6120" y="337140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14264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37140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peedoSS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57600" y="2819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peedoSSi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peedoSS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peedoSS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SpeedoSSi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SpeedoSS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peedoSS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SpeedoSSi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SpeedoSS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peedoSS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SpeedoSSi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SpeedoSS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peedoSS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SpeedoSS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SpeedoSS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peedoSS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SpeedoSS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SpeedoSS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peedoSS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SpeedoSS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847C-E7CB-4C41-B6C0-E709930F5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1066680"/>
            <a:ext cx="6629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448840" y="0"/>
            <a:ext cx="69516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458200" y="0"/>
            <a:ext cx="0" cy="6858000"/>
          </a:xfrm>
          <a:prstGeom prst="line">
            <a:avLst/>
          </a:prstGeom>
          <a:ln w="57240">
            <a:solidFill>
              <a:srgbClr val="850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162920" y="5181480"/>
            <a:ext cx="3047760" cy="236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0967-7C21-4EBA-8D78-91FC3CAB72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2133720"/>
            <a:ext cx="6324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" name=""/>
          <p:cNvSpPr/>
          <p:nvPr/>
        </p:nvSpPr>
        <p:spPr>
          <a:xfrm>
            <a:off x="7174080" y="6124680"/>
            <a:ext cx="1591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0960" y="658332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1AFAECE-C40C-46DD-A4F0-E036CBA4C60A}" type="slidenum">
              <a:rPr b="0" lang="zh-CN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zh-CN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zh-CN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zh-CN" sz="900" spc="-1" strike="noStrike">
                <a:solidFill>
                  <a:srgbClr val="000000"/>
                </a:solidFill>
                <a:latin typeface="Rotis Sans Serif for Nokia"/>
              </a:rPr>
              <a:t>NOKIA          FILENAMs.PPT/ DATE / N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23080" y="6502320"/>
            <a:ext cx="1139400" cy="201600"/>
            <a:chOff x="7723080" y="6502320"/>
            <a:chExt cx="1139400" cy="201600"/>
          </a:xfrm>
        </p:grpSpPr>
        <p:sp>
          <p:nvSpPr>
            <p:cNvPr id="167" name=""/>
            <p:cNvSpPr/>
            <p:nvPr/>
          </p:nvSpPr>
          <p:spPr>
            <a:xfrm>
              <a:off x="7723080" y="6504120"/>
              <a:ext cx="2577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68120" y="6504120"/>
              <a:ext cx="5544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23560" y="6504120"/>
              <a:ext cx="18756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21560" y="6504120"/>
              <a:ext cx="5688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88520" y="6504120"/>
              <a:ext cx="27396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4240" y="6502320"/>
              <a:ext cx="24012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zh-CN" sz="24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12600" y="-1440"/>
            <a:ext cx="9163080" cy="6850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Rotis Sans Serif for Nokia"/>
                <a:ea typeface="隶书"/>
              </a:rPr>
              <a:t>争分夺秒   我们有能力做得更好</a:t>
            </a:r>
            <a:endParaRPr b="1" lang="en-US" sz="4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8" name=""/>
          <p:cNvSpPr/>
          <p:nvPr/>
        </p:nvSpPr>
        <p:spPr>
          <a:xfrm>
            <a:off x="5508720" y="4292640"/>
            <a:ext cx="335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隶书"/>
                <a:ea typeface="隶书"/>
              </a:rPr>
              <a:t>加油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8690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高三（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1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）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341360"/>
            <a:ext cx="41403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目标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同学们介绍自己的理想中的城市或大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229360"/>
            <a:ext cx="8915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带着这些梦想，我们一定会越飞越稳，越飞越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听很激动 想想很冲动 过后一动不动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557360"/>
            <a:ext cx="63356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ae00"/>
                </a:solidFill>
                <a:latin typeface="Arial"/>
                <a:ea typeface="隶书"/>
              </a:rPr>
              <a:t>人的潜能是无限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ae00"/>
                </a:solidFill>
                <a:latin typeface="Arial"/>
                <a:ea typeface="隶书"/>
              </a:rPr>
              <a:t>你有多大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ae00"/>
                </a:solidFill>
                <a:latin typeface="Arial"/>
                <a:ea typeface="隶书"/>
              </a:rPr>
              <a:t>就会有多大收获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280" y="1628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SpeedoSSi"/>
                <a:ea typeface="华文行楷"/>
              </a:rPr>
              <a:t>大家都有自己的弱项怎么办？</a:t>
            </a:r>
            <a:endParaRPr b="0" lang="en-US" sz="40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SpeedoSSi"/>
                <a:ea typeface="华文行楷"/>
              </a:rPr>
              <a:t>你有足够的信心吗？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SpeedoSSi"/>
                <a:ea typeface="华文行楷"/>
              </a:rPr>
              <a:t>你都有那些困难呢</a:t>
            </a:r>
            <a:r>
              <a:rPr b="0" lang="zh-CN" sz="3600" spc="-1" strike="noStrike">
                <a:solidFill>
                  <a:srgbClr val="000000"/>
                </a:solidFill>
                <a:latin typeface="SpeedoSSi"/>
                <a:ea typeface="华文行楷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SpeedoSSi"/>
                <a:ea typeface="华文行楷"/>
              </a:rPr>
              <a:t>大家都来说说看～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37" name=""/>
          <p:cNvSpPr/>
          <p:nvPr/>
        </p:nvSpPr>
        <p:spPr>
          <a:xfrm>
            <a:off x="477360" y="549360"/>
            <a:ext cx="28044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行动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5407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全力以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绝不能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尽力而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要做行动的巨人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SpeedoSSi"/>
              <a:ea typeface="宋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743200" y="220932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SpeedoSSi"/>
              <a:ea typeface="宋体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692280"/>
            <a:ext cx="66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行动未必带来快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但不行动却一定不快乐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4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peedoSSi"/>
                <a:ea typeface="宋体"/>
              </a:rPr>
              <a:t>不论你的行动是不是现在开始的</a:t>
            </a:r>
            <a:r>
              <a:rPr b="1" lang="zh-CN" sz="3600" spc="-1" strike="noStrike">
                <a:solidFill>
                  <a:srgbClr val="000000"/>
                </a:solidFill>
                <a:latin typeface="SpeedoSSi"/>
                <a:ea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SpeedoSSi"/>
                <a:ea typeface="宋体"/>
              </a:rPr>
              <a:t>重要的是开始以后就不要停止</a:t>
            </a:r>
            <a:r>
              <a:rPr b="1" lang="zh-CN" sz="3600" spc="-1" strike="noStrike">
                <a:solidFill>
                  <a:srgbClr val="000000"/>
                </a:solidFill>
                <a:latin typeface="SpeedoSSi"/>
                <a:ea typeface="宋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435640" y="2204640"/>
            <a:ext cx="3068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peedoSSi"/>
                <a:ea typeface="宋体"/>
              </a:rPr>
              <a:t>大爷，你别看我年龄小，其实我总结了</a:t>
            </a:r>
            <a:r>
              <a:rPr b="1" lang="zh-CN" sz="2800" spc="-1" strike="noStrike">
                <a:solidFill>
                  <a:srgbClr val="000000"/>
                </a:solidFill>
                <a:latin typeface="SpeedoSSi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SpeedoSSi"/>
                <a:ea typeface="宋体"/>
              </a:rPr>
              <a:t>高三可短暂了</a:t>
            </a:r>
            <a:r>
              <a:rPr b="1" lang="zh-CN" sz="2800" spc="-1" strike="noStrike">
                <a:solidFill>
                  <a:srgbClr val="000000"/>
                </a:solidFill>
                <a:latin typeface="SpeedoSS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SpeedoSSi"/>
                <a:ea typeface="宋体"/>
              </a:rPr>
              <a:t>又是一项和睡觉是一样一样的。眼一闭一睁大一就到了哈奥</a:t>
            </a:r>
            <a:r>
              <a:rPr b="1" lang="zh-CN" sz="2800" spc="-1" strike="noStrike">
                <a:solidFill>
                  <a:srgbClr val="000000"/>
                </a:solidFill>
                <a:latin typeface="SpeedoSSi"/>
                <a:ea typeface="宋体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4321080" cy="511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4000" y="4365720"/>
            <a:ext cx="75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c0128"/>
                </a:solidFill>
                <a:latin typeface="Arial"/>
                <a:ea typeface="楷体_GB2312"/>
              </a:rPr>
              <a:t>我们应该怎样提高复习效率呢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404640"/>
            <a:ext cx="39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四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效率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68600" cy="2519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859280" y="1916280"/>
            <a:ext cx="309564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......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仅有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18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天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e"/>
            </a:gs>
            <a:gs pos="100000">
              <a:srgbClr val="646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0" y="1628640"/>
            <a:ext cx="7620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一、向和谐要效率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9944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 </a:t>
            </a:r>
            <a:r>
              <a:rPr b="1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向和谐的师生关系要效率。</a:t>
            </a:r>
            <a:r>
              <a:rPr b="0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 </a:t>
            </a:r>
            <a:r>
              <a:rPr b="0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-----</a:t>
            </a:r>
            <a:r>
              <a:rPr b="0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朋友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  </a:t>
            </a:r>
            <a:r>
              <a:rPr b="1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向和谐的同学关系要效率。</a:t>
            </a:r>
            <a:r>
              <a:rPr b="0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 </a:t>
            </a:r>
            <a:r>
              <a:rPr b="0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-----</a:t>
            </a:r>
            <a:r>
              <a:rPr b="0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战友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fc0128"/>
                </a:solidFill>
                <a:latin typeface="Rotis Sans Serif for Nokia"/>
                <a:ea typeface="宋体"/>
              </a:rPr>
              <a:t>没有克服不了的困难，没有过不去的火焰山，没有荡平不了的荆棘路。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400536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128"/>
                </a:solidFill>
                <a:latin typeface="Times New Roman"/>
              </a:rPr>
              <a:t>高三的爱情可信度是</a:t>
            </a:r>
            <a:r>
              <a:rPr b="1" lang="zh-CN" sz="2800" spc="-1" strike="noStrike">
                <a:solidFill>
                  <a:srgbClr val="fc0128"/>
                </a:solidFill>
                <a:latin typeface="Times New Roman"/>
              </a:rPr>
              <a:t>0~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128"/>
                </a:solidFill>
                <a:latin typeface="Times New Roman"/>
              </a:rPr>
              <a:t>杀伤力指数</a:t>
            </a:r>
            <a:r>
              <a:rPr b="1" lang="zh-CN" sz="2800" spc="-1" strike="noStrike">
                <a:solidFill>
                  <a:srgbClr val="fc0128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★★★★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SpeedoSSi"/>
              <a:ea typeface="宋体"/>
            </a:endParaRPr>
          </a:p>
        </p:txBody>
      </p:sp>
      <p:pic>
        <p:nvPicPr>
          <p:cNvPr id="210" name="" descr="秦皇岛：学生与家长高考第一天两种心态(组图)"/>
          <p:cNvPicPr/>
          <p:nvPr/>
        </p:nvPicPr>
        <p:blipFill>
          <a:blip r:embed="rId2"/>
          <a:stretch/>
        </p:blipFill>
        <p:spPr>
          <a:xfrm>
            <a:off x="1187280" y="836640"/>
            <a:ext cx="7272360" cy="554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755640" y="765000"/>
            <a:ext cx="6553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向时间要效率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向两个“</a:t>
            </a: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分钟”要效率。</a:t>
            </a:r>
            <a:r>
              <a:rPr b="0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坚决杜绝“三闲” 现象</a:t>
            </a:r>
            <a:r>
              <a:rPr b="0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【闲聊、 闲玩、闲逛】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失三分钟者失课堂   闲来闲去失前程。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7" name=""/>
          <p:cNvSpPr/>
          <p:nvPr/>
        </p:nvSpPr>
        <p:spPr>
          <a:xfrm>
            <a:off x="3059280" y="5013360"/>
            <a:ext cx="30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5+2=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587700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天的学习加上两天的放松相当于白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zh-CN" sz="24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765000"/>
            <a:ext cx="6553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、向榜样要效率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515736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迟钝的力量</a:t>
            </a:r>
            <a:r>
              <a:rPr b="1" lang="zh-CN" sz="32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从容面对挫折和伤痛坚定的朝着自己的目标前进</a:t>
            </a:r>
            <a:r>
              <a:rPr b="1" lang="zh-CN" sz="32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用心学习用脑子思考没有弯弯肠子</a:t>
            </a:r>
            <a:r>
              <a:rPr b="1" lang="zh-CN" sz="32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3743280" cy="476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四、 向主动思考要效率。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五、 向试卷、笔记、高考题、改错本要效率。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六、 向自信要效率。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七、 向自我管理要效率。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Rotis Sans Serif for Nokia"/>
                <a:ea typeface="宋体"/>
              </a:rPr>
              <a:t>八、 向良好的心态要效率。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780000" y="5516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128"/>
                </a:solidFill>
                <a:latin typeface="Times New Roman"/>
              </a:rPr>
              <a:t>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76720" y="406440"/>
            <a:ext cx="295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脚踏实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奋力拼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敢立壮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誓夺第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一班学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潜力无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亮剑高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Comic Sans MS"/>
              </a:rPr>
              <a:t>我要成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47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宣誓誓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2388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>
              <a:lnSpc>
                <a:spcPct val="80000"/>
              </a:lnSpc>
              <a:spcBef>
                <a:spcPts val="901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华文行楷"/>
              </a:rPr>
              <a:t>祝大家笑到最后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>
              <a:lnSpc>
                <a:spcPct val="80000"/>
              </a:lnSpc>
              <a:spcBef>
                <a:spcPts val="1199"/>
              </a:spcBef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cript MT Bold"/>
                <a:ea typeface="华文行楷"/>
              </a:rPr>
              <a:t>期待着六月的辉煌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148428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0" y="3981600"/>
            <a:ext cx="3838680" cy="2876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627280" y="4869000"/>
            <a:ext cx="65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peedoSSi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SpeedoSSi"/>
                <a:ea typeface="楷体_GB2312"/>
              </a:rPr>
              <a:t>—— </a:t>
            </a:r>
            <a:r>
              <a:rPr b="1" lang="zh-CN" sz="3200" spc="-1" strike="noStrike">
                <a:solidFill>
                  <a:srgbClr val="0000ff"/>
                </a:solidFill>
                <a:latin typeface="SpeedoSSi"/>
                <a:ea typeface="楷体_GB2312"/>
              </a:rPr>
              <a:t>高三（</a:t>
            </a:r>
            <a:r>
              <a:rPr b="1" lang="zh-CN" sz="3200" spc="-1" strike="noStrike">
                <a:solidFill>
                  <a:srgbClr val="0000ff"/>
                </a:solidFill>
                <a:latin typeface="SpeedoSSi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SpeedoSSi"/>
                <a:ea typeface="楷体_GB2312"/>
              </a:rPr>
              <a:t>）班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主题班会</a:t>
            </a:r>
            <a:endParaRPr b="0" lang="en-US" sz="3200" spc="-1" strike="noStrike">
              <a:solidFill>
                <a:srgbClr val="ffffff"/>
              </a:solidFill>
              <a:latin typeface="SpeedoSS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peedoSSi"/>
                <a:ea typeface="宋体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SpeedoSSi"/>
            </a:endParaRPr>
          </a:p>
        </p:txBody>
      </p:sp>
      <p:sp>
        <p:nvSpPr>
          <p:cNvPr id="212" name=""/>
          <p:cNvSpPr txBox="1"/>
          <p:nvPr/>
        </p:nvSpPr>
        <p:spPr>
          <a:xfrm rot="5400000">
            <a:off x="-1522440" y="2422440"/>
            <a:ext cx="6356520" cy="151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solidFill>
                  <a:srgbClr val="00cc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用激情去缔造成功</a:t>
            </a:r>
            <a:endParaRPr b="1" lang="en-US" sz="60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solidFill>
                <a:srgbClr val="00cc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484360" y="0"/>
            <a:ext cx="530388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拼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11280" y="260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动机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126828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1977</a:t>
            </a: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年恢复高考：国家命运的转变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【旁白】“我考大学，没有豪言壮语，什么铁肩担道义、为中华之崛起而读书，我不是那样想的，就是一般工作太脏、太累、太艰苦了，想要改变现状。”在</a:t>
            </a: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1977</a:t>
            </a: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年，这是一代人最真实、最强烈的想法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40,1,-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908000" y="189000"/>
            <a:ext cx="63374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莱芜市莱商银行招聘公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、应聘条件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１．具有良好的思想道德修养和强烈的事业心、责任心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２．身体健康，能胜任正常工作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３．品行端正，无不良行为记录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４．服从工作分配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５．具备以下条件中的任意一条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fc0128"/>
                </a:solidFill>
                <a:latin typeface="Times New Roman"/>
              </a:rPr>
              <a:t>（１）全国“２１１工程”学校２００９年全日制应届本科及以上毕业生，专业不限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（２）山东财政学院、山东经济学院、山东师范大学、青岛大学、济南大学、曲阜师范大学、山东农业大学、山东科技大学八所院校的２００９年全日制应届本科及以上毕业生，专业限定为：金融、财会、经济管理、计算机、文秘、法律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备注：上述院校的毕业生必须是本科二批（含）及以上的录取批次，</a:t>
            </a:r>
            <a:r>
              <a:rPr b="1" lang="zh-CN" sz="2000" spc="-1" strike="noStrike">
                <a:solidFill>
                  <a:srgbClr val="fc0128"/>
                </a:solidFill>
                <a:latin typeface="Times New Roman"/>
              </a:rPr>
              <a:t>不包括专升本毕业生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二、报名时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报名日期截止２００９年８月１６日，以邮寄当地邮戳日期为准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zh-CN" sz="24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zh-CN" sz="24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zh-CN" sz="36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29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zh-CN" sz="2400" spc="-1" strike="noStrike">
              <a:solidFill>
                <a:srgbClr val="000000"/>
              </a:solidFill>
              <a:latin typeface="Rotis Sans Serif for Nokia"/>
              <a:ea typeface="宋体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2:31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5-05-05T07:26:41Z</dcterms:modified>
  <cp:revision>248</cp:revision>
  <dc:subject>主题班会课件(分28大类): http://shop62905894.taobao.com</dc:subject>
  <dc:title>主题班会课件(分28大类): http://shop62905894.taobao.com</dc:title>
</cp:coreProperties>
</file>