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0D7-9DF2-4F52-BD62-BA9E00D5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A1D-9A9D-4459-B2E4-B13964E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783-1EE9-454D-9DBF-1B5EB142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7A3-6967-4412-AA9A-3B702459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0D45-6960-4BBD-B85B-B899D7FA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65F7-A3C6-4BA6-940E-AA49F89D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A0B8-BEEB-4C4D-A430-2A9FA888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F8CD-19B3-49BB-A993-3C618678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1F1A-6D4E-4E7D-AEF3-1FE4150B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FE1D-1E6D-461D-BEEA-67349341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36A0-B1EE-46B7-BFAA-37406031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AEB-DF0B-4AA5-9D18-CF275C79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CA87-8419-45BB-B0DF-58113DA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D92A-C263-4E02-9470-60E4DD3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63B3-20CE-4F8B-B5A2-F1F3EA9F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1DA1-1C48-4516-8E69-5C9B1842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0BBD-5107-4BFF-BBD9-A7DFEEB3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9A7E1-90E1-497F-94E8-25C5D2C8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CF8E-FC0E-4F44-A7AD-222DE1C3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DBD04-4198-4663-8978-5426FDE6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244A-9369-41FB-8BD8-C6FA3993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5200-F7DC-4E70-83CB-CFECB0ED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E99-C7B5-40C9-8887-ABCBEABE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82F8A-75C2-4051-B4F1-78A3AE47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3094-908C-41CF-AD38-4CC6BFE6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BAA40-B8E5-4704-A533-40AFAFBF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8272-9EC0-4BF3-87E5-D22EAFFA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B714-A8CF-4784-BD85-830E91E4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D8C2-509C-4088-A1E9-7CA90FE1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A919-04A3-4C99-9727-316F0287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8951-2879-4DCE-81D5-B828B9EB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0C0C-946F-4EE9-A3E1-593704CF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3F9F-4110-4A3D-90AD-0D72B580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473-17D0-435C-B50F-6798E421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4B7F-10D9-4AFF-96E3-DFDF2BF6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5710-0ADC-4966-B2A8-730BB753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3511-2459-404D-A525-A5835783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25C71-8630-4DE1-A6CC-BFE1491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65431-D933-43EF-B58B-F8365C4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8399-E425-4E84-AE48-D201EBE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0F64-3D99-44B7-8280-1D463586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1D4E6-C4CD-4B64-89C3-AAA78176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0D97-CD49-4331-A42F-304C939C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C98-42F4-450E-B7FC-868A7145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6A9-015A-4A15-9B55-C441B7D0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2C1-E6BD-4EE5-A347-7ED0050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EF3-06BD-4086-B568-587BEF6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6ED-2FEC-43E8-9F06-3E16BE64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CEA4-EE64-4276-AB1E-0BB3708D63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D649-5F3C-4F88-8C99-9700AFD956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CCC0-6CD8-46B0-BDFD-A162D1260D0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EF95-21EC-4EB9-9042-2AAAC5C0B9C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340000" y="155736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华文楷体"/>
                <a:ea typeface="华文楷体"/>
              </a:rPr>
              <a:t>故  乡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350028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 </a:t>
            </a:r>
            <a:r>
              <a:rPr b="1" lang="zh-CN" sz="6000" spc="-1" strike="noStrike">
                <a:solidFill>
                  <a:srgbClr val="ffff00"/>
                </a:solidFill>
                <a:latin typeface="华文楷体"/>
                <a:ea typeface="华文楷体"/>
              </a:rPr>
              <a:t>鲁迅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90792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2f1311"/>
                </a:solidFill>
                <a:latin typeface="Arial"/>
                <a:ea typeface="华文新魏"/>
              </a:rPr>
              <a:t>小说以“我”的行踪（回故乡、在故乡、离故乡）为经，以“我”的见闻、感受为纬，逐步展开情节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33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f1311"/>
                </a:solidFill>
                <a:latin typeface="Arial"/>
                <a:ea typeface="华文行楷"/>
              </a:rPr>
              <a:t>故事情节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42920" y="220500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方正姚体"/>
              </a:rPr>
              <a:t>回故乡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f1311"/>
                </a:solidFill>
                <a:latin typeface="Arial"/>
                <a:ea typeface="方正姚体"/>
              </a:rPr>
              <a:t>1-5</a:t>
            </a:r>
            <a:r>
              <a:rPr b="1" lang="zh-CN" sz="1800" spc="-1" strike="noStrike">
                <a:solidFill>
                  <a:srgbClr val="2f1311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84360" y="213372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27280" y="19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回乡时间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700360" y="24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回乡原因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00360" y="29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所见景象及心情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4005360"/>
            <a:ext cx="1368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方正姚体"/>
              </a:rPr>
              <a:t>在故乡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f1311"/>
                </a:solidFill>
                <a:latin typeface="Arial"/>
                <a:ea typeface="方正姚体"/>
              </a:rPr>
              <a:t>6-77</a:t>
            </a:r>
            <a:r>
              <a:rPr b="1" lang="zh-CN" sz="1800" spc="-1" strike="noStrike">
                <a:solidFill>
                  <a:srgbClr val="2f1311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84360" y="4076640"/>
            <a:ext cx="73080" cy="115272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56000" y="378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到家那天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11640" y="3573360"/>
            <a:ext cx="73080" cy="8654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84360" y="4581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过了三四天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56000" y="501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又过了九天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16000" y="558972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方正姚体"/>
              </a:rPr>
              <a:t>离故乡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f1311"/>
                </a:solidFill>
                <a:latin typeface="Arial"/>
                <a:ea typeface="方正姚体"/>
              </a:rPr>
              <a:t>78</a:t>
            </a:r>
            <a:r>
              <a:rPr b="1" lang="zh-CN" sz="1800" spc="-1" strike="noStrike">
                <a:solidFill>
                  <a:srgbClr val="2f1311"/>
                </a:solidFill>
                <a:latin typeface="Arial"/>
                <a:ea typeface="方正姚体"/>
              </a:rPr>
              <a:t>段</a:t>
            </a:r>
            <a:r>
              <a:rPr b="1" lang="zh-CN" sz="1800" spc="-1" strike="noStrike">
                <a:solidFill>
                  <a:srgbClr val="2f1311"/>
                </a:solidFill>
                <a:latin typeface="Arial"/>
                <a:ea typeface="方正姚体"/>
              </a:rPr>
              <a:t>-</a:t>
            </a:r>
            <a:r>
              <a:rPr b="1" lang="zh-CN" sz="1800" spc="-1" strike="noStrike">
                <a:solidFill>
                  <a:srgbClr val="2f1311"/>
                </a:solidFill>
                <a:latin typeface="Arial"/>
                <a:ea typeface="方正姚体"/>
              </a:rPr>
              <a:t>结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573408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00360" y="566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船上谈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609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我”的感受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5600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母子见面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27640" y="37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回忆少年闰土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560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见到杨二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2764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见到了闰土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27640" y="501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动身启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6728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严寒的冬天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67280" y="242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卖屋、搬家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9272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华文新魏"/>
              </a:rPr>
              <a:t>萧索、悲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-38880" y="2276640"/>
            <a:ext cx="911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方正姚体"/>
              </a:rPr>
              <a:t>开端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84960" y="3645000"/>
            <a:ext cx="911880" cy="16556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方正姚体"/>
              </a:rPr>
              <a:t>发展与高潮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-38880" y="5734080"/>
            <a:ext cx="91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1311"/>
                </a:solidFill>
                <a:latin typeface="Arial"/>
                <a:ea typeface="方正姚体"/>
              </a:rPr>
              <a:t>结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77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77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770" fill="hold"/>
                                        <p:tgtEl>
                                          <p:spTgt spid="3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1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3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77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770" fill="hold"/>
                                        <p:tgtEl>
                                          <p:spTgt spid="3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77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77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967280" y="126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十一二岁  紫色圆脸   毡帽、银项圈   红活圆实的手 健康壮实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18240" y="2924280"/>
            <a:ext cx="2692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活泼刚健  动作利落  有智有勇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语言朴质生动    热情纯真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03480" y="450864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友好热情   纯真平等友谊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70080" y="5661000"/>
            <a:ext cx="20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热爱生活 生活知识丰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天真活泼   无忧无虑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0836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80000" y="31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19640" y="44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我的态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580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生活的态度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19640" y="333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少年闰土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6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6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6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219640" y="1197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脸色灰黄   皱纹深  极薄的棉衣  眼肿得通红  破毡帽  手粗笨开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97160" y="27813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说话吞吞吐吐    只是摇头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谦恭又含糊     迟钝麻木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58000" y="450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恭恭敬敬    呼“我”老爷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4160" y="580536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悲哀痛苦    寄托神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4312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19640" y="3068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2720" y="450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我的态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10480" y="5734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生活的态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92720" y="2602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中年闰土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6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6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6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6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6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6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068720" y="476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闰土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35280" y="62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少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59640" y="62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中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75280" y="1268280"/>
            <a:ext cx="144360" cy="3529080"/>
          </a:xfrm>
          <a:custGeom>
            <a:avLst/>
            <a:gdLst>
              <a:gd name="textAreaLeft" fmla="*/ 92160 w 144360"/>
              <a:gd name="textAreaRight" fmla="*/ 144360 w 14436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行楷"/>
              </a:rPr>
              <a:t>人物形象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56000" y="1268280"/>
            <a:ext cx="144720" cy="3529080"/>
          </a:xfrm>
          <a:custGeom>
            <a:avLst/>
            <a:gdLst>
              <a:gd name="textAreaLeft" fmla="*/ 92520 w 144720"/>
              <a:gd name="textAreaRight" fmla="*/ 145080 w 1447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21"/>
                </a:lnTo>
                <a:cubicBezTo>
                  <a:pt x="10800" y="10021"/>
                  <a:pt x="5400" y="10921"/>
                  <a:pt x="0" y="10921"/>
                </a:cubicBezTo>
                <a:cubicBezTo>
                  <a:pt x="5400" y="10921"/>
                  <a:pt x="10800" y="11821"/>
                  <a:pt x="10800" y="127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20320" y="2492280"/>
            <a:ext cx="1399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对比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126828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外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13372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动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21300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对“我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9290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对生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12682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十一二岁  紫色圆脸   毡帽、银项圈   红活圆实的手 健康壮实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16000" y="2205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活泼刚健  动作利落  有智有勇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语言朴质生动    热情纯真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32000" y="3357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友好热情   纯真平等友谊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76360" y="4076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热爱生活 生活知识丰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天真活泼   无忧无虑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64000" y="119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脸色灰黄   皱纹深  极薄的棉衣  眼肿得通红  破毡帽  手粗笨开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37080" y="2205000"/>
            <a:ext cx="32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说话吞吞吐吐    只是摇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谦恭又含糊     迟钝麻木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08720" y="3357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恭恭敬敬    呼“我”老爷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8000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悲哀痛苦    寄托神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763640" y="4689360"/>
            <a:ext cx="6264360" cy="611280"/>
            <a:chOff x="1763640" y="4689360"/>
            <a:chExt cx="6264360" cy="611280"/>
          </a:xfrm>
        </p:grpSpPr>
        <p:sp>
          <p:nvSpPr>
            <p:cNvPr id="409" name=""/>
            <p:cNvSpPr/>
            <p:nvPr/>
          </p:nvSpPr>
          <p:spPr>
            <a:xfrm rot="16200000">
              <a:off x="4625640" y="1898280"/>
              <a:ext cx="540000" cy="6264360"/>
            </a:xfrm>
            <a:custGeom>
              <a:avLst/>
              <a:gdLst>
                <a:gd name="textAreaLeft" fmla="*/ 344880 w 540000"/>
                <a:gd name="textAreaRight" fmla="*/ 540360 w 540000"/>
                <a:gd name="textAreaTop" fmla="*/ 163080 h 6264360"/>
                <a:gd name="textAreaBottom" fmla="*/ 6101280 h 626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76"/>
                  </a:lnTo>
                  <a:cubicBezTo>
                    <a:pt x="10800" y="9976"/>
                    <a:pt x="5400" y="10876"/>
                    <a:pt x="0" y="10876"/>
                  </a:cubicBezTo>
                  <a:cubicBezTo>
                    <a:pt x="5400" y="10876"/>
                    <a:pt x="10800" y="11776"/>
                    <a:pt x="10800" y="1267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06560" y="4689360"/>
              <a:ext cx="295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131640" y="5516640"/>
            <a:ext cx="264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因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原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b8fcf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397400" y="11253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多子、饥荒、苛税、兵、匪、官、绅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08600" y="177336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社会落后愚昧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20120" y="2492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帝国主义侵略、封建社会制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68360" y="333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闰土变化的原因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6360" y="1197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413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面原因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6370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深层原因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640" y="378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闰土的遭遇正是当时广大受压迫、受剥削农民的具体写照。作者塑造这一形象的目的，也就在于揭示帝国主义、封建社会双重压迫给中国人民带来的灾害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隶书"/>
              </a:rPr>
              <a:t>杨二嫂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5600" y="1036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外貌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5600" y="256068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语言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051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9280" y="4846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动作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55960" y="1341360"/>
            <a:ext cx="44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凸颧骨、薄嘴唇、圆规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50920" y="2809800"/>
            <a:ext cx="6050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哈、这模样了，胡子这么长了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认识么，我还抱过你呢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忘了？这可真贵人眼高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阿呀呀，你放了道台了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14880" y="134136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尖酸刻薄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66680" y="2781360"/>
            <a:ext cx="13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刁蛮无理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15360" y="321300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拉关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3200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讽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51880" y="414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无中生有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73080" y="5079960"/>
            <a:ext cx="252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慢慢向外走，顺便将我母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亲的一幅手套塞在裤腰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02920" y="537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贪小便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50920" y="26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人物分析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141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闰土：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98560" y="1197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个勤劳善良，质朴老实，痛苦麻木，但不觉悟的农民形象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092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二嫂：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63640" y="314172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个贪婪、尖刻、鄙俗，自私庸俗的小市民典型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49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：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19280" y="5013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个对现实不满正在追求进步的知识分子形象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08000" y="2060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哀其不幸，怒其不争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08000" y="371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既可恨、可鄙又可怜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692360" y="544500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寄希望于未来，却又对前途感到渺茫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835280" y="256536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揭示帝国主义、封建社会给中国人民带来的灾害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19280" y="429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在三座大山压榨下乡镇小市民也逃不了日益贫困的厄运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63640" y="58770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串联全文。（故乡及故乡人的变化都是通过“我”的观察与感受表现出来的。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2133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789360"/>
            <a:ext cx="205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544500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263700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365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5950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77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7" dur="770" fill="hold"/>
                                        <p:tgtEl>
                                          <p:spTgt spid="4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9" dur="77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1" dur="77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4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8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155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1" dur="1155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3" dur="1155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5" dur="1155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504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景物描写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6160" y="1197000"/>
            <a:ext cx="70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段 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9280" y="22766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9200" y="3284640"/>
            <a:ext cx="79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7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8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4581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景物描写有力地渲染了气氛，烘托出了人物的思想感情。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1474920"/>
            <a:ext cx="49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60720" y="1268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幼圆"/>
              </a:rPr>
              <a:t>农村的衰败和悲凉的气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24000" y="234936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幼圆"/>
              </a:rPr>
              <a:t>明丽、五彩缤纷的图画和明朗愉快的气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08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幼圆"/>
              </a:rPr>
              <a:t>静谧的气氛，情景交融的意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4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24000" y="11592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写作特色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068640"/>
            <a:ext cx="125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照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58920" y="836640"/>
            <a:ext cx="7632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方正姚体"/>
              </a:rPr>
              <a:t>少年闰土和成年闰土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姚体"/>
              </a:rPr>
              <a:t>（农民命运的日益悲惨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方正姚体"/>
              </a:rPr>
              <a:t>我和闰土的关系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姚体"/>
              </a:rPr>
              <a:t>（封建等级的鸿沟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方正姚体"/>
              </a:rPr>
              <a:t>杨二嫂前后生活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姚体"/>
              </a:rPr>
              <a:t>（黑暗社会已病入膏肓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方正姚体"/>
              </a:rPr>
              <a:t>故乡情景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姚体"/>
              </a:rPr>
              <a:t>（每况愈下的中国农村经济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方正姚体"/>
              </a:rPr>
              <a:t>我和闰土的关系与宏儿水生的关系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方正姚体"/>
              </a:rPr>
              <a:t>（对未来生活的向往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4360" y="1125360"/>
            <a:ext cx="368280" cy="5256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20"/>
                </a:lnTo>
                <a:cubicBezTo>
                  <a:pt x="10800" y="10020"/>
                  <a:pt x="5400" y="10920"/>
                  <a:pt x="0" y="10920"/>
                </a:cubicBezTo>
                <a:cubicBezTo>
                  <a:pt x="5400" y="10920"/>
                  <a:pt x="10800" y="11820"/>
                  <a:pt x="10800" y="12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5613480" y="3263760"/>
            <a:ext cx="3151080" cy="19796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5364000" y="765000"/>
            <a:ext cx="3384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6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6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6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0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80680" y="82440"/>
            <a:ext cx="191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语言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品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3664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920" y="12193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希望他们不再象我，又大家隔膜起来… 然而我又不愿意他们因为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一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如我的辛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展转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生活，也不愿意他们都如闰土的辛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麻木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生活，也不愿意都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别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辛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恣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生活。他们应该有新的生活，为我们所未经生活过的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40384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辛苦展转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像“我”那样异地谋生，到处奔波，生活不安定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辛苦麻木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像闰土那样在社会的重压下贫困艰辛，精神麻木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辛苦恣睢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像杨二嫂那样生活每况愈下而自私、尖刻、贪婪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全句表达了作者希望“应该有新生活”的强烈愿望 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5910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092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谈谈小说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90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华文琥珀"/>
              </a:rPr>
              <a:t>小说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19280" y="76500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以塑造人物为中心，通过完整的故事情节的叙述和环境的描写反映社会生活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205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华文琥珀"/>
              </a:rPr>
              <a:t>小说分类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198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97440" y="1700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新魏"/>
              </a:rPr>
              <a:t>长篇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744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新魏"/>
              </a:rPr>
              <a:t>中篇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97440" y="270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新魏"/>
              </a:rPr>
              <a:t>短篇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198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按篇幅长短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48360" y="227664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新魏"/>
              </a:rPr>
              <a:t>（小小说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49092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华文琥珀"/>
              </a:rPr>
              <a:t>小说三要素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24000" y="3429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人物、故事情节、环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22100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华文琥珀"/>
              </a:rPr>
              <a:t>人物塑造方法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24000" y="4221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外貌、语言、动作、心理。 （神态）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0846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华文彩云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华文琥珀"/>
              </a:rPr>
              <a:t>故事情节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3640" y="5084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开端、发展、高潮、结局。 （序幕、尾声）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0920" y="59500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华文琥珀"/>
              </a:rPr>
              <a:t>环境：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587700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63640" y="569736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6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6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6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6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闰土在海边时，他们都和我一样只看见院子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高墙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上的四角的天空。     我只觉得我四面有看不见的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高墙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，将我隔成孤身，使我非常气闷；那西瓜地上的银圈的小英雄的影像我本来十分清楚，现在却忽地模糊了，又使我非常的悲哀。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42609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个“高墙”是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实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第二个“高墙”是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是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比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指“我”与闰土之间隔着“厚障壁”，即封建意识、封建等级观念造成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膜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74880" y="55404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249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在蒙胧中，眼前展开一片海边碧绿的沙地来，上面深蓝的天空中挂着一轮金黄的圆月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1120" y="2001960"/>
            <a:ext cx="83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明“我”对希望的实现、新生活的到来充满了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坚定的信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929200" y="46926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435480"/>
            <a:ext cx="68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到希望，忽然害怕起来了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417996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是美好的，但 在黑暗的社会中要实现则困难重重，必须经过长期艰苦的奋斗，不然这“希望”也会成为“崇拜的偶像”了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89080" y="8366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现在我所谓希望，不也是我自己手制的偶像么？只是他的愿望切近，我的愿望茫远罢了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4000" y="2924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相对来说，闰土的改善生活的愿望实现起来容易 ，  而我的愿望是改变社会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反映我一方面有追求新生活的坚定信念，另一方面也感到希望的渺茫 。  当时的鲁迅并没有找到解决中国问题的具体的“路”，因而“我”对路的憧憬不免迷茫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66680" y="1592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6811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想：希望是本无所谓有，无所谓无的。这正如地上的路；其实地上 本没有路，走的人多了，也便成了路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8000" y="2771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段话强调了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践的意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有了希望不去实践，这种希望是无所谓有的；有了希望 并为之奋斗，希望定会实现。  希望 需要经过不懈的努力才 能实现。这个比喻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达了“我”追求新生活的坚定信念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304920"/>
            <a:ext cx="414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心思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1569960"/>
            <a:ext cx="91440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小说通过描写故乡和闰土、杨二嫂的前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后变化，反映了辛亥革命前后农村破产、农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民生活痛苦的社会现实；同时深刻揭示出封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传统对人民大众精神的束缚和影响，深切地抒发了作者对现实的强烈不满和对新生活的热切希望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2400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琥珀"/>
              </a:rPr>
              <a:t>思考题：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5280" y="1125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、作者在《故乡》中描写了三个“故乡”你知道是哪几个吗？作者重点写了那一个？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26920" y="2060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、文中的“水生”“宏儿”起到了什么作用？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6920" y="2637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、这篇小说的主题，有以下几种理解你赞同哪一种？为什么？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42920" y="363384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、人的生命和活力被扼杀了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、纯真的人性被扭曲了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、愚味、落后、贫穷的轮回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、渴望理想的人与人的关系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9640" y="333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1268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鲁迅：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1881—1936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）原名周树人，浙江绍兴人。我国现代伟大的文学家、思想家和革命家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1918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年第一次以“鲁迅”为笔名发表了中国现代文学史第一篇白话小说《狂人日记》，随后发表了《孔乙己》、《药》、《故乡》等，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1921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年发表了代表作《阿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正传》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643280" y="537372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主要作品集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404640"/>
            <a:ext cx="7848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小说集两部：《呐喊》（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1918—1922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）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《彷徨》（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1924—192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历史小说集一部：《故事新编》（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1922—193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散文集一部：《朝花夕拾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1928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原名《旧事重提》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散文诗集一部：《野草》（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1927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翻译作品：俄国作家果戈里的《死魂灵》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苏联作家法捷耶夫的《毁灭》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杂文集十六部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716360" y="162864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在初中我们学过他的作品有：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32000" y="414972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《从百草园到三味书屋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66920" y="45831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《社戏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66920" y="50864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《阿长与《山海经》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66920" y="55911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《鲁迅自传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86560" y="414972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幼圆"/>
              </a:rPr>
              <a:t>选自《朝花夕拾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86560" y="465444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幼圆"/>
              </a:rPr>
              <a:t>选自《呐喊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88000" y="51595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幼圆"/>
              </a:rPr>
              <a:t>选自《朝花夕拾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88000" y="56624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幼圆"/>
              </a:rPr>
              <a:t>选自《集外集拾遗补篇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771640" y="1125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辛亥革命后，封建王朝的专制政权是被推翻了，但代之而起的是地主阶级的军阀官僚的统治。帝国主义不但操纵了中国的财政和经济的命脉，而且 操纵了中国的政治和军事力量。由于这双重的压迫，中国的广大人民，尤其是农民，日益贫困化，他们过着饥寒交迫的和毫无政治权利的生活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 rot="5400000">
            <a:off x="-457200" y="2971800"/>
            <a:ext cx="4114800" cy="76176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写作背景介绍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7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小说写于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21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月，它的故事情节和主要人物，大多取材于真正的现实生活。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19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2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月初，鲁迅从北京 回故乡绍兴接母亲，亲眼看到故乡的破旧不堪和农民生活的贫困，百感交集，思绪万千，一年后就以这次经历为素材，创作了小说《故乡》。小说着重刻画了一个受尽当时社会摧残剥削的劳苦农民闰土的形象。通过对闰土悲惨遭遇的描述，生动地反映了当时的社会面貌，深刻揭露旧社会对农民从肉体到精神的重重残害，表达了作者改造旧社会、创造新生活的强烈愿望和坚定信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50920" y="1341360"/>
            <a:ext cx="88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阴晦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        瓦楞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é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         胯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獾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         秕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谷             鹁鸪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ū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髀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              嗤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ī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笑            絮絮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瑟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索           蜷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q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缩         寒噤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折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é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本         惘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然         恣睢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ī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潺潺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      黛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色            愕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然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五行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幼圆"/>
              </a:rPr>
              <a:t>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       颧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q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隶书"/>
              </a:rPr>
              <a:t>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骨          伶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隶书"/>
              </a:rPr>
              <a:t>í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n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33336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生字词学习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结构分析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9079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Arial"/>
              </a:rPr>
              <a:t>第一段：  写“我”渐近故乡时的悲凉心情和眼前故乡破败萧条的景象，交代了“我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回故乡</a:t>
            </a:r>
            <a:r>
              <a:rPr b="1" lang="zh-CN" sz="2800" spc="-1" strike="noStrike">
                <a:solidFill>
                  <a:srgbClr val="2f1311"/>
                </a:solidFill>
                <a:latin typeface="Arial"/>
              </a:rPr>
              <a:t>的时间和原因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2997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Arial"/>
              </a:rPr>
              <a:t>第二段：叙述“我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故乡</a:t>
            </a:r>
            <a:r>
              <a:rPr b="1" lang="zh-CN" sz="2800" spc="-1" strike="noStrike">
                <a:solidFill>
                  <a:srgbClr val="2f1311"/>
                </a:solidFill>
                <a:latin typeface="Arial"/>
              </a:rPr>
              <a:t>的见闻、感受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4581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1311"/>
                </a:solidFill>
                <a:latin typeface="Arial"/>
              </a:rPr>
              <a:t>第三段：写“我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离开故乡</a:t>
            </a:r>
            <a:r>
              <a:rPr b="1" lang="zh-CN" sz="2800" spc="-1" strike="noStrike">
                <a:solidFill>
                  <a:srgbClr val="2f1311"/>
                </a:solidFill>
                <a:latin typeface="Arial"/>
              </a:rPr>
              <a:t>的心情、感想，表达了“我”对新生活的向往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6920" y="220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开头到第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2920" y="3573360"/>
            <a:ext cx="6842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第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5516640"/>
            <a:ext cx="655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结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56000" y="22510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  <a:ea typeface="华文新魏"/>
              </a:rPr>
              <a:t>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3528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  <a:ea typeface="华文新魏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3280" y="35481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  <a:ea typeface="华文新魏"/>
              </a:rPr>
              <a:t>7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5564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  <a:ea typeface="华文新魏"/>
              </a:rPr>
              <a:t>78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6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6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6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4:37:21Z</dcterms:created>
  <dc:creator> </dc:creator>
  <dc:description>新课标第一网免费下载！</dc:description>
  <cp:keywords>新课标第一网</cp:keywords>
  <dc:language>en-US</dc:language>
  <cp:lastModifiedBy>微软用户</cp:lastModifiedBy>
  <dcterms:modified xsi:type="dcterms:W3CDTF">2011-10-25T08:17:49Z</dcterms:modified>
  <cp:revision>32</cp:revision>
  <dc:subject/>
  <dc:title>幻灯片 1</dc:title>
</cp:coreProperties>
</file>