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17279938" cy="12963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895C-0DDD-487C-B43E-2A0ACEC5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D64D-9FBA-4A79-A9D1-7929A33A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8BD93-415E-456C-AFF6-3386FA31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54429-962C-478B-B507-847BFF39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B2418-29FC-4394-B077-E7AA6FED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6EB0D-B081-40F7-8375-A67A8C98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9954E-C6C0-4B90-89A8-B0989DE5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49B93-59CD-4CB8-B5DA-3C363810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0825F-9A49-4E7C-BA19-AFE0385C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18D1D-6183-4869-92FE-33A4F2B94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01CC4-F121-4BAB-9FE8-32BC129C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3C0E2-3EED-4880-AB80-B9B46872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B0B8-87E5-4BDA-9401-281F7DBC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881E6-0EC5-408F-9A17-5DE07DFF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75717-647C-4196-B4B6-8769A5B3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EF7F0-278D-4377-9C95-6E80E2A6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F1F70-82CC-489B-831A-929B8019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CE4FD-792A-46D4-B0BE-28306B39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B9B2A-7C22-4542-B58A-385C3C2D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CD0AE-BAF2-4182-8515-196FEC19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C6DEE-FDD8-495C-952D-910D1517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8E568-BCE6-4C49-B34F-61EB01C9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3C079-CF32-4A60-BF42-69D0BFC0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3C65-DF45-4F99-9BB5-345F9666B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4FEB6-9949-43FD-A8C0-0CB4400E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4BD1F-58DF-44D3-AC7E-BB6EC2C7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42F9A-9852-45FD-BE4E-769589DF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1C851-1351-43A9-8BEB-7935F570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F6411-4727-4884-A233-0F4DA6CA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EAC2E-072F-4ACA-9419-B14F6843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FF07D-4767-473B-9AC0-BB0EAE54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D9BA7-D9F6-46EA-B570-2CA170DF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30B01-8241-4FAE-A13C-DA5905E2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54BA2-1EFB-42F3-9DA1-4CB379F1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A82D-1D70-403C-AE07-9C624D35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E5872-67AC-443D-AFF4-9EEF6C10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219A4-0394-4477-B12E-E67D8E2E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B5DA4-A314-4D0A-A14E-A30CD9BCE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F7413-EACF-4C61-B532-B7C6A35F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85B24-375E-4BE4-B6FE-22283420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9F4E8-B86C-4A22-AD94-108A1955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8DE06-E658-4DB0-96FC-990F5C61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8C6B6-21B7-477E-8E18-B47BC68B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94DEE-E60E-47E4-8088-86B60020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57478-5A21-486F-AB68-A56D7698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70C6-0317-4237-A0A1-55AF356F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1A3D9-13E9-4E01-8B7C-386F1C0F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F4C23-8DA1-476D-AC28-998F239F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BC4B5-91B3-4379-87B5-473D9C92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66E4D-392D-4116-AEBA-13CBD85E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4E4E2-172E-4A02-9FF9-9E81F3C5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675C-66D5-4C46-AABB-4656ACB9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0EE8-20F9-43C3-9D8C-3041A973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F12A-47C5-4206-AC48-1ECE36CE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A3A9-2572-4658-8089-138C0F14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51FB-1D5C-47DB-A04B-BCC38840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0F93-A68C-4FB2-A56C-63407A40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2280-A19D-4BEA-89EC-9FF3592E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E137-8FBD-465A-BF4F-0A64D675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7BE3-6880-40BB-985F-D26EE2DE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160A-02ED-40C9-92B6-40180E6E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C3BD-C047-4A24-AA7A-E2252FCC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DC3E6-F520-4761-B994-52E3D6F7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47491-FE00-44CA-A11F-0F8444CA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456A1-AEAE-4544-A365-40175108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9ED0D-9F6B-4550-8DC6-00CC6D86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634BB-0E4C-4776-8976-F47E230B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75FF-9876-43FF-BE80-A1EE6EA0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7B762-7EE5-40A9-BB50-0893423B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2362C-595C-4D75-B56C-9CF0BA04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77973-3EA6-4D9F-A4B1-D5FAB386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3C7E0-03B0-4B39-B286-65C9DD7F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A829C-3F3E-4F33-B510-F8B63E5A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595E6-C135-4788-A763-075CADD5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8723F-1DB9-4FD2-9809-9179B670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D5B99-617E-47C4-938D-6A6082A8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3FAE7-48B2-4DF4-B109-E23CC6DA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550C2-09CE-45CF-890B-411D10E4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FFFB-F4B9-4873-B661-55255DF2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449A3-0703-4C88-A48E-3146ADC5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70FD9-D789-46B9-B9BA-16A72666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C4210-D93A-49E2-9AF1-F35752B1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A0553-F613-40ED-92FA-5B570A0D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C8551-A809-4415-85E3-5D5E7A61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87017-1FD6-427C-91E5-A5A35594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98F9F-FC82-4097-BDA2-B271DABB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085FB-1D65-416D-B93F-60CD737D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6FA73-7979-4D87-8383-B051A5A6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83805-10DD-4E0F-B8C5-26E9CBA5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C188-BA50-4E96-A35B-0DF2744E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C517E-2745-4EAE-94E5-6AF6A4E5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75A35-AB69-49B7-A733-4B376171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08D8A-DB7B-4887-9F3B-EF3E956E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597DC-3A1A-48B1-874F-251B7794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9B63A-46C6-4830-AE5B-089A4450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DC79A-2CB1-43E2-86C3-5A79683C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3ED5B-5697-46E3-82FA-D89B08B0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EEE6E-6716-4EED-B049-9E051E0F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BE044-55D1-4EC7-812D-8873F895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8EB0A-7AFF-45E5-B9E6-0FA61F99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5C73-9388-49B6-89C1-E2AAF386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CCE86-A2D5-4601-960F-68B1F6DF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17679-0837-4E22-B03C-AD727639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04051-4F6B-41C9-B603-87F8AD76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63AAF-2C4A-425E-9E69-BD176B63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66F45-86CF-4847-AF5A-4A02F33C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D040B-D53F-4624-A072-BB594778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A29E5-34BD-4E1D-AC36-572CCE7A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A743B-5F96-4E83-A401-1A2493EF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EF856-35C7-45E9-ABF3-35DDDA25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B2D2E-D2DF-4467-947A-CAC5F904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24B6-2868-405F-8F03-70EBAC72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5B0CA-9B80-463E-967F-204F227C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9B707-56DF-4D6C-B41B-6BB76067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364C2-2D7E-49D4-8AC1-0CB95069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06D58-EFEE-4BDA-8BC1-2F4220D4F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669E3-E81F-4AA3-A484-A77AF086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A95F1-16D6-4C39-AE5A-6A39688F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FFB31-2316-4F23-8E04-73656284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73B14-B379-4832-B566-3DEEDDC3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FC410-F58F-445E-B2F8-815DDEFA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92DF5-971D-4799-8C36-04E2C091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B952-2216-4C41-AA0D-F4F4DC2D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1C88D-ED76-4F6F-8522-5FD006D3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2F507-032D-444F-8585-C4FDA5BF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F3D75-1E2D-4541-B700-981ACA05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170B6-9D76-4977-8220-F31F2E2C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F9E70-D068-459C-8B98-85F20783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CC3F3-C7F9-44DE-BE66-192B933A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122BD-61A1-4140-ADEC-853ACCDE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C257F-78BA-4C04-AD43-5D7766AA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CBBFA-CDEB-4FBF-903F-661F945E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D2D8E-DA29-41DF-8C69-A8703BDD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573E-AD95-46CE-903F-74A8F3F2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B76CE-CA73-4F01-A368-8252C6B9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ED08B-CF3B-4A4E-96F1-746DFF45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EDE3D-CF95-4772-A189-6E56B621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9C147-E14B-4345-B117-837CC1BD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5D655-39FB-4980-AC59-C41D42AF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2D0C9-3759-4595-9E36-37464E25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69A1E-CAE6-46E0-973C-C282C1705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58AFB-E2E0-495B-B3B8-F6D5F43A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A3327-6263-48D1-95F0-5E2585D9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AA5FC-C2BF-479D-B6A2-0F483A20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2160720" indent="-4320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3280" y="11802600"/>
            <a:ext cx="403236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04000" y="11802600"/>
            <a:ext cx="547344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385800" y="11802600"/>
            <a:ext cx="403200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lstStyle>
            <a:lvl1pPr indent="0" algn="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fld id="{11B8A7C4-7919-4BC7-AE7B-D6AC0AE86C32}" type="slidenum">
              <a:rPr b="0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B68D-B341-413C-9CD9-8FA462AF9BEC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64B3-C3D1-4A91-BDD9-960EF9920148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56F9-98FA-4EBF-A27F-126AB0424BB1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  <a:defRPr b="0" lang="zh-CN" sz="2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  <a:defRPr b="0" lang="zh-CN" sz="2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fld id="{4695564C-C9C4-4F84-ACE5-F07859765F42}" type="slidenum">
              <a:rPr b="0" lang="zh-CN" sz="2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B814-2922-457A-81C4-27107ADDC085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6640-FD22-409E-A941-BAF6A10B5E5C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1417-EEC5-4A3B-A2BB-85A29D6B0312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CD03-7515-4C67-96DF-B9BE4CAAB2FC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989D-EB29-43F9-AA33-9375FDC9E670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E944-DA17-4F52-903C-77CE693903AC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B218-902B-45A0-9613-4DAB0A62471D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4.jpe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"/>
          <p:cNvPicPr/>
          <p:nvPr/>
        </p:nvPicPr>
        <p:blipFill>
          <a:blip r:embed="rId1"/>
          <a:stretch/>
        </p:blipFill>
        <p:spPr>
          <a:xfrm>
            <a:off x="3816360" y="-133200"/>
            <a:ext cx="9864720" cy="131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6" descr=""/>
          <p:cNvPicPr/>
          <p:nvPr/>
        </p:nvPicPr>
        <p:blipFill>
          <a:blip r:embed="rId1"/>
          <a:stretch/>
        </p:blipFill>
        <p:spPr>
          <a:xfrm>
            <a:off x="380880" y="863640"/>
            <a:ext cx="16529040" cy="1109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"/>
          <p:cNvPicPr/>
          <p:nvPr/>
        </p:nvPicPr>
        <p:blipFill>
          <a:blip r:embed="rId1"/>
          <a:stretch/>
        </p:blipFill>
        <p:spPr>
          <a:xfrm>
            <a:off x="111240" y="824040"/>
            <a:ext cx="17068680" cy="1131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6" descr=""/>
          <p:cNvPicPr/>
          <p:nvPr/>
        </p:nvPicPr>
        <p:blipFill>
          <a:blip r:embed="rId1"/>
          <a:stretch/>
        </p:blipFill>
        <p:spPr>
          <a:xfrm>
            <a:off x="291960" y="863640"/>
            <a:ext cx="16708680" cy="111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6" descr=""/>
          <p:cNvPicPr/>
          <p:nvPr/>
        </p:nvPicPr>
        <p:blipFill>
          <a:blip r:embed="rId1"/>
          <a:stretch/>
        </p:blipFill>
        <p:spPr>
          <a:xfrm>
            <a:off x="212760" y="792000"/>
            <a:ext cx="17068680" cy="11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矩形 5"/>
          <p:cNvSpPr/>
          <p:nvPr/>
        </p:nvSpPr>
        <p:spPr>
          <a:xfrm>
            <a:off x="5040360" y="6445080"/>
            <a:ext cx="647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8" descr=""/>
          <p:cNvPicPr/>
          <p:nvPr/>
        </p:nvPicPr>
        <p:blipFill>
          <a:blip r:embed="rId16"/>
          <a:stretch/>
        </p:blipFill>
        <p:spPr>
          <a:xfrm>
            <a:off x="398520" y="1008000"/>
            <a:ext cx="16560720" cy="111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6" descr=""/>
          <p:cNvPicPr/>
          <p:nvPr/>
        </p:nvPicPr>
        <p:blipFill>
          <a:blip r:embed="rId1"/>
          <a:srcRect l="0" t="797" r="0" b="3309"/>
          <a:stretch/>
        </p:blipFill>
        <p:spPr>
          <a:xfrm>
            <a:off x="77760" y="792000"/>
            <a:ext cx="17135640" cy="110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3724200" y="289080"/>
            <a:ext cx="10321920" cy="126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7" descr=""/>
          <p:cNvPicPr/>
          <p:nvPr/>
        </p:nvPicPr>
        <p:blipFill>
          <a:blip r:embed="rId1"/>
          <a:stretch/>
        </p:blipFill>
        <p:spPr>
          <a:xfrm>
            <a:off x="92160" y="1008000"/>
            <a:ext cx="17094240" cy="111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6" descr=""/>
          <p:cNvPicPr/>
          <p:nvPr/>
        </p:nvPicPr>
        <p:blipFill>
          <a:blip r:embed="rId1"/>
          <a:stretch/>
        </p:blipFill>
        <p:spPr>
          <a:xfrm>
            <a:off x="111240" y="824040"/>
            <a:ext cx="17068680" cy="1131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6" descr=""/>
          <p:cNvPicPr/>
          <p:nvPr/>
        </p:nvPicPr>
        <p:blipFill>
          <a:blip r:embed="rId1"/>
          <a:stretch/>
        </p:blipFill>
        <p:spPr>
          <a:xfrm>
            <a:off x="92160" y="792000"/>
            <a:ext cx="16884720" cy="11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7" descr=""/>
          <p:cNvPicPr/>
          <p:nvPr/>
        </p:nvPicPr>
        <p:blipFill>
          <a:blip r:embed="rId1"/>
          <a:stretch/>
        </p:blipFill>
        <p:spPr>
          <a:xfrm>
            <a:off x="401760" y="1081080"/>
            <a:ext cx="16624080" cy="110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6" descr=""/>
          <p:cNvPicPr/>
          <p:nvPr/>
        </p:nvPicPr>
        <p:blipFill>
          <a:blip r:embed="rId1"/>
          <a:stretch/>
        </p:blipFill>
        <p:spPr>
          <a:xfrm>
            <a:off x="328680" y="863640"/>
            <a:ext cx="16635240" cy="111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8" descr=""/>
          <p:cNvPicPr/>
          <p:nvPr/>
        </p:nvPicPr>
        <p:blipFill>
          <a:blip r:embed="rId1"/>
          <a:stretch/>
        </p:blipFill>
        <p:spPr>
          <a:xfrm>
            <a:off x="352440" y="936720"/>
            <a:ext cx="16586280" cy="111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6" descr=""/>
          <p:cNvPicPr/>
          <p:nvPr/>
        </p:nvPicPr>
        <p:blipFill>
          <a:blip r:embed="rId1"/>
          <a:stretch/>
        </p:blipFill>
        <p:spPr>
          <a:xfrm>
            <a:off x="219240" y="824040"/>
            <a:ext cx="16989120" cy="1131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8" descr=""/>
          <p:cNvPicPr/>
          <p:nvPr/>
        </p:nvPicPr>
        <p:blipFill>
          <a:blip r:embed="rId1"/>
          <a:stretch/>
        </p:blipFill>
        <p:spPr>
          <a:xfrm>
            <a:off x="395280" y="863640"/>
            <a:ext cx="16633800" cy="111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5:19:02Z</dcterms:created>
  <dc:creator>新教育</dc:creator>
  <dc:description/>
  <dc:language>en-US</dc:language>
  <cp:lastModifiedBy>User</cp:lastModifiedBy>
  <dcterms:modified xsi:type="dcterms:W3CDTF">2015-07-18T02:56:43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