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26.jpeg" ContentType="image/jpeg"/>
  <Override PartName="/ppt/media/image19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1.gif" ContentType="image/gif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D48-F84C-4F67-97D2-2E7582E0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70E-8736-4D56-B98C-4C04F5DA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A28-51AA-4395-BCEA-4B42695D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34FA-A6CC-4B7E-AFAA-06E934DD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90A7-F7E1-46A9-A543-213F79A5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CC01-30BA-4E02-9BF8-AAC43AA9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ED13-7903-4AEB-85E2-E68D9715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4BA6-5BEC-4134-94BB-429D9D1F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9CA2-1EC3-4DB2-B420-198DF221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FB6A-7F1F-492D-9263-7C9740E6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25F4-7EC8-4232-9F2F-1F764CF3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D7C-5A3D-4C24-9EAE-DC54A90D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741F-C5A6-48F8-BE76-112D2946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060B-670F-4CD3-BE57-AFEB0AFD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3B6A-EBFC-4281-8C7C-52564172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EADD-C31E-45AB-ACE3-3D027063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01F0-9671-429B-BE96-2A82AA4F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53A97-F97D-40C2-98F4-FE518FD6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FAA61-4F53-49B4-9B90-3682EF0C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4F45F-BC8D-404D-AF41-6DB48C6E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0DB2-AF7B-439C-B241-991369A1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B4D4D-74D6-40B7-BE5A-5B88C5B7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DFC-22DA-4B11-82B3-A4BC4EF9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A98C-2735-4F00-A3F8-DB326504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31007-C234-4F43-89F6-3F2EB7A4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037FC-7DFC-4602-ADA3-8F25D22E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D1CDA-B181-49C4-8F8D-6D48AF08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50C59-AB6F-4CAF-A49D-61BC2095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4AF27-A9DC-428B-A806-E87193D0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5A4F-B7BA-4ABE-A63D-DD7B4EBC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1E503-427E-4720-9A3A-E80D9EAB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432F8-44A5-4298-AC12-FCA8902A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3210D-F32E-4E88-A895-9155003A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883-9ACE-4CA7-BEA1-51F475ED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50CD1-0B4D-4F92-B28D-12AF7C97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07C42-C95A-409D-BAAE-ACADDD76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1F921-4C70-4CD2-8AD6-44A37367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C93D6-4C43-4CEB-BB92-A885758C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F6921-B061-4A0B-9815-43A68536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DB661-A6F0-474D-909D-8C70D340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9AE0B-6681-40E5-8899-04E7D856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37461-DB65-4A84-9B0D-152A755F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322A6-8214-44F7-A2B2-B4C382F5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5C1-9D1B-4AFD-8C29-C8392D97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AA4-5EE9-4E9E-96B2-27FF2998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CC8-4274-4B95-A7A4-41391D24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A84-7138-437F-ADFB-3B719205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E3D-F80A-4ED6-87C7-C436C591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165F-4729-4F3E-8534-35A4F5652F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14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218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828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133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742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047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657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962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571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876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486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79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400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705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314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619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229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534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80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A2F0-954C-414F-B57D-F61B8865142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4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20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00000">
                <a:off x="669600" y="1361160"/>
                <a:ext cx="24696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349360" y="3098880"/>
              <a:ext cx="6045120" cy="2876400"/>
              <a:chOff x="2349360" y="3098880"/>
              <a:chExt cx="6045120" cy="2876400"/>
            </a:xfrm>
          </p:grpSpPr>
          <p:sp>
            <p:nvSpPr>
              <p:cNvPr id="205" name=""/>
              <p:cNvSpPr/>
              <p:nvPr/>
            </p:nvSpPr>
            <p:spPr>
              <a:xfrm>
                <a:off x="2349360" y="5464080"/>
                <a:ext cx="60451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5400000">
                <a:off x="8085600" y="5307480"/>
                <a:ext cx="24732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1226-F94C-4214-8653-A3F5EC90CFD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A287-576C-400C-BE5A-35E2A36075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1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" Target="slide11.xml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1.xml"/><Relationship Id="rId3" Type="http://schemas.openxmlformats.org/officeDocument/2006/relationships/image" Target="../media/image16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" Target="slide11.xm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340000" y="342900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华文新魏"/>
              </a:rPr>
              <a:t>金秋，门已打开！</a:t>
            </a:r>
            <a:endParaRPr b="0" i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87280" y="5300640"/>
            <a:ext cx="705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进入高中，你准备好了没有？</a:t>
            </a:r>
            <a:endParaRPr b="1" lang="en-US" sz="1800" spc="-1" strike="noStrike">
              <a:ln w="9360">
                <a:solidFill>
                  <a:srgbClr val="ff99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4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52360" y="190440"/>
            <a:ext cx="8713800" cy="651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24000" y="327600"/>
            <a:ext cx="8712000" cy="18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　　语文学科的魅力在于语音的抑扬顿挫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文字的象形意会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词语的丰富多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话语的妙趣横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06920" y="1697040"/>
            <a:ext cx="5689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－－朱学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语文的魅力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-1903320" y="3141720"/>
            <a:ext cx="4386240" cy="3295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47636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季姬寂，集鸡，鸡即棘鸡。棘鸡饥叽，季姬及箕稷济鸡。鸡既济，跻姬笈，季姬忌，急咭鸡，鸡急，继圾几，季姬急，即籍箕击鸡，箕疾击几伎，伎即齑，鸡叽集几基，季姬急极屐击鸡，鸡既殛，季姬激，即记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季姬击鸡记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。（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78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52720" y="2852640"/>
            <a:ext cx="6840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季姬感到寂寞，罗集了一些鸡来养，是那种出自荆棘丛中的野鸡。野鸡饿了叫叽叽，季姬就拿竹箕中的小米喂它们。鸡吃饱了，跳到季姬的书箱上，季姬怕脏，忙叱赶鸡，鸡吓急了，就接着跳到几桌上，季姬更着急了，就借竹箕为赶鸡的工具，投击野鸡，竹箕得投速很快，却打中了几桌上的陶伎俑，那陶伎俑掉到地下，竟粉碎了。季姬眼一瞧，鸡躲在几桌下乱叫，季姬一怒之下，脱下木屐鞋来打鸡，把鸡打死了。想着养鸡的经过，季姬激动起来，就写了这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季 姬 击 鸡 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39640" y="189000"/>
            <a:ext cx="1019160" cy="2232000"/>
            <a:chOff x="539640" y="189000"/>
            <a:chExt cx="1019160" cy="2232000"/>
          </a:xfrm>
        </p:grpSpPr>
        <p:pic>
          <p:nvPicPr>
            <p:cNvPr id="322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39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539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885080" y="-4680"/>
            <a:ext cx="2068560" cy="68626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385128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2068560" cy="6867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826920" y="0"/>
            <a:ext cx="2068560" cy="6867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179280" y="-4680"/>
            <a:ext cx="2068560" cy="68626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007000" y="2868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愁断肝肠无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04200" y="64944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天长夜短门半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73840" y="2868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小姐等到月斜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67600" y="64944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山高路远没口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336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字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秦观的回环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1556280"/>
            <a:ext cx="5904000" cy="350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    赏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　　     花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时　  　　　　归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醒　　  　　　　　去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微　　　　　　马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　  　　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酒   飞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87280" y="5518080"/>
            <a:ext cx="745992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赏花归去马如飞，去马如飞酒力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酒力微醒时已暮，醒时已暮赏花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08000" y="3718080"/>
            <a:ext cx="3024000" cy="30240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343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9999"/>
                  </a:solidFill>
                  <a:latin typeface="Arial"/>
                  <a:ea typeface="楷体_GB2312"/>
                </a:rPr>
                <a:t>句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3708360" y="1341360"/>
            <a:ext cx="3044880" cy="3095640"/>
          </a:xfrm>
          <a:prstGeom prst="rect">
            <a:avLst/>
          </a:prstGeom>
          <a:ln w="0">
            <a:noFill/>
          </a:ln>
        </p:spPr>
      </p:pic>
      <p:grpSp>
        <p:nvGrpSpPr>
          <p:cNvPr id="346" name=""/>
          <p:cNvGrpSpPr/>
          <p:nvPr/>
        </p:nvGrpSpPr>
        <p:grpSpPr>
          <a:xfrm>
            <a:off x="3203640" y="907920"/>
            <a:ext cx="4465440" cy="4022640"/>
            <a:chOff x="3203640" y="907920"/>
            <a:chExt cx="4465440" cy="4022640"/>
          </a:xfrm>
        </p:grpSpPr>
        <p:sp>
          <p:nvSpPr>
            <p:cNvPr id="347" name=""/>
            <p:cNvSpPr/>
            <p:nvPr/>
          </p:nvSpPr>
          <p:spPr>
            <a:xfrm>
              <a:off x="3203640" y="907920"/>
              <a:ext cx="4465440" cy="402264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11280" y="1484280"/>
              <a:ext cx="2793600" cy="33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可以清心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以清心也可</a:t>
              </a:r>
              <a:br>
                <a:rPr sz="3600"/>
              </a:b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清心也可以</a:t>
              </a:r>
              <a:br>
                <a:rPr sz="3600"/>
              </a:b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心也可以清</a:t>
              </a:r>
              <a:br>
                <a:rPr sz="3600"/>
              </a:b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也可以清心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蒹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jiān ji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【诗经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国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秦风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蒹葭苍苍，白露为霜。 所谓伊人，在水一方。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溯洄从之，道阻且长。溯游从之，宛在水中央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蒹葭凄凄，白露未晞。 所谓伊人，在水之湄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溯洄从之，道阻且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。溯游从之，宛在水中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。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蒹葭采采，白露未已。 所谓伊人，在水之涘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溯洄从之，道阻且右。溯游从之，宛在水中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79280" y="260280"/>
            <a:ext cx="1019160" cy="2232000"/>
            <a:chOff x="179280" y="260280"/>
            <a:chExt cx="1019160" cy="2232000"/>
          </a:xfrm>
        </p:grpSpPr>
        <p:pic>
          <p:nvPicPr>
            <p:cNvPr id="352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79280" y="26028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179280" y="26028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篇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570560" y="4782960"/>
            <a:ext cx="4465440" cy="19591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28526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6804000" y="1341360"/>
            <a:ext cx="165564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黑体"/>
              </a:rPr>
              <a:t>学海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867280" y="2205000"/>
            <a:ext cx="151128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黑体"/>
              </a:rPr>
              <a:t>无涯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-103320" y="5715000"/>
            <a:ext cx="1519200" cy="1143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684360" y="3078000"/>
            <a:ext cx="4895640" cy="20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何作舟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807084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位老者在海边垂钓，已经钓满了一篓的鱼。一个孩子在旁边看了很久。老者准备离开的时候，温和地冲孩子笑笑，送给孩子一条活蹦乱跳的大鱼，可孩子却一口拒绝了。老者很奇怪，问孩子：”那你想要什么呢？“孩子指了指他的鱼竿，说：“我想要你的鱼竿。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觉得孩子的这个决定聪明吗？如果是你的话，你会选择什么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4360" y="1053720"/>
            <a:ext cx="777240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其实，选择鱼竿或鱼都不能算是聪明的选择。最聪明的方法，是学会老者钓鱼的方法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所以，我们说，任何一门课程的学习，不是单单看懂，解题，而是从根本上掌握它的学习方法。这样，才能达到一个事半功倍的效果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95280" y="260280"/>
            <a:ext cx="8070840" cy="3114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1620720" y="1628640"/>
            <a:ext cx="597708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语文是什么？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语文的魅力在哪里？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95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468360" y="5950080"/>
            <a:ext cx="8286840" cy="3110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611280" y="692280"/>
            <a:ext cx="360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开学第一课：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837720" y="909360"/>
            <a:ext cx="81997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那么，高中语文学习需要掌握哪些方法呢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加以归纳，可以从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听、读、说、写、思、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六个方面入手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下面我们就一一来介绍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ahoma"/>
              </a:rPr>
              <a:t>听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君一席话，胜读十年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认真听课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要动笔。听课时，随时在课本上记下重点、难点、疑点，这对以后的复习是个极好的提示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记笔记。记下老师的板书、老师反复强调之处。这些往往是重点、难点，也是必考之点；记下老师启发下偶然闪现的一些想法，这些是你知识迁移的表现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善听别人的发现，捕捉有利于自己的信息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拓宽听的聚到，让更多的信息从“耳”而入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ahoma"/>
              </a:rPr>
              <a:t>读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书破万卷，下笔如有神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读出声。可以更好的体会文章的情感，有利于理解和记忆，帮助你“出口成章”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背书。培养扎实的文学功底，使作文更加“出彩”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用工具书。中学生常用的工具书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《新华字典》《现代汉语词典》《成语词典》《古汉语常用词词典》。这集中工具书是必不可少的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ahoma"/>
              </a:rPr>
              <a:t>说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——言为心声，不耻下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课时多参与讨论，主动同学老师交流心得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请教老师和同学，不懂就问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朗诵、演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阅读新闻报刊杂志要积极评论，锻炼自己的鉴赏能力和思维能力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ahoma"/>
              </a:rPr>
              <a:t>写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——纸上得来终觉浅，</a:t>
            </a:r>
            <a:br>
              <a:rPr sz="4000"/>
            </a:b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                         绝知此事要躬行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写好每个字，注意卷面整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认真写作业，准备一个错题本，将做错或自己不懂的题目记下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整理笔记，将所学的知识分门别类，日后好复习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准备摘抄本，记下精彩的文章段落字句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写日记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写随笔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1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学而不</a:t>
            </a:r>
            <a:r>
              <a:rPr b="1" lang="zh-CN" sz="7200" spc="-1" strike="noStrike">
                <a:solidFill>
                  <a:srgbClr val="ff0000"/>
                </a:solidFill>
                <a:latin typeface="Tahoma"/>
              </a:rPr>
              <a:t>思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则罔，思而不学则殆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独立思考，切不可人云亦云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学会反思，将一天所学的知识大致思量一遍，对掌握和未掌握的内容做到心中有数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好奇多问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将自己思考的结论记下，与同学老师交流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ahoma"/>
              </a:rPr>
              <a:t>行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——读有字之书，也读无字之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用多种手法查找资料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编作品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编小报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改作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.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准备工作及常规作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83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课堂笔记本和错题本（可以二合一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语文随笔本和摘抄本（可以二合一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《现代汉语词典》《成语词典》《古汉语常用词词典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2050920" y="4292640"/>
            <a:ext cx="3656160" cy="24811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3587040" y="981000"/>
            <a:ext cx="2413800" cy="2531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规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周一篇随笔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以上（每周一早上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备文稿纸，每天练习一页纸字，可以描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可以临摹，每天早上交，不合格重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318960" y="-237960"/>
            <a:ext cx="9748800" cy="73101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未来，不是我们要去的地方；未来，是我们要创造的地方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39640" y="1623240"/>
            <a:ext cx="7921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你听到一首动人心魄的歌时，沉浸于歌词所描绘的幽然意境，流连忘返，这就是语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你看到一幅雄浑俊雅的书画后，立即被其所吸引，于是你搜肠刮肚，想尽华美饲藻来赞美它，这就是语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你发表演讲、主持会议，滔滔不绝，引经据典，妙语连珠，别忘了，这也是语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732720" y="4510080"/>
            <a:ext cx="2111400" cy="23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6831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116000" y="1557360"/>
            <a:ext cx="475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1341360"/>
            <a:ext cx="854064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不要为失败找借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要为成功找出路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8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在新学期有什么新设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文的弱项在哪里？什么原因？想怎么解决？有什么困难需要老师帮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老师有什么要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结合你自己的情况，选择其中的一个问题货几个问题谈谈，写在随笔本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语文必修一专题“向青春举杯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语文天生浪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3026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我们再次聆听那遥远的声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坎坎伐檀兮，置之河之干兮。河水清且涟猗。不稼不穑，胡取禾三百廛兮？”即便是义愤填膺吧，也是那般的富有浪漫气息。而“蒹葭苍苍，白露为霜。所谓伊人，在水一方”更是将古人的浪漫情怀推向了极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，从远古走来，从蛮荒走来，从我们祖先浪漫的心灵中走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天辟地的盘古、以身补天的女娲用刚与柔成就了远古人类对世界与宇宙浪漫的想象；填海的精卫、逐日的夸父用血与肉书写了所有生命对自由与光明不朽的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着浪漫，四十弃官归隐的陶潜“采菊东篱下，悠然见南山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着浪漫，五十始举进士的孟郊“春风得意马蹄疾，一日看尽长安花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着浪漫，王昌龄发出了“黄沙百战穿金甲，不破楼兰终不还”的豪壮誓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着浪漫，李白才会仰天长笑“天生我材必有用，千金散尽还复来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，从浪漫的心灵出发，走向深广，走向博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着语文，孔雀东南飞的故事成了家喻户晓的绝唱；因着语文，木兰从军的传说成了妇孺皆知的佳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着语文，雪莱的“冬天到了，春天还会远吗”温暖了多少失意者的心怀；因着语文，但丁的“走你的路，让别人去说吧” 激荡着每一个开拓者的胸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着语文，我们收藏了春的温馨、夏的火热、秋的丰硕、冬的冷峻；因着语文，我们领略了北国的冰雪，南疆的椰林，西域的雄鹰，东海的潮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，是天生浪漫的文化载体。睿智的思想，高尚的情感，灵动的才智，无不栖于根深叶茂的语文之树，它生生不息地传承着人类文明，它涤荡污浊，提精炼粹，陶冶身心，它汇聚了浪漫又传送着浪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1970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24000" y="404640"/>
            <a:ext cx="8353440" cy="638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52360" y="117360"/>
            <a:ext cx="8567640" cy="648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52360" y="190440"/>
            <a:ext cx="8712360" cy="626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52360" y="190440"/>
            <a:ext cx="8567640" cy="655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0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612720" y="549360"/>
            <a:ext cx="7905960" cy="5987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2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181080" y="406440"/>
            <a:ext cx="8712000" cy="624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45:30Z</dcterms:created>
  <dc:creator>xzmgq</dc:creator>
  <dc:description/>
  <cp:keywords/>
  <dc:language>en-US</dc:language>
  <cp:lastModifiedBy>USER</cp:lastModifiedBy>
  <cp:lastPrinted>1899-12-30T00:00:00Z</cp:lastPrinted>
  <dcterms:modified xsi:type="dcterms:W3CDTF">2011-08-31T06:58:38Z</dcterms:modified>
  <cp:revision>78</cp:revision>
  <dc:subject/>
  <dc:title>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