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E0B1-80B0-4057-9528-2B936CAEC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1B6D-57E9-4668-9B8F-84D4DE3A6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1E62CE-3E05-4F01-9885-618C6132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0B2659-0232-4631-A22C-4E7DFDCA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E362A5-5F78-4FBA-AC2D-B8088D68D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93EB3-DC0A-4423-A5CB-8C700EF3E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50C99-893C-46D9-B5EA-C96EF2D2B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4D34F5-85A3-4889-8529-42DB4CFB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11C6A9-9BBC-4B3C-8ACB-98B4432DC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E720C5-CA7D-4EC8-BB68-5CD965556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1B8C91-AE93-4659-9371-D1C3A5F9C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689901-BC28-4183-91E4-29C83A8A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12FB-4837-43BE-85AE-9DDCFCBE6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0A58E-8259-4DDE-9FCE-EEBA2C59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3E4FAD-80F0-4F98-83DF-4A41CDAE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06F53F-49DF-4E63-B2CB-6C9ADCE1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860686-1A6A-4BA6-81C2-15019EF9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68AEA8-4623-4801-8346-D83AE0BC0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E67282-0D5A-4E97-B4B2-ACDFF0426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D61B0-932C-4B7F-B710-C0D6993B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13A100-4650-42B3-8403-6E7C5C81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59F4D-2292-4624-A02F-51C79698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DB8F28-E0DA-4248-BB41-3764E65E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6A0B-5C98-4F59-840F-D716C65F2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9C09D4-0DB7-469A-A2D6-6BF889F9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038D2C-5134-4EA0-B7EE-6B41C043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99518F-7022-4B83-B6ED-14789AD11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24114-9895-4D5B-94D3-B4555278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DA9B4C-1A39-4ABB-9653-545764850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418E9F-C018-44ED-87C2-26708752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DA721-723D-4475-AC24-2FFCB6F0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368F84-E43F-4042-A795-CBA21678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2FC64F-A0D9-403D-838F-FB230D7E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10F29B-6303-4918-B9B7-071FB200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898E4-6432-4E88-AC5C-002B5CBD8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CF986-4B57-4ECA-915B-E91E6EF76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0FE4AD-BFAD-474B-9957-BD7B25AFE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DA15A1-FBD5-4D00-9CE2-91723AA5C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FB514-E1C0-4B6B-9899-3AB69FC3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7DC00-42A0-4CB7-9D80-401CB3617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7C6976-319A-4197-9A73-1224F992C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4B8F8D-5206-4F19-A03E-84A4ED0A3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B778F8-D7CE-42CD-84E0-FADB9A6C0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26260-4DB3-4EFA-8D1F-4F5CE939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FA4E43-E3C4-4A10-BCBF-3CB8727A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BA33E-67BB-4F0D-ABDF-ADA0CD073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453B79-9335-4969-ADCC-7355277D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975D6C-9365-464F-8B96-A63F6CED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CDFACC-AE43-415A-AF07-6DD7137CA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2D83F-CC6E-49F4-A28E-E9390DFCE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AFFB10-5354-41DE-86BF-56BA3B751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D25BCC-7467-420A-9ABE-6A8FB74F3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877845-4201-40C6-8835-0CD00C32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4FF203-AC8F-4DBE-9AC2-9A06AD21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73604-58F7-4BC0-94E7-280CAB18B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444C3B-2FFD-477A-9C5A-859564CA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1028-45B1-49EF-AFA2-2D0505270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E883FC-2C95-43CD-BE7C-2BC24275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E89A73-D01B-4D75-AF59-210D59CD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BB7C3E-0FFD-45CA-92CD-077197DF6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C5AAA-FB0D-4283-860F-A6ACE0CBC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6DF215-03AE-4812-BE44-249B891A8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358804-D53E-4005-87A5-F5FEDF7B2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B6D9F1-BCE1-479C-A3F7-15E4EFC2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174EE-20C5-4771-A7F1-EFEC78636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68C616-07F4-4379-9CD0-25B95DEBF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BF4C08-EB90-40D0-B5A4-7556BDB19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9399-5495-451F-8ED3-B80FBF618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8A3604-2005-4FCF-9DC2-D37C84817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467B81-BA4C-4763-8E57-9760E3DBE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814B3E-1F63-4F5D-9F7E-38135403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71E31-C34B-49AC-BCF1-811A2C191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74E33A-7829-4D50-9C57-A9219C2B0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752030-44CC-408F-9AF6-2E47C4978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2F93D-C534-409F-AA66-F73027314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5B8C13-8295-4907-8829-1B25F1A56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F0B491-1491-452B-B9B5-BE50810D9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7C95-25A3-4D52-A749-A03310FD2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A5364-1242-42A5-A579-66AA3BD3E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B1B1A-3488-4CDA-9062-0D1B7A08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23A2-0209-44AD-84C9-B774D207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71098-C2BB-41B9-85B3-77C0E0381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A6F0-40D4-4532-B376-A74479D9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9B76F-942A-4207-BD0D-2E5E17DC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DDBA-6905-4512-B0BC-E3A760F46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745E-9694-4263-96AD-7DBE43EB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2EBC8-1E1F-406D-B6C6-4BE8F7C78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8E93A8-787F-4DE5-B1F7-D691BDB2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F2C5-09E3-4A39-978D-CA205EA78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BEFA9-FEE7-4B2E-83F1-FF7F3233D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CE1F0-0EEB-48EF-9B69-C73FAA28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4F3E-278D-4D9D-B36A-73A2CDBE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018209-D883-4BDC-8B33-711164498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35C226-6DFC-4109-B9AD-9832994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96DD9-0805-4334-A982-BEDBABB6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2FA75-AF33-4445-A736-F0C836F1E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76B757-3137-4463-A9F4-0A5D9390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3B794-B043-49F3-A5C1-231E2A4D9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D10BE-8E6B-445D-AEAE-858FFCBB7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FEC70-C393-4F5C-8863-C059C083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2FCB7-5711-48BC-B001-683342A4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CC298D-1C03-4070-8970-A64E4E180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422-6E24-4CE6-B5D7-CC0F9D0F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2AF6F-F6D6-427A-8629-FE585212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DEB80-3111-42D7-9562-C02E67595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F8B45-45EA-4AB8-9775-86168BD4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5A2B6-5C9A-4FF6-AFAD-37AA33F67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748C2-A5CE-439A-BB0A-5C75F0E1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FA8D6-85D4-450F-A40A-38D98313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CC214-B785-4285-89EE-5571CC08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5D1F35-17CF-47FC-BBCC-E8EAB37BB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49B870-6788-4CF6-BAC5-5D36F48B1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E421A-2140-41F4-82AE-015F8335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28CE-41B8-4A83-9173-2EE25733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66A489-3FA5-46AD-8C85-71348B885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266F8-F4FD-4B42-83A2-AB6DA9D85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79A9BB-1440-4D53-9EB2-A45492310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5E0B1-BB56-405C-96E3-90CE31F3F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52EED-144D-4C3B-9C6B-B9EE4084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884922-774A-4BA3-9976-653D9CFF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5A936-B803-4548-AE9B-16D0D038B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C0D54F-2DB4-4106-944F-3CE15AC17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A14BEC-F7DE-44BA-B678-81E45BD1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FACFE-BE0A-4354-B2F0-3FDC71732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B04D-13B7-45D4-8F1F-AFF4A8BA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C7EC7-F464-445E-A173-49F2932C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FCFA2-5776-4C52-B8F0-1027865A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E46FD3-2DD2-45D6-8D8E-FADBEA6E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55FA7-1863-49A7-86C2-CD556B288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79D4A-D2DC-4929-841B-E9BE6DCD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1499B0-243B-4DC1-A23F-634432FA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578F60-DE09-4B45-9075-17CEFD2C3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DC087-2D74-4F12-A3EF-54D07044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9BF60C-A937-4B46-A000-72D01E2C9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60210E-3781-48E1-A35C-376C15771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DD85-5B03-4AB2-9CA8-014D6FE4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90CD2F-B479-4E53-8473-3CDDDA84D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401CE-D667-416B-8990-FF758ADDF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999F0-1D56-48D4-8F1B-FBFB9FAF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365DBE-77AE-407B-8BE4-EFA25804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8773A-A75E-4C38-9ABC-083457C6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9D85D-910D-4F54-8DD8-559FA2B01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0B125-E33A-4145-8D69-0A4EE9A5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1EF2AA-EF9B-4665-B2C5-53F80BB1C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9CA49-9171-4235-B117-B6888909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E03C5-7085-4A4F-AA0D-15AD1CA3E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979B-3F16-4F32-8FE1-6AAB02F9C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21986-F1C8-46A2-AEC3-C99710E18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0C7FB-8E8B-485C-8CA4-A1C7A24A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5DE9D-C9BF-4472-B64E-5EF39417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E62CD-C3D0-4F74-B723-A3808A40E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16210-9D59-4274-8F04-A1A5A016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696B4-B3D6-4745-B4BC-621991D75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87B971-1590-48EB-B576-4613460CE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436959-210E-43A6-8C43-71EA90AE7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C0534-1C9C-4986-BC65-8D474F7E4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7DC13B-4988-43B0-ACC5-A58B6D59B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36FB-E3AF-4803-9F39-317B0645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4ABFE-BCE9-4754-8323-56D85176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C1B72-78BE-4504-8AD8-2262DBF77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3D5879-6414-4BBB-9C65-6523D8AD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98C99B-8D7D-48F4-A4CD-D4871EA0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8B8C3D-B81A-43A4-9BC2-5895B280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98856-1606-40EF-835A-EF7E28B73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26A4C-EAD0-4939-B6E6-A2E971072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F86716-F82E-4152-B5DF-E415C3C4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7864D0-7EC1-4492-B16D-079E4C8A7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5DA8D-9957-4E5A-BFA3-1A6F1069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素彩网</a:t>
            </a:r>
            <a:r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http://www.sc115.com-ppt</a:t>
            </a:r>
            <a:r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6F90-42EF-4E6E-88EC-0A62DF9D5157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8946-89B6-4B19-8DED-11DA6898DD00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FABBD-AECA-40F0-BBFA-82A0F205FE70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763D-1B85-402C-B724-52492CE289B0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52E97-ED3F-4F5D-A885-75A66D0522B3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95B9-6DB2-4489-BC61-6791073E17F4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素彩网</a:t>
            </a:r>
            <a:r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http://www.sc115.com-ppt</a:t>
            </a:r>
            <a:r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模板免费下载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B7FD-D8DD-4BF3-8704-782D8D61954C}" type="slidenum">
              <a:rPr b="0" lang="zh-CN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8BC5-3CAB-48A7-9BB4-4EA690762F5C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ED880-E410-4088-A41B-DA08FAC13C09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49C5D-1E95-4E37-B46A-E6E8EE502EBC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2E51C-1DDC-47A1-A936-EB0ADFFCBA48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AC4E5-361B-4B1F-8572-E1706DD6BD88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04CC-45E8-4D15-A890-9D656826E63B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7B4A9-6D11-4670-8FAE-37B3B139BC18}" type="slidenum">
              <a:rPr b="1" lang="zh-CN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" TargetMode="External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676160" y="1752480"/>
            <a:ext cx="46479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Eras Demi ITC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61976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Eras Demi ITC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页脚占位符 3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9"/>
          <p:cNvSpPr/>
          <p:nvPr/>
        </p:nvSpPr>
        <p:spPr>
          <a:xfrm>
            <a:off x="3048120" y="15228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5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Microstyle Bold Extended ATT"/>
                <a:ea typeface="宋体"/>
              </a:rPr>
              <a:t>TRANSI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2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599840" y="1600200"/>
            <a:ext cx="4876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Eras Demi ITC"/>
                <a:ea typeface="宋体"/>
              </a:rPr>
              <a:t>YOUR TOPIC GOES HERE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69608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Eras Demi ITC"/>
                <a:ea typeface="宋体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" name="页脚占位符 3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4"/>
          <p:cNvSpPr/>
          <p:nvPr/>
        </p:nvSpPr>
        <p:spPr>
          <a:xfrm>
            <a:off x="152280" y="944640"/>
            <a:ext cx="243864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Backdrop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These are full sized backdrops, just double click them and size it up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5" descr="animfactory_log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280" y="114480"/>
            <a:ext cx="2286000" cy="571320"/>
          </a:xfrm>
          <a:prstGeom prst="rect">
            <a:avLst/>
          </a:prstGeom>
          <a:ln w="0">
            <a:noFill/>
          </a:ln>
        </p:spPr>
      </p:pic>
      <p:sp>
        <p:nvSpPr>
          <p:cNvPr id="584" name="Line 8"/>
          <p:cNvSpPr/>
          <p:nvPr/>
        </p:nvSpPr>
        <p:spPr>
          <a:xfrm>
            <a:off x="2438280" y="2286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56"/>
          <p:cNvSpPr/>
          <p:nvPr/>
        </p:nvSpPr>
        <p:spPr>
          <a:xfrm>
            <a:off x="228600" y="2209680"/>
            <a:ext cx="2438280" cy="95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  <a:ea typeface="宋体"/>
              </a:rPr>
              <a:t>Imag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- Most of these .gifs, .jpgs, and .png images can be scaled up to fit your need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57"/>
          <p:cNvSpPr/>
          <p:nvPr/>
        </p:nvSpPr>
        <p:spPr>
          <a:xfrm>
            <a:off x="2667600" y="639720"/>
            <a:ext cx="124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itl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8"/>
          <p:cNvSpPr/>
          <p:nvPr/>
        </p:nvSpPr>
        <p:spPr>
          <a:xfrm>
            <a:off x="4269240" y="639720"/>
            <a:ext cx="129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lide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9"/>
          <p:cNvSpPr/>
          <p:nvPr/>
        </p:nvSpPr>
        <p:spPr>
          <a:xfrm>
            <a:off x="5868000" y="63972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rint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60"/>
          <p:cNvSpPr/>
          <p:nvPr/>
        </p:nvSpPr>
        <p:spPr>
          <a:xfrm>
            <a:off x="7198200" y="639720"/>
            <a:ext cx="179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itional Backdr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254" descr="santa's_sleigh_qx"/>
          <p:cNvPicPr/>
          <p:nvPr/>
        </p:nvPicPr>
        <p:blipFill>
          <a:blip r:embed="rId3"/>
          <a:stretch/>
        </p:blipFill>
        <p:spPr>
          <a:xfrm>
            <a:off x="25146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91" name="Picture 255" descr="santa's_sleigh_sld"/>
          <p:cNvPicPr/>
          <p:nvPr/>
        </p:nvPicPr>
        <p:blipFill>
          <a:blip r:embed="rId4"/>
          <a:stretch/>
        </p:blipFill>
        <p:spPr>
          <a:xfrm>
            <a:off x="41148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92" name="Picture 256" descr="santa's_sleigh_prt"/>
          <p:cNvPicPr/>
          <p:nvPr/>
        </p:nvPicPr>
        <p:blipFill>
          <a:blip r:embed="rId5"/>
          <a:stretch/>
        </p:blipFill>
        <p:spPr>
          <a:xfrm>
            <a:off x="57150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pic>
        <p:nvPicPr>
          <p:cNvPr id="593" name="Picture 257" descr="santa's_sleigh_trs"/>
          <p:cNvPicPr/>
          <p:nvPr/>
        </p:nvPicPr>
        <p:blipFill>
          <a:blip r:embed="rId6"/>
          <a:stretch/>
        </p:blipFill>
        <p:spPr>
          <a:xfrm>
            <a:off x="7315200" y="914400"/>
            <a:ext cx="1544760" cy="115884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594" name="页脚占位符 14"/>
          <p:cNvSpPr/>
          <p:nvPr/>
        </p:nvSpPr>
        <p:spPr>
          <a:xfrm>
            <a:off x="3124080" y="6689880"/>
            <a:ext cx="28958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2T06:39:37Z</dcterms:created>
  <dc:creator>keke</dc:creator>
  <dc:description/>
  <dc:language>en-US</dc:language>
  <cp:lastModifiedBy>Sky123.Org</cp:lastModifiedBy>
  <dcterms:modified xsi:type="dcterms:W3CDTF">2015-07-24T07:43:39Z</dcterms:modified>
  <cp:revision>7</cp:revision>
  <dc:subject/>
  <dc:title>站长站素材 SC.chinaz.COM</dc:title>
</cp:coreProperties>
</file>