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ADD-EBD2-401D-9757-29BFEFA0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60F-6162-42EE-B5B8-60542CD2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4BC-3264-4EBC-88C5-D2A98183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41F-462F-475F-AD37-D6351797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0953-3986-4A93-AE54-18B3A45B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5725-80C0-4843-B21F-CB1B21F1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0E10-E691-4A37-A776-0EBDC510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0AD8-7AB2-48E2-81A9-A7F071C0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FAE0-FE46-4192-AABF-39313C5A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B927-C3D1-4657-BE01-98409BED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85E6-6C9C-4D74-B5A5-60315F49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6A7-FA41-4953-AC60-8DCC491B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DE88-2E15-43C1-B24D-975AF957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4C10-D548-42E2-A7F1-9A721163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118C-6EE1-4783-A3F1-AB6D5EC7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7899-45EE-448F-9AB9-660F1790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EA52-E50A-4574-89A0-8D8771F3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788-9D1B-4C5F-9777-50B5CEDD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7F8-2750-40C9-9833-6BEA554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32A-3576-4C07-AB9E-78FCEDCE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317-E9C9-4527-BB48-DFA85B9E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1C5-3EDD-4932-9BE7-75F195DE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598-8F9F-47F5-826C-278A8AA6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960-74AC-4097-9DBA-D1D605FC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DBDB-1D27-483F-8A74-F680A1944E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A8E5-4730-474C-ACE0-17FEF3839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file:///tmp/home/.config/libreoffice/4/user/gallery/&#38899;&#25928;.wav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tmp/home/.config/libreoffice/4/user/gallery/&#38899;&#25928;.wav" TargetMode="External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&#38899;&#25928;.wav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tmp/home/.config/libreoffice/4/user/gallery/&#38899;&#25928;.wav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file:///tmp/home/.config/libreoffice/4/user/gallery/&#38899;&#25928;.wav" TargetMode="External"/><Relationship Id="rId12" Type="http://schemas.openxmlformats.org/officeDocument/2006/relationships/hyperlink" Target="file:///tmp/home/.config/libreoffice/4/user/gallery/&#38899;&#25928;.wav" TargetMode="External"/><Relationship Id="rId13" Type="http://schemas.openxmlformats.org/officeDocument/2006/relationships/hyperlink" Target="file:///tmp/home/.config/libreoffice/4/user/gallery/&#38899;&#25928;.wav" TargetMode="External"/><Relationship Id="rId14" Type="http://schemas.openxmlformats.org/officeDocument/2006/relationships/hyperlink" Target="file:///tmp/home/.config/libreoffice/4/user/gallery/&#38899;&#25928;.wav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b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4014720" y="174600"/>
            <a:ext cx="4338720" cy="59785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5"/>
          <p:cNvSpPr/>
          <p:nvPr/>
        </p:nvSpPr>
        <p:spPr>
          <a:xfrm rot="20940000">
            <a:off x="3893040" y="1002960"/>
            <a:ext cx="3913200" cy="3020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够范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你就来</a:t>
            </a:r>
            <a:r>
              <a:rPr b="1" i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6"/>
          <p:cNvSpPr/>
          <p:nvPr/>
        </p:nvSpPr>
        <p:spPr>
          <a:xfrm rot="20880000">
            <a:off x="5407200" y="3727440"/>
            <a:ext cx="35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首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设计大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52428" t="23605" r="16667" b="32405"/>
          <a:stretch/>
        </p:blipFill>
        <p:spPr>
          <a:xfrm>
            <a:off x="9016920" y="2249640"/>
            <a:ext cx="238752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6560" y="2236680"/>
            <a:ext cx="2714760" cy="2365560"/>
          </a:xfrm>
          <a:prstGeom prst="rect">
            <a:avLst/>
          </a:prstGeom>
          <a:ln w="0">
            <a:noFill/>
          </a:ln>
        </p:spPr>
      </p:pic>
      <p:pic>
        <p:nvPicPr>
          <p:cNvPr id="87" name="E:\临时文件\WPS主题PPT大赛 宣传策划\图\2.png2" descr=""/>
          <p:cNvPicPr/>
          <p:nvPr/>
        </p:nvPicPr>
        <p:blipFill>
          <a:blip r:embed="rId4"/>
          <a:stretch/>
        </p:blipFill>
        <p:spPr>
          <a:xfrm>
            <a:off x="10576080" y="6378480"/>
            <a:ext cx="1295280" cy="320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0499760" y="5962680"/>
            <a:ext cx="1585800" cy="341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3880" y="601992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主办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9721800" y="635652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协办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 rot="20820000">
            <a:off x="5492880" y="5240160"/>
            <a:ext cx="22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wps.cn/zt/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639900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写作品信息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此页非设计页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813280"/>
            <a:ext cx="3672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作品名称：圣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作者姓名：森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"/>
                            </p:stCondLst>
                            <p:childTnLst>
                              <p:par>
                                <p:cTn id="12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2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78 0.010361 L 0.009787 0.045146 L -0.013744 0.045146 L -0.001978 0.010361 Z">
                                      <p:cBhvr>
                                        <p:cTn id="19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204720" cy="6856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840" y="52560"/>
            <a:ext cx="314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11680" y="2130480"/>
            <a:ext cx="4257720" cy="2219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910040" y="2065320"/>
            <a:ext cx="2371680" cy="2533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762280" y="4329000"/>
            <a:ext cx="790560" cy="819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33080" y="4113360"/>
            <a:ext cx="838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4e311a"/>
                </a:solidFill>
                <a:latin typeface="Aparajita"/>
              </a:rPr>
              <a:t>Merry Christmas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106520" y="514368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11a"/>
                </a:solidFill>
                <a:latin typeface="Aparajita"/>
              </a:rPr>
              <a:t>SPECIAL WIS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26320" y="4255920"/>
            <a:ext cx="46656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28480" cy="6872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589200" y="0"/>
            <a:ext cx="4953240" cy="2085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84400" y="1349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方正综艺简体"/>
                <a:ea typeface="方正综艺简体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7160" y="1870200"/>
            <a:ext cx="9229680" cy="98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68320" y="2679840"/>
            <a:ext cx="922968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52480" y="3544920"/>
            <a:ext cx="9229680" cy="981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52480" y="4362480"/>
            <a:ext cx="9229680" cy="98100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  <a:hlinkClick r:id="rId11"/>
          </p:cNvPr>
          <p:cNvSpPr/>
          <p:nvPr/>
        </p:nvSpPr>
        <p:spPr>
          <a:xfrm>
            <a:off x="5271840" y="22557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造字工房悦圆演示版常规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造字工房悦圆演示版常规体"/>
              </a:rPr>
              <a:t>圣诞节的由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>
            <a:hlinkClick r:id="rId12"/>
          </p:cNvPr>
          <p:cNvSpPr/>
          <p:nvPr/>
        </p:nvSpPr>
        <p:spPr>
          <a:xfrm>
            <a:off x="4929120" y="302904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造字工房悦圆演示版常规体"/>
                <a:ea typeface="造字工房悦圆演示版常规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造字工房悦圆演示版常规体"/>
                <a:ea typeface="造字工房悦圆演示版常规体"/>
              </a:rPr>
              <a:t>圣诞节的习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>
            <a:hlinkClick r:id="rId13"/>
          </p:cNvPr>
          <p:cNvSpPr/>
          <p:nvPr/>
        </p:nvSpPr>
        <p:spPr>
          <a:xfrm>
            <a:off x="5149800" y="38703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造字工房悦圆演示版常规体"/>
                <a:ea typeface="造字工房悦圆演示版常规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造字工房悦圆演示版常规体"/>
                <a:ea typeface="造字工房悦圆演示版常规体"/>
              </a:rPr>
              <a:t>圣诞老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>
            <a:hlinkClick r:id="rId14"/>
          </p:cNvPr>
          <p:cNvSpPr/>
          <p:nvPr/>
        </p:nvSpPr>
        <p:spPr>
          <a:xfrm>
            <a:off x="5090400" y="47102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造字工房悦圆演示版常规体"/>
                <a:ea typeface="造字工房悦圆演示版常规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造字工房悦圆演示版常规体"/>
                <a:ea typeface="造字工房悦圆演示版常规体"/>
              </a:rPr>
              <a:t>圣诞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122047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44760" y="1828800"/>
            <a:ext cx="615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圣诞节这个名称是“基督悒撒”的缩写。很长时间以来圣诞节的日期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都是没有确定的，直到西元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世纪中期，基督教在罗马合法化以后，西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元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354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年罗马主教指定儒略历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月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25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日为耶稣诞生日。据说：第一个圣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诞节是在公元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38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年，由罗马主教圣克里门倡议举行。而教会史载第一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个圣诞节则在公元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336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年。由于圣经未明记耶稣生于何时，故各地圣诞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节日期各异。直到公元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440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年，才由罗马教廷定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月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25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日为圣诞节。公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元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607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年，世界各地教会领袖在伯利恒聚会，进一步予以确定，从此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世界大多数的基督徒均以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月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25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日为圣诞节。十九世纪，圣诞卡的流行、</a:t>
            </a:r>
            <a:br>
              <a:rPr sz="2400"/>
            </a:b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圣诞老人的出现，圣诞节也开始流行起来了。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09880" y="482760"/>
            <a:ext cx="4572000" cy="1218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52320" y="7272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Calibri"/>
                <a:ea typeface="造字工房悦圆演示版常规体"/>
              </a:rPr>
              <a:t>圣诞节的由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320480" y="4927680"/>
            <a:ext cx="1838160" cy="163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7920" y="1436760"/>
            <a:ext cx="981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04720" cy="6856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9880" y="482760"/>
            <a:ext cx="4572000" cy="121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320480" y="4927680"/>
            <a:ext cx="1838160" cy="1638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152320" y="7272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Calibri"/>
                <a:ea typeface="造字工房悦圆演示版常规体"/>
              </a:rPr>
              <a:t>圣诞节的习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3324600" y="1873080"/>
            <a:ext cx="609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西方人以红、绿、白三色为圣诞色，圣诞节来临时家家户户都要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圣诞色来装饰。红色的有圣诞花和圣诞蜡烛。绿色的是圣诞树。它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圣诞节的主要装饰品，用砍伐来的杉、柏一类呈塔形的常青树装饰而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上面悬挂着五颜六色的彩灯、礼物和纸花，还点燃着圣诞蜡烛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　　红色与白色相映成趣的是圣诞老人，他是圣诞节活动中最受欢迎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人物。西方儿童在圣诞夜临睡之前，要在壁炉前或枕头旁放上一只袜子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等候圣诞老人在他们入睡后把礼物放在袜子内。在西方，扮演圣诞老人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是一种习俗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052640" y="1141560"/>
            <a:ext cx="1562040" cy="172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04720" cy="6856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9880" y="482760"/>
            <a:ext cx="4572000" cy="1218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488920" y="727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Calibri"/>
                <a:ea typeface="造字工房悦圆演示版常规体"/>
              </a:rPr>
              <a:t>圣诞老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3330360" y="1873080"/>
            <a:ext cx="585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圣诞老人的传说在数千年前的斯堪的纳维亚半岛即出现。北欧神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中司智慧，艺术，诗词，战争的奥丁神，寒冬时节，骑上他那八脚马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骑驰骋于天涯海角，惩恶扬善，分发礼物。与此同时，其子雷神着红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以闪电为武器与冰雪诸神昏天黑地恶战一场，最终战胜寒冷。据异教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说，圣诞老人为奥丁神后裔。也有传说称圣诞老人由圣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尼古拉而来，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以圣诞老人也称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St.Nicholas.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因这些故事大多弘扬基督精神，其出处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故事情节大多被淡忘，然而圣诞老人却永驻人们精神世界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540000">
            <a:off x="1176120" y="1473120"/>
            <a:ext cx="895320" cy="943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0320480" y="4927680"/>
            <a:ext cx="1838160" cy="163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04720" cy="6856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840" y="52560"/>
            <a:ext cx="3144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74800" y="1093680"/>
            <a:ext cx="1562040" cy="1724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09880" y="482760"/>
            <a:ext cx="4572000" cy="1218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44280" y="1873080"/>
            <a:ext cx="700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圣诞树（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Christmas tree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）是用灯烛和装饰品把枞树或洋松装点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来的常青树，作为圣诞节庆祝活动的一部分。近代圣诞树起源于德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德国人于每年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月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24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日，即亚当和夏娃节，在家里布置一株枞树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伊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园之树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，将薄饼干挂在上面，象征圣饼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基督徒赎罪的标记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。近代改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各式小甜饼代替圣饼，还常加上象征基督的蜡烛。此外，室内还设有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诞塔，是一木质的三角形结构，上有许多小架格放置基督雕像，塔身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以常青树枝叶、蜡烛和一颗星。到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16</a:t>
            </a: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世纪，圣诞塔和伊甸园树合并为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微软雅黑"/>
                <a:ea typeface="微软雅黑"/>
              </a:rPr>
              <a:t>诞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5577840" y="727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Calibri"/>
                <a:ea typeface="造字工房悦圆演示版常规体"/>
              </a:rPr>
              <a:t>圣诞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1220472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938240" y="1847880"/>
            <a:ext cx="8315280" cy="2314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168160" y="2503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Calibri"/>
                <a:ea typeface="造字工房悦圆演示版常规体"/>
              </a:rPr>
              <a:t>谢谢欣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3717720" y="478476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乐圣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是圣诞快乐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那快乐的阳光，也不是鸟儿的啁啾，那是愉快的念头和幸福的笑容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温馨慈爱的问候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祝愿每个人圣诞节快乐" descr=""/>
          <p:cNvPicPr/>
          <p:nvPr/>
        </p:nvPicPr>
        <p:blipFill>
          <a:blip r:embed="rId3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b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 rot="21480000">
            <a:off x="10455120" y="4708440"/>
            <a:ext cx="1500480" cy="217800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5"/>
          <p:cNvSpPr/>
          <p:nvPr/>
        </p:nvSpPr>
        <p:spPr>
          <a:xfrm rot="20940000">
            <a:off x="10362240" y="5162040"/>
            <a:ext cx="160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够范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你就来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 rot="20940000">
            <a:off x="10683000" y="6134040"/>
            <a:ext cx="15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首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设计大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09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页阐述作品设计理念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此页非设计模板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108950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的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快乐的圣诞节。主题结合圣诞夜空和月亮的颜色给人一种轻松明朗的感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伴着结尾温馨的圣诞歌曲，会让你的圣诞更美好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来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xiaba.shijue.me/stuff/508603714b7959a013000009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"/>
                            </p:stCondLst>
                            <p:childTnLst>
                              <p:par>
                                <p:cTn id="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83073 0.16213 E">
                                      <p:cBhvr>
                                        <p:cTn id="29" dur="2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78 0.010361 L 0.009787 0.045146 L -0.013744 0.045146 L -0.001978 0.010361 Z">
                                      <p:cBhvr>
                                        <p:cTn id="40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zuazua W</cp:lastModifiedBy>
  <dcterms:modified xsi:type="dcterms:W3CDTF">2012-12-14T04:38:1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