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91D-8ACE-4CB4-ABD5-E805C12E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ED1-FA70-43D7-9503-B9E383A1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D90-1C05-4F9B-93F1-269A4774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80E-3928-4944-AAE2-F16C23CC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5826-6956-43EC-810F-A3296506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6A2-09B2-4BD2-B90E-8C65A052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E1D-060B-4F52-9A86-C08DA8A7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391-3E5C-46FB-947D-00F9C233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BC86-26E5-444D-80F3-52542F57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594-3FA1-498D-AAB3-33F4C0EF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D5D-7F4E-4162-B8CF-0D2B6BEB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B2A-B94B-46DD-A4A8-0BF4ED9E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289F-82BF-49F2-BF30-57A4131D5B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407844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465300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情人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1-16T08:14:19Z</dcterms:modified>
  <cp:revision>79</cp:revision>
  <dc:subject/>
  <dc:title>幻灯片 1</dc:title>
</cp:coreProperties>
</file>