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3E88-BCD0-47F4-8212-105390B7C8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F331-7F36-4F6E-B2EF-336EE91BFFB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D591-3D57-470F-9779-B6A538F082E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8CF0-DAA2-49E5-86B2-33B04EFF0A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8571-C650-4AFE-B803-ACAE9D5178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5730-1CA6-4B27-AC0F-1E5B86C2B7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6C04-4AC4-41B4-8928-1EF4459E807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E548-6F5C-4FC9-A1F6-1A149ECBCBE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5DDC-7F17-466C-AE9B-F8BE814B663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7B7D1-BDA6-47DE-A802-849E6D093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E26A6-F80D-447F-8EAE-10DB88E3FF5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EA87E-B6EB-45B4-AC5A-CFD3163CDCF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A8735-03A6-409D-BDB9-19186967E0F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6D863-820F-4B4A-A198-4C8F12F9418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9C971-1DD7-4CBF-B804-D5C45E49D2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63F25-626A-44BB-865B-4B322D9DF7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0CE58-DE1F-4025-A104-30E21FA5008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3D6B0A-3A8D-4C70-9479-8042FB0B962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F4F82-B1D2-4E2E-9A1C-C5E2DBDC99C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13C47-6584-450A-9489-D16E53769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43809-9328-402C-A84D-77A8C8BED5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315C7-36BB-45CC-BC2D-14841B66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C9F3F-8EE5-4C3B-A3F5-305804CD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2BACC4-A7EB-4FCF-9428-AF8CADC8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8CEAF6-4054-44DA-9D22-E6937CBC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D62877-F467-4441-8273-C8BF2CB2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FB811-7F47-4462-A32D-DC13C9F6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BC45DF-B194-4648-9186-2010E8F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06419-66AA-40BF-893B-E649F317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E90027-D1C3-4CB5-B108-2AE6BC3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F3DB41-11A2-4CF5-A83A-9125EAF7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2D5E41-FE0F-4E88-8E08-6A81247E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2E0516-380F-4059-8E1B-334EE7EF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4B2458-09B1-4E62-9C2D-6CB19B9E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1ACF1E-3217-4354-AD0E-B1369DDE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A2A5D-2C04-4A09-ACDB-CBC6AFBF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723F36-6CC3-49FE-8702-3309DE46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2BDDCD-1F78-4AB4-8232-0B2357A7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D85166-09FB-401A-B836-3E32D662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704E27-12AE-475B-982E-8AF97E2A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CE37F9-B575-4977-9C82-28AA912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AF927F-39E1-49A1-9866-666E1F1A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6FC355-D5DD-417E-AF57-A38898A8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7B052C-0D9B-4F11-BA46-7665C664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16E1D0-182F-475F-853E-942FC034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A2484B-D23B-489B-9319-A81AE356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C0541-FFA1-4A97-B209-97E72D2A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704E75-A3DB-44E6-9F10-B5325744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8CA452-9225-49E0-9441-63259B4F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2EC59-01E3-4B1B-BCC4-4D39F73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DB8795-551B-4AFD-9D64-D1F5F67F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1EAEB2-7383-4913-A875-A287B5FC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6A3EF1-0466-412C-A59D-6B7E763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C66395-C279-496C-A5F7-D3B70B0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5E3DE2-4CD5-40FC-80EA-6EC2D2B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B47DFA-5AE9-4C84-9972-990D573C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372EB1-9DE6-4F5C-9D1C-AB99A2CC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4FCD-DAA8-4420-BA42-92EDB051CB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C67F-A086-4EF6-ADF2-B222B60B47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9974-5287-47AA-A5DE-10C9BEE3D4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7FA8-162D-46C9-BBAC-89EA1D084E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88EB-8320-423E-9045-45FD18AFD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7434-8C20-4818-BE1C-5F61490621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42F7-28AB-4696-9592-1BBC3AF4A4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3D6F-E25E-4DC7-84E7-45799FC2D2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04CC-24C1-4FB0-B885-768E2AEB95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51DA-7802-4877-95A9-72B71B9111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52B2-DF3A-4FEC-B859-8BA36F4284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BA49-712D-49F3-89C9-EF08CCF2F4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4B29-A042-4473-A342-75FFA7186F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1176-8D87-44C4-936D-F98CA3AEAF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3813-8969-40A5-A13C-B2B8DE002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EA05-60EB-4246-9B53-D0AE13A519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BD4B-DEAC-494C-8388-B8912F0CF9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E7C4-C22B-4AF0-A562-E05A7BE0EF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B203-6FA3-4435-988D-91D21732FF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F2AA-C88F-48C7-9700-D43C07E0AB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CD17-902B-445B-8447-158270FEB5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8E46-10ED-446C-9A0A-4B1495DC2C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97F9-D65C-4E37-8BD1-82793923EC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3876-8F75-45DE-82A5-CCC997FE91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BEC-C1A9-45BB-A4D0-8BB6C49A1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4E2-D24E-4137-A34D-B571FA65D5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26B-02A7-409A-BCB4-87F2436E18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681-C569-4A43-9732-3901FD1637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7AC-69E4-4F2C-ABA0-87645A479D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690-6AF1-4AF1-88D5-43B092DD6F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E30-4615-4C3F-9836-D3EEEB6FF3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EFF-020D-4B01-BE20-02E6A61728F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08C-858A-44AD-8B89-1BB5CE2C18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11B-3BCE-4F25-BCAE-B9C4FF00095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017-C7EC-4AF9-B28C-18EC22DDC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1B3-2B6D-4817-B698-BCE89B4824A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34F5-D893-415E-B5BA-4872F091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5FE2-323C-4483-ADE2-0803695A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DB9C-AE33-44CF-8D5D-B3B6F08E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9F2F-2109-463C-939F-DE653861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6AB-33F1-407B-A3A5-3BCE47C7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25BC-3921-49E2-87C5-6BF6F4B3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42B1-3724-4D1E-B985-9F27D51B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ABF1-3834-48DE-ADBB-DA8C4F0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59A2-DA77-4A84-8652-CF28B72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97A4-0C34-4762-AAC5-446F0309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209D-0A74-47CF-84FB-C4751957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35EC-1CA2-420C-B4A6-6E1FE3CC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3964C-699D-4FB1-A250-A637451B63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BC3AE-E59E-45FB-BE81-AE14A29B257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51583-64C3-4AEE-A3BD-72BEA055A2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C3DB6-9751-41D6-9876-0FE782F2330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7C773-C121-40DE-B8BD-2234E851EA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3D8757-1B42-4519-860F-48E9F3E6E0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052CF-0E2C-42D3-B820-8A60A6845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DF95A-2FBE-4513-BF42-76ADAC3BC6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0E01B7-F9A2-4C57-9580-0C3677073B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09A3A-89E0-4EA5-BD36-D7ACAF88DC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D2638-63F2-47AC-9C64-BD7DE72298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A0B1B-9FF5-459B-ACBB-5AF349B250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4BBD3-1249-460A-8B33-008E93A9F9A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F8E5E-89A0-4A3D-BF67-20EFFD3658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DE56E-E145-48A9-B6FB-65586648D15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6D134-5421-470A-A60B-96EBB299F4D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0CA01-E0A9-4C68-8916-C1476DBB5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8281A-9F2D-44FE-9173-8E6647B00C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7DCA3-87C1-4617-A0FA-8A0831BE73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BF73B-3426-49C3-BACB-8D52E47D6F9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C2466-D637-4B39-953E-591A6FE0B44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9BE82-F566-4BC3-8028-1C72FEA979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61575-B664-4ADA-B474-035DEAEDB0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D379B-CB6B-43D2-852D-168AC818D3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F68D-29EE-45CA-9842-B1234E5B727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4B15-828C-4D79-8DB9-87D7045EB9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8CDE-7304-43EC-BAFC-B5DC8D43C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387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88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B11E-115B-4886-8B05-13F64CE948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430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1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1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2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3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8A31-5071-4D1E-B2BA-E0CF64A26F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475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76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4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15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16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41A8-3403-403D-B7C1-66A6CDEA1F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520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21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7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18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19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0462-8F0B-4D17-B403-B66D1411470F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9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" name="图片 10" descr="图片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84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5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1"/>
          </p:nvPr>
        </p:nvSpPr>
        <p:spPr>
          <a:xfrm>
            <a:off x="2999880" y="6286320"/>
            <a:ext cx="3286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锡市南湖大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扬名创智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510-85025859   F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510-857553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www.jt56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8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2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57F8-CA16-450C-AE36-DC3B1726F7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170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1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96CC-08A2-483A-AEEC-13F5B51BF8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213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4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57E8-CC00-44E9-8E6B-89D5CFC1F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258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9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7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733A-0186-4111-A27B-D8FFA1218A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301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2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8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3C25-C2BD-4564-A3B5-3C4D1B402E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344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45" name="图片 7" descr="WXCA数字中心2.gif"/>
          <p:cNvPicPr/>
          <p:nvPr/>
        </p:nvPicPr>
        <p:blipFill>
          <a:blip r:embed="rId4"/>
          <a:stretch/>
        </p:blipFill>
        <p:spPr>
          <a:xfrm>
            <a:off x="6572160" y="257040"/>
            <a:ext cx="2000520" cy="7430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9"/>
          </p:nvPr>
        </p:nvSpPr>
        <p:spPr>
          <a:xfrm>
            <a:off x="2285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62EB-5C37-4A8D-86F5-BA1769C254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1731960" y="1066680"/>
            <a:ext cx="395280" cy="304920"/>
            <a:chOff x="1731960" y="1066680"/>
            <a:chExt cx="395280" cy="304920"/>
          </a:xfrm>
        </p:grpSpPr>
        <p:pic>
          <p:nvPicPr>
            <p:cNvPr id="564" name="椭圆 5" descr=""/>
            <p:cNvPicPr/>
            <p:nvPr/>
          </p:nvPicPr>
          <p:blipFill>
            <a:blip r:embed="rId1"/>
            <a:stretch/>
          </p:blipFill>
          <p:spPr>
            <a:xfrm>
              <a:off x="1731960" y="1066680"/>
              <a:ext cx="3952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1889280" y="110304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50Z</dcterms:created>
  <dc:creator>符号</dc:creator>
  <dc:description/>
  <dc:language>en-US</dc:language>
  <cp:lastModifiedBy>grace</cp:lastModifiedBy>
  <dcterms:modified xsi:type="dcterms:W3CDTF">2014-05-27T03:15:46Z</dcterms:modified>
  <cp:revision>51</cp:revision>
  <dc:subject/>
  <dc:title>10月工作总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