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418-4D0A-4E8E-ACE7-A7BFBAB6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EC1-D905-4227-88D5-F1A0EA3E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1A3-4634-4786-973C-8B627FA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AE2-035D-4171-AC3D-87DC310F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A1A-4436-4FE0-8049-69B62D3F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AB1-0F9D-4FB3-990F-D135A0F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6CC-CC9B-4413-81D1-37EC974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D25-6E00-4942-9B6C-6CB66E06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E0C-FEB3-444E-ADD9-84319A2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B7D-6C15-44AA-A4B4-CA01D67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227-E8D4-462C-B13C-65CBF6E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A3D-99A7-4DBF-848C-B5CC92D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AB7DB-480E-4AE9-A537-8EDCE2980D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DA4A5-69F8-4C4B-B18B-FF0C5F6048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阿里巴巴路演</a:t>
            </a:r>
            <a:br>
              <a:rPr sz="8800"/>
            </a:b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（英文版）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09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10.jpg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1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2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3" descr="13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4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3" descr="15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16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内容占位符 3" descr="17.jpg"/>
          <p:cNvPicPr/>
          <p:nvPr/>
        </p:nvPicPr>
        <p:blipFill>
          <a:blip r:embed="rId1"/>
          <a:srcRect l="0" t="13443" r="0" b="1344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内容占位符 3" descr="1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1.jpg"/>
          <p:cNvPicPr/>
          <p:nvPr/>
        </p:nvPicPr>
        <p:blipFill>
          <a:blip r:embed="rId1"/>
          <a:stretch/>
        </p:blipFill>
        <p:spPr>
          <a:xfrm>
            <a:off x="0" y="120348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19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内容占位符 3" descr="20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内容占位符 3" descr="21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22.jpg"/>
          <p:cNvPicPr/>
          <p:nvPr/>
        </p:nvPicPr>
        <p:blipFill>
          <a:blip r:embed="rId1"/>
          <a:srcRect l="0" t="12331" r="0" b="1233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内容占位符 3" descr="23.jpg"/>
          <p:cNvPicPr/>
          <p:nvPr/>
        </p:nvPicPr>
        <p:blipFill>
          <a:blip r:embed="rId1"/>
          <a:srcRect l="0" t="13658" r="0" b="136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24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内容占位符 3" descr="25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3" descr="26.jpg"/>
          <p:cNvPicPr/>
          <p:nvPr/>
        </p:nvPicPr>
        <p:blipFill>
          <a:blip r:embed="rId1"/>
          <a:srcRect l="0" t="13712" r="0" b="1371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内容占位符 3" descr="2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内容占位符 3" descr="2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02.jpg"/>
          <p:cNvPicPr/>
          <p:nvPr/>
        </p:nvPicPr>
        <p:blipFill>
          <a:blip r:embed="rId1"/>
          <a:srcRect l="0" t="13321" r="0" b="13321"/>
          <a:stretch/>
        </p:blipFill>
        <p:spPr>
          <a:xfrm>
            <a:off x="0" y="874800"/>
            <a:ext cx="91137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内容占位符 3" descr="29.jpg"/>
          <p:cNvPicPr/>
          <p:nvPr/>
        </p:nvPicPr>
        <p:blipFill>
          <a:blip r:embed="rId1"/>
          <a:srcRect l="0" t="10716" r="0" b="107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内容占位符 3" descr="30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内容占位符 3" descr="31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内容占位符 3" descr="32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内容占位符 3" descr="33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内容占位符 3" descr="34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内容占位符 3" descr="35.jpg"/>
          <p:cNvPicPr/>
          <p:nvPr/>
        </p:nvPicPr>
        <p:blipFill>
          <a:blip r:embed="rId1"/>
          <a:srcRect l="0" t="13171" r="0" b="131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内容占位符 3" descr="36.jpg"/>
          <p:cNvPicPr/>
          <p:nvPr/>
        </p:nvPicPr>
        <p:blipFill>
          <a:blip r:embed="rId1"/>
          <a:srcRect l="0" t="12558" r="0" b="125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内容占位符 3" descr="37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3" descr="38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03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内容占位符 3" descr="39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04.jpg"/>
          <p:cNvPicPr/>
          <p:nvPr/>
        </p:nvPicPr>
        <p:blipFill>
          <a:blip r:embed="rId1"/>
          <a:srcRect l="0" t="12784" r="0" b="1278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05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06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0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内容占位符 3" descr="08.jpg"/>
          <p:cNvPicPr/>
          <p:nvPr/>
        </p:nvPicPr>
        <p:blipFill>
          <a:blip r:embed="rId1"/>
          <a:srcRect l="0" t="13817" r="0" b="1381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3:04:00Z</dcterms:created>
  <dc:creator>Qian Hu</dc:creator>
  <dc:description/>
  <cp:keywords/>
  <dc:language>en-US</dc:language>
  <cp:lastModifiedBy>用户名</cp:lastModifiedBy>
  <dcterms:modified xsi:type="dcterms:W3CDTF">2014-09-13T13:26:3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