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825B-236A-41F1-9C04-ED0B0BC1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A40C-B992-47B2-B005-81509D5E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9A7B2-A1E4-46B7-9C64-E678FA35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A5D90-63B1-4A53-8F4D-A9E96D95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4666C-9E1C-4CE7-B3F2-7205CEB8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D31FA-4245-4433-8849-F308B73A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E9879-7ED5-4B31-A098-434C72D0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30EE5-635E-41D5-825F-9EB6D1E0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55252-5C34-4906-B2C2-1DEE2A4C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D60FA-F888-4D5A-88D2-A5F99E630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FFF33-CC8C-4EC5-8935-5F7A021C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EC88E9-694A-4A40-8182-F5970189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8D47-F783-4779-8B41-BF776EC8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EB1F84-0B76-4B3F-A231-56A585D0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0C201-A540-4642-8D8B-2D512337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118C7-CBE5-45FB-8576-7D88A593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D6ED6-0EDD-4F08-9EFB-B63687D9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C54E7-F71D-4567-9A61-6579BCC2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58B3E-2F52-4E6C-AE5F-C04208C9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9C88B-68DC-4CC7-8A98-A968BEE8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AA937-7AB0-4A98-B815-CC8E84C3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1455D-0071-400C-8A51-A06555E3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7E2847-58DC-46D6-BA7A-3767A97B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960F-00B8-4A80-80DC-381820460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5EBE8-670D-4839-A36A-C8151A3A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9E1CB-4954-46D6-BF39-70F4B892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F4B6B-2E4D-4E79-A4B1-E4AB085B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6196F-C27B-4D21-BD7F-C86FE9A4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33F81-73DD-453C-AC25-563BA191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C362D-5A18-429C-A317-3F33AB8F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BBB26-FA48-40E6-A53A-2AF27915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FE7AC-2D14-4CA3-A2BF-8D96C7AF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89CB6-0DD5-40AE-BDE7-7578109C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2769C-66FC-406F-9212-E513C265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6FA7-5821-4B71-A5CD-602E0C392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9A155-B526-4070-BCBF-EA2BDD9A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B13E1-8BF8-4C18-87D1-39F3CB94A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0492F-F5A1-4569-92B3-D8C7CA20C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D25FE-F771-49C2-A004-1AA38722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678D7-58C8-4F7E-8143-FEEE7886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AFE26-6FFA-4B4E-8AF6-7B41C415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63CF4D-0AAB-41FD-B05D-18ADD860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5571BC-B50C-4726-B996-49E3F916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47A094-2A37-4406-B393-3FE56B5B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6A1F2D-EBA7-439A-8D05-CB2E73F0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1E62-5AAF-4BEF-8628-33EC6702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D0300-87A7-4CBE-8E10-A5C36F13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5C0007-28FA-4BFF-BA5E-154292FA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FC838-F5CF-4093-83BF-F54996A4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2043F-C140-49A5-9B65-0CB083C0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D8ADED-6328-4E65-BE4A-F5122C28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2E3CC6-6EC3-46C4-B3CD-A8AB51A7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283C66-888C-443A-A1F3-278DE5B5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4DE8AA-A4C1-469C-9139-2B3EBEB7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A492E4-7BD5-4F62-B0D9-92198FB8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38D8CB-C4A6-44E7-9938-F10F3FDA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8CD3-243B-4A59-A6D0-74FD8D3B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129E34-1D98-40A5-A283-FCE8D19B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D72C26-FF2F-42D5-94C1-8861ABF2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DEA606-F9C3-44BD-BB1E-21330DC2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6E333A-0B89-4721-B9DC-4F320545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D16A5C-F9EC-419B-9379-963C6D76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65E125-D338-4169-9D82-5B2423DC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F49FE7-B4A2-4D9C-8590-FCD964AA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CE8B02-1CD8-4942-96CD-5CD7D9F4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F43B23-5560-423C-9943-665A7210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A0989C-9070-4657-82DF-87249497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6302-2BDE-4AAE-AE4A-229DA9EC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B0F985-14E2-4FCC-A649-25809B78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3FCAEC-0311-4FE3-B14E-3686F7EE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EE1003-A740-413A-B2FD-F1EE8E21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72A766-E4F6-4063-9B36-9116773B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3C3087-848B-44B6-BF23-CCEB6690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2E3E3A-7DBB-438B-98DF-4B82B139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9946CB-958B-49D2-8264-438F8DDF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D38F6E-B9CC-4B89-8AB3-8B41135E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9F0288-6CB3-43B5-B5EE-B12613C9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D5C648-C8E7-4A03-8E7B-F74C4F8A3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1C82-6720-46A4-B3F0-E0654305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36CCF1-0DA7-4407-9EB1-B57AB6DB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3ED80F-C824-41B5-AD04-B9502892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ADF501-EC9F-4E72-9CD1-3EC93785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B056A8-5ADC-4C3B-AF81-08D820B6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6858D2-6C18-442E-8350-1CABA78B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59F0DA-E880-44DD-8696-321C73ED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5ABA8B-AD67-45DE-AE04-08871F9E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C105DC-7B47-40AC-8E9E-A947B497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ABD8B6-778C-42ED-A7C2-2C1FC232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C2449E-F732-4B86-8212-228B832C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D997-CC57-4620-8673-BACF7E2F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7BBF45-14E1-43C3-A46D-13FDCFDBE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F5D4E5-8421-4847-8C67-C01AEA29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E15535-5834-41D1-8159-1AD8E51A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E7760B-2CAC-4C65-99A0-151E6779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8534E5-94D6-4D0A-9BE5-F537B5BC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C0563E-4305-40F7-95B0-E321B732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144F1E-55E9-4C1A-A2DE-303A0F96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D5BF27-67C6-4961-B645-417DEB0E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A7FF6A-9B8C-4353-98B8-30C42E8F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E4154B-EAAC-43FE-A27B-9EDB2C89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1146-037A-4E4D-A787-1E908B0A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EF9ADB-2359-4F87-A81A-3F008FB4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9367E5-8C3A-4E95-9A86-26E7E2F02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3D9FFE-D04A-481D-A2EE-DB527D351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019962-5DB1-4FF7-BA68-32DEB00E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1E5433-C46C-4738-B5D5-D75A0C58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95AB99-C5C9-4B63-B79F-68E58664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26A426-1FB6-49D2-AC9D-9C8D56DF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4C9E0A-F8B4-4802-9FB4-B77E2C05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9617EA-43F2-4AF2-A643-46638630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D05E4A-4AAF-4A18-B978-5E7F4668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C160-2CD7-4E0E-8C73-778E2137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124A-107A-47D3-89F4-0DF46051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10435B-1A89-49F7-B654-0542843B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4AC75B-0BC6-422E-B624-3CB03D58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A008E7-E0C7-4088-BD07-8E5317E1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389353-657E-4AFD-A71F-41FB94B89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880E58-9C47-4F54-8088-0DB98FB2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A457-5727-4E4B-A332-2B948332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BB40-534F-466C-80D3-AE8AD71E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D2B9-1DC5-4179-BFF5-432A16C7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8A30-B696-4C26-964E-7F19D59F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2A61C-C33E-44CD-BAD8-C3CEDBC63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6D278-DFE8-43FE-9EC0-EB2A7D6A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99109-EB3C-4C98-8854-757E7112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08DD4-559E-4A0F-A959-E5EB139A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E46A5-EA08-49AA-9D60-249B23C5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EAD1-1E57-43A8-992B-358582BE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6464F-F67C-495D-AA64-6B1A1E05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402A2-AE16-4930-BBEC-D6464C3C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3AE9A-2BC4-4B09-B85B-BA9F304D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50DE1-7307-4164-AEA5-60534DD8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8757E-C822-46E6-80F8-771CEB4D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6FBF9-BE2E-4473-82A9-E2A9120B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6B331-4CC8-4460-85B1-0AE8FB887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78D55-153E-4691-BD40-4735117F2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3C61E-3996-48F8-B5D7-E6AC18C3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F9FDE-7D23-4744-B3AA-D4A60DF4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D14A-7ED4-46E0-916D-A51B7938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302B8-9F94-42DC-9EC7-FAE69485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CDF5E-93A2-467D-B147-C1EA3B34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AEED9-FE05-4D2E-9212-308537C5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7D636-BE27-46BF-8878-B84D88EE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6C25A-8E78-4BB0-B0FD-F8604576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E5398-61CF-4D87-99A2-57E8C6A7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50479-7DF0-4B40-A6B5-69103C12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BE4B7-D278-4A6D-9238-1200310B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ECFF9-CB41-4C98-B0FA-141ED04C4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A6060-E04D-4066-8725-7575E355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D89E-FA38-4E38-B6BD-8572B2CB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18F3B-9DA5-4B82-982B-2632D489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88E1D-7206-4699-A21E-93FF1C11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DE8AD-FC2F-4B96-AEC6-34F1508B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A216F-B2E5-494D-AE40-55F95AC1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BDB5C-0876-495A-986A-3AE12DEB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5D97D-40BF-4403-9CC5-20523D0D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B92F7-E01C-46C2-832B-30A6039D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97940-D0C7-4516-83F5-548CACBD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1EC49-DC4F-40E1-BB35-7761E31F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FB7C9-5422-4B65-9A5E-5B9E91A2C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2AAF-41BF-45F9-801C-C5E1E116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E8DFE-0B61-4764-A8DE-F28E9232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48CBA-76DA-40A4-BDFF-B5694E18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A0AB1-43C5-44AA-8513-94D099CA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54D84-9370-4F4E-BFC2-2007AC7D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0D4DD-0B32-4170-8D6C-C16ED67E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55F9F-4148-4E3B-A8DF-2078A441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3F811-DEE8-4DF3-986F-FC2FBD1D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ECAC5-F66E-45E7-998A-4C32094D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8DA08-BA68-4C9A-A8F3-A34F770C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16E7E-6336-4230-B7E9-9110B635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2AF6-705B-48B5-A917-1141F23F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C4B48-E9F5-4047-9702-F0475728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9A2F0-964D-4B8D-B2AE-6FFF93EB7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159C6-4DAA-4F20-8FFC-6C20FB382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F1B63-6E98-49E1-8F83-30F238D8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1AD7E-BFBB-4231-814F-87B05C6C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8C64C-3CCE-4564-A89F-EA8B2652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AF9CE-822C-4389-8E24-9CD5B29B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0B031-222E-43F8-BA55-8BD2C35F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CA0CD-31B0-48CB-8241-0BB25FC1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574E8-E55F-4CDC-B254-BB4258E7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B488-EDE8-4D2E-B1F4-8CD6668F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2438A-CFA8-47D1-9F51-8101D701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75FB1-2960-472B-8C2E-85A35536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394C0-4FE8-4659-B272-6115786E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46EDC-2FE1-4718-A5A8-089B92E31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23FA6-BB18-46BD-87FF-57C1E919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D9E5F-3BB5-4A3F-8112-CE5DF602C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50B90-4991-4F64-A08A-8521A26D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CE813-0305-4485-8F19-537BA878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8B791-E687-4811-8803-1E2E6F57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35E2A-7453-45A9-A25C-8F48D4E1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30E3-70FC-43EC-94A9-12173FF2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C0CB5-98AF-408E-9391-2C0D1CC7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621EA-1C98-4D08-B05C-AF256AC9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1A015-80AE-4B64-9D2E-27B9B7B4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C9C99-CAFB-45D0-8F23-86E97682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8C64C-7728-48A3-90D2-B6189F57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AA7DB-8CE8-4607-9EE8-515D5D0D1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ABF5E-7649-4934-8D47-0AA3341E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36E6D-347B-4EB8-9CBC-9E450BC3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59860-865A-4483-9C94-BB8880CC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07AC4-1D8E-4DBD-B2A5-65B7BF16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400" y="626544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Times New Roman"/>
                <a:ea typeface="华文行楷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富安中学刘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564D-5392-486A-9385-733950B75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91FD-93B0-4592-B232-FD2575146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EC8F-FAE7-4226-8E3C-C116EFAE5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34"/>
          </p:nvPr>
        </p:nvSpPr>
        <p:spPr>
          <a:xfrm>
            <a:off x="122400" y="626544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Times New Roman"/>
                <a:ea typeface="华文行楷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富安中学刘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49DF-6FF9-44B6-9FE2-1F507BBF7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F55E-10DC-46FE-A82C-03C3E2DF2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FB33-E73C-462D-9129-47E294A8A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dt" idx="4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FD17-F3D6-4943-BE9D-3CE72D2D1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FE15-8A8B-4CF9-9826-F7C7AB120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5E9C-DA22-46F6-B392-9A94FE650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9ACF-F0E6-4549-9A6C-C1E2355E1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D6AF-5B30-430C-8910-E90817194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66F7-661E-4A83-A4B2-7A96F483D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A866-73CF-457B-890E-118350AB2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F1A7-B8D9-4F2C-B4E6-F5B74FDC9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7DAD-3BC9-4069-A0D5-62DC9A878B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22"/>
          </p:nvPr>
        </p:nvSpPr>
        <p:spPr>
          <a:xfrm>
            <a:off x="122400" y="626544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Times New Roman"/>
                <a:ea typeface="华文行楷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富安中学刘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DAB0-D3D5-491D-9B49-DE3435DC5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FD84-2212-44BE-A994-3DC28AC0A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8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684360" y="477720"/>
            <a:ext cx="69865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61000"/>
                    </a:srgbClr>
                  </a:outerShdw>
                </a:effectLst>
                <a:latin typeface="华文新魏"/>
              </a:rPr>
              <a:t>《论语》十二章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61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468360" y="4437000"/>
            <a:ext cx="8353440" cy="947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翻译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孔子说：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温习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学过的知识，从中获得新的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理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解与体会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凭借这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点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就可以当老师了。”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段解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学习方法。强调温故知新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95280" y="620640"/>
            <a:ext cx="8353440" cy="947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四章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子曰：“温故而知新，可以为师矣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95280" y="1917720"/>
            <a:ext cx="8353440" cy="1557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重点字词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解释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温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温习，复习。   （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故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旧的，原来的。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这里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指学过的知识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. 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新：新的理解与体会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而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连词，表示顺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接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。 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知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领悟，获得。      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可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可以。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凭借。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成为，做。 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矣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语气词，表肯定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50920" y="6308640"/>
            <a:ext cx="1584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395280" y="4149720"/>
            <a:ext cx="8353440" cy="1373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翻译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孔子说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“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只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知道学习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却不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知道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思考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就会感到迷茫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而无所适从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只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知道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思考而不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知道学习，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就会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思想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有害。”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段解：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学习方法。阐述学习和思考的辩证关系，强调学习与思考要相结合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68360" y="692280"/>
            <a:ext cx="8136000" cy="947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五章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子曰：“学而不思则罔，思而不学则殆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868840" y="1989000"/>
            <a:ext cx="3496320" cy="1922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重点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字词解释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：连词，表示转折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则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：连词，相当于“就”、“便”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罔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wǎng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）：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迷惑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，意思是感到迷茫而无所适从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殆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dài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）：本意是危险，这里指有害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50920" y="6813720"/>
            <a:ext cx="158436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324000" y="1989000"/>
            <a:ext cx="8424720" cy="1191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重点字词解释：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哉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感叹语气，多用于句子末尾。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箪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dān)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古代盛饭的圆形竹器。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巷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此处指颜回的住处。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堪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忍受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5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回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颜回，字子渊，孔子的弟子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24000" y="3860640"/>
            <a:ext cx="8424720" cy="947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翻译：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孔子说：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颜回的品质是多么高尚啊！一箪饭，一瓢水，住房在简陋的小屋里，别人都忍受不了这种穷困清苦，颜回却不改变他好学的乐趣，颜回的品质真高尚啊！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段解：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赞扬颜回乐于学习、贫贱（困）不移的精神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24000" y="476280"/>
            <a:ext cx="8424720" cy="825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六章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子曰：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贤哉，回也！一箪食，一瓢饮，在陋巷，人不堪其忧，回也不改其乐。贤哉，回也！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50920" y="6308640"/>
            <a:ext cx="1584360" cy="28908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250920" y="4653000"/>
            <a:ext cx="8426520" cy="947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翻译：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孔子说：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知道学习的人不如喜欢学习的人，喜欢学习的人不如以学习为乐趣的人。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段解：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学习态度：以学习为快乐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24000" y="620640"/>
            <a:ext cx="8496000" cy="947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七章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子曰：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知之者不如好之者，好之者不如乐之者。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50920" y="2349360"/>
            <a:ext cx="8569080" cy="1800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字词解释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：学问和事业。（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者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：代词，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......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的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好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hào)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：喜欢，爱好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乐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lè)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：以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......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为乐趣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6237360"/>
            <a:ext cx="1979640" cy="43164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250920" y="4076640"/>
            <a:ext cx="8499240" cy="1373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翻译：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孔子说：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吃粗粮，喝冷水，弯曲着胳膊当枕头，乐趣也就在这中间了。用不正当的手段得来的富贵，对于我来讲就像是天上的浮云一样。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段解：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道德修养。不义之财不能取，提倡“安贫乐道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的精神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52360" y="333360"/>
            <a:ext cx="8352000" cy="947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八章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子曰：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饭疏食饮水，曲肱而枕之，乐亦在其中矣。不义而富且贵，于我如浮云。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50920" y="1917720"/>
            <a:ext cx="8353440" cy="1922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字词解释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）饭：这里是吃饭的意思。  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疏食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粗粮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）水：在古代汉语中，“水”指冷水；“汤”指热水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）曲肱：弯着胳膊。肱（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gōng)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，胳膊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）于：对，对于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0" y="6237360"/>
            <a:ext cx="1979640" cy="43164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466560" y="3860640"/>
            <a:ext cx="8064720" cy="1373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翻译：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孔子说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“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几个人在一起行走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其中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定有可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以当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老师的人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要选择他们的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优点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来学习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于他们的缺点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如果自己也有）就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加以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改正。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段解：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学习态度。无论何时何地都要虚心向别人学习，学习别人的优点，克服自己的缺点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66560" y="476280"/>
            <a:ext cx="7994880" cy="947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九章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子曰：“三人行，必有我师焉。择其善者而从之，其不善者而改之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66560" y="2060640"/>
            <a:ext cx="8052120" cy="10360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字词解释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）三人：几个人（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）焉：于此，意思是“在其中”。（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善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者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好的方面，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优点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79280" y="6308640"/>
            <a:ext cx="1800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539640" y="3645000"/>
            <a:ext cx="7921800" cy="947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翻译：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孔子在河边感叹道：“时光像流水一样流逝，日夜不停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段解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学习态度。教育弟子要珍惜时间。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39640" y="692280"/>
            <a:ext cx="7704360" cy="947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十章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　　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子在川上曰：“逝者如斯夫，不舍昼夜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161880" y="2060640"/>
            <a:ext cx="2634120" cy="1191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词语解释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川：河，河流（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逝者：指流逝的时光。逝，流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斯：代词，这，指河水。（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舍：舍弃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79280" y="6308640"/>
            <a:ext cx="1656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755640" y="3789360"/>
            <a:ext cx="7777080" cy="947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翻译：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孔子说：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国军队的主帅可以被夺去，普通人的志向却不可改变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段解：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道德修养。一个人应该坚定信念，矢志不渝。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55640" y="549360"/>
            <a:ext cx="7777080" cy="947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十一章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子曰：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三军可夺帅也，匹夫不可夺志也。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57080" y="1989000"/>
            <a:ext cx="7775640" cy="1373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字词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解释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） 三军：古制，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12500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人为一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楷体_GB2312"/>
              </a:rPr>
              <a:t>）匹夫：普通的人，男子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50920" y="6237360"/>
            <a:ext cx="158436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466560" y="4221000"/>
            <a:ext cx="8137800" cy="1191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翻译：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子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夏说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广泛地学习，并且有坚定的志向，恳切地提问，多考虑当前的事，仁德就在其中啊。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段解：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学习方法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66560" y="333360"/>
            <a:ext cx="8210880" cy="947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十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章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子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夏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曰：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博学而笃志，切问而近思，仁在其中矣。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66560" y="1989000"/>
            <a:ext cx="8210880" cy="1922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字词解释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: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、子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夏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孔子的学生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笃（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  <a:ea typeface="楷体_GB2312"/>
              </a:rPr>
              <a:t>ŭ)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  <a:ea typeface="楷体_GB2312"/>
              </a:rPr>
              <a:t>：忠实，坚守。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切问而近思：恳切地提问，多考虑当前的事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仁：仁德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50920" y="6308640"/>
            <a:ext cx="1584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c0c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95280" y="1773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用课文中的语句回答：孔子在学习方法、学习态度和道德修养方面都有哪些主张？试就其中一点谈谈你的体会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382200" y="33336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c0c"/>
                </a:solidFill>
                <a:latin typeface="Arial"/>
              </a:rPr>
              <a:t>自学指导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三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3"/>
          <a:stretch/>
        </p:blipFill>
        <p:spPr>
          <a:xfrm>
            <a:off x="0" y="2852640"/>
            <a:ext cx="4211640" cy="400536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2116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7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70" fill="hold"/>
                                        <p:tgtEl>
                                          <p:spTgt spid="6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7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70" fill="hold"/>
                                        <p:tgtEl>
                                          <p:spTgt spid="6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77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770" fill="hold"/>
                                        <p:tgtEl>
                                          <p:spTgt spid="6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79280" y="6308640"/>
            <a:ext cx="172872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630880" y="1557360"/>
            <a:ext cx="3778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0c0c"/>
                </a:solidFill>
                <a:latin typeface="Arial"/>
                <a:ea typeface="楷体_GB2312"/>
              </a:rPr>
              <a:t>学而时习之，不亦说乎？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  <a:ea typeface="楷体_GB2312"/>
              </a:rPr>
              <a:t>（第一章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0c0c"/>
                </a:solidFill>
                <a:latin typeface="Arial"/>
                <a:ea typeface="楷体_GB2312"/>
              </a:rPr>
              <a:t>温故而知新，可以为师矣。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  <a:ea typeface="楷体_GB2312"/>
              </a:rPr>
              <a:t>（第四章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0c0c"/>
                </a:solidFill>
                <a:latin typeface="Arial"/>
                <a:ea typeface="楷体_GB2312"/>
              </a:rPr>
              <a:t>学而不思则罔，思而不学则殆。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  <a:ea typeface="楷体_GB2312"/>
              </a:rPr>
              <a:t>（第五章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  <a:ea typeface="楷体_GB2312"/>
              </a:rPr>
              <a:t>、博学而笃志，切问而近思（第十二章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264680" y="6206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学习方法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179280" y="6308640"/>
            <a:ext cx="172872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09240" y="476280"/>
            <a:ext cx="856872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学习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态度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、人不堪其忧，回也不改其乐。（第六章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、知之者不如好之者，好之者不如乐之者</a:t>
            </a:r>
            <a:r>
              <a:rPr b="1" lang="en-US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                            </a:t>
            </a: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第七章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三人行，必有我师焉。择其善者而从之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其不善者而改之。</a:t>
            </a: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            （第九章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、逝者如斯夫，不舍昼夜。       </a:t>
            </a: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第十章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08000" y="333000"/>
            <a:ext cx="381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修身做人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-28440" y="476280"/>
            <a:ext cx="899316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  </a:t>
            </a:r>
            <a:r>
              <a:rPr b="1" lang="zh-CN" sz="30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 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人不知而不愠，不亦君子乎</a:t>
            </a: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第一章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吾日三省吾身</a:t>
            </a: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第二章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、吾十有五而志于学……不逾矩（第三章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、人不堪其忧，回也不改其乐（第六章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、不义而富且贵，于我如浮云（第八章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、三军可夺帅也，匹夫不可夺志也（第十一章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成语归纳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不亦乐乎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70720" indent="-27072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温故知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70720" indent="-27072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三十而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70720" indent="-27072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不舍昼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70720" indent="-27072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逝者如斯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70720" indent="-27072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匹夫不可夺其志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70720" indent="-27072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择善而从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70720" indent="-27072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三人行，必有我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707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小  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c0c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95280" y="1773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课文有的内容谈了学习方法和学习态度，有的内容谈了道德修养和为人处世之道，都有着深刻的教育意义。学过本文后我们要反省自己在哪些方面做得好些，哪些方面做得不好，应怎样改进。这样我们才能达到学习的目的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2" descr="孔子15"/>
          <p:cNvPicPr/>
          <p:nvPr/>
        </p:nvPicPr>
        <p:blipFill>
          <a:blip r:embed="rId2"/>
          <a:stretch/>
        </p:blipFill>
        <p:spPr>
          <a:xfrm>
            <a:off x="7068960" y="4508640"/>
            <a:ext cx="1783080" cy="192852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3"/>
          <p:cNvSpPr/>
          <p:nvPr/>
        </p:nvSpPr>
        <p:spPr>
          <a:xfrm>
            <a:off x="250920" y="1413000"/>
            <a:ext cx="83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孔子学识渊博，但从不自傲。有一次他周游列国时，在去晋国的路上，遇见一个七岁的孩子拦路，要他回答两个问题才让路。一个问题是：鹅的叫声为什么大。孔子答道：鹅的脖子长，所以叫声大。孩子说：青蛙的脖子很短，为什么叫声也很大呢？孔子无言以对。他惭愧地对学生说：“我不如他，他可以做我的老师啊！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  <a:ea typeface="_x000b__x000c_"/>
              </a:rPr>
              <a:t> 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  <a:ea typeface="_x000b__x000c_"/>
              </a:rPr>
              <a:t>    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这个事例证实了课文中的哪一句话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3" name="Text Box 4"/>
          <p:cNvSpPr/>
          <p:nvPr/>
        </p:nvSpPr>
        <p:spPr>
          <a:xfrm>
            <a:off x="900000" y="3718080"/>
            <a:ext cx="813780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三人行，必有我师焉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4" name="Text Box 5"/>
          <p:cNvSpPr/>
          <p:nvPr/>
        </p:nvSpPr>
        <p:spPr>
          <a:xfrm>
            <a:off x="3148920" y="260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课堂练习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 Box 4"/>
          <p:cNvSpPr/>
          <p:nvPr/>
        </p:nvSpPr>
        <p:spPr>
          <a:xfrm>
            <a:off x="3293640" y="260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课堂练习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6" name="Text Box 5"/>
          <p:cNvSpPr/>
          <p:nvPr/>
        </p:nvSpPr>
        <p:spPr>
          <a:xfrm>
            <a:off x="250920" y="105264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请根据以下提示，从课文找出相对应的句子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Text Box 6"/>
          <p:cNvSpPr/>
          <p:nvPr/>
        </p:nvSpPr>
        <p:spPr>
          <a:xfrm>
            <a:off x="395280" y="2421000"/>
            <a:ext cx="806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8" name="Text Box 10"/>
          <p:cNvSpPr/>
          <p:nvPr/>
        </p:nvSpPr>
        <p:spPr>
          <a:xfrm>
            <a:off x="179280" y="515772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9" name="Text Box 11"/>
          <p:cNvSpPr/>
          <p:nvPr/>
        </p:nvSpPr>
        <p:spPr>
          <a:xfrm>
            <a:off x="971640" y="6093000"/>
            <a:ext cx="3096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39640" y="292428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在全国中学生夏令营开营仪式上，主持人说：“ ————，————。对远道而来的朋友，我们感到由衷的高兴，欢迎大家来这里！”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617840" y="1917720"/>
            <a:ext cx="4960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孔子认为学习要时常复习的句子是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 “——————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， —————————”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39640" y="4365720"/>
            <a:ext cx="80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孔子强调虚心学习别人的长处，克服自己的短处的句子是：“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——，——————”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 u="sng">
                <a:solidFill>
                  <a:srgbClr val="000c0c"/>
                </a:solidFill>
                <a:uFillTx/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Text Box 4"/>
          <p:cNvSpPr/>
          <p:nvPr/>
        </p:nvSpPr>
        <p:spPr>
          <a:xfrm>
            <a:off x="3220560" y="260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课堂练习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250920" y="12682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请根据以下提示，从课文找出相对应的句子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324000" y="2060640"/>
            <a:ext cx="8064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新宋体"/>
                <a:ea typeface="新宋体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新宋体"/>
                <a:ea typeface="新宋体"/>
              </a:rPr>
              <a:t>4</a:t>
            </a:r>
            <a:r>
              <a:rPr b="1" lang="zh-CN" sz="2800" spc="-1" strike="noStrike">
                <a:solidFill>
                  <a:srgbClr val="007a77"/>
                </a:solidFill>
                <a:latin typeface="新宋体"/>
                <a:ea typeface="新宋体"/>
              </a:rPr>
              <a:t>）子曰：“吾尝终日不食，终夜不寝，以思，无益，不如学也。”这与本文哪一则内容相似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——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，——————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179280" y="3573360"/>
            <a:ext cx="80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论语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中强调时间重要性的句子是：      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——，——————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7" name="Text Box 10"/>
          <p:cNvSpPr/>
          <p:nvPr/>
        </p:nvSpPr>
        <p:spPr>
          <a:xfrm>
            <a:off x="34920" y="4508640"/>
            <a:ext cx="871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）文中强调要经常进行自我反省的内容是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  “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——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？—————？——————？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8" name="Text Box 11"/>
          <p:cNvSpPr/>
          <p:nvPr/>
        </p:nvSpPr>
        <p:spPr>
          <a:xfrm>
            <a:off x="1044720" y="6093000"/>
            <a:ext cx="3092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395280" y="836640"/>
            <a:ext cx="8423280" cy="5639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怎样对待“学习”与“思考”的关系？孔子 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说：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———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， —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——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—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 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孔子对不义之财怎样看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————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，———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————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3 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在全国中学生夏令营开营仪式上，主持人说：“ ————，————。对远道而来的朋友，我们感到由衷的高兴，欢迎大家来这里！”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4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孔子认为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读书与求学的态度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是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——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，—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————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—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5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曾子以为治学的人应该重视品德修养的句子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是：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，——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，——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—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—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孔子认为学习要时常复习的句子是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  —————————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6308640"/>
            <a:ext cx="1979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280680" y="117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  <a:ea typeface="楷体_GB2312"/>
              </a:rPr>
              <a:t>看谁填的对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466560" y="909720"/>
            <a:ext cx="8064720" cy="43599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）《论语》中说向一切人学习，随时随地都要注意学习的句子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_________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_________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。 </a:t>
            </a:r>
            <a:br>
              <a:rPr sz="2800"/>
            </a:b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孔子自述自己学习与修养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的句子是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_________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________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。 </a:t>
            </a:r>
            <a:br>
              <a:rPr sz="2800"/>
            </a:b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9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孔子教育学生要珍惜时间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的句子是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_________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_________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。 </a:t>
            </a:r>
            <a:br>
              <a:rPr sz="2800"/>
            </a:b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） 孔子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告诉学生一个人应该坚定信念，矢志不渝是：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________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_______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子夏的学习方法是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______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______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孔子强调虚心学习别人的长处，克服自己的短处的句子是：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_________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_________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2800" spc="-1" strike="noStrike" u="sng">
                <a:solidFill>
                  <a:srgbClr val="000c0c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79280" y="6237360"/>
            <a:ext cx="1656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382200" y="442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Arial"/>
                <a:ea typeface="楷体_GB2312"/>
              </a:rPr>
              <a:t>看谁填的对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目标</a:t>
            </a:r>
            <a:br>
              <a:rPr sz="4400"/>
            </a:b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积累文言词语。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了解孔子和《论语》的相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关知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背诵并默写课文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容并准确翻译每一句话和每一个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点字的意思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系自身学习经历，体会课文语言。</a:t>
            </a:r>
            <a:r>
              <a:rPr b="1" lang="en-US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感受孔子光辉的人格魅力，联系自身实际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端正学习态度，改进学习方法，提高自身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修养，学习为人处事之道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324000" y="620640"/>
            <a:ext cx="8496000" cy="4972680"/>
          </a:xfrm>
          <a:prstGeom prst="rect">
            <a:avLst/>
          </a:prstGeom>
          <a:noFill/>
          <a:ln w="76320">
            <a:solidFill>
              <a:srgbClr val="dc5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.</a:t>
            </a:r>
            <a:r>
              <a:rPr b="1" lang="en-US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《论语》中阐述学习与思考关系的句子是：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学而不思则罔，思而不学则殆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.</a:t>
            </a: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治学的人必须注重的品德修养</a:t>
            </a:r>
            <a:r>
              <a:rPr b="1" lang="en-US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句子：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吾日三省吾身：为人谋而不忠乎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朋友交而不信乎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不习乎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.</a:t>
            </a:r>
            <a:r>
              <a:rPr b="1" lang="en-US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在生活中，表示应当向有长处的人学习的句子是：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人行，必有我师焉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4.</a:t>
            </a: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随着年龄的增长思想境界逐步提高的句子是</a:t>
            </a:r>
            <a:r>
              <a:rPr b="1" lang="en-US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：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吾十有五而志于学，三十而立，四十而不惑，五十而知天命，六十而耳顺，七十而从心所欲，不逾矩。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5</a:t>
            </a: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.</a:t>
            </a: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在学习中我们应奉行的</a:t>
            </a:r>
            <a:r>
              <a:rPr b="1" lang="en-US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正确态度是：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知之者不如好之者，好之者不如乐之者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6.</a:t>
            </a:r>
            <a:r>
              <a:rPr b="1" lang="en-US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亚运在广州举办，全市人民喜迎各国嘉宾，《论语》中有一句话可以表达这种喜悦的句子是：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朋自远方来，不亦乐乎？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.</a:t>
            </a: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别人不了解自己却不生气，也是有道德修养的人的句子是：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不知而不愠，不亦君子乎？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.</a:t>
            </a: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面对不义之财，孔子的态度是：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义而富且贵，于我如浮云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6308640"/>
            <a:ext cx="19796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627280" y="-12600"/>
            <a:ext cx="2544840" cy="6426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  <a:ea typeface="楷体_GB2312"/>
              </a:rPr>
              <a:t>看谁填的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7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7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7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7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7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7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7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7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 txBox="1"/>
          <p:nvPr/>
        </p:nvSpPr>
        <p:spPr>
          <a:xfrm>
            <a:off x="2486160" y="692280"/>
            <a:ext cx="352728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59000"/>
                    </a:srgbClr>
                  </a:outerShdw>
                </a:effectLst>
                <a:latin typeface="华文新魏"/>
              </a:rPr>
              <a:t>再见</a:t>
            </a:r>
            <a:endParaRPr b="1" lang="en-US" sz="96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59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34920" y="-12600"/>
            <a:ext cx="696744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隶书"/>
              </a:rPr>
              <a:t>人物及作品简介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2"/>
          <a:stretch/>
        </p:blipFill>
        <p:spPr>
          <a:xfrm>
            <a:off x="0" y="1123920"/>
            <a:ext cx="2556000" cy="496908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2556000" y="549360"/>
            <a:ext cx="65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771640" y="692280"/>
            <a:ext cx="60483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孔子</a:t>
            </a:r>
            <a:r>
              <a:rPr b="1" lang="en-US" sz="2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前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551—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前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479) 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，名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丘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，字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仲尼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，春秋时期鲁国人，我国历史上伟大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思想家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教育家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儒家学派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的创始人，被誉为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“万世师表”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“千古圣人”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。是世界十大思想家之首，联合国教科文组织把他列为“世界十大名人之一”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844720" y="3789360"/>
            <a:ext cx="61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《论语》是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儒家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经典著作之一，由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孔子的弟子及再传弟子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编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写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而成。它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语录体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对话体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为主，记录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孔子及其弟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言行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。《论语》与《大学》《中庸》《孟子》并称“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四书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共二十篇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隶书"/>
              </a:rPr>
              <a:t>人物及作品简介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宋体"/>
              </a:rPr>
              <a:t>孔子曾大力宣传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“仁”</a:t>
            </a:r>
            <a:r>
              <a:rPr b="1" lang="zh-CN" sz="3200" spc="-1" strike="noStrike">
                <a:solidFill>
                  <a:srgbClr val="000c0c"/>
                </a:solidFill>
                <a:latin typeface="宋体"/>
              </a:rPr>
              <a:t>的学说，认为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仁”即“爱人”</a:t>
            </a:r>
            <a:r>
              <a:rPr b="1" lang="zh-CN" sz="3200" spc="-1" strike="noStrike">
                <a:solidFill>
                  <a:srgbClr val="000c0c"/>
                </a:solidFill>
                <a:latin typeface="宋体"/>
              </a:rPr>
              <a:t>，提出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“己所不欲，勿施于人”</a:t>
            </a:r>
            <a:r>
              <a:rPr b="1" lang="zh-CN" sz="3200" spc="-1" strike="noStrike">
                <a:solidFill>
                  <a:srgbClr val="000c0c"/>
                </a:solidFill>
                <a:latin typeface="宋体"/>
              </a:rPr>
              <a:t>；主张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“有教无类，因材施教”</a:t>
            </a:r>
            <a:r>
              <a:rPr b="1" lang="zh-CN" sz="3200" spc="-1" strike="noStrike">
                <a:solidFill>
                  <a:srgbClr val="000c0c"/>
                </a:solidFill>
                <a:latin typeface="宋体"/>
              </a:rPr>
              <a:t>，并有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“学而不厌，诲人不倦”</a:t>
            </a:r>
            <a:r>
              <a:rPr b="1" lang="zh-CN" sz="3200" spc="-1" strike="noStrike">
                <a:solidFill>
                  <a:srgbClr val="000c0c"/>
                </a:solidFill>
                <a:latin typeface="宋体"/>
              </a:rPr>
              <a:t>的精神。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《论语》有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“半部《论语》治天下”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之说，       可见其影响力极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题目解说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&lt;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论语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&gt;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十二章》是从《论语》中节选的有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学习态度、学习方法、修身做人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的十二条语录，是孔子在不同时间与弟子们的谈话记录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论”的意思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编纂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，《论语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是记录孔子和他的弟子言行的书，以语录体和对话体为主，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儒家的经典著作之一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395280" y="4292640"/>
            <a:ext cx="8424720" cy="1557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翻译：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孔子说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“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学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了新的知识然后按照一定的时间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去复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习，不也是愉快的吗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有志同道合的朋友从远方来，不也是高兴的吗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别人不了解我，我却不生气，不也是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有道德修养的人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吗？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段解：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</a:rPr>
              <a:t>学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新宋体"/>
              </a:rPr>
              <a:t>习方法、学习乐趣和修身做人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24000" y="260280"/>
            <a:ext cx="8496000" cy="825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一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章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子曰：“学而时习之，不亦说乎？有朋自远方来，不亦乐乎？人不知而不愠，不亦君子乎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24000" y="1701720"/>
            <a:ext cx="8496000" cy="1922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重点字词解释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: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(1)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子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先生，指孔子。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(2)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而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连词，表顺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承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。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按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时 。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之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代所学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知识    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(3)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通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“悦”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，愉快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。   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(4)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朋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指志同道合的人。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亦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副词，也。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(5)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不知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别人不了解自己。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而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连词，表转折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。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却，但是。 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(6)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愠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生气，发怒。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(7)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君子</a:t>
            </a:r>
            <a:r>
              <a:rPr b="1" lang="en-US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指道德上有修养的人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6237360"/>
            <a:ext cx="1835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79280" y="1989000"/>
            <a:ext cx="8785440" cy="1922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重点字词解释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日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：每天   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三省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xǐng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）：多次反省。 三，泛指多次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：替         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4  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谋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：出主意，策划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忠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：指对人应当尽心竭力。 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忠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信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：真诚、诚实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传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：老师传授的知识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79280" y="4149720"/>
            <a:ext cx="8569440" cy="1191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翻译：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曾参说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“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每天多次地反省自己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替别人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出主意做事情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是不是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忠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或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尽心尽力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呢 ？跟朋友交往是不是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诚实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诚信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呢？老师传授的知识是否复习了呢？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"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段解：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强调治学的人必须重视道德修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08000" y="436680"/>
            <a:ext cx="8893080" cy="825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二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章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曾子曰：“吾日三省吾身：为人谋而不忠乎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与朋友交而不信乎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传不习乎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”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79280" y="6237360"/>
            <a:ext cx="172872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179280" y="1917720"/>
            <a:ext cx="8785440" cy="1922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重点字词解释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十有五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：指十五岁，“有”同“又”，用在整数和零数之间。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立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：站立，站得住，这里可理解为独立做事情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(3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惑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：迷惑，疑惑。    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(4)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天命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：指不能为人力所支配的事情。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(5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耳顺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：能听进不同意见（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从心所欲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：随自己心意想怎样就怎样。     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(7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逾矩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：逾，超过；矩，规矩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54160" y="4221000"/>
            <a:ext cx="8710560" cy="1191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翻译：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孔子说：“我十五岁立志学习，三十岁时有所成就，四十岁时掌握了知识而不致迷惑，五十岁了解并顺应了自然规律，六十岁听别人说话能明辨别是非真假，七十岁可能随心所欲，又不超过规矩。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段解：</a:t>
            </a:r>
            <a:r>
              <a:rPr b="1" lang="zh-CN" sz="2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孔子自述他学习和修养的过程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09440" y="117360"/>
            <a:ext cx="8893440" cy="1557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三章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子曰：“吾十有五而志于学，三十而立，四十而不惑，五十而知天命，六十而耳顺，七十而从心所欲，不逾矩。”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　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79280" y="6237360"/>
            <a:ext cx="172872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-801720" y="1341360"/>
            <a:ext cx="1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00:21:14Z</dcterms:created>
  <dc:creator>user</dc:creator>
  <dc:description/>
  <dc:language>en-US</dc:language>
  <cp:lastModifiedBy>li</cp:lastModifiedBy>
  <cp:lastPrinted>1899-12-30T00:00:00Z</cp:lastPrinted>
  <dcterms:modified xsi:type="dcterms:W3CDTF">2013-10-10T03:11:41Z</dcterms:modified>
  <cp:revision>114</cp:revision>
  <dc:subject/>
  <dc:title>论语十则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